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B3F4-ECCE-4B8F-9F5B-3D4BA3A84E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C24-73F8-4ED4-BEF6-11F10079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61D-C202-46E4-B29E-FD32E82D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503-9A72-49A1-87E0-FBEB64A5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AFD-9CDF-4C84-B212-E52600EF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95D-AF0B-41B8-981A-1866E1E1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01A-06CE-4859-93FD-225343F7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985-8535-47A0-B63E-8892E612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A7D-8AA8-42A1-9F87-AA183F7B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59B-B766-48AD-9BDC-46B07319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7B1-2FAC-4E99-887E-369BC18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0A5-8B31-4B6C-B35B-EDF6B548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BD8-94C8-4223-BCB3-23527CF9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654C-94A1-496C-87B6-80517E0C87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99"/>
                </a:solidFill>
                <a:latin typeface="Ruach LET"/>
              </a:rPr>
              <a:t>Unbelieva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7680" y="1233360"/>
            <a:ext cx="68468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4560" y="833400"/>
            <a:ext cx="69148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08080" y="828720"/>
            <a:ext cx="6926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976400"/>
            <a:ext cx="6096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25360" y="936720"/>
            <a:ext cx="68932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14600" y="190440"/>
            <a:ext cx="44895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93720" y="1417680"/>
            <a:ext cx="5954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43200" y="395280"/>
            <a:ext cx="5457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71440" y="879480"/>
            <a:ext cx="68011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25360" y="1085760"/>
            <a:ext cx="6893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6280" y="1033560"/>
            <a:ext cx="63896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0160" y="1257480"/>
            <a:ext cx="5143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36520" y="851040"/>
            <a:ext cx="68691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54160" y="1154160"/>
            <a:ext cx="683568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9240" y="479520"/>
            <a:ext cx="69040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7680" y="1022400"/>
            <a:ext cx="68468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60720" y="2232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6520" y="851040"/>
            <a:ext cx="68691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360360"/>
            <a:ext cx="450036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3007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0000" y="798480"/>
            <a:ext cx="6350040" cy="53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19280" y="539640"/>
            <a:ext cx="61196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1160" y="4680"/>
            <a:ext cx="91566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874800"/>
            <a:ext cx="73152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300720" cy="64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7120" y="717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14560" y="539640"/>
            <a:ext cx="518652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540720" cy="72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92360" y="2492280"/>
            <a:ext cx="5975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47880" y="452520"/>
            <a:ext cx="54482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60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36520" y="1154160"/>
            <a:ext cx="68691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36520" y="1143000"/>
            <a:ext cx="6869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9:48:47Z</dcterms:created>
  <dc:creator>Usuario</dc:creator>
  <dc:description/>
  <dc:language>en-US</dc:language>
  <cp:lastModifiedBy>tsmallwood</cp:lastModifiedBy>
  <dcterms:modified xsi:type="dcterms:W3CDTF">2009-07-13T08:01:43Z</dcterms:modified>
  <cp:revision>7</cp:revision>
  <dc:subject/>
  <dc:title>PERSONAJES DEL INTENNÉ</dc:title>
</cp:coreProperties>
</file>