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B59B-DA72-4CD2-8A97-6B1AC0110A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141-E837-4A1F-BCDE-921D7EFA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8C9-EEC2-490E-B5C4-B0B1D507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2A1-320B-4484-B064-CCBF32B0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A4E-6955-4332-9CF2-9D7F5ECE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9E-4981-4E50-9A92-5930573C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AEA-B52D-4ED4-99AF-68A16EC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5B9-BE88-4A6D-B2F2-FDD651D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DC9-5785-491F-9ABF-911465D5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064-1651-4659-A9B1-FD2D994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C5C-43FF-45F0-87D8-BBE8D6D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CB5-929C-426C-B3C1-4C9ED60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51E-5521-483D-AFBA-2A503FA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AF10-1D33-4DCE-8354-1B8A869B81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99"/>
                </a:solidFill>
                <a:latin typeface="Ruach LET"/>
              </a:rPr>
              <a:t>Unbelieva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7680" y="1233360"/>
            <a:ext cx="68468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4560" y="833400"/>
            <a:ext cx="69148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08080" y="828720"/>
            <a:ext cx="6926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976400"/>
            <a:ext cx="6096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25360" y="936720"/>
            <a:ext cx="68932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90440"/>
            <a:ext cx="44895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93720" y="1417680"/>
            <a:ext cx="5954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43200" y="395280"/>
            <a:ext cx="5457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71440" y="879480"/>
            <a:ext cx="6801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25360" y="1085760"/>
            <a:ext cx="6893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6280" y="1033560"/>
            <a:ext cx="63896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1257480"/>
            <a:ext cx="5143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54160" y="1154160"/>
            <a:ext cx="68356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9240" y="479520"/>
            <a:ext cx="6904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7680" y="1022400"/>
            <a:ext cx="6846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60720" y="2232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360360"/>
            <a:ext cx="450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0000" y="798480"/>
            <a:ext cx="63500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539640"/>
            <a:ext cx="6119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1160" y="4680"/>
            <a:ext cx="9156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874800"/>
            <a:ext cx="73152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7120" y="717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14560" y="539640"/>
            <a:ext cx="518652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54072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92360" y="2492280"/>
            <a:ext cx="5975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47880" y="452520"/>
            <a:ext cx="54482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36520" y="1154160"/>
            <a:ext cx="6869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36520" y="1143000"/>
            <a:ext cx="6869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9:48:47Z</dcterms:created>
  <dc:creator>Usuario</dc:creator>
  <dc:description/>
  <dc:language>en-US</dc:language>
  <cp:lastModifiedBy>tsmallwood</cp:lastModifiedBy>
  <dcterms:modified xsi:type="dcterms:W3CDTF">2009-07-13T08:01:43Z</dcterms:modified>
  <cp:revision>7</cp:revision>
  <dc:subject/>
  <dc:title>PERSONAJES DEL INTENNÉ</dc:title>
</cp:coreProperties>
</file>