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Rei%20Le%C3%A3o3.wav" ContentType="audio/x-wav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198-4ECD-4F8F-8704-D554886C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B29-E51F-475A-A87B-DE170B07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26730-9BB1-40AA-A1D1-BD7DC192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2F3AD-B652-4EB1-9D7C-C676E328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4190D-8DED-493F-8C2B-DA93985F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47ECC-C8F4-4C6B-9872-479AF63B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B9755-E3ED-4F09-9962-29561A7C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CFD5E-273D-4940-9CE7-966A928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46CAB-D498-4376-9BF5-8362191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3C8A1-DB8C-4CDA-9D22-8F31BB8C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D1CB8-B7D8-488E-9208-1755887E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DAAA5-CEF4-45BB-BE86-2DB51CE1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B48-42F2-483B-96F3-55354799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AA75D-13E8-49D1-8F8D-CFA0261C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100AC-A974-4BEE-8E75-EE016C8A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03C6C-42ED-4BF1-9F1D-22189C1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0C612-A3F3-41A4-A39D-4446DFAC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F8ACE-9B7A-48F3-9A6D-A68C900B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B6654-2DFC-4A2B-9059-FA60CBD9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15C14-EE78-4265-B74A-207B356B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E35CC-DAB6-4C29-97A1-24E7CF4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B5344-9256-415A-A0F1-00FF4CDB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82684-482E-442C-A1DE-77F3D667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A51-734F-4705-AACE-A30FD8C6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BB9D6-431A-4634-B956-4984BD29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564A7-CCF0-4002-840D-D6A235BC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5B0CD-6EDC-48C9-8510-6E507B4C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BA5A7-8B7B-4F77-85D6-5F9486F1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4EE98-584C-41C7-8D92-6FD7D963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813D2-3A6C-4D03-82F6-5D715D6B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B27F0-27FD-43DE-8ADE-C2B91C0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8CAF6-E135-4D51-82A5-6F25DCA9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24CB6-BE13-4E6E-9170-F99DF71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C5E2-AD90-4077-9722-21BDC9A3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DA0B-A9D8-41D1-8C1F-44B7C716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4E006-1BE3-4D20-A53E-E395C078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B0A96-BC47-472A-8724-841D092C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3C929-6F5B-44D1-8BE4-4E8EFE51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2F794-D646-455E-ABA2-E88BDFB1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3130B-5DEE-4277-86A1-8DC1588A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4995A-1B93-4F96-A415-111C77AA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170AF-3EB1-42C0-97AC-68A61A31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F99AF-60A7-4B64-8DAB-A561837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C0CB3-7750-4536-863E-2CEC9918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D0368-BB66-482A-B46A-BBB15B2B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7863-CB59-4DE2-9080-163D67C0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C1ABB-F317-4AED-B658-AD5311BD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7842A-6090-4DD3-BA37-487239DF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19551-979A-4E55-B232-6F272DAD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B95AC-C452-4947-9FC2-270F8E30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659E2-B96E-424D-9F75-50EB9DD2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CEC6-9507-4E0C-9799-B1AC4B0C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442C-0EE7-4919-A958-024E4758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F745-4FC8-452A-9B10-ADD8E778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F02F-E0CC-455E-99E6-395AE080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C771-F4AF-47AB-A33E-158E9298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580-1C25-4C3C-97A4-E9315750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D3FC-93B8-4A2B-B5AA-BA4CE3F7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878A-3D02-406D-8F85-16BCC905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14A8-358B-4504-B044-DED92542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6DF6-72AC-4DC8-BE44-8E9725C2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4B72-DCE3-4FA7-9A95-2810011D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581A-EBF5-411D-802D-36213439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19DF-C748-494E-8EB8-707AA315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A274-CA68-4440-9B83-24A37FC1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0E42-FCBE-41C2-AE35-1950AADA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D654-DA28-4454-95B9-3D7866A1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739-801C-42F3-824B-1D84DE28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33D5-C935-4F23-B41C-5F380C7E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C50B-C9A0-437C-8D1B-B8BBDAE6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28557-8D57-46D8-BE71-FDB0CA9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2C71-3319-4170-A589-18B61A0C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02597-4A82-4249-9874-304CDFC1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A634-9C3F-46BC-BF39-44B03226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0114-462E-4EFC-B4DC-688073E0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244B8-51F8-4E57-B6E7-7AC9C58B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CAEF9-8EED-4974-9D7C-F170B4B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4F7E-2CBB-4B01-A5D5-C19DA6C0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A8B-38DD-4F94-9AEA-C3779FDC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B29D-F1EA-4718-A48C-DA3BE9E1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813F-F9AF-4E68-BDC0-05912804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B530-6F61-45EC-8ABD-4C8E0F8C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9CF99-5CDE-4733-99F2-947DC63A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985A-A735-4F8D-AF48-4B61FD3D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13C37-19E1-48B1-8A31-E213DDDA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F9899-7649-43D9-8E42-91840CE9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D1EA9-5150-4EF7-ACDB-7F155514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D5F3-9EF8-4EE1-B0E3-D243D67A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AA88-6DFC-4E85-988A-7C4AF3A3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7E6-B1B0-4ED1-A05B-CFCC17D5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3490F-83C7-42C5-AEED-7A72F2B0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A15A2-D4E2-4B64-A35B-BB65B1FD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AC49D-2DAC-483C-8100-53F2493E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8A92-74A3-47E6-9197-85200C12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4CC4-5C2F-4DD4-A8DC-D7B6725B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4366-CB6B-43D1-96DD-14F37587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0A9F-B0A8-4252-9161-EAD347EF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9A6B4-AA77-41B5-9A76-9760379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BF60F-764D-4C86-B048-1785855F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1FBC-6332-43C9-B09F-6832DC5D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0FD-B055-47CC-A6AE-6F59CE01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6D44-5A77-45DD-8816-0EBA18C8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46AE5-B694-4244-B49C-3D8B2DF6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B6171-558C-4EC2-8FB5-00925969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D8D3A-36C1-435A-B47D-509E8CDA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1E085-0ECB-4AB5-A2BD-CB4CD851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8D696-0250-4CB0-AA19-05DA2943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1C76-382E-4998-8A4D-6EF58000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9457-71F0-4797-9B22-6EAC411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2F969-2DFF-466C-A1AB-BD5863D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5A26D-5EA2-4FBA-9701-293EBC6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2A2-7E4F-4703-999A-EFBFC050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89D02-D17A-4C5C-A7B5-3BD78A16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682F9-378B-4B96-9A82-44C539A7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C075B-EA12-427F-89F5-09509206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209B-1858-47F7-9048-D576D360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46151-958B-41E3-ACBC-7189A9A9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6FA61-3A0F-401B-8644-19AB6BA4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1EB36-0280-48C3-A0A8-4096DBC3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F3077-928B-45A4-84D2-FB3A085E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33F71-9506-4F4C-825C-063016BE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A134-2FA0-4368-AB35-AB4D0372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4B0-D078-49C8-874F-B5A2A7A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03F50-EB2B-4312-9EAD-973E130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0A35-931C-4ACD-8137-7BEAB37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CCF12-1340-4433-9536-FEB86F9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F9BA-BBFE-4E95-B926-760EFB42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7F2E-3B06-47A7-A75F-253CBC8C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659A5-17C6-4032-9069-C1B5EEEE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B57F5-1DC7-4777-BA48-2A769EFC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031E6-2B8F-490D-9F70-8CA3E02D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C896D-9A0A-40BA-8ED7-83F982CA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D7A5A-612D-40A5-AE0E-534F4AC8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EA9-3C79-46AD-A825-A9868ADE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0FEF9-CF81-474E-85A1-DA0CED5F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4EA93-9715-4002-9FA3-0791BB6A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14F26-A4DD-4832-85D4-C031560E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64805-F29C-4673-B35C-A13D887F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53A4D-9C0B-49F9-9AA6-9635AC39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FF34-D0A3-475B-978A-3E73F456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83094-5FE3-4BFD-A8A2-74F69782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E7622-C676-43C6-B295-9ACD6D03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45DEF-F6F1-4204-84E4-3B5479C4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50C85-65CF-4BD2-AF43-33BD02E3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5B93-A7B9-4FD2-B47D-80A2C2870E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82B-1F6D-4763-9484-65E0853382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106E-5F3A-4ADC-A5FE-788E65B3C0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DCF2-8248-4F13-B34D-A66864BF5A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B9A-CEBB-4B6D-BCD0-45177FFA8B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A058-C26D-4907-881B-761DE0E059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EBC7-3B15-493F-9175-05FF9B72AE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35D-662A-4D34-9925-D37100C294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5AC9-E02F-42AB-9A79-A1857B3446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A0AA-7F4B-4819-96DA-3F9EB14C10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655A-BE59-4552-9A1F-7629152EF6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9022-0E05-4EDF-90D4-B6328C0CD0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Rei%20Le&#227;o3.wav"/><Relationship Id="rId8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320760" y="1428840"/>
            <a:ext cx="85024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2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DIVINA LA PROFESIÓN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3" name="WordArt 5"/>
          <p:cNvSpPr txBox="1"/>
          <p:nvPr/>
        </p:nvSpPr>
        <p:spPr>
          <a:xfrm>
            <a:off x="1197000" y="4286160"/>
            <a:ext cx="675000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ntenta interpretar las fotos y </a:t>
            </a:r>
            <a:endParaRPr b="0" i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scubrir cuál es la profesión</a:t>
            </a:r>
            <a:endParaRPr b="0" i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  <p:sndAc>
      <p:stSnd>
        <p:snd r:embed="rId7" name="Rei%20Le%C3%A3o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Cão arma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3851280" y="1484280"/>
            <a:ext cx="318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00"/>
                </a:solidFill>
                <a:latin typeface="Bookman Old Style"/>
              </a:rPr>
              <a:t>TRAFICANTE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950720" y="280656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Comic Sans MS"/>
              </a:rPr>
              <a:t>Probable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profissaopolitico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"/>
          <p:cNvSpPr/>
          <p:nvPr/>
        </p:nvSpPr>
        <p:spPr>
          <a:xfrm>
            <a:off x="1000080" y="357120"/>
            <a:ext cx="3571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000"/>
                </a:solidFill>
                <a:latin typeface="Comic Sans MS"/>
              </a:rPr>
              <a:t>Y finalmente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000"/>
                </a:solidFill>
                <a:latin typeface="Comic Sans MS"/>
              </a:rPr>
              <a:t>esta es facilís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1214280" y="22860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0000"/>
                </a:solidFill>
                <a:latin typeface="Bookman Old Style"/>
              </a:rPr>
              <a:t>¡¡HUMALA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Galo na ponte (LC)"/>
          <p:cNvPicPr/>
          <p:nvPr/>
        </p:nvPicPr>
        <p:blipFill>
          <a:blip r:embed="rId1"/>
          <a:stretch/>
        </p:blipFill>
        <p:spPr>
          <a:xfrm>
            <a:off x="-3351240" y="0"/>
            <a:ext cx="12495240" cy="83804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5"/>
          <p:cNvSpPr/>
          <p:nvPr/>
        </p:nvSpPr>
        <p:spPr>
          <a:xfrm>
            <a:off x="1091880" y="74124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eedf"/>
                </a:solidFill>
                <a:latin typeface="Bookman Old Style"/>
              </a:rPr>
              <a:t>GUÍA TUR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Gato no muro"/>
          <p:cNvPicPr/>
          <p:nvPr/>
        </p:nvPicPr>
        <p:blipFill>
          <a:blip r:embed="rId1"/>
          <a:stretch/>
        </p:blipFill>
        <p:spPr>
          <a:xfrm>
            <a:off x="399744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1178280" y="4005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Bookman Old Style"/>
              </a:rPr>
              <a:t>POR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profissaodentista"/>
          <p:cNvPicPr/>
          <p:nvPr/>
        </p:nvPicPr>
        <p:blipFill>
          <a:blip r:embed="rId1"/>
          <a:stretch/>
        </p:blipFill>
        <p:spPr>
          <a:xfrm>
            <a:off x="2111400" y="0"/>
            <a:ext cx="4981680" cy="716292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"/>
          <p:cNvSpPr/>
          <p:nvPr/>
        </p:nvSpPr>
        <p:spPr>
          <a:xfrm>
            <a:off x="6372360" y="393372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Bookman Old Style"/>
              </a:rPr>
              <a:t>DEN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Cavalo Marinho"/>
          <p:cNvPicPr/>
          <p:nvPr/>
        </p:nvPicPr>
        <p:blipFill>
          <a:blip r:embed="rId1"/>
          <a:stretch/>
        </p:blipFill>
        <p:spPr>
          <a:xfrm>
            <a:off x="400212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976320" y="316872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Bookman Old Style"/>
              </a:rPr>
              <a:t>SALVA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profissaopedagio"/>
          <p:cNvPicPr/>
          <p:nvPr/>
        </p:nvPicPr>
        <p:blipFill>
          <a:blip r:embed="rId1"/>
          <a:stretch/>
        </p:blipFill>
        <p:spPr>
          <a:xfrm>
            <a:off x="0" y="0"/>
            <a:ext cx="5695920" cy="71629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"/>
          <p:cNvSpPr/>
          <p:nvPr/>
        </p:nvSpPr>
        <p:spPr>
          <a:xfrm>
            <a:off x="4572000" y="435780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Bookman Old Style"/>
              </a:rPr>
              <a:t>COBRADOR DE PE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Beijinho molhado AA"/>
          <p:cNvPicPr/>
          <p:nvPr/>
        </p:nvPicPr>
        <p:blipFill>
          <a:blip r:embed="rId1"/>
          <a:stretch/>
        </p:blipFill>
        <p:spPr>
          <a:xfrm>
            <a:off x="17640" y="0"/>
            <a:ext cx="9126360" cy="5194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1626480" y="537372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VETERINARIO DE GRANDE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4646880" y="6072120"/>
            <a:ext cx="36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00"/>
                </a:solidFill>
                <a:latin typeface="Bookman Old Style"/>
              </a:rPr>
              <a:t>Claro que es el p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profissaofuncpublico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"/>
          <p:cNvSpPr/>
          <p:nvPr/>
        </p:nvSpPr>
        <p:spPr>
          <a:xfrm>
            <a:off x="2428920" y="500040"/>
            <a:ext cx="43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Bookman Old Style"/>
              </a:rPr>
              <a:t>EMPLEAD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Cobaia rudolph (AA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>
            <a:off x="5047560" y="98100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66"/>
                </a:solidFill>
                <a:latin typeface="Comic Sans MS"/>
              </a:rPr>
              <a:t>¿Es difíc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2802240" y="557208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66"/>
                </a:solidFill>
                <a:latin typeface="Bookman Old Style"/>
              </a:rPr>
              <a:t>TIRADOR DE TRI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21:24:59Z</dcterms:created>
  <dc:creator>Dilmar</dc:creator>
  <dc:description>Modificado por maitepinheiro@terra.com.br</dc:description>
  <dc:language>en-US</dc:language>
  <cp:lastModifiedBy> </cp:lastModifiedBy>
  <dcterms:modified xsi:type="dcterms:W3CDTF">2011-04-17T06:35:56Z</dcterms:modified>
  <cp:revision>10</cp:revision>
  <dc:subject/>
  <dc:title>Profissão do Futuro</dc:title>
</cp:coreProperties>
</file>