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Rei%20Le%C3%A3o3.wav" ContentType="audio/x-wav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17B-D675-4B95-972D-BD12BC18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CC9-4CD9-4EB6-838E-F5022FE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CE56-BA29-4F22-9446-E2DC2AD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89B2A-3C0F-4F7C-B912-FC7B3C79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82739-DC8A-4CE3-9810-322DE64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82071-FCD5-4101-988C-A4AC5F4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94B32-412D-4019-80D9-716E3A4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5FD4A-649E-4298-B5A5-3514B67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3A2B5-6338-488D-8673-1CA208F5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5704F-3379-4F9B-A58D-2F5CC4C1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5688-30C6-4FAB-8003-DEF44B41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5F6E3-D161-4D87-A707-429E28D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858-C20F-4458-B292-E32EFA5B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A9BF-9929-47DF-9272-1F050D1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B0DD3-BAF5-4DCD-9E35-32F3BF85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34CD-CC25-4716-8937-58FEEDD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1B769-2C8F-4012-B534-38193AF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33ECA-C9A9-4542-B720-18368B7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E58A5-889F-402A-9D3A-5310D64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7CBEE-14CC-4EB9-B786-DEB54253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88C75-288A-4477-A6BC-DA6D5E2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C2B9-9E61-431B-A011-F5AC117E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F4E6E-27B5-4301-9507-1BCCF8C1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302-0910-477F-97B6-1A81CBDC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22C26-59B9-453F-886B-7C998AC9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9F0C1-A73F-4142-9DA8-E16FBCCE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62672-961B-4582-99DC-9AC88559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80709-3E53-4F58-98A2-2312DD4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B52F3-C87B-40D3-B91D-C54FAC3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4440-94B6-410A-A233-D53C93FA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80268-F077-4B4C-BE1F-2A0CD36D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8A63-BF1A-4306-A992-108C1FE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594AD-D6DB-461A-B986-A6D96D8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ABCDD-577E-4C93-A3C1-CC23717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3693-178F-411F-8029-B94E82FD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54D70-2A01-4A70-B631-94CFA44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956B2-FF1D-42E6-AAC8-43B4944D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FBAB7-99FC-4FD2-9444-C778CC82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3A250-8414-46C9-897E-499A35EA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61E0A-815F-4231-B7C9-DD8211A3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3B4F7-4C6C-4262-A0A2-EE921B8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BE936-FA26-42FC-9126-9C8BF913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1FABA-6409-41C3-BFB9-08E62D2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A1134-046F-4843-9E67-2F81860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3A12A-95FE-41A0-83A5-BFEAB65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561A-7908-45E5-A98C-D75F95E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79A5C-FCF3-4F4E-A59A-E3AB273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7315F-056A-4864-B382-7F0B914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E0BFB-ECA3-45E8-93DA-6A048FC3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4FA85-A085-4136-AE43-1D49BDC5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47A48-7CCD-46F3-89B7-B6C52EE6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155-4B64-4F71-A683-2CE54300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CFEA-2DB7-437A-A8D4-649B84C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6FDD-FA78-4F9E-B187-44B01253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141-CBC3-4AAF-A7B2-C55822C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CC1-4762-45E7-8F45-9C478AB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48B-27EB-44BA-9AC2-1416471A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CB52-2235-4195-B934-E4FD449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8528-815F-46F8-9ED5-7DC0BB8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1D74-05E8-4E8F-BEB1-D87D94C8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EE9F-423A-4900-A056-8D89BC97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2926-8D5F-4F52-B7F5-FB5C4D8F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0C23-8FF5-4026-9AF5-BB29DE20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39C5-C889-4151-A94F-BA45DFAE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BA62-97B9-44BE-8785-C1D1005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8AE8-B91B-42B8-AAFB-346E675B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05AB-D9AE-4134-85BB-C2FCACE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A5A-E23E-4524-8935-1A674C9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4F6E-3F5E-4F69-B211-FCC9CE80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48A9-1696-463A-93E3-769AE2C9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0EB7-329B-4C08-8343-40AAF4F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C9A1-564D-461E-A2F1-05996100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1B98-8C03-4260-94A2-09591DF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EF2F-5FF2-40A4-832E-8225078C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F7CC-6D3D-4E34-9269-C329B616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1AFF7-2511-4890-AE96-7EECF78D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22C8-570C-449E-84FC-FAF015FE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00C6-8D3E-4CAF-99FD-917A1FD8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2A1-DC8F-4977-BF5E-841978D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2B0F-ED9F-487F-B76D-7AED8FC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862E-64DC-489A-9CC4-1BAC13ED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8522-9C7A-4291-A191-3982C51F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9548-4FC7-4D0C-A7CB-358CAC1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8FCC-A9D1-49EF-A4F5-122D588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78D2-928E-4079-BBBC-B55EAB7A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930F-7A35-466C-966C-2B14BE59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E569-751C-4D09-A4EA-72FE0573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13E8-5E90-478E-898D-46D43E4D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2CFE4-A78B-4C6F-BDB4-90F6707B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D20-B53A-477D-8B21-1232A3D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DBBB-5DE6-47F6-99C6-D3AC46A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BDF01-C87E-4AAF-BFF2-EF657F3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E9E7-DFC1-41B8-84C0-6AE7C156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B544-3A1E-4B18-A861-45E29D6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098C-17BE-4A2F-B322-320ABC5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3D4D-AAC0-49FE-A04E-5EC9451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A399-F9DC-48B7-8FE5-DBDAFDF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3BAE-72E6-4690-8687-4FD2FDDC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42F1-C126-4216-8ECC-A2F8EBCA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8E0E-9362-4DE4-B3E5-2ED47C12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834-3B96-4C86-B4C7-F527829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481B-85F8-4060-B50E-5C5EAC75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86A7-5CE0-4CE7-91A1-AF0F2D54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EA10-651A-4085-95BB-DB2905A2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EB32-B0DA-400F-B834-9BDE8433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D7C8-B825-4118-AF3F-17A0143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2ECF6-9B08-4115-BDB2-ECFFA9FD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D640-6FAA-4C90-8CF2-369835A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2345C-4DA5-4BF1-891E-B69CBEB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E7A2-F59A-4488-8D5F-A393B36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CFC3-FEAE-4FF8-A0EB-5D054D8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249-20C3-4051-90EC-E28828F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2BDF-ABEE-4718-95E3-41B92C14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9F798-B0A5-4080-9D2A-7F1736E5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54550-F600-4FC6-B333-F442E345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2CB4-03A1-4B1D-970C-3E18596C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7C9B-D1E4-4D86-AE23-A16C6C22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71CD-8B52-4E57-89D6-57A2A0EC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55B5-408A-4D08-ABDD-9F37B97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A51A0-4009-4CA8-B0A5-7176C25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75A4-E4D1-4D41-B395-9DB0C33D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52BB-7212-41A9-BE72-915B4AE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F1A-6D0E-4680-89A0-4D8140D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2B25-39E5-4909-A0AA-F808CDF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1465-BB1D-4AD4-9E32-32448BD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5A35-317E-426D-98BB-DC6ADAFB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B1F2-0799-4B73-925A-8055BF97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67AC-F611-4752-B0C4-D674464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82121-3D5B-4660-B764-1EBAF1F4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FFBB-34A4-44B6-9D9B-A51E2C6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5FAB-214F-46D0-9208-E3E6B5FC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44D9-BECE-4CCC-9F5F-6A1313CD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5399B-D13A-4F1E-BE1D-BFFC813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A6E-7CCD-48C6-A249-FDE31576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133D2-C017-48D2-8399-FCB9E332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FE2E-3FD7-4BA4-B150-92645657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18AD-381B-4F04-B8E6-6155CA4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602D3-AE1E-47B1-B9EB-E6182B6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A13B-F510-4C04-91F9-D111297C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167CD-994C-482B-A670-F6011AE3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C1CE0-1DDD-4CA6-8E5D-8E22F2D0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59A8A-5B2E-4D03-9D78-DE0D4B8D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4A2A-AAC2-4EC8-A715-028D4E6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0DDDB-677B-4509-AF0B-C468C8BF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3A4-6A68-4622-96DC-42581573DC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0C2-08F8-436D-8F74-9D0E5665F7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CB5D-7EE5-47EB-8258-775BF722DE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62D3-DBB5-4289-B5DC-5671E440AB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A008-3B8F-489A-9960-664F8B8855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141-4BE5-41C1-8DDE-86D422334C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D201-04CB-4906-AAF8-67FA526B19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0E02-7773-4833-899B-B3208AE27D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085F-4263-445F-8423-EA873C8B1F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23F-C191-4BF1-8DA9-0F1E5A2789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19AF-7EDF-4F55-BDB5-B98A6F4E10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929A-E456-4785-BAB7-F3A2FDA907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Rei%20Le&#227;o3.wav"/><Relationship Id="rId8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320760" y="1428840"/>
            <a:ext cx="85024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IVINA LA PROFESIÓN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WordArt 5"/>
          <p:cNvSpPr txBox="1"/>
          <p:nvPr/>
        </p:nvSpPr>
        <p:spPr>
          <a:xfrm>
            <a:off x="1197000" y="4286160"/>
            <a:ext cx="675000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ntenta interpretar las fotos y </a:t>
            </a:r>
            <a:endParaRPr b="0" i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scubrir cuál es la profesión</a:t>
            </a:r>
            <a:endParaRPr b="0" i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  <p:sndAc>
      <p:stSnd>
        <p:snd r:embed="rId7" name="Rei%20Le%C3%A3o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Cão arm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3851280" y="1484280"/>
            <a:ext cx="318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00"/>
                </a:solidFill>
                <a:latin typeface="Bookman Old Style"/>
              </a:rPr>
              <a:t>TRAFICANTE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950720" y="280656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Comic Sans MS"/>
              </a:rPr>
              <a:t>Probable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profissaopolitico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"/>
          <p:cNvSpPr/>
          <p:nvPr/>
        </p:nvSpPr>
        <p:spPr>
          <a:xfrm>
            <a:off x="1000080" y="357120"/>
            <a:ext cx="357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000"/>
                </a:solidFill>
                <a:latin typeface="Comic Sans MS"/>
              </a:rPr>
              <a:t>Y finalment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000"/>
                </a:solidFill>
                <a:latin typeface="Comic Sans MS"/>
              </a:rPr>
              <a:t>esta es facilís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214280" y="22860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Bookman Old Style"/>
              </a:rPr>
              <a:t>¡¡HUMALA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Galo na ponte (LC)"/>
          <p:cNvPicPr/>
          <p:nvPr/>
        </p:nvPicPr>
        <p:blipFill>
          <a:blip r:embed="rId1"/>
          <a:stretch/>
        </p:blipFill>
        <p:spPr>
          <a:xfrm>
            <a:off x="-3351240" y="0"/>
            <a:ext cx="12495240" cy="83804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1091880" y="7412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eedf"/>
                </a:solidFill>
                <a:latin typeface="Bookman Old Style"/>
              </a:rPr>
              <a:t>GUÍA TUR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Gato no muro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1178280" y="4005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Bookman Old Style"/>
              </a:rPr>
              <a:t>POR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profissaodentista"/>
          <p:cNvPicPr/>
          <p:nvPr/>
        </p:nvPicPr>
        <p:blipFill>
          <a:blip r:embed="rId1"/>
          <a:stretch/>
        </p:blipFill>
        <p:spPr>
          <a:xfrm>
            <a:off x="2111400" y="0"/>
            <a:ext cx="4981680" cy="71629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6372360" y="3933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Bookman Old Style"/>
              </a:rPr>
              <a:t>DEN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Cavalo Marinho"/>
          <p:cNvPicPr/>
          <p:nvPr/>
        </p:nvPicPr>
        <p:blipFill>
          <a:blip r:embed="rId1"/>
          <a:stretch/>
        </p:blipFill>
        <p:spPr>
          <a:xfrm>
            <a:off x="400212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976320" y="316872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Bookman Old Style"/>
              </a:rPr>
              <a:t>SALVA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profissaopedagio"/>
          <p:cNvPicPr/>
          <p:nvPr/>
        </p:nvPicPr>
        <p:blipFill>
          <a:blip r:embed="rId1"/>
          <a:stretch/>
        </p:blipFill>
        <p:spPr>
          <a:xfrm>
            <a:off x="0" y="0"/>
            <a:ext cx="5695920" cy="71629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4572000" y="4357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Bookman Old Style"/>
              </a:rPr>
              <a:t>COBRADOR DE PE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Beijinho molhado AA"/>
          <p:cNvPicPr/>
          <p:nvPr/>
        </p:nvPicPr>
        <p:blipFill>
          <a:blip r:embed="rId1"/>
          <a:stretch/>
        </p:blipFill>
        <p:spPr>
          <a:xfrm>
            <a:off x="17640" y="0"/>
            <a:ext cx="9126360" cy="5194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1626480" y="537372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VETERINARIO DE GRANDE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646880" y="6072120"/>
            <a:ext cx="36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Bookman Old Style"/>
              </a:rPr>
              <a:t>Claro que es el p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profissaofuncpublico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2428920" y="500040"/>
            <a:ext cx="43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Bookman Old Style"/>
              </a:rPr>
              <a:t>EMPLEAD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Cobaia rudolph (AA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5047560" y="98100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66"/>
                </a:solidFill>
                <a:latin typeface="Comic Sans MS"/>
              </a:rPr>
              <a:t>¿Es difíc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2802240" y="557208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66"/>
                </a:solidFill>
                <a:latin typeface="Bookman Old Style"/>
              </a:rPr>
              <a:t>TIRADOR DE TRI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21:24:59Z</dcterms:created>
  <dc:creator>Dilmar</dc:creator>
  <dc:description>Modificado por maitepinheiro@terra.com.br</dc:description>
  <dc:language>en-US</dc:language>
  <cp:lastModifiedBy> </cp:lastModifiedBy>
  <dcterms:modified xsi:type="dcterms:W3CDTF">2011-04-17T06:35:56Z</dcterms:modified>
  <cp:revision>10</cp:revision>
  <dc:subject/>
  <dc:title>Profissão do Futuro</dc:title>
</cp:coreProperties>
</file>