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sound001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57D-5F70-468B-94C2-E96E7B1A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9F7-E4CF-481B-B647-D80922B9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DAE-1DB0-450F-89B5-B9B5DB93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CC0-926F-4BD9-92AE-DB9DF74E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9DA-66A2-4D75-A088-E8C50B11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D74-626A-4A16-99DF-64778140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5AD-C265-4165-9405-7041F95D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0F9-EE2F-4E5B-9D5B-5893B7B7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B04-0DDB-4652-89D5-8E024BB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B46-4B5B-4DDF-A6C4-CAE87DB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D83-2D31-4432-8933-8161C51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A3A-31A0-43DC-9B29-4018A5C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051A-2A82-4666-A672-0E76655D39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000000"/>
                </a:solidFill>
                <a:latin typeface="Calibri"/>
              </a:rPr>
              <a:t>PENSAMIENTO ECOLÓGICO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0" y="5643720"/>
            <a:ext cx="9144000" cy="12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12portada"/>
          <p:cNvPicPr/>
          <p:nvPr/>
        </p:nvPicPr>
        <p:blipFill>
          <a:blip r:embed="rId1"/>
          <a:stretch/>
        </p:blipFill>
        <p:spPr>
          <a:xfrm>
            <a:off x="285840" y="214200"/>
            <a:ext cx="3039840" cy="343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risener"/>
          <p:cNvPicPr/>
          <p:nvPr/>
        </p:nvPicPr>
        <p:blipFill>
          <a:blip r:embed="rId2"/>
          <a:stretch/>
        </p:blipFill>
        <p:spPr>
          <a:xfrm>
            <a:off x="357120" y="4214880"/>
            <a:ext cx="2786040" cy="245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/>
          <p:cNvPicPr/>
          <p:nvPr/>
        </p:nvPicPr>
        <p:blipFill>
          <a:blip r:embed="rId3"/>
          <a:stretch/>
        </p:blipFill>
        <p:spPr>
          <a:xfrm>
            <a:off x="4000680" y="285840"/>
            <a:ext cx="4983120" cy="336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4"/>
          <a:stretch/>
        </p:blipFill>
        <p:spPr>
          <a:xfrm>
            <a:off x="3214800" y="1214280"/>
            <a:ext cx="865080" cy="78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5"/>
          <a:stretch/>
        </p:blipFill>
        <p:spPr>
          <a:xfrm>
            <a:off x="3500280" y="3857760"/>
            <a:ext cx="545796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6"/>
          <a:stretch/>
        </p:blipFill>
        <p:spPr>
          <a:xfrm>
            <a:off x="2857680" y="5214960"/>
            <a:ext cx="850680" cy="79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2" descr=""/>
          <p:cNvPicPr/>
          <p:nvPr/>
        </p:nvPicPr>
        <p:blipFill>
          <a:blip r:embed="rId1"/>
          <a:stretch/>
        </p:blipFill>
        <p:spPr>
          <a:xfrm>
            <a:off x="4786200" y="428760"/>
            <a:ext cx="3875040" cy="271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8" name="Picture 43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3873600" cy="271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9" name="Picture 46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319640" cy="3095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80" name="Picture 47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321440" cy="31003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ADA SERÁ IGU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ALIR A LA CALLE                            SIN BLOQUEADOR                      PRONTO SERÁ IM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100 AÑOS..                                       ESO ESTIMABAN EN LA O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ERO HOY SE ESTIMAN 50 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MAÑANA ….. TAL VEZ COMIENCE..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248360" cy="259236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392720" cy="259236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85" name="Picture 16" descr="amidst-scorching-heat-an-elde-2"/>
          <p:cNvPicPr/>
          <p:nvPr/>
        </p:nvPicPr>
        <p:blipFill>
          <a:blip r:embed="rId3"/>
          <a:stretch/>
        </p:blipFill>
        <p:spPr>
          <a:xfrm>
            <a:off x="5286240" y="2928960"/>
            <a:ext cx="3005280" cy="3743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86" name="Picture 17" descr="pobreza"/>
          <p:cNvPicPr/>
          <p:nvPr/>
        </p:nvPicPr>
        <p:blipFill>
          <a:blip r:embed="rId4"/>
          <a:stretch/>
        </p:blipFill>
        <p:spPr>
          <a:xfrm>
            <a:off x="571680" y="3500280"/>
            <a:ext cx="4248000" cy="268632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sp>
        <p:nvSpPr>
          <p:cNvPr id="87" name="9 CuadroTexto"/>
          <p:cNvSpPr/>
          <p:nvPr/>
        </p:nvSpPr>
        <p:spPr>
          <a:xfrm>
            <a:off x="8571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ida al medio ambien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071880"/>
            <a:ext cx="6072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HAZLO POR ELL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bebes"/>
          <p:cNvPicPr/>
          <p:nvPr/>
        </p:nvPicPr>
        <p:blipFill>
          <a:blip r:embed="rId1"/>
          <a:stretch/>
        </p:blipFill>
        <p:spPr>
          <a:xfrm>
            <a:off x="3714840" y="285840"/>
            <a:ext cx="2952720" cy="2546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90" name="Picture 13" descr="f3"/>
          <p:cNvPicPr/>
          <p:nvPr/>
        </p:nvPicPr>
        <p:blipFill>
          <a:blip r:embed="rId2"/>
          <a:stretch/>
        </p:blipFill>
        <p:spPr>
          <a:xfrm>
            <a:off x="6143760" y="2571840"/>
            <a:ext cx="2535120" cy="391644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91" name="Picture 15" descr="baby_2"/>
          <p:cNvPicPr/>
          <p:nvPr/>
        </p:nvPicPr>
        <p:blipFill>
          <a:blip r:embed="rId3"/>
          <a:stretch/>
        </p:blipFill>
        <p:spPr>
          <a:xfrm>
            <a:off x="285840" y="142920"/>
            <a:ext cx="2950920" cy="2951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92" name="Picture 17" descr="bebes-03"/>
          <p:cNvPicPr/>
          <p:nvPr/>
        </p:nvPicPr>
        <p:blipFill>
          <a:blip r:embed="rId4"/>
          <a:stretch/>
        </p:blipFill>
        <p:spPr>
          <a:xfrm>
            <a:off x="1214280" y="4071960"/>
            <a:ext cx="3249720" cy="2519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"/>
              </a:rPr>
              <a:t>POR TI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S FÁCIL CONTRIBUI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TU CASA..                                                          SI TIENES FOCOS PRENDIDOS                       QUE NO UTILIZAS.. APÁGA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 PUEDES CAMINAR O USAR BICICLETA                            PARA LLEGAR A UN LUGAR.. ÚS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 TIRES BASURA EN LA C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 TE BAÑES CON AGUA MUY CALIENTE                                        (EL VAPOR ES UN GAS INVERNADER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 u="sng">
                <a:solidFill>
                  <a:srgbClr val="ffffff"/>
                </a:solidFill>
                <a:uFillTx/>
                <a:latin typeface="Arial"/>
              </a:rPr>
              <a:t>POR FAVOR..                  NO TE QUEDES            CON ESTE CORREO       Y ENVÍAL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TIENES AL MU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EN TUS MANO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cusoon.files.wordpress.com/2007/03/dsdmundo.JPG"/>
          <p:cNvPicPr/>
          <p:nvPr/>
        </p:nvPicPr>
        <p:blipFill>
          <a:blip r:embed="rId1"/>
          <a:stretch/>
        </p:blipFill>
        <p:spPr>
          <a:xfrm>
            <a:off x="1428840" y="1071720"/>
            <a:ext cx="6072120" cy="451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 SIGUIENTES  IMÁGENES PUEDEN  NO  IMPORTARTE          NI  HOY..  NI  NUNCA 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ERO  A  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TUS  HIJOS</a:t>
            </a: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                  LES  IMPORTARÁ                      MÁS  DE  LO  QUE  TÚ CRE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E  DERRITEN  LOS  POL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ttp://3.bp.blogspot.com/_xJ58ihG5KnY/SZLr0-X_n-I/AAAAAAAAAGA/sgBvonDsrBs/s320/glaciar+roto.jpg"/>
          <p:cNvPicPr/>
          <p:nvPr/>
        </p:nvPicPr>
        <p:blipFill>
          <a:blip r:embed="rId1"/>
          <a:stretch/>
        </p:blipFill>
        <p:spPr>
          <a:xfrm>
            <a:off x="2143080" y="1571760"/>
            <a:ext cx="4429080" cy="490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HAS  VISTO ESTO..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9080" y="4214880"/>
            <a:ext cx="45007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Í  HAY  UNA CONSECUENCIA EN OTRO LADO DEL PLA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sequia-camclima_conse"/>
          <p:cNvPicPr/>
          <p:nvPr/>
        </p:nvPicPr>
        <p:blipFill>
          <a:blip r:embed="rId1"/>
          <a:stretch/>
        </p:blipFill>
        <p:spPr>
          <a:xfrm>
            <a:off x="4357800" y="1428840"/>
            <a:ext cx="4321080" cy="237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4859280" y="443700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788000" y="414972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5840" y="4285800"/>
            <a:ext cx="4038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O ES PAN DE CADA DÍA EN LAS CIU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http://www.cnnexpansion.com/photos/2007/09/01/linden-una-de-las-ciudades-con-mayor-polucion-reuters.2007-09-14.7162999483"/>
          <p:cNvPicPr/>
          <p:nvPr/>
        </p:nvPicPr>
        <p:blipFill>
          <a:blip r:embed="rId2"/>
          <a:stretch/>
        </p:blipFill>
        <p:spPr>
          <a:xfrm>
            <a:off x="642960" y="1285920"/>
            <a:ext cx="3381480" cy="2536920"/>
          </a:xfrm>
          <a:prstGeom prst="rect">
            <a:avLst/>
          </a:prstGeom>
          <a:ln w="9360">
            <a:solidFill>
              <a:srgbClr val="ff7f15"/>
            </a:solidFill>
            <a:miter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Has notado que hace más calor..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m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locura de unos meteorólogos en busca de f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un problem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840720" cy="2592360"/>
          </a:xfrm>
          <a:prstGeom prst="rect">
            <a:avLst/>
          </a:prstGeom>
          <a:ln w="28440">
            <a:solidFill>
              <a:srgbClr val="2e9d1f"/>
            </a:solidFill>
            <a:miter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TIRAS BASURA EN LA CALLE...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57337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S FRASES… LAS HAS DICHO ALGUNA VEZ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5520" y="1844640"/>
            <a:ext cx="4038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A BASURITA      NO ES 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DA LA GENTE TIRA BASURA..     CON UNA MÁS                  NO PASA NADA..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portada"/>
          <p:cNvPicPr/>
          <p:nvPr/>
        </p:nvPicPr>
        <p:blipFill>
          <a:blip r:embed="rId1"/>
          <a:stretch/>
        </p:blipFill>
        <p:spPr>
          <a:xfrm>
            <a:off x="179280" y="1557360"/>
            <a:ext cx="4897440" cy="385776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57200" y="571464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QUE ASÍ SE VE HOY..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452840" y="115920"/>
            <a:ext cx="4440240" cy="55450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422880" cy="482472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2700360" y="620640"/>
            <a:ext cx="2486160" cy="714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720" y="260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Í DEBERÍA DE ESTA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907560"/>
            <a:ext cx="47880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AQUí                  HACE UNOS AÑOS HABÍA NIE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062240" cy="648000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TÚ CREES QUE ES MENTIRA..?</a:t>
            </a: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AQUÍ TIENES PRUEBAS..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polar"/>
          <p:cNvPicPr/>
          <p:nvPr/>
        </p:nvPicPr>
        <p:blipFill>
          <a:blip r:embed="rId1"/>
          <a:stretch/>
        </p:blipFill>
        <p:spPr>
          <a:xfrm>
            <a:off x="4643280" y="1916280"/>
            <a:ext cx="4356360" cy="4465440"/>
          </a:xfrm>
          <a:prstGeom prst="rect">
            <a:avLst/>
          </a:prstGeom>
          <a:ln w="28440">
            <a:solidFill>
              <a:srgbClr val="ff3505"/>
            </a:solidFill>
            <a:miter/>
          </a:ln>
        </p:spPr>
      </p:pic>
      <p:pic>
        <p:nvPicPr>
          <p:cNvPr id="69" name="Picture 17" descr="contaminacion"/>
          <p:cNvPicPr/>
          <p:nvPr/>
        </p:nvPicPr>
        <p:blipFill>
          <a:blip r:embed="rId2"/>
          <a:stretch/>
        </p:blipFill>
        <p:spPr>
          <a:xfrm>
            <a:off x="179280" y="1844640"/>
            <a:ext cx="3600720" cy="4537080"/>
          </a:xfrm>
          <a:prstGeom prst="rect">
            <a:avLst/>
          </a:prstGeom>
          <a:ln w="28440">
            <a:solidFill>
              <a:srgbClr val="ff3505"/>
            </a:solidFill>
            <a:miter/>
          </a:ln>
        </p:spPr>
      </p:pic>
      <p:pic>
        <p:nvPicPr>
          <p:cNvPr id="70" name="Picture 18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720720" cy="795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22:55:53Z</dcterms:created>
  <dc:creator>GCLS</dc:creator>
  <dc:description/>
  <dc:language>en-US</dc:language>
  <cp:lastModifiedBy>maguirrer</cp:lastModifiedBy>
  <dcterms:modified xsi:type="dcterms:W3CDTF">2009-10-15T19:12:36Z</dcterms:modified>
  <cp:revision>11</cp:revision>
  <dc:subject/>
  <dc:title>No es Mentira</dc:title>
</cp:coreProperties>
</file>