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To%20All%20The%20Girls%20I've%20Loved%20Before%20-%20Julio%20Iglesias&amp;Willie%20Nelson.wav" ContentType="audio/x-wav"/>
  <Override PartName="/ppt/media/image19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F7A-51CA-472F-9A9E-74DE65FE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F2E-06E6-45DD-BC81-05BA141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1A0-BCF4-4389-A1D3-93769ACE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39E-894A-4092-B76A-8431BA4E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C03-5D79-477C-A5A5-C4659EF5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401-97C9-44C0-A49A-DD5397D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473-C56F-476F-9201-38533DD0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686-808A-4DF5-AFB2-88B219C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F9C-E3AC-476A-AAA8-2276266A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09A-47CD-4690-A0BA-AE5BA5E5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ADE-2EEE-47C7-B0E2-0015B1F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325-433B-4083-92D9-98167EF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3D0B-178E-419E-BF78-37225D55E2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o%20All%20The%20Girls%20I&apos;ve%20Loved%20Before%20-%20Julio%20Iglesias&amp;Willie%20Nels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3071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e Girls We’ve Loved 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142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RC Artistic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speaker4"/>
          <p:cNvPicPr/>
          <p:nvPr/>
        </p:nvPicPr>
        <p:blipFill>
          <a:blip r:embed="rId1"/>
          <a:stretch/>
        </p:blipFill>
        <p:spPr>
          <a:xfrm>
            <a:off x="8429760" y="6072120"/>
            <a:ext cx="520560" cy="53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  <p:sndAc>
      <p:stSnd>
        <p:snd r:embed="rId2" name="To%20All%20The%20Girls%20I've%20Loved%20Before%20-%20Julio%20Iglesias&amp;Willie%20Nels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4643280"/>
            <a:ext cx="2876400" cy="221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4343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57200" y="142884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im Nov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KimNovak"/>
          <p:cNvPicPr/>
          <p:nvPr/>
        </p:nvPicPr>
        <p:blipFill>
          <a:blip r:embed="rId3"/>
          <a:stretch/>
        </p:blipFill>
        <p:spPr>
          <a:xfrm>
            <a:off x="5862600" y="0"/>
            <a:ext cx="328140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novak 2004 crop"/>
          <p:cNvPicPr/>
          <p:nvPr/>
        </p:nvPicPr>
        <p:blipFill>
          <a:blip r:embed="rId4"/>
          <a:srcRect l="23406" t="18871" r="14890" b="0"/>
          <a:stretch/>
        </p:blipFill>
        <p:spPr>
          <a:xfrm>
            <a:off x="4214880" y="2936880"/>
            <a:ext cx="3000240" cy="3921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2960" y="5148360"/>
            <a:ext cx="1314360" cy="17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071720" y="85716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ri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rcRect l="0" t="0" r="6830" b="0"/>
          <a:stretch/>
        </p:blipFill>
        <p:spPr>
          <a:xfrm>
            <a:off x="6858000" y="0"/>
            <a:ext cx="2286000" cy="309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3929040" cy="495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ristoday2"/>
          <p:cNvPicPr/>
          <p:nvPr/>
        </p:nvPicPr>
        <p:blipFill>
          <a:blip r:embed="rId4"/>
          <a:stretch/>
        </p:blipFill>
        <p:spPr>
          <a:xfrm>
            <a:off x="4071960" y="2367000"/>
            <a:ext cx="3214800" cy="4491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4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2"/>
          <a:stretch/>
        </p:blipFill>
        <p:spPr>
          <a:xfrm>
            <a:off x="5143680" y="1155600"/>
            <a:ext cx="3924000" cy="5702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428760" y="47862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an Coll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00040" y="3857760"/>
            <a:ext cx="2114640" cy="2643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"/>
          <p:cNvPicPr/>
          <p:nvPr/>
        </p:nvPicPr>
        <p:blipFill>
          <a:blip r:embed="rId1"/>
          <a:srcRect l="13249" t="0" r="12548" b="29942"/>
          <a:stretch/>
        </p:blipFill>
        <p:spPr>
          <a:xfrm>
            <a:off x="0" y="0"/>
            <a:ext cx="400068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928800" y="4214880"/>
            <a:ext cx="173520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4857840" y="78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oll B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Carroll Baker crop"/>
          <p:cNvPicPr/>
          <p:nvPr/>
        </p:nvPicPr>
        <p:blipFill>
          <a:blip r:embed="rId3"/>
          <a:srcRect l="5556" t="0" r="5333" b="0"/>
          <a:stretch/>
        </p:blipFill>
        <p:spPr>
          <a:xfrm>
            <a:off x="5357880" y="200016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2692440" cy="3276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457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lie C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135000" y="304920"/>
            <a:ext cx="294624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emmys caron 2007 q40"/>
          <p:cNvPicPr/>
          <p:nvPr/>
        </p:nvPicPr>
        <p:blipFill>
          <a:blip r:embed="rId3"/>
          <a:stretch/>
        </p:blipFill>
        <p:spPr>
          <a:xfrm>
            <a:off x="3286080" y="2571840"/>
            <a:ext cx="2786040" cy="4168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1"/>
          <a:srcRect l="17172" t="3332" r="1008" b="10001"/>
          <a:stretch/>
        </p:blipFill>
        <p:spPr>
          <a:xfrm>
            <a:off x="0" y="0"/>
            <a:ext cx="385776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rcRect l="11560" t="0" r="0" b="8598"/>
          <a:stretch/>
        </p:blipFill>
        <p:spPr>
          <a:xfrm>
            <a:off x="6558120" y="0"/>
            <a:ext cx="25858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3"/>
          <a:stretch/>
        </p:blipFill>
        <p:spPr>
          <a:xfrm>
            <a:off x="4214880" y="2197080"/>
            <a:ext cx="3143160" cy="466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714840" y="1143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528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6734160" y="0"/>
            <a:ext cx="240984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357720" y="571680"/>
            <a:ext cx="32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irley T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4143240" y="2521080"/>
            <a:ext cx="2928960" cy="4336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7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849320" cy="19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571680" y="2381400"/>
            <a:ext cx="3357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0" y="92880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sula And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tv_ursula_andress_older crop"/>
          <p:cNvPicPr/>
          <p:nvPr/>
        </p:nvPicPr>
        <p:blipFill>
          <a:blip r:embed="rId4"/>
          <a:stretch/>
        </p:blipFill>
        <p:spPr>
          <a:xfrm>
            <a:off x="5214960" y="3056040"/>
            <a:ext cx="3571920" cy="380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6143760" y="0"/>
            <a:ext cx="3000240" cy="3720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25560" y="0"/>
            <a:ext cx="29037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3214800" y="1000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phia L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357120" y="4357800"/>
            <a:ext cx="1720800" cy="213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4"/>
          <a:stretch/>
        </p:blipFill>
        <p:spPr>
          <a:xfrm>
            <a:off x="3571920" y="2449440"/>
            <a:ext cx="3857760" cy="4408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2238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214200" y="421488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bbi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857760" y="2131920"/>
            <a:ext cx="3500280" cy="472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2533680" cy="3089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0" y="4714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herine Den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1" descr="C:\Users\TXIKE 47\Documents\My Received Files\deneuvephoto00005.jpg"/>
          <p:cNvPicPr/>
          <p:nvPr/>
        </p:nvPicPr>
        <p:blipFill>
          <a:blip r:embed="rId1"/>
          <a:stretch/>
        </p:blipFill>
        <p:spPr>
          <a:xfrm>
            <a:off x="0" y="0"/>
            <a:ext cx="5715000" cy="421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Users\TXIKE 47\Documents\My Received Files\174810~Catherine-Deneuve-Posters.jpg"/>
          <p:cNvPicPr/>
          <p:nvPr/>
        </p:nvPicPr>
        <p:blipFill>
          <a:blip r:embed="rId2"/>
          <a:srcRect l="9144" t="2436" r="5491" b="7316"/>
          <a:stretch/>
        </p:blipFill>
        <p:spPr>
          <a:xfrm>
            <a:off x="0" y="421488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C:\Users\TXIKE 47\Documents\My Received Files\174809~Catherine-Deneuve-Posters.jpg"/>
          <p:cNvPicPr/>
          <p:nvPr/>
        </p:nvPicPr>
        <p:blipFill>
          <a:blip r:embed="rId3"/>
          <a:srcRect l="0" t="0" r="0" b="19570"/>
          <a:stretch/>
        </p:blipFill>
        <p:spPr>
          <a:xfrm>
            <a:off x="6215040" y="0"/>
            <a:ext cx="2928960" cy="254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C:\Users\TXIKE 47\Documents\My Received Files\245178~Catherine-Deneuve-Posters.jpg"/>
          <p:cNvPicPr/>
          <p:nvPr/>
        </p:nvPicPr>
        <p:blipFill>
          <a:blip r:embed="rId4"/>
          <a:srcRect l="11496" t="1663" r="12577" b="22190"/>
          <a:stretch/>
        </p:blipFill>
        <p:spPr>
          <a:xfrm>
            <a:off x="5715000" y="2558880"/>
            <a:ext cx="3429000" cy="429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5943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857840" y="7142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ke So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5254560" y="2071800"/>
            <a:ext cx="3889440" cy="4786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63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rcRect l="0" t="0" r="0" b="18929"/>
          <a:stretch/>
        </p:blipFill>
        <p:spPr>
          <a:xfrm>
            <a:off x="4357800" y="2500200"/>
            <a:ext cx="3436920" cy="415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3"/>
          <a:srcRect l="14189" t="7432" r="16230" b="25655"/>
          <a:stretch/>
        </p:blipFill>
        <p:spPr>
          <a:xfrm>
            <a:off x="7000920" y="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3571920" y="6429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ill St.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8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86080" y="1428840"/>
            <a:ext cx="30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ie Van D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3724200" cy="528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rcRect l="11767" t="6050" r="11030" b="9719"/>
          <a:stretch/>
        </p:blipFill>
        <p:spPr>
          <a:xfrm>
            <a:off x="4500720" y="3286080"/>
            <a:ext cx="3846240" cy="3571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3733920"/>
            <a:ext cx="6783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All The Girls I’ve Lov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ulio Iglesias &amp; Willie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:  WWW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230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14200" y="5857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zabeth Tay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75440" y="0"/>
            <a:ext cx="2968560" cy="38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3643200" y="0"/>
            <a:ext cx="206244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4"/>
          <a:srcRect l="8825" t="2950" r="11764" b="13588"/>
          <a:stretch/>
        </p:blipFill>
        <p:spPr>
          <a:xfrm>
            <a:off x="4929120" y="3071880"/>
            <a:ext cx="2357640" cy="37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3714840"/>
            <a:ext cx="6072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286000" cy="286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786120" y="1428840"/>
            <a:ext cx="21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gitte Bar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 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3333600" cy="29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6143760" y="3160800"/>
            <a:ext cx="3000240" cy="3697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724800" y="0"/>
            <a:ext cx="241920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214800" y="785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e Russ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0" y="3571920"/>
            <a:ext cx="2629080" cy="32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00280" cy="36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Jane Russell-2007"/>
          <p:cNvPicPr/>
          <p:nvPr/>
        </p:nvPicPr>
        <p:blipFill>
          <a:blip r:embed="rId4"/>
          <a:stretch/>
        </p:blipFill>
        <p:spPr>
          <a:xfrm>
            <a:off x="4143240" y="2789280"/>
            <a:ext cx="3429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50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ie Chris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4314960"/>
            <a:ext cx="2033640" cy="25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7056360" y="0"/>
            <a:ext cx="208764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F 2007_julie_christie crop"/>
          <p:cNvPicPr/>
          <p:nvPr/>
        </p:nvPicPr>
        <p:blipFill>
          <a:blip r:embed="rId4"/>
          <a:srcRect l="12463" t="8040" r="14906" b="9781"/>
          <a:stretch/>
        </p:blipFill>
        <p:spPr>
          <a:xfrm>
            <a:off x="4500720" y="2786040"/>
            <a:ext cx="3394080" cy="4071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6640560" y="0"/>
            <a:ext cx="2503440" cy="318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657600" y="5335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na Lollobrig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666960" cy="454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3"/>
          <a:stretch/>
        </p:blipFill>
        <p:spPr>
          <a:xfrm>
            <a:off x="609480" y="4546440"/>
            <a:ext cx="217332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gina_ap2007"/>
          <p:cNvPicPr/>
          <p:nvPr/>
        </p:nvPicPr>
        <p:blipFill>
          <a:blip r:embed="rId4"/>
          <a:stretch/>
        </p:blipFill>
        <p:spPr>
          <a:xfrm>
            <a:off x="4500720" y="2287440"/>
            <a:ext cx="3508200" cy="4570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-Margr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3652" t="259" r="0" b="38552"/>
          <a:stretch/>
        </p:blipFill>
        <p:spPr>
          <a:xfrm>
            <a:off x="5929200" y="0"/>
            <a:ext cx="250056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446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nMargret"/>
          <p:cNvPicPr/>
          <p:nvPr/>
        </p:nvPicPr>
        <p:blipFill>
          <a:blip r:embed="rId3"/>
          <a:srcRect l="26448" t="0" r="0" b="39871"/>
          <a:stretch/>
        </p:blipFill>
        <p:spPr>
          <a:xfrm>
            <a:off x="4929120" y="2193840"/>
            <a:ext cx="4214880" cy="4664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1285920" y="4000680"/>
            <a:ext cx="2531880" cy="257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5558"/>
            </a:gs>
            <a:gs pos="50000">
              <a:srgbClr val="e5e8e9"/>
            </a:gs>
            <a:gs pos="100000">
              <a:srgbClr val="54555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rcRect l="16929" t="0" r="17972" b="29171"/>
          <a:stretch/>
        </p:blipFill>
        <p:spPr>
          <a:xfrm>
            <a:off x="0" y="0"/>
            <a:ext cx="357192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571920" y="100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 Si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w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2"/>
          <a:srcRect l="10401" t="0" r="11600" b="11666"/>
          <a:stretch/>
        </p:blipFill>
        <p:spPr>
          <a:xfrm>
            <a:off x="6357960" y="0"/>
            <a:ext cx="2786040" cy="37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3"/>
          <a:stretch/>
        </p:blipFill>
        <p:spPr>
          <a:xfrm>
            <a:off x="378612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6:18Z</dcterms:created>
  <dc:creator>Ren</dc:creator>
  <dc:description/>
  <dc:language>en-US</dc:language>
  <cp:lastModifiedBy>Ken Lock</cp:lastModifiedBy>
  <dcterms:modified xsi:type="dcterms:W3CDTF">2009-02-04T02:54:56Z</dcterms:modified>
  <cp:revision>76</cp:revision>
  <dc:subject/>
  <dc:title>PowerPoint Presentation</dc:title>
</cp:coreProperties>
</file>