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gif" ContentType="image/gif"/>
  <Override PartName="/ppt/media/image3.png" ContentType="image/png"/>
  <Override PartName="/ppt/media/Whitney%20Houston%20-%20I%20Will%20Always%20Love%20You.wav" ContentType="audio/x-wav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46D30-2237-4D12-B688-FCE7D95B6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852FC-CAAF-454A-A1DB-CA37AFABB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77389-32F3-442A-A4CC-84A3C40C7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1CC56-216A-4510-BCAB-667A685AD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37408-5F39-4C38-84AC-236AB22B2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EB763-5F3D-4BF7-A25E-47F7FF76C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92705-6788-4199-BB5E-BCFA37AE8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51962-AEB3-42CD-A137-B15E69F74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8300B-7EB9-4B28-80A2-A4B584D4F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7B339-68F1-4032-A80B-A384EB0C9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D0692-24F6-450F-AEC3-839C7BC9F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11CA9-A38E-4FBD-9084-BDBFD97FF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B4CE6-256E-4D69-B005-EE9ED5CA66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png"/><Relationship Id="rId4" Type="http://schemas.openxmlformats.org/officeDocument/2006/relationships/audio" Target="../media/Whitney%20Houston%20-%20I%20Will%20Always%20Love%20You.wav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9" descr="CampanitaNueva"/>
          <p:cNvPicPr/>
          <p:nvPr/>
        </p:nvPicPr>
        <p:blipFill>
          <a:blip r:embed="rId2"/>
          <a:stretch/>
        </p:blipFill>
        <p:spPr>
          <a:xfrm>
            <a:off x="6095880" y="3809880"/>
            <a:ext cx="2724120" cy="1381320"/>
          </a:xfrm>
          <a:prstGeom prst="rect">
            <a:avLst/>
          </a:prstGeom>
          <a:ln w="0">
            <a:noFill/>
          </a:ln>
        </p:spPr>
      </p:pic>
      <p:pic>
        <p:nvPicPr>
          <p:cNvPr id="42" name="Whitney Houston - I Will Always Love You.wav" descr=""/>
          <p:cNvPicPr/>
          <p:nvPr/>
        </p:nvPicPr>
        <p:blipFill>
          <a:blip r:embed="rId3"/>
          <a:stretch/>
        </p:blipFill>
        <p:spPr>
          <a:xfrm rot="10800000">
            <a:off x="-381240" y="6858000"/>
            <a:ext cx="75960" cy="763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>
            <a:off x="1295280" y="838080"/>
            <a:ext cx="6629400" cy="312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12600">
                  <a:solidFill>
                    <a:srgbClr val="ffccff"/>
                  </a:solidFill>
                  <a:miter/>
                </a:ln>
                <a:solidFill>
                  <a:srgbClr val="ffffff"/>
                </a:solidFill>
                <a:effectLst>
                  <a:outerShdw dist="125751" dir="18900000" blurRad="0" rotWithShape="0">
                    <a:srgbClr val="92c600">
                      <a:alpha val="50000"/>
                    </a:srgbClr>
                  </a:outerShdw>
                </a:effectLst>
                <a:latin typeface="Lucida Handwriting"/>
              </a:rPr>
              <a:t>Nunca es tarde...</a:t>
            </a:r>
            <a:endParaRPr b="0" lang="en-US" sz="1600" spc="1" strike="noStrike">
              <a:ln w="12600">
                <a:solidFill>
                  <a:srgbClr val="ffccff"/>
                </a:solidFill>
                <a:miter/>
              </a:ln>
              <a:solidFill>
                <a:srgbClr val="ffffff"/>
              </a:solidFill>
              <a:effectLst>
                <a:outerShdw dist="125751" dir="18900000" blurRad="0" rotWithShape="0">
                  <a:srgbClr val="92c600">
                    <a:alpha val="50000"/>
                  </a:srgbClr>
                </a:outerShdw>
              </a:effectLst>
              <a:latin typeface="Lucida Handwriting"/>
              <a:ea typeface="Lucida Handwriting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12600">
                  <a:solidFill>
                    <a:srgbClr val="ffccff"/>
                  </a:solidFill>
                  <a:miter/>
                </a:ln>
                <a:solidFill>
                  <a:srgbClr val="ffffff"/>
                </a:solidFill>
                <a:effectLst>
                  <a:outerShdw dist="125751" dir="18900000" blurRad="0" rotWithShape="0">
                    <a:srgbClr val="92c600">
                      <a:alpha val="50000"/>
                    </a:srgbClr>
                  </a:outerShdw>
                </a:effectLst>
                <a:latin typeface="Lucida Handwriting"/>
              </a:rPr>
              <a:t>para  que  aprendas</a:t>
            </a:r>
            <a:endParaRPr b="0" lang="en-US" sz="1600" spc="1" strike="noStrike">
              <a:ln w="12600">
                <a:solidFill>
                  <a:srgbClr val="ffccff"/>
                </a:solidFill>
                <a:miter/>
              </a:ln>
              <a:solidFill>
                <a:srgbClr val="ffffff"/>
              </a:solidFill>
              <a:effectLst>
                <a:outerShdw dist="125751" dir="18900000" blurRad="0" rotWithShape="0">
                  <a:srgbClr val="92c600">
                    <a:alpha val="50000"/>
                  </a:srgbClr>
                </a:outerShdw>
              </a:effectLst>
              <a:latin typeface="Lucida Handwriting"/>
              <a:ea typeface="Lucida Handwriting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12600">
                  <a:solidFill>
                    <a:srgbClr val="ffccff"/>
                  </a:solidFill>
                  <a:miter/>
                </a:ln>
                <a:solidFill>
                  <a:srgbClr val="ffffff"/>
                </a:solidFill>
                <a:effectLst>
                  <a:outerShdw dist="125751" dir="18900000" blurRad="0" rotWithShape="0">
                    <a:srgbClr val="92c600">
                      <a:alpha val="50000"/>
                    </a:srgbClr>
                  </a:outerShdw>
                </a:effectLst>
                <a:latin typeface="Lucida Handwriting"/>
              </a:rPr>
              <a:t>a comprender  a  la  MUJER</a:t>
            </a:r>
            <a:endParaRPr b="0" lang="en-US" sz="1600" spc="1" strike="noStrike">
              <a:ln w="12600">
                <a:solidFill>
                  <a:srgbClr val="ffccff"/>
                </a:solidFill>
                <a:miter/>
              </a:ln>
              <a:solidFill>
                <a:srgbClr val="ffffff"/>
              </a:solidFill>
              <a:effectLst>
                <a:outerShdw dist="125751" dir="18900000" blurRad="0" rotWithShape="0">
                  <a:srgbClr val="92c600">
                    <a:alpha val="50000"/>
                  </a:srgbClr>
                </a:outerShdw>
              </a:effectLst>
              <a:latin typeface="Lucida Handwriting"/>
              <a:ea typeface="Lucida Handwriting"/>
            </a:endParaRPr>
          </a:p>
        </p:txBody>
      </p:sp>
    </p:spTree>
  </p:cSld>
  <p:transition spd="med">
    <p:wheel spokes="8"/>
    <p:sndAc>
      <p:stSnd>
        <p:snd r:embed="rId4" name="Whitney%20Houston%20-%20I%20Will%20Always%20Love%20You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71856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0" descr="CampanitaNueva"/>
          <p:cNvPicPr/>
          <p:nvPr/>
        </p:nvPicPr>
        <p:blipFill>
          <a:blip r:embed="rId2"/>
          <a:stretch/>
        </p:blipFill>
        <p:spPr>
          <a:xfrm>
            <a:off x="4648320" y="1828800"/>
            <a:ext cx="3105000" cy="1380960"/>
          </a:xfrm>
          <a:prstGeom prst="rect">
            <a:avLst/>
          </a:prstGeom>
          <a:ln w="0">
            <a:noFill/>
          </a:ln>
        </p:spPr>
      </p:pic>
      <p:sp>
        <p:nvSpPr>
          <p:cNvPr id="45" name="Text Box 55"/>
          <p:cNvSpPr/>
          <p:nvPr/>
        </p:nvSpPr>
        <p:spPr>
          <a:xfrm>
            <a:off x="304920" y="4495680"/>
            <a:ext cx="88390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Script MT Bold"/>
              </a:rPr>
              <a:t>La mujer quiere una mirada profunda y también una carici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Script MT Bold"/>
              </a:rPr>
              <a:t>Ella no quiere compañía pasajera, quiere presenci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Script MT Bold"/>
              </a:rPr>
              <a:t>La mujer quiere, lo que es más sencillo de otorgar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Script MT Bold"/>
              </a:rPr>
              <a:t>afecto, dulzura y Am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8"/>
          <p:cNvSpPr/>
          <p:nvPr/>
        </p:nvSpPr>
        <p:spPr>
          <a:xfrm>
            <a:off x="304920" y="4114800"/>
            <a:ext cx="88390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Script MT Bold"/>
              </a:rPr>
              <a:t>La mujer no busca una mano, busca tacto.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Script MT Bold"/>
              </a:rPr>
              <a:t>No busca momentos efímeros, espera acontecimientos duraderos.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Script MT Bold"/>
              </a:rPr>
              <a:t>La mujer no busca tu risa, espera tu alegrí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Script MT Bold"/>
              </a:rPr>
              <a:t>Ofrece lo que siempre has podido dar. 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9" descr="CampanitaNueva"/>
          <p:cNvPicPr/>
          <p:nvPr/>
        </p:nvPicPr>
        <p:blipFill>
          <a:blip r:embed="rId2"/>
          <a:stretch/>
        </p:blipFill>
        <p:spPr>
          <a:xfrm>
            <a:off x="5791320" y="1981080"/>
            <a:ext cx="3105000" cy="138132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80880" y="2895120"/>
            <a:ext cx="8763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Script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Script MT Bold"/>
              </a:rPr>
              <a:t>La mujer no desea un cuerpo, desea un abraz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Script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Script MT Bold"/>
              </a:rPr>
              <a:t>No desea halagos, desea palabr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Script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Script MT Bold"/>
              </a:rPr>
              <a:t>La mujer no desea unos labios, desea un beso.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Script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Script MT Bold"/>
              </a:rPr>
              <a:t>No desea ser persona, desea ser Muj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Script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Script MT Bold"/>
              </a:rPr>
              <a:t>La mujer no espera tu tiempo, espera tiempo contig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Script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Script MT Bold"/>
              </a:rPr>
              <a:t>La mujer no espera pasión, espera ro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Script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Script MT Bold"/>
              </a:rPr>
              <a:t>No espera sexo, espera Am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1" descr="CampanitaNueva"/>
          <p:cNvPicPr/>
          <p:nvPr/>
        </p:nvPicPr>
        <p:blipFill>
          <a:blip r:embed="rId2"/>
          <a:stretch/>
        </p:blipFill>
        <p:spPr>
          <a:xfrm>
            <a:off x="5410080" y="1600200"/>
            <a:ext cx="3105360" cy="13809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2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2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2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2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4000"/>
                            </p:stCondLst>
                            <p:childTnLst>
                              <p:par>
                                <p:cTn id="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2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2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7"/>
          <p:cNvSpPr/>
          <p:nvPr/>
        </p:nvSpPr>
        <p:spPr>
          <a:xfrm>
            <a:off x="304920" y="4648320"/>
            <a:ext cx="8839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Script MT Bold"/>
              </a:rPr>
              <a:t>La mujer no espera belleza, espera que la hagan sentir bell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Script MT Bold"/>
              </a:rPr>
              <a:t>La mujer es mujer, no la trates como a un homb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Script MT Bold"/>
              </a:rPr>
              <a:t>La mujer es mujer: no es física, es sentiment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Script MT Bold"/>
              </a:rPr>
              <a:t>La mujer no es cuerpo, es corazón.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8" descr="CampanitaNueva"/>
          <p:cNvPicPr/>
          <p:nvPr/>
        </p:nvPicPr>
        <p:blipFill>
          <a:blip r:embed="rId2"/>
          <a:stretch/>
        </p:blipFill>
        <p:spPr>
          <a:xfrm>
            <a:off x="4572000" y="1828800"/>
            <a:ext cx="3105000" cy="138096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228240" y="4571640"/>
            <a:ext cx="8915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Script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Script MT Bold"/>
              </a:rPr>
              <a:t>La mujer no eres tú, no la trates como esperas que te trat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Script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Script MT Bold"/>
              </a:rPr>
              <a:t>La mujer no es para poseerla, es para admirarla.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Script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Script MT Bold"/>
              </a:rPr>
              <a:t>La mujer no es para convencerla, es para conquistarl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7" descr="CampanitaNueva"/>
          <p:cNvPicPr/>
          <p:nvPr/>
        </p:nvPicPr>
        <p:blipFill>
          <a:blip r:embed="rId2"/>
          <a:stretch/>
        </p:blipFill>
        <p:spPr>
          <a:xfrm>
            <a:off x="4267080" y="2666880"/>
            <a:ext cx="3105360" cy="138132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2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2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2000"/>
                            </p:stCondLst>
                            <p:childTnLst>
                              <p:par>
                                <p:cTn id="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2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2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4000"/>
                            </p:stCondLst>
                            <p:childTnLst>
                              <p:par>
                                <p:cTn id="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7"/>
          <p:cNvSpPr/>
          <p:nvPr/>
        </p:nvSpPr>
        <p:spPr>
          <a:xfrm>
            <a:off x="380880" y="3352680"/>
            <a:ext cx="87631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Script MT Bold"/>
              </a:rPr>
              <a:t>La mujer no es para conocerla superficialmente, es para entenderla en profundida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Script MT Bold"/>
              </a:rPr>
              <a:t>No es siempre lo que tú crees: Ella es mucho má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Script MT Bold"/>
              </a:rPr>
              <a:t>La mujer no es un rostro, es un tod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Script MT Bold"/>
              </a:rPr>
              <a:t>La mujer no es difícil, es misterios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Script MT Bold"/>
              </a:rPr>
              <a:t>La mujer no es tacto, es carici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Script MT Bold"/>
              </a:rPr>
              <a:t>Ella no es la espina, es la ros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8" descr="CampanitaNueva"/>
          <p:cNvPicPr/>
          <p:nvPr/>
        </p:nvPicPr>
        <p:blipFill>
          <a:blip r:embed="rId2"/>
          <a:stretch/>
        </p:blipFill>
        <p:spPr>
          <a:xfrm>
            <a:off x="1981080" y="1828800"/>
            <a:ext cx="3105360" cy="138096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304560" y="731520"/>
            <a:ext cx="8381880" cy="61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Script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Script MT Bold"/>
              </a:rPr>
              <a:t>Eso quiere. Eso busca.  Eso desea. Eso esper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Script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Script MT Bold"/>
              </a:rPr>
              <a:t>¿Puedes dárselo?. Si piensas que sí te has ganado el calificativo de HOMB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Script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Script MT Bold"/>
              </a:rPr>
              <a:t>Si piensas que no, trata por lo menos de no hacerla sufrir y de no dejar pasar el momento para poder comprenderl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Script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Script MT Bold"/>
              </a:rPr>
              <a:t>Recuerda que Ella es eso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Script MT Bold"/>
              </a:rPr>
              <a:t>Simplemente:  </a:t>
            </a:r>
            <a:r>
              <a:rPr b="1" lang="en-US" sz="2400" spc="-1" strike="noStrike">
                <a:solidFill>
                  <a:srgbClr val="ffffff"/>
                </a:solidFill>
                <a:latin typeface="Script MT Bold"/>
              </a:rPr>
              <a:t>UNA MUJ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Handwriting"/>
              </a:rPr>
              <a:t>RESPETALA, AMALA, QUIERELA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Handwriting"/>
              </a:rPr>
              <a:t>PERO JAMAS LA OFEN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3399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6" descr="CampanitaNueva"/>
          <p:cNvPicPr/>
          <p:nvPr/>
        </p:nvPicPr>
        <p:blipFill>
          <a:blip r:embed="rId2"/>
          <a:stretch/>
        </p:blipFill>
        <p:spPr>
          <a:xfrm>
            <a:off x="4419720" y="2133720"/>
            <a:ext cx="3105000" cy="137628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4"/>
          <p:cNvSpPr/>
          <p:nvPr/>
        </p:nvSpPr>
        <p:spPr>
          <a:xfrm>
            <a:off x="609480" y="152280"/>
            <a:ext cx="8382240" cy="612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3399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2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2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2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2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2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2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20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20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20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20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20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20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16" descr="CampanitaNueva"/>
          <p:cNvPicPr/>
          <p:nvPr/>
        </p:nvPicPr>
        <p:blipFill>
          <a:blip r:embed="rId2"/>
          <a:stretch/>
        </p:blipFill>
        <p:spPr>
          <a:xfrm>
            <a:off x="5334120" y="3200400"/>
            <a:ext cx="3105000" cy="13762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304920" y="1295280"/>
            <a:ext cx="7848360" cy="50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Lucida Handwriting"/>
              </a:rPr>
              <a:t>CON MUCHO CARIÑO PARA TOD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Lucida Handwriting"/>
              </a:rPr>
              <a:t>LAS MUJERES DEL MUNDO…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Lucida Handwriting"/>
              </a:rPr>
              <a:t>EN ESPECIAL A MIS AMIGAS.</a:t>
            </a:r>
            <a:r>
              <a:rPr b="1" lang="en-US" sz="2800" spc="-1" strike="noStrike">
                <a:solidFill>
                  <a:srgbClr val="ffff00"/>
                </a:solidFill>
                <a:latin typeface="Lucida Handwriting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Lucida Handwriting"/>
              </a:rPr>
              <a:t>POR FAVOR ENVIA ESTO A TODAS TUS AMIGAS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Lucida Handwriting"/>
              </a:rPr>
              <a:t>Y A LOS HOMBRES PARA QUE COMPRENDA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Lucida Handwriting"/>
              </a:rPr>
              <a:t>EL SENTIR DE UNA MUJ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5T14:31:04Z</dcterms:created>
  <dc:creator>NELLY NECIOSUP</dc:creator>
  <dc:description/>
  <dc:language>en-US</dc:language>
  <cp:lastModifiedBy>LS</cp:lastModifiedBy>
  <dcterms:modified xsi:type="dcterms:W3CDTF">2008-09-13T11:10:10Z</dcterms:modified>
  <cp:revision>4</cp:revision>
  <dc:subject>La MUJER</dc:subject>
  <dc:title>Diapositiva 1</dc:title>
</cp:coreProperties>
</file>