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sound001.wav" ContentType="audio/x-wav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215-B670-4768-AC66-7A70A66E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255-6D93-44BA-B5B9-72F5D76B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77A-5617-43E3-A0E5-E188978C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956-ADBE-4189-988E-2134F913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819-B550-4FB4-A1F3-1D01CCE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FFA-E232-46F0-BDA7-3CA7CE7C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B80-DD58-4D0F-9F9C-B332B83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618-03AC-4F07-AACD-6A8F0C1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9A9-74B5-4C10-A9A1-8C1606E3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E6F-18F8-4E07-8AE8-E1355FD2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439-C336-4899-A7E0-09FB67E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85E-700A-4889-BCFC-361A965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B14E-0794-473D-898E-FCDF292C01C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2" name="Text Box 7"/>
          <p:cNvSpPr/>
          <p:nvPr/>
        </p:nvSpPr>
        <p:spPr>
          <a:xfrm>
            <a:off x="2606760" y="214200"/>
            <a:ext cx="6537240" cy="26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Nascido em 1955 na Bielorú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 depois estabelecido em Isra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Leonid Afremov estudou na Vitebsk Art Scho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uma escola técnica fundada por Marc Chagal em 19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tá radicado em Mi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 seu trabalho consiste em criar imagens 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 cores e brilho usando espátula em vez de pin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BOA VIAGEM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zoom dir="out"/>
    <p:sndAc>
      <p:stSnd>
        <p:snd r:embed="rId2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lide0012_image0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lide0015_image042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lide0016_image036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lide0017_image006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lide0019_image046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9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lide0020_image048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slide0021_image050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lide0022_image05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lide0023_image05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lide0025_image05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lide0009_image008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lide0026_image060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lide0027_image062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7346384_Leonid_Afremov_36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lide0030_image06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2001950888430520186_rs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night_alley"/>
          <p:cNvPicPr/>
          <p:nvPr/>
        </p:nvPicPr>
        <p:blipFill>
          <a:blip r:embed="rId1"/>
          <a:stretch/>
        </p:blipFill>
        <p:spPr>
          <a:xfrm>
            <a:off x="0" y="69840"/>
            <a:ext cx="9109080" cy="67881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lide0034_image075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lide0035_image0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lide0036_image05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gy2viX5tHbudwxaovV0xFpzM_500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7993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0007_image018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slide0037_image066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lide0039_image03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lide0040_image040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slide0041_image044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1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lide0042_image032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med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lide0043_image012"/>
          <p:cNvPicPr/>
          <p:nvPr/>
        </p:nvPicPr>
        <p:blipFill>
          <a:blip r:embed="rId1"/>
          <a:stretch/>
        </p:blipFill>
        <p:spPr>
          <a:xfrm>
            <a:off x="0" y="44280"/>
            <a:ext cx="9109080" cy="68248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lide0044_image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lide0045_image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lide0046_image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lide0047_image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lide0006_image02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OWNPOUR___Leonid_Afremov_by_Leonidafrem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2" name="Text Box 8"/>
          <p:cNvSpPr/>
          <p:nvPr/>
        </p:nvSpPr>
        <p:spPr>
          <a:xfrm>
            <a:off x="0" y="5473800"/>
            <a:ext cx="80661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Viajou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tão repasse pra qu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m bom gosto como você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0001_image004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slide0004_image01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0002_image00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lide0005_image02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lide0011_image034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05:28Z</dcterms:created>
  <dc:creator>. </dc:creator>
  <dc:description/>
  <dc:language>en-US</dc:language>
  <cp:lastModifiedBy>Magali</cp:lastModifiedBy>
  <dcterms:modified xsi:type="dcterms:W3CDTF">2009-02-12T10:48:43Z</dcterms:modified>
  <cp:revision>9</cp:revision>
  <dc:subject/>
  <dc:title>Slide 1</dc:title>
</cp:coreProperties>
</file>