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sound001.wav" ContentType="audio/x-wav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9AD-D894-40D7-A15C-6D572B01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2D9-A052-4964-8A0D-6CF8223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7D7-1ACA-42F8-BA8C-C1B894C3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8C2-3D0A-470F-B59C-9119216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0AD-C6D4-4D27-8C74-B8AAC59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F34-7071-4D29-8FA7-A0EB1DD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FF0-F47B-4058-A37E-6B78C292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19D-1824-4868-9EA7-8E6AA12B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31D-1CE1-4F52-9CAA-3795E33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F73-B570-4CB4-82BB-EBC4D22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F91-405C-4F81-B600-534DAF7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8E0-4C46-4C0A-AFDE-26F69CE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72B1-B4B3-4DDD-8E56-47CC6F26EF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2" name="Text Box 7"/>
          <p:cNvSpPr/>
          <p:nvPr/>
        </p:nvSpPr>
        <p:spPr>
          <a:xfrm>
            <a:off x="2606760" y="214200"/>
            <a:ext cx="6537240" cy="26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Nascido em 1955 na Bielorú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 depois estabelecido em Isra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Leonid Afremov estudou na Vitebsk Art Scho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uma escola técnica fundada por Marc Chagal em 19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tá radicado em Mi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 seu trabalho consiste em criar imagens 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 cores e brilho usando espátula em vez de pin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BOA VIAGEM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zoom dir="out"/>
    <p:sndAc>
      <p:stSnd>
        <p:snd r:embed="rId2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lide0012_image0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lide0015_image042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lide0016_image036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lide0017_image006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lide0019_image046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9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lide0020_image048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lide0021_image050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lide0022_image05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lide0023_image05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lide0025_image05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lide0009_image008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lide0026_image060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lide0027_image062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7346384_Leonid_Afremov_36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lide0030_image06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2001950888430520186_rs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night_alley"/>
          <p:cNvPicPr/>
          <p:nvPr/>
        </p:nvPicPr>
        <p:blipFill>
          <a:blip r:embed="rId1"/>
          <a:stretch/>
        </p:blipFill>
        <p:spPr>
          <a:xfrm>
            <a:off x="0" y="69840"/>
            <a:ext cx="9109080" cy="6788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lide0034_image075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lide0035_image0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lide0036_image05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gy2viX5tHbudwxaovV0xFpzM_500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7993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0007_image018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lide0037_image066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lide0039_image03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lide0040_image040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lide0041_image044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1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lide0042_image032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med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lide0043_image012"/>
          <p:cNvPicPr/>
          <p:nvPr/>
        </p:nvPicPr>
        <p:blipFill>
          <a:blip r:embed="rId1"/>
          <a:stretch/>
        </p:blipFill>
        <p:spPr>
          <a:xfrm>
            <a:off x="0" y="44280"/>
            <a:ext cx="9109080" cy="6824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lide0044_image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lide0045_imag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lide0046_image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lide0047_image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lide0006_image02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OWNPOUR___Leonid_Afremov_by_Leonidafrem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2" name="Text Box 8"/>
          <p:cNvSpPr/>
          <p:nvPr/>
        </p:nvSpPr>
        <p:spPr>
          <a:xfrm>
            <a:off x="0" y="5473800"/>
            <a:ext cx="80661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Viajou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tão repasse pra qu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 bom gosto como você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0001_image004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lide0004_image01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0002_image00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lide0005_image02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lide0011_image034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05:28Z</dcterms:created>
  <dc:creator>. </dc:creator>
  <dc:description/>
  <dc:language>en-US</dc:language>
  <cp:lastModifiedBy>Magali</cp:lastModifiedBy>
  <dcterms:modified xsi:type="dcterms:W3CDTF">2009-02-12T10:48:43Z</dcterms:modified>
  <cp:revision>9</cp:revision>
  <dc:subject/>
  <dc:title>Slide 1</dc:title>
</cp:coreProperties>
</file>