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1AE0-9D87-457F-BA14-7376B9AE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B08-8BB7-4F3F-9904-84C7A11A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DCD-325E-4D40-9D2B-384CFC4C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1F2-BED9-431E-930E-CC1A4BB0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DC-AC45-41E7-9216-9EEA22B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F96-0EE2-4E0E-8BB8-D219992C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829-DF4D-49DB-9B47-55702BE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B78-C67C-4C02-BFF8-AB2FFC61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211-7E4F-45CF-94FB-AA9B82E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DEE-ABF4-41DE-AF0B-B7C00CC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590-0E8D-4B2A-B3DD-82B392A0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C44-4390-4C54-85E6-71CBB51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B2F-55EA-4982-BB46-B30C962C6F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os puentes más peligrosos del  mu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El puente mas peligroso del mundo"/>
          <p:cNvPicPr/>
          <p:nvPr/>
        </p:nvPicPr>
        <p:blipFill>
          <a:blip r:embed="rId1"/>
          <a:stretch/>
        </p:blipFill>
        <p:spPr>
          <a:xfrm>
            <a:off x="1979640" y="620640"/>
            <a:ext cx="518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rrick-a-Rede Rope, Irlanda del No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Carrick-a-Rede Rope Bridge"/>
          <p:cNvPicPr/>
          <p:nvPr/>
        </p:nvPicPr>
        <p:blipFill>
          <a:blip r:embed="rId1"/>
          <a:stretch/>
        </p:blipFill>
        <p:spPr>
          <a:xfrm>
            <a:off x="762120" y="857160"/>
            <a:ext cx="761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iguille du Midi en el Mont Blanc, Fr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 Mont Blanc bridge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boc Hanging, Filipi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Loboc bridge"/>
          <p:cNvPicPr/>
          <p:nvPr/>
        </p:nvPicPr>
        <p:blipFill>
          <a:blip r:embed="rId1"/>
          <a:stretch/>
        </p:blipFill>
        <p:spPr>
          <a:xfrm>
            <a:off x="762120" y="1314360"/>
            <a:ext cx="76197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Loboc Hanging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ussaini - Borit Lake, Pakistá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Loboc Hanging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52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uente en el Parque Nacional Taman Negara, Malas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Taman Negara National Park Bridge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Taman Negara National Park Bridge"/>
          <p:cNvPicPr/>
          <p:nvPr/>
        </p:nvPicPr>
        <p:blipFill>
          <a:blip r:embed="rId1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Taman Negara National Park Bridg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de Ghasa en Nep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Hanging bridge of Ghasa in Nepal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ente colgante en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ussaini bridge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hanging bridge in Indi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en Thenmala, In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anging Bridge at Thenmala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7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o puente colgante en Filip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 bridge in Philippine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ente en el Parque Natural Repovesi Valkeala, Finlan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epovesi nature park Valkeala, Finland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nte colgante en la bahía Drake, Costa 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Hanging Bridge in Drake Ba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ente colgante en Bohol, Filipi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hussaini bridge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Hanging bridge in Boho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bohol1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ambadaga, un pueblecito cerca de Pita, Níg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Kambadaga bridge"/>
          <p:cNvPicPr/>
          <p:nvPr/>
        </p:nvPicPr>
        <p:blipFill>
          <a:blip r:embed="rId1"/>
          <a:stretch/>
        </p:blipFill>
        <p:spPr>
          <a:xfrm>
            <a:off x="762120" y="1309680"/>
            <a:ext cx="7619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10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uente colgante en el glaciar Trift, Sui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anging Bridge at Trift Glacier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06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que Nacional Kakum, Canopy Walkway, Gh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Kakum National Park Canopy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ussaini bridge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48000" y="292428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El puente mas peligroso del mundo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El puente mas peligroso del mundo"/>
          <p:cNvPicPr/>
          <p:nvPr/>
        </p:nvPicPr>
        <p:blipFill>
          <a:blip r:embed="rId1"/>
          <a:stretch/>
        </p:blipFill>
        <p:spPr>
          <a:xfrm>
            <a:off x="1835280" y="907920"/>
            <a:ext cx="547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El puente mas peligroso del mundo"/>
          <p:cNvPicPr/>
          <p:nvPr/>
        </p:nvPicPr>
        <p:blipFill>
          <a:blip r:embed="rId1"/>
          <a:stretch/>
        </p:blipFill>
        <p:spPr>
          <a:xfrm>
            <a:off x="1763640" y="1341360"/>
            <a:ext cx="5545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El puente mas peligroso del mundo"/>
          <p:cNvPicPr/>
          <p:nvPr/>
        </p:nvPicPr>
        <p:blipFill>
          <a:blip r:embed="rId1"/>
          <a:stretch/>
        </p:blipFill>
        <p:spPr>
          <a:xfrm>
            <a:off x="1908000" y="549360"/>
            <a:ext cx="5328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0:54:57Z</dcterms:created>
  <dc:creator/>
  <dc:description/>
  <dc:language>en-US</dc:language>
  <cp:lastModifiedBy>Alonso Quijano</cp:lastModifiedBy>
  <dcterms:modified xsi:type="dcterms:W3CDTF">2009-05-16T23:33:22Z</dcterms:modified>
  <cp:revision>7</cp:revision>
  <dc:subject/>
  <dc:title>Los puentes más peligrosos del  mundo</dc:title>
</cp:coreProperties>
</file>