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AC7E-EB4A-43F9-99EB-A6F28C3A3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A9F0-0509-4E50-A605-8A5DD298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AEE6-047D-4671-B8CB-E3C067D05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905A-CB4C-4823-824F-614FD232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A5C7-E00F-484D-A7A6-EBFBD812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F36A-4DFF-427B-A15C-CFE9EF12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3F72-03D8-4A20-9472-7E36B597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A468-9E80-45BB-826C-E9817D4C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3FB6-46ED-4362-A639-B513D427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8090-F15C-4F2A-A712-DC911C66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4A42-976C-44B1-B765-45E29EBA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1998-38D9-477D-86DD-C09F767E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37E3-A6A7-4D53-9001-0E736E7DCA6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773000"/>
            <a:ext cx="91440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Los puentes más peligrosos del  mund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El puente mas peligroso del mundo"/>
          <p:cNvPicPr/>
          <p:nvPr/>
        </p:nvPicPr>
        <p:blipFill>
          <a:blip r:embed="rId1"/>
          <a:stretch/>
        </p:blipFill>
        <p:spPr>
          <a:xfrm>
            <a:off x="1979640" y="620640"/>
            <a:ext cx="5184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708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arrick-a-Rede Rope, Irlanda del Nor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Carrick-a-Rede Rope Bridge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Carrick-a-Rede Rope Bridge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Carrick-a-Rede Rope Bridge"/>
          <p:cNvPicPr/>
          <p:nvPr/>
        </p:nvPicPr>
        <p:blipFill>
          <a:blip r:embed="rId1"/>
          <a:stretch/>
        </p:blipFill>
        <p:spPr>
          <a:xfrm>
            <a:off x="762120" y="857160"/>
            <a:ext cx="76197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781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iguille du Midi en el Mont Blanc, Fra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 Mont Blanc bridge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852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oboc Hanging, Filipin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Loboc bridge"/>
          <p:cNvPicPr/>
          <p:nvPr/>
        </p:nvPicPr>
        <p:blipFill>
          <a:blip r:embed="rId1"/>
          <a:stretch/>
        </p:blipFill>
        <p:spPr>
          <a:xfrm>
            <a:off x="762120" y="1314360"/>
            <a:ext cx="761976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Loboc Hanging Bridge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852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Hussaini - Borit Lake, Pakistá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Loboc Hanging Bridge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85264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Puente en el Parque Nacional Taman Negara, Malas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Taman Negara National Park Bridge"/>
          <p:cNvPicPr/>
          <p:nvPr/>
        </p:nvPicPr>
        <p:blipFill>
          <a:blip r:embed="rId1"/>
          <a:stretch/>
        </p:blipFill>
        <p:spPr>
          <a:xfrm>
            <a:off x="1908000" y="0"/>
            <a:ext cx="518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Taman Negara National Park Bridge"/>
          <p:cNvPicPr/>
          <p:nvPr/>
        </p:nvPicPr>
        <p:blipFill>
          <a:blip r:embed="rId1"/>
          <a:stretch/>
        </p:blipFill>
        <p:spPr>
          <a:xfrm>
            <a:off x="1908000" y="0"/>
            <a:ext cx="51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Taman Negara National Park Bridge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2852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uente colgante de Ghasa en Nep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Hanging bridge of Ghasa in Nepal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Hanging bridge of Ghasa in Nepal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Hanging bridge of Ghasa in Nepal"/>
          <p:cNvPicPr/>
          <p:nvPr/>
        </p:nvPicPr>
        <p:blipFill>
          <a:blip r:embed="rId1"/>
          <a:stretch/>
        </p:blipFill>
        <p:spPr>
          <a:xfrm>
            <a:off x="762120" y="1285920"/>
            <a:ext cx="76197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2852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ente colgante en In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hussaini bridge"/>
          <p:cNvPicPr/>
          <p:nvPr/>
        </p:nvPicPr>
        <p:blipFill>
          <a:blip r:embed="rId1"/>
          <a:stretch/>
        </p:blipFill>
        <p:spPr>
          <a:xfrm>
            <a:off x="183528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hanging bridge in India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781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uente colgante en Thenmala, Ind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Hanging Bridge at Thenmala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2781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ro puente colgante en Filipi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 bridge in Philippines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2852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uente en el Parque Natural Repovesi Valkeala, Finland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Repovesi nature park Valkeala, Finland"/>
          <p:cNvPicPr/>
          <p:nvPr/>
        </p:nvPicPr>
        <p:blipFill>
          <a:blip r:embed="rId1"/>
          <a:stretch/>
        </p:blipFill>
        <p:spPr>
          <a:xfrm>
            <a:off x="762120" y="885960"/>
            <a:ext cx="761976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2781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ente colgante en la bahía Drake, Costa R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Hanging Bridge in Drake Bay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3109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ente colgante en Bohol, Filipin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hussaini bridge"/>
          <p:cNvPicPr/>
          <p:nvPr/>
        </p:nvPicPr>
        <p:blipFill>
          <a:blip r:embed="rId1"/>
          <a:stretch/>
        </p:blipFill>
        <p:spPr>
          <a:xfrm>
            <a:off x="1763640" y="0"/>
            <a:ext cx="554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Hanging bridge in Bohol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bohol1"/>
          <p:cNvPicPr/>
          <p:nvPr/>
        </p:nvPicPr>
        <p:blipFill>
          <a:blip r:embed="rId1"/>
          <a:stretch/>
        </p:blipFill>
        <p:spPr>
          <a:xfrm>
            <a:off x="762120" y="1285920"/>
            <a:ext cx="76197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781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Kambadaga, un pueblecito cerca de Pita, Níg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Kambadaga bridge"/>
          <p:cNvPicPr/>
          <p:nvPr/>
        </p:nvPicPr>
        <p:blipFill>
          <a:blip r:embed="rId1"/>
          <a:stretch/>
        </p:blipFill>
        <p:spPr>
          <a:xfrm>
            <a:off x="762120" y="1309680"/>
            <a:ext cx="761976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3109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uente colgante en el glaciar Trift, Suiz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Hanging Bridge at Trift Glacier"/>
          <p:cNvPicPr/>
          <p:nvPr/>
        </p:nvPicPr>
        <p:blipFill>
          <a:blip r:embed="rId1"/>
          <a:stretch/>
        </p:blipFill>
        <p:spPr>
          <a:xfrm>
            <a:off x="762120" y="885960"/>
            <a:ext cx="761976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067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arque Nacional Kakum, Canopy Walkway, Ghan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Kakum National Park Canopy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Kakum National Park Canopy"/>
          <p:cNvPicPr/>
          <p:nvPr/>
        </p:nvPicPr>
        <p:blipFill>
          <a:blip r:embed="rId1"/>
          <a:stretch/>
        </p:blipFill>
        <p:spPr>
          <a:xfrm>
            <a:off x="762120" y="885960"/>
            <a:ext cx="761976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Kakum National Park Canopy"/>
          <p:cNvPicPr/>
          <p:nvPr/>
        </p:nvPicPr>
        <p:blipFill>
          <a:blip r:embed="rId1"/>
          <a:stretch/>
        </p:blipFill>
        <p:spPr>
          <a:xfrm>
            <a:off x="762120" y="885960"/>
            <a:ext cx="761976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hussaini bridge"/>
          <p:cNvPicPr/>
          <p:nvPr/>
        </p:nvPicPr>
        <p:blipFill>
          <a:blip r:embed="rId1"/>
          <a:stretch/>
        </p:blipFill>
        <p:spPr>
          <a:xfrm>
            <a:off x="1763640" y="0"/>
            <a:ext cx="554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348000" y="2924280"/>
            <a:ext cx="201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El puente mas peligroso del mundo"/>
          <p:cNvPicPr/>
          <p:nvPr/>
        </p:nvPicPr>
        <p:blipFill>
          <a:blip r:embed="rId1"/>
          <a:stretch/>
        </p:blipFill>
        <p:spPr>
          <a:xfrm>
            <a:off x="1692360" y="1341360"/>
            <a:ext cx="5688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El puente mas peligroso del mundo"/>
          <p:cNvPicPr/>
          <p:nvPr/>
        </p:nvPicPr>
        <p:blipFill>
          <a:blip r:embed="rId1"/>
          <a:stretch/>
        </p:blipFill>
        <p:spPr>
          <a:xfrm>
            <a:off x="1835280" y="907920"/>
            <a:ext cx="54734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El puente mas peligroso del mundo"/>
          <p:cNvPicPr/>
          <p:nvPr/>
        </p:nvPicPr>
        <p:blipFill>
          <a:blip r:embed="rId1"/>
          <a:stretch/>
        </p:blipFill>
        <p:spPr>
          <a:xfrm>
            <a:off x="1763640" y="1341360"/>
            <a:ext cx="55450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El puente mas peligroso del mundo"/>
          <p:cNvPicPr/>
          <p:nvPr/>
        </p:nvPicPr>
        <p:blipFill>
          <a:blip r:embed="rId1"/>
          <a:stretch/>
        </p:blipFill>
        <p:spPr>
          <a:xfrm>
            <a:off x="1908000" y="549360"/>
            <a:ext cx="53280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00:54:57Z</dcterms:created>
  <dc:creator/>
  <dc:description/>
  <dc:language>en-US</dc:language>
  <cp:lastModifiedBy>Alonso Quijano</cp:lastModifiedBy>
  <dcterms:modified xsi:type="dcterms:W3CDTF">2009-05-16T23:33:22Z</dcterms:modified>
  <cp:revision>7</cp:revision>
  <dc:subject/>
  <dc:title>Los puentes más peligrosos del  mundo</dc:title>
</cp:coreProperties>
</file>