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musica%20rusa%20(russian%20music)%20-%20national%20anthems%20-%20soviet%20russia%20(full%20version).wav" ContentType="audio/x-wav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43F-9ED5-4B5A-ABA8-7A45A8C2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12E-E4E9-41B5-8CBC-C6D87CF7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1FF-ABFC-409A-968A-7EDD9ACA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C9A-850F-44FF-BB52-D6D96A9C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BD2-4E7F-4E22-A2CC-D0CFE5CA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D60-F48B-48BA-BBD0-153B360B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74A-BFB9-469C-96A8-432BC9F6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4DF-6168-4414-90DB-39541030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6B3-E1C0-42F4-9999-6D5D0254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FEF-19AA-48BF-AE82-BEBA1508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8FE-4776-40F5-9DCA-121BB294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130-31D4-4E93-A24C-807F673E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F6FE-CD7A-43F3-9192-FCBE25BA6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musica%20rusa%20(russian%20music)%20-%20national%20anthems%20-%20soviet%20russia%20(full%20version)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39960" y="1341360"/>
            <a:ext cx="43531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cap="rnd" w="25560">
                  <a:solidFill>
                    <a:srgbClr val="00808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atin typeface="Brush Script MT"/>
              </a:rPr>
              <a:t>Museu Hermitage </a:t>
            </a:r>
            <a:endParaRPr b="1" lang="en-US" sz="9600" spc="1" strike="noStrike">
              <a:ln cap="rnd" w="25560">
                <a:solidFill>
                  <a:srgbClr val="00808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atin typeface="Brush Script MT"/>
              <a:ea typeface="Brush Script M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24360" y="4797360"/>
            <a:ext cx="1584360" cy="1003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380360" y="5950080"/>
            <a:ext cx="131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atin typeface="Brush Script MT"/>
              </a:rPr>
              <a:t>Clique</a:t>
            </a:r>
            <a:endParaRPr b="1" lang="en-US" sz="1800" spc="1" strike="noStrike">
              <a:ln cap="rnd" w="936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atin typeface="Brush Script MT"/>
              <a:ea typeface="Brush Script M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3280" y="2781360"/>
            <a:ext cx="152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9360">
                  <a:solidFill>
                    <a:srgbClr val="006666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atin typeface="comic"/>
              </a:rPr>
              <a:t>I</a:t>
            </a:r>
            <a:endParaRPr b="1" lang="en-US" sz="1800" spc="1" strike="noStrike">
              <a:ln cap="rnd" w="9360">
                <a:solidFill>
                  <a:srgbClr val="006666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atin typeface="comic"/>
              <a:ea typeface="comic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987640" y="692280"/>
            <a:ext cx="3672000" cy="489564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39640" y="6093000"/>
            <a:ext cx="820908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vaso Kolivan, de 18 toneladas, em  jaspe, é tão grande que este salão teve que ser construído ao seu  r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6000" y="6165720"/>
            <a:ext cx="377748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Hall Branco – Vaso – Fim do século 18 - Sèv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348000" y="662040"/>
            <a:ext cx="2946600" cy="49276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790720" y="765000"/>
            <a:ext cx="3726000" cy="49690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914560" y="6237360"/>
            <a:ext cx="352908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Trono no Hall São Jorge -  Palácio de Inv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095880" cy="457200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309480" y="6041880"/>
            <a:ext cx="355212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Salão do Pequeno Trono -  Palácio de Inv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22400" y="765000"/>
            <a:ext cx="3910320" cy="49690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010880" y="6237360"/>
            <a:ext cx="727488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Galeria de Raphael, no Grande Hermitage, apresenta fiéis reproduções de afrescos do Vatic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192720" cy="46450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855960" y="6113520"/>
            <a:ext cx="211464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Museu Hermitage -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77280" y="6149880"/>
            <a:ext cx="361116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Biblioteca de Nicholas II – Detalhe do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619280" y="765000"/>
            <a:ext cx="6264360" cy="4762800"/>
          </a:xfrm>
          <a:prstGeom prst="rect">
            <a:avLst/>
          </a:prstGeom>
          <a:ln w="380880">
            <a:solidFill>
              <a:srgbClr val="0033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6762960" cy="507204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783960" y="6308640"/>
            <a:ext cx="186948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Museu Hermitage -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97160" y="6093000"/>
            <a:ext cx="657864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Hall  Marechal-de-Campo - Grande carruagem francesa, 1720s - Gobelins Factory -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19280" y="836640"/>
            <a:ext cx="6095880" cy="4648320"/>
          </a:xfrm>
          <a:prstGeom prst="rect">
            <a:avLst/>
          </a:prstGeom>
          <a:ln w="380880">
            <a:solidFill>
              <a:srgbClr val="361b00"/>
            </a:solidFill>
            <a:miter/>
          </a:ln>
        </p:spPr>
      </p:pic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32000" y="6165720"/>
            <a:ext cx="331632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escadaria October, vista do seu patam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3327480" cy="49276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59280" y="476280"/>
            <a:ext cx="3543120" cy="492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5877000"/>
            <a:ext cx="8459640" cy="27648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Página de Rosto da obra  “The Museum of the Imperial Hermitage”, Konstantin Ukhtomsky ,1861, Aquar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3" name="musica%20rusa%20(russian%20music)%20-%20national%20anthems%20-%20soviet%20russia%20(full%20version)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21760" y="6021360"/>
            <a:ext cx="5465880" cy="459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escadaria October – Estátua da Imperatriz Alexandra Fiodorovna, 18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Saveliev, Dmitry do original de Carl Wich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8000" y="716040"/>
            <a:ext cx="5616720" cy="480060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29040" y="6165720"/>
            <a:ext cx="211464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Museu Hermitage -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6769080" cy="44182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25400" y="6093000"/>
            <a:ext cx="3016800" cy="27648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Salão Malaquita – Detalhe do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019920" cy="49276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476280"/>
            <a:ext cx="8280360" cy="597708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981000"/>
            <a:ext cx="4572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Créd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Fundo musical: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(Russian music) - National Anth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oviet Russia (full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Pesquisa e Produçã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Mario Capelluto e Ida Ara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mario.capelluto@terra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Format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Elisabeth Victoria Rachau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elisarachaus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b2b2b2"/>
                </a:solidFill>
                <a:uFillTx/>
                <a:latin typeface="Arial"/>
              </a:rPr>
              <a:t>http://www.saber.cultural.nom.br</a:t>
            </a:r>
            <a:r>
              <a:rPr b="0" lang="pt-BR" sz="1800" spc="-1" strike="noStrike">
                <a:solidFill>
                  <a:srgbClr val="b2b2b2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564000" y="549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51640" y="549360"/>
            <a:ext cx="215640" cy="21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43280" y="6165720"/>
            <a:ext cx="3960720" cy="4590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 Unicode MS"/>
              </a:rPr>
              <a:t>  </a:t>
            </a:r>
            <a:r>
              <a:rPr b="1" lang="en-US" sz="1200" spc="-1" strike="noStrike">
                <a:solidFill>
                  <a:srgbClr val="b2b2b2"/>
                </a:solidFill>
                <a:latin typeface="Arial Unicode MS"/>
              </a:rPr>
              <a:t>Museu Hermitage à noite,  São Petersburgo, Rú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89080" y="1052640"/>
            <a:ext cx="6912000" cy="442440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76280"/>
            <a:ext cx="8280360" cy="597708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957240"/>
            <a:ext cx="792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MUSEU HERMITAGE 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Estrutura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Museu Hermitage é a melhor galeria de arte da Rússia, um dos mais destacados museus do mundo e, definitivamente, a principal atração turística de São Petersburgo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principal prédio do Museu Hermitage é o Palácio de Inverno, de Rastrelli (1754-1762), em estilo barroco, a mais notável obra da época, residência principal dos Czares Russos durante certo tempo. Sua primeira ocupante foi Catarina, a Grande, que mandou construir o primeiro Hermitage, adjacente à residência imperial.  Vinte anos depois foi ampliado para abrigar sua extraordinária coleção de arte. Ampliado novamente pelos sucessores de Catarina, todo o conjunto e o palácio de Inverno passaram a formar o Museu Hermitag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Essas construções formam um complexo enorme: o Palácio de Inverno, o Pequeno Hermitage, o Grande Hermitage  e, ultimamente, o Novo Hermitage. O Teatro Hermitage - o teatro privativo dos Czares - é um anfiteatro belamente decorado e constantemente  apresenta conferências, concertos, espetáculos de ópera e balé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Grande parte do magnífico interior do Palácio foi remodelado depois do incêndio havido em 1837,  que destruiu parcialmente a construção. Famosos arquitetos, tanto russos quanto estrangeiros, trabalharam exaustivamente para assegurar a essa residência Imperial o seu registro como um dos mais requintados e luxuosos Palácios do mundo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Museu expõe raras peças da Antiguidade, uma coleção de quadros de Ticiano, Raphael, Rubens, Van Dyck, Rembrandt, Leonardo da Vinci; telas dos impressionistas e pós-impressionistas franceses, esculturas de Rodin, Antonio Canova, etc. A coleção é enorme e diversificada, sendo uma atração irresistível para aqueles interessados em Arte e História. 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apresentação de peças do acervo encontra-se no pps Museu Hermitage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71640" y="981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84720" y="981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427640" y="5950080"/>
            <a:ext cx="215640" cy="21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836640"/>
            <a:ext cx="6502320" cy="4876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58920" y="692280"/>
            <a:ext cx="6697800" cy="502128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197080" y="6165720"/>
            <a:ext cx="516276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escadaria principal do Palácio de Inverno – fragmento do  interi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44720" y="6221520"/>
            <a:ext cx="405936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A escadaria principal do Palácio do Inverno -Detalhe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03640" y="620640"/>
            <a:ext cx="3281400" cy="511344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76520" y="6021360"/>
            <a:ext cx="436284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Teto sobre a escadaria Jordaniana no Palácio de Inv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58920" y="981000"/>
            <a:ext cx="6732720" cy="439272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71640" y="692280"/>
            <a:ext cx="3727440" cy="496872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16000" y="6237360"/>
            <a:ext cx="684072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O Grande Hermitage foi construído para abrigar a grandiosa coleção de arte de Catarin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095880" cy="4572000"/>
          </a:xfrm>
          <a:prstGeom prst="rect">
            <a:avLst/>
          </a:prstGeom>
          <a:ln w="38088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249000" y="6113520"/>
            <a:ext cx="3117600" cy="276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Detalhe do teto do Grande Salão Ital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03:38Z</dcterms:created>
  <dc:creator>Elisabeth Victoria  Rachaus</dc:creator>
  <dc:description/>
  <dc:language>en-US</dc:language>
  <cp:lastModifiedBy>edu</cp:lastModifiedBy>
  <dcterms:modified xsi:type="dcterms:W3CDTF">2007-04-19T20:29:40Z</dcterms:modified>
  <cp:revision>1</cp:revision>
  <dc:subject>Arte</dc:subject>
  <dc:title>Museu Hermitage I</dc:title>
</cp:coreProperties>
</file>