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ime_to_say_goodbye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AF3-964B-494E-A954-3172F11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B2E-7010-42B8-8A81-822C766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009-FBB8-4018-A5DB-9E746326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86B-D98B-483D-A290-E34B0F6C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9CE-5DCC-41CF-B750-04283B1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DC1-EE28-4B9D-B349-85E8053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CD4-6E91-46E3-B182-0638AE20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67D-CEE1-4BC9-ADFA-2D62FF8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16B-1BF4-4114-A05B-7A5358CD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238-D1A9-4779-AEA7-D8944D35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C7E-E9BB-4D54-9DCE-6696DAE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97E-B7BD-43AA-A4F4-83B8903D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206-2FC0-4E9A-A8D3-2EF55A99B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0"/>
            <a:ext cx="7162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ffff99"/>
                </a:solidFill>
                <a:latin typeface="Times New Roman"/>
              </a:rPr>
              <a:t>BREAFING CELES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6324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3624120"/>
            <a:ext cx="76197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dí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Que llega y se retira sin alar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9880" y="3624120"/>
            <a:ext cx="76197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oasi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a tu agua al sedient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276720"/>
            <a:ext cx="82296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luciérnag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unque es pequeñ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mite su propia luz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768840"/>
            <a:ext cx="8229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agu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Buena y transparen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684600"/>
            <a:ext cx="82296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río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iempre ve hacia  adelan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3697200"/>
            <a:ext cx="75708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ázaro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vántate y and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3691080"/>
            <a:ext cx="75708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José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ree en tus sueñ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2954160"/>
            <a:ext cx="720108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Y por sobre todas las cosas </a:t>
            </a:r>
            <a:br>
              <a:rPr sz="4400"/>
            </a:b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Sé como el cielo: </a:t>
            </a:r>
            <a:br>
              <a:rPr sz="4400"/>
            </a:br>
            <a:r>
              <a:rPr b="0" i="1" lang="en-US" sz="4400" spc="-1" strike="noStrike">
                <a:solidFill>
                  <a:srgbClr val="ffff99"/>
                </a:solidFill>
                <a:latin typeface="Times New Roman"/>
              </a:rPr>
              <a:t>La morada de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Dio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3284640"/>
            <a:ext cx="82087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eño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no permitas que me quede donde esto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yúdame a llegar a donde Tú quier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4200480" cy="3151080"/>
          </a:xfrm>
          <a:prstGeom prst="rect">
            <a:avLst/>
          </a:prstGeom>
          <a:ln w="25560">
            <a:solidFill>
              <a:srgbClr val="ff2d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2286000"/>
            <a:ext cx="7162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692280"/>
            <a:ext cx="668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Si recibiste este mensaje, da gracias a 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de tener a alguien que piensa en 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Unicorn"/>
              </a:rPr>
              <a:t>No todos tenemos ese privileg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844640"/>
            <a:ext cx="7194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Recuerdo que antes de que yo naciera estaba preocupado porque no conocía el mundo al que llegaría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Entonces le pedi a Dios instruccion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para vivir en esta tierra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3505320"/>
            <a:ext cx="6769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ios acercó su Voz a mi oído y me dij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276720"/>
            <a:ext cx="763272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el sol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Levántate temprano y no te acuestes tard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3260880"/>
            <a:ext cx="777528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luna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Brilla en la oscuridad, pero sométete a la luz may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3645000"/>
            <a:ext cx="734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os pájaros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me, canta, bebe y vuel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3487680"/>
            <a:ext cx="71294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s flores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namoradas del sol, pero fieles a sus raíc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920" y="3213000"/>
            <a:ext cx="86868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e como el buen perro.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bediente, pero nada má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que a su seño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3687840"/>
            <a:ext cx="8748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é como la fruta.</a:t>
            </a:r>
            <a:br>
              <a:rPr sz="4400"/>
            </a:b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Bella por fuera, saludable por dentro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3:36:47Z</dcterms:created>
  <dc:creator>Romulo Espinar</dc:creator>
  <dc:description/>
  <dc:language>en-US</dc:language>
  <cp:lastModifiedBy>Ma.Dolores Casciani</cp:lastModifiedBy>
  <dcterms:modified xsi:type="dcterms:W3CDTF">2010-04-24T12:44:14Z</dcterms:modified>
  <cp:revision>6</cp:revision>
  <dc:subject/>
  <dc:title>Diapositiva 1</dc:title>
</cp:coreProperties>
</file>