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ime_to_say_goodbye.wav" ContentType="audio/x-wav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F96-DD08-47E2-9EB9-A8912D62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ACC-4ED4-4242-A3FA-007BCEEB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067-5F60-442E-BCF0-AE1F24D6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017-43C1-4606-BB99-8EDC5FBC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0EE-1A28-498F-A0EA-93F6B48D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145-FFA9-4405-83A5-A9F39B3A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FBF-9F1C-497B-AFD7-EDB5BE42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13D-73BC-4B98-A98B-C5EB0BF7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8DA4-F74C-4DD1-A3CB-ADE5740F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001-5C50-4568-B899-A810B0C6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2B3-9E39-42FF-95FB-BD280E27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F39-E262-4669-B352-153FA827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1B3B-E858-422F-9A65-C8573A62F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ime_to_say_goodby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0"/>
            <a:ext cx="7162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000" spc="-1" strike="noStrike">
                <a:solidFill>
                  <a:srgbClr val="ffff99"/>
                </a:solidFill>
                <a:latin typeface="Times New Roman"/>
              </a:rPr>
              <a:t>BREAFING CELES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63244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3624120"/>
            <a:ext cx="761976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el día.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Que llega y se retira sin alard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9880" y="3624120"/>
            <a:ext cx="761976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el oasis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Da tu agua al sedient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3276720"/>
            <a:ext cx="82296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la luciérnaga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Aunque es pequeñ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mite su propia luz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768840"/>
            <a:ext cx="82296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el agua.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Buena y transparent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684600"/>
            <a:ext cx="822960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el río.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iempre ve hacia  adelant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3697200"/>
            <a:ext cx="757080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Lázaro: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Levántate y anda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3691080"/>
            <a:ext cx="757080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José.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ree en tus sueño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00000" y="2954160"/>
            <a:ext cx="720108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99"/>
                </a:solidFill>
                <a:latin typeface="Times New Roman"/>
              </a:rPr>
              <a:t>Y por sobre todas las cosas </a:t>
            </a:r>
            <a:br>
              <a:rPr sz="4400"/>
            </a:br>
            <a:r>
              <a:rPr b="0" i="1" lang="en-US" sz="4400" spc="-1" strike="noStrike">
                <a:solidFill>
                  <a:srgbClr val="ffff99"/>
                </a:solidFill>
                <a:latin typeface="Times New Roman"/>
              </a:rPr>
              <a:t>Sé como el cielo: </a:t>
            </a:r>
            <a:br>
              <a:rPr sz="4400"/>
            </a:br>
            <a:r>
              <a:rPr b="0" i="1" lang="en-US" sz="4400" spc="-1" strike="noStrike">
                <a:solidFill>
                  <a:srgbClr val="ffff99"/>
                </a:solidFill>
                <a:latin typeface="Times New Roman"/>
              </a:rPr>
              <a:t>La morada de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Dio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3284640"/>
            <a:ext cx="820872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eñor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no permitas que me quede donde esto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Ayúdame a llegar a donde Tú quiera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84360" y="476280"/>
            <a:ext cx="4200480" cy="3151080"/>
          </a:xfrm>
          <a:prstGeom prst="rect">
            <a:avLst/>
          </a:prstGeom>
          <a:ln w="25560">
            <a:solidFill>
              <a:srgbClr val="ff2d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90720" y="2286000"/>
            <a:ext cx="71625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85920" y="692280"/>
            <a:ext cx="668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Unicorn"/>
              </a:rPr>
              <a:t>Si recibiste este mensaje, da gracias a 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Unicorn"/>
              </a:rPr>
              <a:t>de tener a alguien que piensa en 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Unicorn"/>
              </a:rPr>
              <a:t>No todos tenemos ese privileg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7280" y="1844640"/>
            <a:ext cx="7194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Recuerdo que antes de que yo naciera estaba preocupado porque no conocía el mundo al que llegaría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Times New Roman"/>
              </a:rPr>
              <a:t>Entonces le pedi a Dios instruccione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Times New Roman"/>
              </a:rPr>
              <a:t>para vivir en esta tierra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87280" y="3505320"/>
            <a:ext cx="676944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Dios acercó su Voz a mi oído y me dijo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3276720"/>
            <a:ext cx="7632720" cy="23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el sol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Levántate temprano y no te acuestes tard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3260880"/>
            <a:ext cx="7775280" cy="24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la luna.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Brilla en la oscuridad, pero sométete a la luz mayor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3645000"/>
            <a:ext cx="7345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los pájaros.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ome, canta, bebe y vuela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2920" y="3487680"/>
            <a:ext cx="712944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las flores.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namoradas del sol, pero fieles a sus raí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7920" y="3213000"/>
            <a:ext cx="868680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e como el buen perro.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bediente, pero nada má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que a su señor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3687840"/>
            <a:ext cx="87487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la fruta.</a:t>
            </a:r>
            <a:br>
              <a:rPr sz="4400"/>
            </a:br>
            <a:r>
              <a:rPr b="0" i="1" lang="en-US" sz="4200" spc="-1" strike="noStrike">
                <a:solidFill>
                  <a:srgbClr val="ffffff"/>
                </a:solidFill>
                <a:latin typeface="Times New Roman"/>
              </a:rPr>
              <a:t>Bella por fuera, saludable por dentro.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3:36:47Z</dcterms:created>
  <dc:creator>Romulo Espinar</dc:creator>
  <dc:description/>
  <dc:language>en-US</dc:language>
  <cp:lastModifiedBy>Ma.Dolores Casciani</cp:lastModifiedBy>
  <dcterms:modified xsi:type="dcterms:W3CDTF">2010-04-24T12:44:14Z</dcterms:modified>
  <cp:revision>6</cp:revision>
  <dc:subject/>
  <dc:title>Diapositiva 1</dc:title>
</cp:coreProperties>
</file>