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Richard%20Clayd%20Myrtille%20Murmur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6642-31C0-4B3C-ADF3-4C9B47DEA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4F0D-06DD-4EA6-B028-9EFE4CAA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194F-247F-4A72-B871-D3E9D499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65BE-710D-4C41-B019-BADD66B6E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D262-22B4-49DE-9EDF-1D5D57A8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E517-FA33-4672-934F-AD811B5F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71C9-9CE1-4F94-A283-638886DF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58AF-2105-4464-BB59-D9F62DE8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5EA7-F806-4476-A259-6FB30CD1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447F-6347-4CA6-8EB5-03057708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D721-0A9E-41F5-800D-9A4BA03C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4FBB-5F20-4A60-925C-01E24B70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584c"/>
            </a:gs>
            <a:gs pos="50000">
              <a:srgbClr val="a6bfa5"/>
            </a:gs>
            <a:gs pos="100000">
              <a:srgbClr val="4c58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F49C-030E-46E2-B707-5BC0067AC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ichard%20Clayd%20Myrtille%20Murmur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84c"/>
            </a:gs>
            <a:gs pos="50000">
              <a:srgbClr val="b0bfa5"/>
            </a:gs>
            <a:gs pos="100000">
              <a:srgbClr val="5158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14640" y="404640"/>
            <a:ext cx="3141720" cy="3745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08000" y="4437000"/>
            <a:ext cx="5257800" cy="2296440"/>
          </a:xfrm>
          <a:prstGeom prst="rect">
            <a:avLst/>
          </a:prstGeom>
          <a:gradFill rotWithShape="0">
            <a:gsLst>
              <a:gs pos="0">
                <a:srgbClr val="b0bfa5"/>
              </a:gs>
              <a:gs pos="100000">
                <a:srgbClr val="5e6658"/>
              </a:gs>
            </a:gsLst>
            <a:lin ang="5400000"/>
          </a:gradFill>
          <a:ln w="9360">
            <a:solidFill>
              <a:srgbClr val="b0bf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FrizQuadrata BT"/>
              </a:rPr>
              <a:t>Tales de Milet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ació en Tebas, en el año 625 A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Murió en Atenas en el 547 A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 los 78 añ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5277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FrizQuadrata BT"/>
              </a:rPr>
              <a:t>Las 9 respuestas de un sab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  <p:sndAc>
      <p:stSnd>
        <p:snd r:embed="rId2" name="Richard%20Clayd%20Myrtille%20Murmur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584c"/>
            </a:gs>
            <a:gs pos="50000">
              <a:srgbClr val="a6bfa5"/>
            </a:gs>
            <a:gs pos="100000">
              <a:srgbClr val="4c58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RESUM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31280" y="789120"/>
            <a:ext cx="165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spuesta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: Di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93160" y="836640"/>
            <a:ext cx="22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1. Qué es lo más antiguo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94240" y="1268280"/>
            <a:ext cx="205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2. Qué es lo más bello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16720" y="1197000"/>
            <a:ext cx="23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spuesta: El Univers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7760" y="1628640"/>
            <a:ext cx="33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3. Cuál es la mayor de todas las cosa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84720" y="1601640"/>
            <a:ext cx="222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spuesta: El Espa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91360" y="1989000"/>
            <a:ext cx="24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4. Qué es lo más constan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1440" y="1962000"/>
            <a:ext cx="251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spuesta: La Espera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88120" y="2349360"/>
            <a:ext cx="33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5. Cuál es la mejor de todas las cosa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14160" y="2373480"/>
            <a:ext cx="213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spuesta: La Virtu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6320" y="2708280"/>
            <a:ext cx="37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6. Cuál es la más rápida de todas las cosa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360" y="2657520"/>
            <a:ext cx="27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spuesta: El pensamient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85600" y="3068640"/>
            <a:ext cx="37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7. Cuál es la más fuerte de todas las cosa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3280" y="3068640"/>
            <a:ext cx="29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spunesta: La necesi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680" y="3500280"/>
            <a:ext cx="356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8. Cuál es la más fácil de todas las cosa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02160" y="3473280"/>
            <a:ext cx="249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spuesta: Dar Consej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85960" y="3933720"/>
            <a:ext cx="365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9. Cuál es la más difícil de todas las cosa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3933720"/>
            <a:ext cx="5688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l sabio de Mileto respondió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nocerse a sí mism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584c"/>
            </a:gs>
            <a:gs pos="50000">
              <a:srgbClr val="a6bfa5"/>
            </a:gs>
            <a:gs pos="100000">
              <a:srgbClr val="4c58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43000" y="2495520"/>
            <a:ext cx="7056360" cy="2104920"/>
          </a:xfrm>
          <a:prstGeom prst="rect">
            <a:avLst/>
          </a:prstGeom>
          <a:gradFill rotWithShape="0">
            <a:gsLst>
              <a:gs pos="0">
                <a:srgbClr val="bba4c0"/>
              </a:gs>
              <a:gs pos="100000">
                <a:srgbClr val="6d6070"/>
              </a:gs>
            </a:gsLst>
            <a:lin ang="5400000"/>
          </a:gradFill>
          <a:ln w="9360">
            <a:solidFill>
              <a:srgbClr val="bba4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izQuadrata BT"/>
                <a:ea typeface="Arial"/>
              </a:rPr>
              <a:t>F I 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584c"/>
            </a:gs>
            <a:gs pos="50000">
              <a:srgbClr val="a6bfa5"/>
            </a:gs>
            <a:gs pos="100000">
              <a:srgbClr val="4c58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388800"/>
            <a:ext cx="914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izQuadrata BT"/>
              </a:rPr>
              <a:t>Tales de Mil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20680"/>
            <a:ext cx="914400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ilósofo Griego, fundador de la escuela Jónic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onsiderado como uno de los 7 sabios de Gre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455292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-4552920" y="268272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971640" y="2166840"/>
            <a:ext cx="7200720" cy="4208760"/>
          </a:xfrm>
          <a:prstGeom prst="rect">
            <a:avLst/>
          </a:prstGeom>
          <a:gradFill rotWithShape="0">
            <a:gsLst>
              <a:gs pos="0">
                <a:srgbClr val="a6bfa5"/>
              </a:gs>
              <a:gs pos="100000">
                <a:srgbClr val="616f60"/>
              </a:gs>
            </a:gsLst>
            <a:lin ang="5400000"/>
          </a:gradFill>
          <a:ln w="9360">
            <a:solidFill>
              <a:srgbClr val="a6bf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atemático, astrónomo, y un gran pens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ales de Mileto viajó a Egipto, donde realizó estu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 entró en contacto con los miste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e la religión egipc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e atribuye a él, la previsión de un eclipse de So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n el año 585 AC, y se dice que fue el prime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n dar una explicación lógica a las ocurrencias de los eclipses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ambien realizó una hazaña increí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u talento matemático era tan poco comú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que consiguió establecer con precisión la altura de las pirámid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on sólo medir la sombra que proyect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5850"/>
            </a:gs>
            <a:gs pos="50000">
              <a:srgbClr val="a5bfae"/>
            </a:gs>
            <a:gs pos="100000">
              <a:srgbClr val="4c5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95280" y="4229280"/>
            <a:ext cx="8353440" cy="2014200"/>
          </a:xfrm>
          <a:prstGeom prst="rect">
            <a:avLst/>
          </a:prstGeom>
          <a:gradFill rotWithShape="0">
            <a:gsLst>
              <a:gs pos="0">
                <a:srgbClr val="a5bfae"/>
              </a:gs>
              <a:gs pos="100000">
                <a:srgbClr val="606f65"/>
              </a:gs>
            </a:gsLst>
            <a:lin ang="5400000"/>
          </a:gradFill>
          <a:ln w="9360">
            <a:solidFill>
              <a:srgbClr val="a5bf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Para probar que su conocimiento podía tener utilidad práctic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afirmó que un determinado año, la recolección de aceitunas sería excep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Entonces él arrendó la mayoría de las destilerías de aceite de Mile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Con esta maniobra ganó buen dinero, con el sólo propósito de hacer cal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a los que decían que la filosofía sólo era un capricho de los ocio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484560"/>
            <a:ext cx="8424720" cy="2288520"/>
          </a:xfrm>
          <a:prstGeom prst="rect">
            <a:avLst/>
          </a:prstGeom>
          <a:gradFill rotWithShape="0">
            <a:gsLst>
              <a:gs pos="0">
                <a:srgbClr val="606f65"/>
              </a:gs>
              <a:gs pos="100000">
                <a:srgbClr val="a5bfae"/>
              </a:gs>
            </a:gsLst>
            <a:lin ang="5400000"/>
          </a:gradFill>
          <a:ln w="9360">
            <a:solidFill>
              <a:srgbClr val="a5bf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Se destacó principalmente por sus trabajos en filosofía y matemátic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Se le atribuyen las primeras demostra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de teoremas geomét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mediante el raciocinio lóg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y fue por estos trabajos que se le consid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el Padre de la Geometr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2898000"/>
            <a:ext cx="73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ue el primero en sustentar que la Luna brillaba por reflejo del So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y por consiguiente, determinó el número exacto de d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que contiene un a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6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6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5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5854"/>
            </a:gs>
            <a:gs pos="50000">
              <a:srgbClr val="a5bfb7"/>
            </a:gs>
            <a:gs pos="100000">
              <a:srgbClr val="4c58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16000" y="1860840"/>
            <a:ext cx="6840720" cy="2288520"/>
          </a:xfrm>
          <a:prstGeom prst="rect">
            <a:avLst/>
          </a:prstGeom>
          <a:gradFill rotWithShape="0">
            <a:gsLst>
              <a:gs pos="0">
                <a:srgbClr val="a5bfb7"/>
              </a:gs>
              <a:gs pos="100000">
                <a:srgbClr val="606f6b"/>
              </a:gs>
            </a:gsLst>
            <a:lin ang="5400000"/>
          </a:gradFill>
          <a:ln w="9360">
            <a:solidFill>
              <a:srgbClr val="a5b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Un sofista se aproximó a Tales de Mil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e intentó confundirlo con las preguntas más difíci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Pero el sabio de Mileto estaba a la altura de la prueb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Respondió a todas las preguntas sin la menor vaci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y con la mayor exactitud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5277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FrizQuadrata BT"/>
              </a:rPr>
              <a:t>Las 9 respuestas de un sab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5758"/>
            </a:gs>
            <a:gs pos="50000">
              <a:srgbClr val="a5bebf"/>
            </a:gs>
            <a:gs pos="100000">
              <a:srgbClr val="4c57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26920" y="1616040"/>
            <a:ext cx="763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rata de responde tú mismo las preguntas y asegúrate de tener una respuesta en tu mente antes de hacer clik para ver la respuesta de Tales de Mileto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2781360"/>
            <a:ext cx="4824360" cy="459720"/>
          </a:xfrm>
          <a:prstGeom prst="rect">
            <a:avLst/>
          </a:prstGeom>
          <a:gradFill rotWithShape="0">
            <a:gsLst>
              <a:gs pos="0">
                <a:srgbClr val="a5bebf"/>
              </a:gs>
              <a:gs pos="100000">
                <a:srgbClr val="778a8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1. Qué es lo más antigu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339264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spuesta: Di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689360"/>
            <a:ext cx="4751640" cy="459720"/>
          </a:xfrm>
          <a:prstGeom prst="rect">
            <a:avLst/>
          </a:prstGeom>
          <a:gradFill rotWithShape="0">
            <a:gsLst>
              <a:gs pos="0">
                <a:srgbClr val="a5bebf"/>
              </a:gs>
              <a:gs pos="100000">
                <a:srgbClr val="778a8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2. Qué es lo más bell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98560" y="533700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spuesta: El Univers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19640" y="3392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rque siempre ha exist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4560" y="533700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rque es obra de D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5358"/>
            </a:gs>
            <a:gs pos="50000">
              <a:srgbClr val="a4b5c0"/>
            </a:gs>
            <a:gs pos="100000">
              <a:srgbClr val="4b53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71640" y="5157720"/>
            <a:ext cx="72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2779560"/>
            <a:ext cx="6840720" cy="459720"/>
          </a:xfrm>
          <a:prstGeom prst="rect">
            <a:avLst/>
          </a:prstGeom>
          <a:gradFill rotWithShape="0">
            <a:gsLst>
              <a:gs pos="0">
                <a:srgbClr val="a4b5c0"/>
              </a:gs>
              <a:gs pos="100000">
                <a:srgbClr val="7783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3. Cuál es la mayor de todas las cos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00000" y="4689360"/>
            <a:ext cx="5472360" cy="459720"/>
          </a:xfrm>
          <a:prstGeom prst="rect">
            <a:avLst/>
          </a:prstGeom>
          <a:gradFill rotWithShape="0">
            <a:gsLst>
              <a:gs pos="0">
                <a:srgbClr val="a4b5c0"/>
              </a:gs>
              <a:gs pos="100000">
                <a:srgbClr val="7783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4. Qué es lo más constan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3392640"/>
            <a:ext cx="763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spuesta: El Espaci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537372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spuesta: La Esperanz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39264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rque contiene todo lo cre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7840" y="5373720"/>
            <a:ext cx="69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rque permanece en el ho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pués de que lo ha perdido to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435640" y="693720"/>
            <a:ext cx="1569960" cy="1871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4e58"/>
            </a:gs>
            <a:gs pos="50000">
              <a:srgbClr val="a4abc0"/>
            </a:gs>
            <a:gs pos="100000">
              <a:srgbClr val="4b4e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00000" y="2779560"/>
            <a:ext cx="6767640" cy="459720"/>
          </a:xfrm>
          <a:prstGeom prst="rect">
            <a:avLst/>
          </a:prstGeom>
          <a:gradFill rotWithShape="0">
            <a:gsLst>
              <a:gs pos="0">
                <a:srgbClr val="a4abc0"/>
              </a:gs>
              <a:gs pos="100000">
                <a:srgbClr val="777c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5. Cuál es la mejor de todas las cos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4689360"/>
            <a:ext cx="7632720" cy="459720"/>
          </a:xfrm>
          <a:prstGeom prst="rect">
            <a:avLst/>
          </a:prstGeom>
          <a:gradFill rotWithShape="0">
            <a:gsLst>
              <a:gs pos="0">
                <a:srgbClr val="a4abc0"/>
              </a:gs>
              <a:gs pos="100000">
                <a:srgbClr val="777c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6. Cuál es la más rápida de todas las cos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00000" y="339264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spuesta: La Virtu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537372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spuesta: El Pensamient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95640" y="339264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rque sin ella no existiría nada bue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7840" y="5373720"/>
            <a:ext cx="69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rque en menos de 1 min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s permite volar hasta los confines del univer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435640" y="693720"/>
            <a:ext cx="1569960" cy="1871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58"/>
            </a:gs>
            <a:gs pos="50000">
              <a:srgbClr val="a7a4c0"/>
            </a:gs>
            <a:gs pos="100000">
              <a:srgbClr val="4c4b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00000" y="83664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2779560"/>
            <a:ext cx="7417080" cy="459720"/>
          </a:xfrm>
          <a:prstGeom prst="rect">
            <a:avLst/>
          </a:prstGeom>
          <a:gradFill rotWithShape="0">
            <a:gsLst>
              <a:gs pos="0">
                <a:srgbClr val="a7a4c0"/>
              </a:gs>
              <a:gs pos="100000">
                <a:srgbClr val="7977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7. Cuál es la más fuerte de todas las cos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00000" y="4689360"/>
            <a:ext cx="7344000" cy="459720"/>
          </a:xfrm>
          <a:prstGeom prst="rect">
            <a:avLst/>
          </a:prstGeom>
          <a:gradFill rotWithShape="0">
            <a:gsLst>
              <a:gs pos="0">
                <a:srgbClr val="a7a4c0"/>
              </a:gs>
              <a:gs pos="100000">
                <a:srgbClr val="7977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8. Cuál es la más fácil de todas las cos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00000" y="339264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spuesta: La necesida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5373720"/>
            <a:ext cx="52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spuesta: Dar Consej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76360" y="339264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rque es con lo que el ho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frenta todos los peligros de la v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435640" y="693720"/>
            <a:ext cx="1569960" cy="1871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4b58"/>
            </a:gs>
            <a:gs pos="50000">
              <a:srgbClr val="b1a4c0"/>
            </a:gs>
            <a:gs pos="100000">
              <a:srgbClr val="514b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43000" y="860760"/>
            <a:ext cx="7056360" cy="2562840"/>
          </a:xfrm>
          <a:prstGeom prst="rect">
            <a:avLst/>
          </a:prstGeom>
          <a:gradFill rotWithShape="0">
            <a:gsLst>
              <a:gs pos="0">
                <a:srgbClr val="b1a4c0"/>
              </a:gs>
              <a:gs pos="100000">
                <a:srgbClr val="676070"/>
              </a:gs>
            </a:gsLst>
            <a:lin ang="5400000"/>
          </a:gradFill>
          <a:ln w="9360">
            <a:solidFill>
              <a:srgbClr val="b1a4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...Pero cuando llegó a la novena pregunt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El sabio de Mileto dio una respuesta tan inesperad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que a su interlocutor sofi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le pareció paradójic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00000" y="4689360"/>
            <a:ext cx="7488360" cy="459720"/>
          </a:xfrm>
          <a:prstGeom prst="rect">
            <a:avLst/>
          </a:prstGeom>
          <a:gradFill rotWithShape="0">
            <a:gsLst>
              <a:gs pos="0">
                <a:srgbClr val="b1a4c0"/>
              </a:gs>
              <a:gs pos="100000">
                <a:srgbClr val="8077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9. Cuál es la más difícil de todas las cos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00000" y="5373720"/>
            <a:ext cx="5832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l sabio de Mileto respondió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19280" y="57340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nocerse a sí mis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908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iensa bien lo que tú responderías antes de saber lo que él respondió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435640" y="692280"/>
            <a:ext cx="1569960" cy="1871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841400" y="2781360"/>
            <a:ext cx="56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..quizás porque no entendió su profundo significado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45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6T19:03:03Z</dcterms:created>
  <dc:creator>MARCELO A.</dc:creator>
  <dc:description/>
  <dc:language>en-US</dc:language>
  <cp:lastModifiedBy>ROVIRA</cp:lastModifiedBy>
  <dcterms:modified xsi:type="dcterms:W3CDTF">2008-08-03T13:04:54Z</dcterms:modified>
  <cp:revision>36</cp:revision>
  <dc:subject/>
  <dc:title>POWER SUCHO</dc:title>
</cp:coreProperties>
</file>