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ichard%20Clayd%20Myrtille%20Murmur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262-2EE7-47D7-8140-37972F5E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25F-AA3B-45F2-9A68-EB6485AD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511-1AE2-489B-A65D-25D9A7DC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D9A-5E44-402A-8407-F1F010BB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161-FC7A-45C9-9407-A829F40B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F11-86AC-48C7-96C5-D8A4D6E4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C55-0724-4CD9-B6EB-4771A6FF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922-1219-40AE-A267-E2F9883B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0E1-D919-4734-A81F-5D405CBD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68F-DF98-4D96-839A-A9C03E51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F23-275C-4983-97F9-8496219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11F-331A-4928-BC2C-68767E3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4c"/>
            </a:gs>
            <a:gs pos="50000">
              <a:srgbClr val="a6bfa5"/>
            </a:gs>
            <a:gs pos="100000">
              <a:srgbClr val="4c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0CF2-428F-41F5-AD86-12FBF3C7E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hard%20Clayd%20Myrtille%20Murmur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84c"/>
            </a:gs>
            <a:gs pos="50000">
              <a:srgbClr val="b0bfa5"/>
            </a:gs>
            <a:gs pos="100000">
              <a:srgbClr val="51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14640" y="404640"/>
            <a:ext cx="3141720" cy="374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8000" y="4437000"/>
            <a:ext cx="5257800" cy="2296440"/>
          </a:xfrm>
          <a:prstGeom prst="rect">
            <a:avLst/>
          </a:prstGeom>
          <a:gradFill rotWithShape="0">
            <a:gsLst>
              <a:gs pos="0">
                <a:srgbClr val="b0bfa5"/>
              </a:gs>
              <a:gs pos="100000">
                <a:srgbClr val="5e6658"/>
              </a:gs>
            </a:gsLst>
            <a:lin ang="5400000"/>
          </a:gradFill>
          <a:ln w="9360">
            <a:solidFill>
              <a:srgbClr val="b0b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izQuadrata BT"/>
              </a:rPr>
              <a:t>Tales de Milet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ció en Tebas, en el año 625 A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urió en Atenas en el 547 A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los 78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277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izQuadrata BT"/>
              </a:rPr>
              <a:t>Las 9 respuestas de un sab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Richard%20Clayd%20Myrtille%20Murmur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4c"/>
            </a:gs>
            <a:gs pos="50000">
              <a:srgbClr val="a6bfa5"/>
            </a:gs>
            <a:gs pos="100000">
              <a:srgbClr val="4c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SU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1280" y="78912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D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3160" y="83664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1. Qué es lo más antigu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4240" y="126828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2. Qué es lo más bell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720" y="119700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El Univer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7760" y="1628640"/>
            <a:ext cx="33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3. Cuál es la mayor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160164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El Esp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1360" y="198900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4. Qué es lo más constan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1440" y="1962000"/>
            <a:ext cx="25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La Esper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8120" y="2349360"/>
            <a:ext cx="33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5. Cuál es la mejor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4160" y="2373480"/>
            <a:ext cx="21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La Virtu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6320" y="2708280"/>
            <a:ext cx="37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6. Cuál es la más rápida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360" y="26575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El pensami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5600" y="3068640"/>
            <a:ext cx="37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7. Cuál es la más fuerte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3068640"/>
            <a:ext cx="29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nesta: La neces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6680" y="3500280"/>
            <a:ext cx="35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8. Cuál es la más fácil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2160" y="3473280"/>
            <a:ext cx="24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uesta: Dar Conse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5960" y="3933720"/>
            <a:ext cx="36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. Cuál es la más difícil de todas las cosa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933720"/>
            <a:ext cx="56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 sabio de Mileto respondió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ocerse a sí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4c"/>
            </a:gs>
            <a:gs pos="50000">
              <a:srgbClr val="a6bfa5"/>
            </a:gs>
            <a:gs pos="100000">
              <a:srgbClr val="4c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2495520"/>
            <a:ext cx="7056360" cy="2104920"/>
          </a:xfrm>
          <a:prstGeom prst="rect">
            <a:avLst/>
          </a:prstGeom>
          <a:gradFill rotWithShape="0">
            <a:gsLst>
              <a:gs pos="0">
                <a:srgbClr val="bba4c0"/>
              </a:gs>
              <a:gs pos="100000">
                <a:srgbClr val="6d6070"/>
              </a:gs>
            </a:gsLst>
            <a:lin ang="5400000"/>
          </a:gradFill>
          <a:ln w="9360">
            <a:solidFill>
              <a:srgbClr val="bba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izQuadrata BT"/>
                <a:ea typeface="Arial"/>
              </a:rPr>
              <a:t>F I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4c"/>
            </a:gs>
            <a:gs pos="50000">
              <a:srgbClr val="a6bfa5"/>
            </a:gs>
            <a:gs pos="100000">
              <a:srgbClr val="4c58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88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izQuadrata BT"/>
              </a:rPr>
              <a:t>Tales de Mi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0680"/>
            <a:ext cx="9144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ilósofo Griego, fundador de la escuela Jóni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siderado como uno de los 7 sabios de Gre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455292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-4552920" y="268272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971640" y="2166840"/>
            <a:ext cx="7200720" cy="4208760"/>
          </a:xfrm>
          <a:prstGeom prst="rect">
            <a:avLst/>
          </a:prstGeom>
          <a:gradFill rotWithShape="0">
            <a:gsLst>
              <a:gs pos="0">
                <a:srgbClr val="a6bfa5"/>
              </a:gs>
              <a:gs pos="100000">
                <a:srgbClr val="616f60"/>
              </a:gs>
            </a:gsLst>
            <a:lin ang="5400000"/>
          </a:gradFill>
          <a:ln w="9360">
            <a:solidFill>
              <a:srgbClr val="a6b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temático, astrónomo, y un gran pens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les de Mileto viajó a Egipto, donde realizó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 entró en contacto con los miste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 la religión egip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 atribuye a él, la previsión de un eclipse de So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año 585 AC, y se dice que fue el prim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dar una explicación lógica a las ocurrencias de los eclips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mbien realizó una hazaña increí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u talento matemático era tan poco comú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que consiguió establecer con precisión la altura de las pirámi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 sólo medir la sombra que proyec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50"/>
            </a:gs>
            <a:gs pos="50000">
              <a:srgbClr val="a5bfae"/>
            </a:gs>
            <a:gs pos="100000">
              <a:srgbClr val="4c5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4229280"/>
            <a:ext cx="8353440" cy="2014200"/>
          </a:xfrm>
          <a:prstGeom prst="rect">
            <a:avLst/>
          </a:prstGeom>
          <a:gradFill rotWithShape="0">
            <a:gsLst>
              <a:gs pos="0">
                <a:srgbClr val="a5bfae"/>
              </a:gs>
              <a:gs pos="100000">
                <a:srgbClr val="606f65"/>
              </a:gs>
            </a:gsLst>
            <a:lin ang="5400000"/>
          </a:gradFill>
          <a:ln w="9360">
            <a:solidFill>
              <a:srgbClr val="a5bf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ara probar que su conocimiento podía tener utilidad práct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firmó que un determinado año, la recolección de aceitunas sería excep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ntonces él arrendó la mayoría de las destilerías de aceite de Mil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n esta maniobra ganó buen dinero, con el sólo propósito de hacer ca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 los que decían que la filosofía sólo era un capricho de los oci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84560"/>
            <a:ext cx="8424720" cy="2288520"/>
          </a:xfrm>
          <a:prstGeom prst="rect">
            <a:avLst/>
          </a:prstGeom>
          <a:gradFill rotWithShape="0">
            <a:gsLst>
              <a:gs pos="0">
                <a:srgbClr val="606f65"/>
              </a:gs>
              <a:gs pos="100000">
                <a:srgbClr val="a5bfae"/>
              </a:gs>
            </a:gsLst>
            <a:lin ang="5400000"/>
          </a:gradFill>
          <a:ln w="9360">
            <a:solidFill>
              <a:srgbClr val="a5bf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e destacó principalmente por sus trabajos en filosofía y matemát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Se le atribuyen las primeras demost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 teoremas geomé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ediante el raciocinio lóg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y fue por estos trabajos que se le consid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l Padre de la Geomet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289800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ue el primero en sustentar que la Luna brillaba por reflejo del So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y por consiguiente, determinó el número exacto de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e contiene un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854"/>
            </a:gs>
            <a:gs pos="50000">
              <a:srgbClr val="a5bfb7"/>
            </a:gs>
            <a:gs pos="100000">
              <a:srgbClr val="4c58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6000" y="1860840"/>
            <a:ext cx="6840720" cy="2288520"/>
          </a:xfrm>
          <a:prstGeom prst="rect">
            <a:avLst/>
          </a:prstGeom>
          <a:gradFill rotWithShape="0">
            <a:gsLst>
              <a:gs pos="0">
                <a:srgbClr val="a5bfb7"/>
              </a:gs>
              <a:gs pos="100000">
                <a:srgbClr val="606f6b"/>
              </a:gs>
            </a:gsLst>
            <a:lin ang="5400000"/>
          </a:gradFill>
          <a:ln w="9360">
            <a:solidFill>
              <a:srgbClr val="a5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Un sofista se aproximó a Tales de Mi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 intentó confundirlo con las preguntas más difíci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Pero el sabio de Mileto estaba a la altura de la prue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spondió a todas las preguntas sin la menor va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y con la mayor exactit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277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FrizQuadrata BT"/>
              </a:rPr>
              <a:t>Las 9 respuestas de un sab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758"/>
            </a:gs>
            <a:gs pos="50000">
              <a:srgbClr val="a5bebf"/>
            </a:gs>
            <a:gs pos="100000">
              <a:srgbClr val="4c57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1616040"/>
            <a:ext cx="76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ta de responde tú mismo las preguntas y asegúrate de tener una respuesta en tu mente antes de hacer clik para ver la respuesta de Tales de Mileto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781360"/>
            <a:ext cx="4824360" cy="459720"/>
          </a:xfrm>
          <a:prstGeom prst="rect">
            <a:avLst/>
          </a:prstGeom>
          <a:gradFill rotWithShape="0">
            <a:gsLst>
              <a:gs pos="0">
                <a:srgbClr val="a5bebf"/>
              </a:gs>
              <a:gs pos="100000">
                <a:srgbClr val="778a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. Qué es lo más antig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3926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D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689360"/>
            <a:ext cx="4751640" cy="459720"/>
          </a:xfrm>
          <a:prstGeom prst="rect">
            <a:avLst/>
          </a:prstGeom>
          <a:gradFill rotWithShape="0">
            <a:gsLst>
              <a:gs pos="0">
                <a:srgbClr val="a5bebf"/>
              </a:gs>
              <a:gs pos="100000">
                <a:srgbClr val="778a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. Qué es lo más bel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8560" y="5337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El Univers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3392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siempre ha exist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4560" y="5337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es obra de 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358"/>
            </a:gs>
            <a:gs pos="50000">
              <a:srgbClr val="a4b5c0"/>
            </a:gs>
            <a:gs pos="100000">
              <a:srgbClr val="4b53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5157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2779560"/>
            <a:ext cx="6840720" cy="459720"/>
          </a:xfrm>
          <a:prstGeom prst="rect">
            <a:avLst/>
          </a:prstGeom>
          <a:gradFill rotWithShape="0">
            <a:gsLst>
              <a:gs pos="0">
                <a:srgbClr val="a4b5c0"/>
              </a:gs>
              <a:gs pos="100000">
                <a:srgbClr val="7783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. Cuál es la mayor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689360"/>
            <a:ext cx="5472360" cy="459720"/>
          </a:xfrm>
          <a:prstGeom prst="rect">
            <a:avLst/>
          </a:prstGeom>
          <a:gradFill rotWithShape="0">
            <a:gsLst>
              <a:gs pos="0">
                <a:srgbClr val="a4b5c0"/>
              </a:gs>
              <a:gs pos="100000">
                <a:srgbClr val="7783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4. Qué es lo más consta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92640"/>
            <a:ext cx="76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El Espac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53737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La Esperan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392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contiene todo lo cr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7840" y="5373720"/>
            <a:ext cx="69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permanece en e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pués de que lo ha perdido to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35640" y="693720"/>
            <a:ext cx="15699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4e58"/>
            </a:gs>
            <a:gs pos="50000">
              <a:srgbClr val="a4abc0"/>
            </a:gs>
            <a:gs pos="100000">
              <a:srgbClr val="4b4e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2779560"/>
            <a:ext cx="6767640" cy="459720"/>
          </a:xfrm>
          <a:prstGeom prst="rect">
            <a:avLst/>
          </a:prstGeom>
          <a:gradFill rotWithShape="0">
            <a:gsLst>
              <a:gs pos="0">
                <a:srgbClr val="a4abc0"/>
              </a:gs>
              <a:gs pos="100000">
                <a:srgbClr val="777c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5. Cuál es la mejor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689360"/>
            <a:ext cx="7632720" cy="459720"/>
          </a:xfrm>
          <a:prstGeom prst="rect">
            <a:avLst/>
          </a:prstGeom>
          <a:gradFill rotWithShape="0">
            <a:gsLst>
              <a:gs pos="0">
                <a:srgbClr val="a4abc0"/>
              </a:gs>
              <a:gs pos="100000">
                <a:srgbClr val="777c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6. Cuál es la más rápida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39264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La Virtu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53737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El Pensamie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3392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sin ella no existiría nada bu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7840" y="5373720"/>
            <a:ext cx="69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en menos de 1 min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s permite volar hasta los confines del univer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35640" y="693720"/>
            <a:ext cx="15699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58"/>
            </a:gs>
            <a:gs pos="50000">
              <a:srgbClr val="a7a4c0"/>
            </a:gs>
            <a:gs pos="100000">
              <a:srgbClr val="4c4b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00000" y="83664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2779560"/>
            <a:ext cx="7417080" cy="459720"/>
          </a:xfrm>
          <a:prstGeom prst="rect">
            <a:avLst/>
          </a:prstGeom>
          <a:gradFill rotWithShape="0">
            <a:gsLst>
              <a:gs pos="0">
                <a:srgbClr val="a7a4c0"/>
              </a:gs>
              <a:gs pos="100000">
                <a:srgbClr val="797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7. Cuál es la más fuerte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4689360"/>
            <a:ext cx="7344000" cy="459720"/>
          </a:xfrm>
          <a:prstGeom prst="rect">
            <a:avLst/>
          </a:prstGeom>
          <a:gradFill rotWithShape="0">
            <a:gsLst>
              <a:gs pos="0">
                <a:srgbClr val="a7a4c0"/>
              </a:gs>
              <a:gs pos="100000">
                <a:srgbClr val="797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8. Cuál es la más fácil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392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La neces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37372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uesta: Dar Conse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3392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que es con lo que e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frenta todos los peligros de l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35640" y="693720"/>
            <a:ext cx="15699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4b58"/>
            </a:gs>
            <a:gs pos="50000">
              <a:srgbClr val="b1a4c0"/>
            </a:gs>
            <a:gs pos="100000">
              <a:srgbClr val="514b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860760"/>
            <a:ext cx="7056360" cy="2562840"/>
          </a:xfrm>
          <a:prstGeom prst="rect">
            <a:avLst/>
          </a:prstGeom>
          <a:gradFill rotWithShape="0">
            <a:gsLst>
              <a:gs pos="0">
                <a:srgbClr val="b1a4c0"/>
              </a:gs>
              <a:gs pos="100000">
                <a:srgbClr val="676070"/>
              </a:gs>
            </a:gsLst>
            <a:lin ang="5400000"/>
          </a:gradFill>
          <a:ln w="9360">
            <a:solidFill>
              <a:srgbClr val="b1a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...Pero cuando llegó a la novena pregun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El sabio de Mileto dio una respuesta tan inespera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que a su interlocutor sof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le pareció paradój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689360"/>
            <a:ext cx="7488360" cy="459720"/>
          </a:xfrm>
          <a:prstGeom prst="rect">
            <a:avLst/>
          </a:prstGeom>
          <a:gradFill rotWithShape="0">
            <a:gsLst>
              <a:gs pos="0">
                <a:srgbClr val="b1a4c0"/>
              </a:gs>
              <a:gs pos="100000">
                <a:srgbClr val="807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9. Cuál es la más difícil de todas las co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373720"/>
            <a:ext cx="583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 sabio de Mileto respond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57340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ocerse a sí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08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iensa bien lo que tú responderías antes de saber lo que él respondió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35640" y="692280"/>
            <a:ext cx="156996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41400" y="2781360"/>
            <a:ext cx="56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..quizás porque no entendió su profundo significad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4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9:03:03Z</dcterms:created>
  <dc:creator>MARCELO A.</dc:creator>
  <dc:description/>
  <dc:language>en-US</dc:language>
  <cp:lastModifiedBy>ROVIRA</cp:lastModifiedBy>
  <dcterms:modified xsi:type="dcterms:W3CDTF">2008-08-03T13:04:54Z</dcterms:modified>
  <cp:revision>36</cp:revision>
  <dc:subject/>
  <dc:title>POWER SUCHO</dc:title>
</cp:coreProperties>
</file>