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INTER~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11"/>
          <p:cNvPicPr/>
          <p:nvPr/>
        </p:nvPicPr>
        <p:blipFill>
          <a:blip r:embed="rId2"/>
          <a:srcRect l="0" t="2220" r="0" b="0"/>
          <a:stretch/>
        </p:blipFill>
        <p:spPr>
          <a:xfrm>
            <a:off x="0" y="76212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TER~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4"/>
          <p:cNvSpPr/>
          <p:nvPr/>
        </p:nvSpPr>
        <p:spPr>
          <a:xfrm>
            <a:off x="2666880" y="632448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7"/>
          <p:cNvSpPr/>
          <p:nvPr/>
        </p:nvSpPr>
        <p:spPr>
          <a:xfrm>
            <a:off x="406440" y="30621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b0f0"/>
                </a:solidFill>
                <a:latin typeface="Century Gothic"/>
                <a:ea typeface="Times New Roman"/>
              </a:rPr>
              <a:t>AHORRANDO VI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1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ahorrar vida..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, de a poco, igual se gasta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que una vez gastada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 estar acostumbrados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95280" y="48769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¡ NOS PERDIMOS DE VIVIR !..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tiempo no se puede atrapar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ucho menos almacenar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uestra existenci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anscurre a gran velocidad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ero mientras tengamos vida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enemos l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portunidad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cambiar nuestros hábitos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tener una mejor calidad de existencia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aprovechar y disfrutar cada respiro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da latido de nuestro corazó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 trasformemos nuestra vida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una rutina inútil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 nos haga infel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o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one a nuestra disposición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dos los elementos para ser seres felices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tisfechos y agradecid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 ese gran don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que es la vida),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 con tanto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mor nos ha sido oto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vida no hay que ahorrarla...</a:t>
            </a:r>
            <a:r>
              <a:rPr b="0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259056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Hay que vivirla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981080" y="4648320"/>
            <a:ext cx="5943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¡ P L E N A M E N T E... !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ff99"/>
                </a:solidFill>
                <a:latin typeface="Comic Sans MS"/>
                <a:ea typeface="Times New Roman"/>
              </a:rPr>
              <a:t>Que Dios te bendig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019920" y="5867280"/>
            <a:ext cx="28954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Jesú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C256-5138-4D44-A85C-1875CC9D6F47}" type="datetime2">
              <a:rPr b="0" i="1" lang="es-ES" sz="1200" spc="-1" strike="noStrike">
                <a:solidFill>
                  <a:srgbClr val="ffffff"/>
                </a:solidFill>
                <a:latin typeface="Arial"/>
              </a:rPr>
              <a:t>viernes, 31 de julio d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vivir en departamentos                             y a no tener otra vista 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 no sea las ventanas de alrededor;                                      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porque no se tiene vista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uego nos acostumbramos 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no mirar para afue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porque no miramos para afuera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uego nos acostumbram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no abrir del todo las cortinas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porque no abrimo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l todo las cortinas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uego nos acostumbram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encender más temprano la lu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383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medida que nos acostumbramos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lvidamos el sol, olvidamos el aire,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lvidamos la amplitud..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Nos acostumbramos a despertar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bresaltados porque se nos hizo tarde;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marnos el café corriendo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estamos atrasados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costumbramos a no mirar para afuera;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leer el diario 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utobú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no podemos perder tiempo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comer un sándwich porque no d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iempo para almorzar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salir del trabajo ya de noche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dormir en el autobú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estamos cansados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cenar rápido y dormir pesad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n haber vivido e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ía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pensar que las persona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ercanas a nosotros estarán siempre ahí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a creer que están bien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n preocuparnos por averiguarlo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esperar el día entero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finalmente oír en el teléfono: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943280" y="51055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"Es que hoy no puedo ir...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2857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A ver cuándo nos vemos..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La semana que viene nos reunimos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sonreír a las personas sin recibir una sonrisa de vuelta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ser ignorados cuando precisábamos tanto ser vistos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el cine está lleno nos acostumbramo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nos conformamos con sentarn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la primera fila aunque tengamos qu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rcer un poco el cuello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el trabajo está complicado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consolamos pensando en el fin de semana;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si el fin de semana no hay mucho que hacer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andamos cortos de dinero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vamos a dormir temprano y listo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siempre tenemos sueño atra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20:28:28Z</dcterms:created>
  <dc:creator>Adri</dc:creator>
  <dc:description/>
  <dc:language>en-US</dc:language>
  <cp:lastModifiedBy>WinuE</cp:lastModifiedBy>
  <dcterms:modified xsi:type="dcterms:W3CDTF">2009-10-19T18:32:51Z</dcterms:modified>
  <cp:revision>41</cp:revision>
  <dc:subject/>
  <dc:title>Ahorrar Vida</dc:title>
</cp:coreProperties>
</file>