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enda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191A-4EE3-440B-AD14-007BD954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332B-375E-4C81-B6DB-F93A3D8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85A9-2270-4F95-BF87-BC0FC1FE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A9D9-2808-4502-9DB6-55BD9826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0A9A-2202-4541-82AD-5531A083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AE0F-81B1-47BB-B54F-25FC0677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10EF-B57A-4256-A0CB-078E1DA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1A56-6707-4AFF-913C-6648D4E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DA74-DEFF-434B-8350-50E08B57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D140-CD2A-4EB6-8074-80E6F94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665-CA50-44B5-BF67-5A3AD11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A930-2221-4749-A0F3-B59AA828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94AB-4D68-44A3-846B-E643409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A83-2491-44E2-BFF0-5E602B7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140-4DC2-4A96-8F72-F2760FD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B708-9371-4324-96A7-DCF83331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5980-704C-47D6-A764-085BBC1A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F924-DB4E-4DBF-8EEF-CEB3FEA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B712-4913-41DD-AEE0-8FB8A823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891B-B94D-4D63-A393-8ACB19D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D463-9758-45CA-8D16-C20C9A0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403B-A4C1-4152-A130-CF744D9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37F9-207E-48A5-ABBA-59A9600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F01C-B96E-4363-BE47-4280863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29200" y="631980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3A9D-7CA2-48C6-BB50-BCF672F8280B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dt" idx="3"/>
          </p:nvPr>
        </p:nvSpPr>
        <p:spPr>
          <a:xfrm>
            <a:off x="1328760" y="6319440"/>
            <a:ext cx="14097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5D2-F313-4E62-AA8B-813AE903B461}" type="datetime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7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0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2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3AE-94C6-461A-AF0B-C4C90813821C}" type="datetime">
              <a:rPr b="1" lang="es-ES" sz="3200" spc="-1" strike="noStrike">
                <a:solidFill>
                  <a:srgbClr val="333300"/>
                </a:solidFill>
                <a:latin typeface="Arial"/>
              </a:rPr>
              <a:t>31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D615-1C02-4AE5-BBBC-FCC9E6AF31FD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7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7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7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40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enda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71280" y="1484280"/>
            <a:ext cx="52880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9900"/>
                </a:solidFill>
                <a:latin typeface="Times New Roman"/>
              </a:rPr>
              <a:t>BANCO MÁG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4BF70D-9A68-4FE4-995C-1CA540A95CD3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68360" y="1413000"/>
            <a:ext cx="5791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Intentarías utilizar CADA centavo que tuvieras a disposición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50440" y="4292640"/>
            <a:ext cx="21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Verdad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D69D2D-AA26-4C18-979A-67277226A7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40000" y="1341360"/>
            <a:ext cx="5545080" cy="4842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Lo que no puedes imaginarte …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... es que ese juego es UNA REALIDAD!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AE7FD-D16F-460B-927A-F5A14CEFE3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79640" y="1628640"/>
            <a:ext cx="655308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Todos y cada uno de nosotros recibe al nacer una cuenta en el “Banco mágico” ..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sólo que no la vemos: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054CA-6A5A-4F5A-968E-A5D4A45B25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484360" y="1916280"/>
            <a:ext cx="5400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El Banco mágico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es el banco del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TIEMPO!!!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217C6-A2F2-4824-942B-114BCF14DD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35280" y="1413000"/>
            <a:ext cx="68086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sde el momento en que nacemos, recibimos CADA MAÑANA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 nuestra vid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 Segundo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 vida para “vivirla”!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ada día ..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2AFE2-E0BF-4F39-83AA-53B092F4F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8000" y="1125360"/>
            <a:ext cx="6624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Y, en la noche, cuando nos acostamos a dormir, el tiempo que no hemos utilizado ese día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NO SE ACUMULA PARA EL DÍA SIGUIENTE!!!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tiempo que no „vivimos“ ese día …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se pierde por completo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Y cada mañana, nuestra cuenta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vuelve a llenarse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175F99-91F4-4B19-A9F1-C2B6F5F0E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40000" y="1413000"/>
            <a:ext cx="533412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Pero el banco pued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EN CUALQUIER MOMENTO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y SIN PREVIO AVISO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cancelar la cuenta!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 qué haces tu con tus</a:t>
            </a:r>
            <a:br>
              <a:rPr sz="2800"/>
            </a:br>
            <a:r>
              <a:rPr b="1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 segundos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que recibes a diario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FDA02-0F98-485B-B7FA-CFAF61C4A3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68360" y="1341360"/>
            <a:ext cx="5562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on MÁS valiosos que la misma cantidad en Euros?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221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piénsalo bien!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87A9C-9D09-4667-A32F-2267218E3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8000" y="2060640"/>
            <a:ext cx="64090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rocura disfrutar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ADA SEGUNDO DE TU VIDA!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orque el tiempo se te acaba más rápido de lo que tu crees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B6974-02EF-4E23-87D9-4034D1143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63640" y="692280"/>
            <a:ext cx="676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cc9900"/>
                </a:solidFill>
                <a:latin typeface="Georgia"/>
                <a:ea typeface="Times New Roman"/>
              </a:rPr>
              <a:t>Deseo que disfrutes CADA SEGUNDO de tu vida  </a:t>
            </a:r>
            <a:r>
              <a:rPr b="0" lang="es-CO" sz="30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maravillosamente</a:t>
            </a:r>
            <a:r>
              <a:rPr b="0" lang="es-CO" sz="3000" spc="-1" strike="noStrike">
                <a:solidFill>
                  <a:srgbClr val="cc9900"/>
                </a:solidFill>
                <a:latin typeface="Georgia"/>
                <a:ea typeface="Times New Roman"/>
              </a:rPr>
              <a:t>!!!</a:t>
            </a:r>
            <a:endParaRPr b="0" lang="en-US" sz="3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489600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DB400-648A-4E85-8E28-D88082D02B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1628640"/>
            <a:ext cx="5334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Imagina que ...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en una apuesta ganaste el siguiente premio: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54CD6-F284-47B4-AE5D-A0D4F77E68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35280" y="1052640"/>
            <a:ext cx="63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Tu banco deposita</a:t>
            </a:r>
            <a:br>
              <a:rPr sz="3200"/>
            </a:br>
            <a:r>
              <a:rPr b="0" lang="es-CO" sz="32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CADA DÍA</a:t>
            </a:r>
            <a:br>
              <a:rPr sz="3200"/>
            </a:b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€ 86.400,00!!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n una cuenta particular a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tu nombre!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933720"/>
            <a:ext cx="6408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ero, como es costumbre,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ste premio también exige condiciones específicas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C7E2A2-4496-42F5-B642-72E6CEC92F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76360" y="62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Primera condición:</a:t>
            </a:r>
            <a:r>
              <a:rPr b="0" lang="es-CO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773360"/>
            <a:ext cx="6409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Puedes disponer de TODO el dinero de la manera que TU dispongas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PERO: el dinero que NO utilices en el día, el banco lo retomará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Tampoco podrás utilizarlo para abrir otra cuenta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Simplemente, tienes que </a:t>
            </a:r>
            <a:r>
              <a:rPr b="0" lang="es-CO" sz="28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GASTARLO</a:t>
            </a: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!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8A3CC-C617-4CA1-BBEA-9FBB31687A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79640" y="1268280"/>
            <a:ext cx="655308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uando despiertes al día siguiente, el banco depositará nuevam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 € </a:t>
            </a: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,00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n tu cuenta para que lo gastes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SE DÍA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Y así sucesivamente ..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4BE93-496E-4D7A-85CD-1F24A52DDF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11280" y="765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Segunda condición:</a:t>
            </a:r>
            <a:r>
              <a:rPr b="0" lang="es-CO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1989000"/>
            <a:ext cx="65530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banco puede cancelar el premio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 CUALQUIER MOMENTO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y SIN PREVIO AVISO!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banco cancela la cuenta y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NO tienes opción alguna para abrir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otra cuenta con ese dinero ..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 el juego se da por terminado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54EF1-1610-4430-BA1A-D045DC6A65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411280" y="1700280"/>
            <a:ext cx="5334120" cy="31302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TU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qué harías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DEE52-CF49-452B-93CD-13B3513E91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50920" y="1125360"/>
            <a:ext cx="64105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mpezarías a comprarte todo lo que te venga en gana?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olo para tí, sino para las personas que quieres y estimas mucho?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67280" y="4653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ierto o no?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9B8657-C498-4B56-8605-ACA986277C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0920" y="1341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Quizás, incluso para gente que tu ni siquiera conoces, puesto que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iempre podrías gastar todo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l dinero solo para tí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4581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Verdad?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7DA4BB-DC10-4DB1-A8D5-2D1B5A4B6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8:28:02Z</dcterms:created>
  <dc:creator>gehrke</dc:creator>
  <dc:description>4-1-10</dc:description>
  <dc:language>en-US</dc:language>
  <cp:lastModifiedBy>Wallace</cp:lastModifiedBy>
  <dcterms:modified xsi:type="dcterms:W3CDTF">2010-01-06T12:36:43Z</dcterms:modified>
  <cp:revision>4</cp:revision>
  <dc:subject>reflexión</dc:subject>
  <dc:title>Banco mágico</dc:title>
</cp:coreProperties>
</file>