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ilvitaacordeonmusettesouslecieldepari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C33-2695-4896-82EC-E380F5F4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4E5-A6FF-4102-84AE-3EFEB7AB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4F5-0CD5-4FBB-A246-16C1BD42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8D63-4D87-47E0-94A3-79027986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FA29-EA59-4E45-8683-F1ABE2D0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8EE-8DE9-49E6-A684-C35C98AB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21F-F1D2-4695-8B74-38BDB7F6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18A3-8674-402B-8337-2AC43227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3A5-314D-4A79-B022-F9335926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BF4-C061-4E7D-BF5B-0486FEC6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3FB-7AA0-4345-86A2-048A547A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022-4C71-4036-B77A-DCCC8B2F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46E1-B3BE-4CAD-8B15-731CA2B75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ilvitaacordeonmusettesouslecieldepari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981000"/>
            <a:ext cx="7924680" cy="4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REEMPLAZ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L  MÉDI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 GUARDIA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861840"/>
            <a:ext cx="853452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cen que un día en el hospital habían faltado varios médicos porque estaban enfermos 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Guardia quedaba descubierta.</a:t>
            </a: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99"/>
                </a:solidFill>
                <a:latin typeface="Comic Sans MS"/>
              </a:rPr>
              <a:t>El jefe de guardia no sabía cómo solucionarlo, pero como era un hombre muy religioso, se le aparece Jesús y le d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99"/>
                </a:solidFill>
                <a:latin typeface="Comic Sans MS"/>
              </a:rPr>
              <a:t>- Tu has salvado muchas vidas, voy a retribuírtelo. Yo me quedaré en la guardia en reemplazo de los médicos enfer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99"/>
                </a:solidFill>
                <a:latin typeface="Comic Sans MS"/>
              </a:rPr>
              <a:t>El jefe de guardia no lo podía creer ¡Tener a Jesús como médic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99"/>
                </a:solidFill>
                <a:latin typeface="Comic Sans MS"/>
              </a:rPr>
              <a:t>Inmediatamente, un brutal accidente ocurre en la puerta del hospital, un hombre fue atropellado violentamente por un autobús y luego el vehículo le pasó por enci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99"/>
                </a:solidFill>
                <a:latin typeface="Comic Sans MS"/>
              </a:rPr>
              <a:t>Destrozado y herido de muerte lo ingresan al hos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476280"/>
            <a:ext cx="8534520" cy="58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Jesús ve que el hombre no tiene posibilidad de sobrevivir y entonces pien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"Tendré que recurrir a un milagro" Posa sobre el hombre sus dos manos y, como había hecho con Lázaro, le dic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"Levántate y anda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33360"/>
            <a:ext cx="8534520" cy="57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hombre absolutamente sano sale del hospital. La gente y sus familiares afuera no lo pueden creer. Todos habían visto el accidente. Entonces le pregunta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¿Qué te hicier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hombre respon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-¡Como siempre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En este hospital de mierd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          </a:t>
            </a: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NADA!!!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1" i="1" lang="es-PE" sz="5400" spc="-1" strike="noStrike">
                <a:solidFill>
                  <a:srgbClr val="ffff99"/>
                </a:solidFill>
                <a:latin typeface="Comic Sans MS"/>
              </a:rPr>
              <a:t>ni una radiografía !!!</a:t>
            </a:r>
            <a:r>
              <a:rPr b="1" i="1" lang="es-ES" sz="48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0:14:55Z</dcterms:created>
  <dc:creator>v</dc:creator>
  <dc:description/>
  <dc:language>en-US</dc:language>
  <cp:lastModifiedBy>Caamaño</cp:lastModifiedBy>
  <dcterms:modified xsi:type="dcterms:W3CDTF">2008-09-09T17:52:42Z</dcterms:modified>
  <cp:revision>2</cp:revision>
  <dc:subject/>
  <dc:title>Diapositiva 1</dc:title>
</cp:coreProperties>
</file>