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1.jpeg" ContentType="image/jpeg"/>
  <Override PartName="/ppt/media/image35.jpeg" ContentType="image/jpeg"/>
  <Override PartName="/ppt/media/image12.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0.gif" ContentType="image/gif"/>
  <Override PartName="/ppt/media/image7.jpeg" ContentType="image/jpeg"/>
  <Override PartName="/ppt/media/image38.jpeg" ContentType="image/jpeg"/>
  <Override PartName="/ppt/media/image26.jpeg" ContentType="image/jpeg"/>
  <Override PartName="/ppt/media/China%20Instrumental.wav" ContentType="audio/x-wav"/>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079976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24" name="PlaceHolder 2"/>
          <p:cNvSpPr>
            <a:spLocks noGrp="1"/>
          </p:cNvSpPr>
          <p:nvPr>
            <p:ph/>
          </p:nvPr>
        </p:nvSpPr>
        <p:spPr>
          <a:xfrm>
            <a:off x="540000" y="1684800"/>
            <a:ext cx="971964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25" name="PlaceHolder 3"/>
          <p:cNvSpPr>
            <a:spLocks noGrp="1"/>
          </p:cNvSpPr>
          <p:nvPr>
            <p:ph/>
          </p:nvPr>
        </p:nvSpPr>
        <p:spPr>
          <a:xfrm>
            <a:off x="540000" y="3866040"/>
            <a:ext cx="971964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27" name="PlaceHolder 2"/>
          <p:cNvSpPr>
            <a:spLocks noGrp="1"/>
          </p:cNvSpPr>
          <p:nvPr>
            <p:ph/>
          </p:nvPr>
        </p:nvSpPr>
        <p:spPr>
          <a:xfrm>
            <a:off x="540000" y="168480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28" name="PlaceHolder 3"/>
          <p:cNvSpPr>
            <a:spLocks noGrp="1"/>
          </p:cNvSpPr>
          <p:nvPr>
            <p:ph/>
          </p:nvPr>
        </p:nvSpPr>
        <p:spPr>
          <a:xfrm>
            <a:off x="5520600" y="168480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29" name="PlaceHolder 4"/>
          <p:cNvSpPr>
            <a:spLocks noGrp="1"/>
          </p:cNvSpPr>
          <p:nvPr>
            <p:ph/>
          </p:nvPr>
        </p:nvSpPr>
        <p:spPr>
          <a:xfrm>
            <a:off x="540000" y="386604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30" name="PlaceHolder 5"/>
          <p:cNvSpPr>
            <a:spLocks noGrp="1"/>
          </p:cNvSpPr>
          <p:nvPr>
            <p:ph/>
          </p:nvPr>
        </p:nvSpPr>
        <p:spPr>
          <a:xfrm>
            <a:off x="5520600" y="386604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32" name="PlaceHolder 2"/>
          <p:cNvSpPr>
            <a:spLocks noGrp="1"/>
          </p:cNvSpPr>
          <p:nvPr>
            <p:ph/>
          </p:nvPr>
        </p:nvSpPr>
        <p:spPr>
          <a:xfrm>
            <a:off x="540000" y="1684800"/>
            <a:ext cx="312948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33" name="PlaceHolder 3"/>
          <p:cNvSpPr>
            <a:spLocks noGrp="1"/>
          </p:cNvSpPr>
          <p:nvPr>
            <p:ph/>
          </p:nvPr>
        </p:nvSpPr>
        <p:spPr>
          <a:xfrm>
            <a:off x="3826440" y="1684800"/>
            <a:ext cx="312948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34" name="PlaceHolder 4"/>
          <p:cNvSpPr>
            <a:spLocks noGrp="1"/>
          </p:cNvSpPr>
          <p:nvPr>
            <p:ph/>
          </p:nvPr>
        </p:nvSpPr>
        <p:spPr>
          <a:xfrm>
            <a:off x="7112520" y="1684800"/>
            <a:ext cx="312948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35" name="PlaceHolder 5"/>
          <p:cNvSpPr>
            <a:spLocks noGrp="1"/>
          </p:cNvSpPr>
          <p:nvPr>
            <p:ph/>
          </p:nvPr>
        </p:nvSpPr>
        <p:spPr>
          <a:xfrm>
            <a:off x="540000" y="3866040"/>
            <a:ext cx="312948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36" name="PlaceHolder 6"/>
          <p:cNvSpPr>
            <a:spLocks noGrp="1"/>
          </p:cNvSpPr>
          <p:nvPr>
            <p:ph/>
          </p:nvPr>
        </p:nvSpPr>
        <p:spPr>
          <a:xfrm>
            <a:off x="3826440" y="3866040"/>
            <a:ext cx="312948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37" name="PlaceHolder 7"/>
          <p:cNvSpPr>
            <a:spLocks noGrp="1"/>
          </p:cNvSpPr>
          <p:nvPr>
            <p:ph/>
          </p:nvPr>
        </p:nvSpPr>
        <p:spPr>
          <a:xfrm>
            <a:off x="7112520" y="3866040"/>
            <a:ext cx="312948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3" name="PlaceHolder 2"/>
          <p:cNvSpPr>
            <a:spLocks noGrp="1"/>
          </p:cNvSpPr>
          <p:nvPr>
            <p:ph type="subTitle"/>
          </p:nvPr>
        </p:nvSpPr>
        <p:spPr>
          <a:xfrm>
            <a:off x="540000" y="1684800"/>
            <a:ext cx="9719640" cy="4175640"/>
          </a:xfrm>
          <a:prstGeom prst="rect">
            <a:avLst/>
          </a:prstGeom>
          <a:noFill/>
          <a:ln w="0">
            <a:noFill/>
          </a:ln>
        </p:spPr>
        <p:txBody>
          <a:bodyPr lIns="0" rIns="0" tIns="0" bIns="0" anchor="ctr">
            <a:noAutofit/>
          </a:bodyPr>
          <a:p>
            <a:pPr indent="0" algn="ctr">
              <a:spcBef>
                <a:spcPts val="950"/>
              </a:spcBef>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5" name="PlaceHolder 2"/>
          <p:cNvSpPr>
            <a:spLocks noGrp="1"/>
          </p:cNvSpPr>
          <p:nvPr>
            <p:ph/>
          </p:nvPr>
        </p:nvSpPr>
        <p:spPr>
          <a:xfrm>
            <a:off x="540000" y="1684800"/>
            <a:ext cx="9719640" cy="417564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7" name="PlaceHolder 2"/>
          <p:cNvSpPr>
            <a:spLocks noGrp="1"/>
          </p:cNvSpPr>
          <p:nvPr>
            <p:ph/>
          </p:nvPr>
        </p:nvSpPr>
        <p:spPr>
          <a:xfrm>
            <a:off x="540000" y="1684800"/>
            <a:ext cx="4743000" cy="417564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8" name="PlaceHolder 3"/>
          <p:cNvSpPr>
            <a:spLocks noGrp="1"/>
          </p:cNvSpPr>
          <p:nvPr>
            <p:ph/>
          </p:nvPr>
        </p:nvSpPr>
        <p:spPr>
          <a:xfrm>
            <a:off x="5520600" y="1684800"/>
            <a:ext cx="4743000" cy="417564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40000" y="287280"/>
            <a:ext cx="9719640" cy="5573160"/>
          </a:xfrm>
          <a:prstGeom prst="rect">
            <a:avLst/>
          </a:prstGeom>
          <a:noFill/>
          <a:ln w="0">
            <a:noFill/>
          </a:ln>
        </p:spPr>
        <p:txBody>
          <a:bodyPr lIns="0" rIns="0" tIns="0" bIns="0" anchor="ctr">
            <a:noAutofit/>
          </a:bodyPr>
          <a:p>
            <a:pPr algn="ctr">
              <a:spcBef>
                <a:spcPts val="950"/>
              </a:spcBef>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12" name="PlaceHolder 2"/>
          <p:cNvSpPr>
            <a:spLocks noGrp="1"/>
          </p:cNvSpPr>
          <p:nvPr>
            <p:ph/>
          </p:nvPr>
        </p:nvSpPr>
        <p:spPr>
          <a:xfrm>
            <a:off x="540000" y="168480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13" name="PlaceHolder 3"/>
          <p:cNvSpPr>
            <a:spLocks noGrp="1"/>
          </p:cNvSpPr>
          <p:nvPr>
            <p:ph/>
          </p:nvPr>
        </p:nvSpPr>
        <p:spPr>
          <a:xfrm>
            <a:off x="5520600" y="1684800"/>
            <a:ext cx="4743000" cy="417564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14" name="PlaceHolder 4"/>
          <p:cNvSpPr>
            <a:spLocks noGrp="1"/>
          </p:cNvSpPr>
          <p:nvPr>
            <p:ph/>
          </p:nvPr>
        </p:nvSpPr>
        <p:spPr>
          <a:xfrm>
            <a:off x="540000" y="386604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16" name="PlaceHolder 2"/>
          <p:cNvSpPr>
            <a:spLocks noGrp="1"/>
          </p:cNvSpPr>
          <p:nvPr>
            <p:ph/>
          </p:nvPr>
        </p:nvSpPr>
        <p:spPr>
          <a:xfrm>
            <a:off x="540000" y="1684800"/>
            <a:ext cx="4743000" cy="417564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17" name="PlaceHolder 3"/>
          <p:cNvSpPr>
            <a:spLocks noGrp="1"/>
          </p:cNvSpPr>
          <p:nvPr>
            <p:ph/>
          </p:nvPr>
        </p:nvSpPr>
        <p:spPr>
          <a:xfrm>
            <a:off x="5520600" y="168480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18" name="PlaceHolder 4"/>
          <p:cNvSpPr>
            <a:spLocks noGrp="1"/>
          </p:cNvSpPr>
          <p:nvPr>
            <p:ph/>
          </p:nvPr>
        </p:nvSpPr>
        <p:spPr>
          <a:xfrm>
            <a:off x="5520600" y="386604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20" name="PlaceHolder 2"/>
          <p:cNvSpPr>
            <a:spLocks noGrp="1"/>
          </p:cNvSpPr>
          <p:nvPr>
            <p:ph/>
          </p:nvPr>
        </p:nvSpPr>
        <p:spPr>
          <a:xfrm>
            <a:off x="540000" y="168480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21" name="PlaceHolder 3"/>
          <p:cNvSpPr>
            <a:spLocks noGrp="1"/>
          </p:cNvSpPr>
          <p:nvPr>
            <p:ph/>
          </p:nvPr>
        </p:nvSpPr>
        <p:spPr>
          <a:xfrm>
            <a:off x="5520600" y="1684800"/>
            <a:ext cx="474300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
        <p:nvSpPr>
          <p:cNvPr id="22" name="PlaceHolder 4"/>
          <p:cNvSpPr>
            <a:spLocks noGrp="1"/>
          </p:cNvSpPr>
          <p:nvPr>
            <p:ph/>
          </p:nvPr>
        </p:nvSpPr>
        <p:spPr>
          <a:xfrm>
            <a:off x="540000" y="3866040"/>
            <a:ext cx="9719640" cy="1991520"/>
          </a:xfrm>
          <a:prstGeom prst="rect">
            <a:avLst/>
          </a:prstGeom>
          <a:noFill/>
          <a:ln w="0">
            <a:noFill/>
          </a:ln>
        </p:spPr>
        <p:txBody>
          <a:bodyPr lIns="0" rIns="0" tIns="0" bIns="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786950"/>
              </a:solidFill>
              <a:latin typeface="Lynda Cursi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0000" y="287280"/>
            <a:ext cx="9719640" cy="1202040"/>
          </a:xfrm>
          <a:prstGeom prst="rect">
            <a:avLst/>
          </a:prstGeom>
          <a:noFill/>
          <a:ln w="0">
            <a:noFill/>
          </a:ln>
        </p:spPr>
        <p:txBody>
          <a:bodyPr lIns="0" rIns="0" tIns="0" bIns="0" anchor="ctr">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2400" spc="-1" strike="noStrike">
                <a:solidFill>
                  <a:srgbClr val="f8f8f8"/>
                </a:solidFill>
                <a:latin typeface="Lynda Cursive"/>
              </a:rPr>
              <a:t>Click to edit the title text format</a:t>
            </a:r>
            <a:endParaRPr b="1" lang="en-US" sz="2400" spc="-1" strike="noStrike">
              <a:solidFill>
                <a:srgbClr val="f8f8f8"/>
              </a:solidFill>
              <a:latin typeface="Lynda Cursive"/>
            </a:endParaRPr>
          </a:p>
        </p:txBody>
      </p:sp>
      <p:sp>
        <p:nvSpPr>
          <p:cNvPr id="1" name="PlaceHolder 2"/>
          <p:cNvSpPr>
            <a:spLocks noGrp="1"/>
          </p:cNvSpPr>
          <p:nvPr>
            <p:ph type="body"/>
          </p:nvPr>
        </p:nvSpPr>
        <p:spPr>
          <a:xfrm>
            <a:off x="540000" y="1684800"/>
            <a:ext cx="9719640" cy="4175640"/>
          </a:xfrm>
          <a:prstGeom prst="rect">
            <a:avLst/>
          </a:prstGeom>
          <a:noFill/>
          <a:ln w="0">
            <a:noFill/>
          </a:ln>
        </p:spPr>
        <p:txBody>
          <a:bodyPr lIns="0" rIns="0" tIns="0" bIns="0" anchor="t">
            <a:normAutofit/>
          </a:bodyPr>
          <a:p>
            <a:pPr marL="403200" indent="-403200">
              <a:spcBef>
                <a:spcPts val="950"/>
              </a:spcBef>
              <a:buClr>
                <a:srgbClr val="996600"/>
              </a:buClr>
              <a:buFont typeface="Lynda Cursive"/>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786950"/>
                </a:solidFill>
                <a:latin typeface="Lynda Cursive"/>
              </a:rPr>
              <a:t>Click to edit the outline text format</a:t>
            </a:r>
            <a:endParaRPr b="0" lang="en-US" sz="3800" spc="-1" strike="noStrike">
              <a:solidFill>
                <a:srgbClr val="786950"/>
              </a:solidFill>
              <a:latin typeface="Lynda Cursive"/>
            </a:endParaRPr>
          </a:p>
          <a:p>
            <a:pPr lvl="1" marL="874800" indent="-335160">
              <a:spcBef>
                <a:spcPts val="825"/>
              </a:spcBef>
              <a:buClr>
                <a:srgbClr val="996600"/>
              </a:buClr>
              <a:buSzPct val="95000"/>
              <a:buFont typeface="Lynda Cursive"/>
              <a:buChar char="•"/>
              <a:tabLst>
                <a:tab algn="l" pos="1076400"/>
                <a:tab algn="l" pos="2152800"/>
                <a:tab algn="l" pos="3228840"/>
                <a:tab algn="l" pos="4305240"/>
                <a:tab algn="l" pos="5381640"/>
                <a:tab algn="l" pos="6458040"/>
                <a:tab algn="l" pos="7534440"/>
                <a:tab algn="l" pos="8610480"/>
                <a:tab algn="l" pos="9686880"/>
                <a:tab algn="l" pos="10763280"/>
              </a:tabLst>
            </a:pPr>
            <a:r>
              <a:rPr b="0" lang="en-US" sz="3300" spc="-1" strike="noStrike">
                <a:solidFill>
                  <a:srgbClr val="786950"/>
                </a:solidFill>
                <a:latin typeface="Lynda Cursive"/>
              </a:rPr>
              <a:t>Second Outline Level</a:t>
            </a:r>
            <a:endParaRPr b="0" lang="en-US" sz="3300" spc="-1" strike="noStrike">
              <a:solidFill>
                <a:srgbClr val="786950"/>
              </a:solidFill>
              <a:latin typeface="Lynda Cursive"/>
            </a:endParaRPr>
          </a:p>
          <a:p>
            <a:pPr lvl="2" marL="1346040" indent="-269640">
              <a:spcBef>
                <a:spcPts val="700"/>
              </a:spcBef>
              <a:buClr>
                <a:srgbClr val="996600"/>
              </a:buClr>
              <a:buFont typeface="Lynda Cursive"/>
              <a:buChar char="•"/>
              <a:tabLst>
                <a:tab algn="l" pos="2152800"/>
                <a:tab algn="l" pos="3228840"/>
                <a:tab algn="l" pos="4305240"/>
                <a:tab algn="l" pos="5381640"/>
                <a:tab algn="l" pos="6458040"/>
                <a:tab algn="l" pos="7534440"/>
                <a:tab algn="l" pos="8610480"/>
                <a:tab algn="l" pos="9686880"/>
                <a:tab algn="l" pos="10763280"/>
              </a:tabLst>
            </a:pPr>
            <a:r>
              <a:rPr b="0" lang="en-US" sz="2800" spc="-1" strike="noStrike">
                <a:solidFill>
                  <a:srgbClr val="786950"/>
                </a:solidFill>
                <a:latin typeface="Lynda Cursive"/>
              </a:rPr>
              <a:t>Third Outline Level</a:t>
            </a:r>
            <a:endParaRPr b="0" lang="en-US" sz="2800" spc="-1" strike="noStrike">
              <a:solidFill>
                <a:srgbClr val="786950"/>
              </a:solidFill>
              <a:latin typeface="Lynda Cursive"/>
            </a:endParaRPr>
          </a:p>
          <a:p>
            <a:pPr lvl="3" marL="1882800" indent="-266760">
              <a:spcBef>
                <a:spcPts val="601"/>
              </a:spcBef>
              <a:buClr>
                <a:srgbClr val="996600"/>
              </a:buClr>
              <a:buFont typeface="Lynda Cursive"/>
              <a:buChar char="•"/>
              <a:tabLst>
                <a:tab algn="l" pos="2152800"/>
                <a:tab algn="l" pos="3228840"/>
                <a:tab algn="l" pos="4305240"/>
                <a:tab algn="l" pos="5381640"/>
                <a:tab algn="l" pos="6458040"/>
                <a:tab algn="l" pos="7534440"/>
                <a:tab algn="l" pos="8610480"/>
                <a:tab algn="l" pos="9686880"/>
                <a:tab algn="l" pos="10763280"/>
              </a:tabLst>
            </a:pPr>
            <a:r>
              <a:rPr b="0" lang="en-US" sz="2400" spc="-1" strike="noStrike">
                <a:solidFill>
                  <a:srgbClr val="786950"/>
                </a:solidFill>
                <a:latin typeface="Lynda Cursive"/>
              </a:rPr>
              <a:t>Fourth Outline Level</a:t>
            </a:r>
            <a:endParaRPr b="0" lang="en-US" sz="2400" spc="-1" strike="noStrike">
              <a:solidFill>
                <a:srgbClr val="786950"/>
              </a:solidFill>
              <a:latin typeface="Lynda Cursive"/>
            </a:endParaRPr>
          </a:p>
          <a:p>
            <a:pPr lvl="4" marL="2421000" indent="-268200">
              <a:spcBef>
                <a:spcPts val="601"/>
              </a:spcBef>
              <a:buClr>
                <a:srgbClr val="996600"/>
              </a:buClr>
              <a:buFont typeface="Lynda Cursive"/>
              <a:buChar char="•"/>
              <a:tabLst>
                <a:tab algn="l" pos="3228840"/>
                <a:tab algn="l" pos="4305240"/>
                <a:tab algn="l" pos="5381640"/>
                <a:tab algn="l" pos="6458040"/>
                <a:tab algn="l" pos="7534440"/>
                <a:tab algn="l" pos="8610480"/>
                <a:tab algn="l" pos="9686880"/>
                <a:tab algn="l" pos="10763280"/>
              </a:tabLst>
            </a:pPr>
            <a:r>
              <a:rPr b="0" lang="en-US" sz="2400" spc="-1" strike="noStrike">
                <a:solidFill>
                  <a:srgbClr val="786950"/>
                </a:solidFill>
                <a:latin typeface="Lynda Cursive"/>
              </a:rPr>
              <a:t>Fifth Outline Level</a:t>
            </a:r>
            <a:endParaRPr b="0" lang="en-US" sz="2400" spc="-1" strike="noStrike">
              <a:solidFill>
                <a:srgbClr val="786950"/>
              </a:solidFill>
              <a:latin typeface="Lynda Cursive"/>
            </a:endParaRPr>
          </a:p>
          <a:p>
            <a:pPr lvl="5" marL="2421000" indent="-268200">
              <a:spcBef>
                <a:spcPts val="601"/>
              </a:spcBef>
              <a:buClr>
                <a:srgbClr val="000000"/>
              </a:buClr>
              <a:buFont typeface="Lynda Curs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6950"/>
                </a:solidFill>
                <a:latin typeface="Lynda Cursive"/>
              </a:rPr>
              <a:t>Sixth Outline Level</a:t>
            </a:r>
            <a:endParaRPr b="0" lang="en-US" sz="2400" spc="-1" strike="noStrike">
              <a:solidFill>
                <a:srgbClr val="786950"/>
              </a:solidFill>
              <a:latin typeface="Lynda Cursive"/>
            </a:endParaRPr>
          </a:p>
          <a:p>
            <a:pPr lvl="6" marL="2421000" indent="-268200">
              <a:spcBef>
                <a:spcPts val="601"/>
              </a:spcBef>
              <a:buClr>
                <a:srgbClr val="000000"/>
              </a:buClr>
              <a:buFont typeface="Lynda Curs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6950"/>
                </a:solidFill>
                <a:latin typeface="Lynda Cursive"/>
              </a:rPr>
              <a:t>Seventh Outline Level</a:t>
            </a:r>
            <a:endParaRPr b="0" lang="en-US" sz="2400" spc="-1" strike="noStrike">
              <a:solidFill>
                <a:srgbClr val="786950"/>
              </a:solidFill>
              <a:latin typeface="Lynda Cursiv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audio" Target="../media/China%20Instrumental.wav"/><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9.jpeg"/><Relationship Id="rId10" Type="http://schemas.openxmlformats.org/officeDocument/2006/relationships/image" Target="../media/image40.gif"/><Relationship Id="rId11" Type="http://schemas.openxmlformats.org/officeDocument/2006/relationships/image" Target="../media/image40.gi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 name=""/>
          <p:cNvSpPr/>
          <p:nvPr/>
        </p:nvSpPr>
        <p:spPr>
          <a:xfrm>
            <a:off x="1728720" y="0"/>
            <a:ext cx="8350200" cy="7201080"/>
          </a:xfrm>
          <a:custGeom>
            <a:avLst/>
            <a:gdLst/>
            <a:ahLst/>
            <a:rect l="l" t="t" r="r" b="b"/>
            <a:pathLst>
              <a:path w="1774" h="1408">
                <a:moveTo>
                  <a:pt x="1706" y="1224"/>
                </a:moveTo>
                <a:lnTo>
                  <a:pt x="1722" y="1161"/>
                </a:lnTo>
                <a:lnTo>
                  <a:pt x="1736" y="1098"/>
                </a:lnTo>
                <a:lnTo>
                  <a:pt x="1748" y="1034"/>
                </a:lnTo>
                <a:lnTo>
                  <a:pt x="1757" y="970"/>
                </a:lnTo>
                <a:lnTo>
                  <a:pt x="1765" y="905"/>
                </a:lnTo>
                <a:lnTo>
                  <a:pt x="1770" y="842"/>
                </a:lnTo>
                <a:lnTo>
                  <a:pt x="1773" y="777"/>
                </a:lnTo>
                <a:lnTo>
                  <a:pt x="1774" y="713"/>
                </a:lnTo>
                <a:lnTo>
                  <a:pt x="1773" y="645"/>
                </a:lnTo>
                <a:lnTo>
                  <a:pt x="1770" y="577"/>
                </a:lnTo>
                <a:lnTo>
                  <a:pt x="1764" y="510"/>
                </a:lnTo>
                <a:lnTo>
                  <a:pt x="1757" y="443"/>
                </a:lnTo>
                <a:lnTo>
                  <a:pt x="1747" y="377"/>
                </a:lnTo>
                <a:lnTo>
                  <a:pt x="1734" y="312"/>
                </a:lnTo>
                <a:lnTo>
                  <a:pt x="1720" y="248"/>
                </a:lnTo>
                <a:lnTo>
                  <a:pt x="1704" y="186"/>
                </a:lnTo>
                <a:lnTo>
                  <a:pt x="1686" y="175"/>
                </a:lnTo>
                <a:lnTo>
                  <a:pt x="1667" y="165"/>
                </a:lnTo>
                <a:lnTo>
                  <a:pt x="1648" y="154"/>
                </a:lnTo>
                <a:lnTo>
                  <a:pt x="1628" y="145"/>
                </a:lnTo>
                <a:lnTo>
                  <a:pt x="1607" y="135"/>
                </a:lnTo>
                <a:lnTo>
                  <a:pt x="1586" y="126"/>
                </a:lnTo>
                <a:lnTo>
                  <a:pt x="1565" y="118"/>
                </a:lnTo>
                <a:lnTo>
                  <a:pt x="1543" y="108"/>
                </a:lnTo>
                <a:lnTo>
                  <a:pt x="1520" y="100"/>
                </a:lnTo>
                <a:lnTo>
                  <a:pt x="1497" y="92"/>
                </a:lnTo>
                <a:lnTo>
                  <a:pt x="1474" y="85"/>
                </a:lnTo>
                <a:lnTo>
                  <a:pt x="1449" y="77"/>
                </a:lnTo>
                <a:lnTo>
                  <a:pt x="1425" y="70"/>
                </a:lnTo>
                <a:lnTo>
                  <a:pt x="1400" y="63"/>
                </a:lnTo>
                <a:lnTo>
                  <a:pt x="1376" y="58"/>
                </a:lnTo>
                <a:lnTo>
                  <a:pt x="1349" y="51"/>
                </a:lnTo>
                <a:lnTo>
                  <a:pt x="1324" y="46"/>
                </a:lnTo>
                <a:lnTo>
                  <a:pt x="1297" y="40"/>
                </a:lnTo>
                <a:lnTo>
                  <a:pt x="1270" y="35"/>
                </a:lnTo>
                <a:lnTo>
                  <a:pt x="1243" y="30"/>
                </a:lnTo>
                <a:lnTo>
                  <a:pt x="1215" y="27"/>
                </a:lnTo>
                <a:lnTo>
                  <a:pt x="1187" y="22"/>
                </a:lnTo>
                <a:lnTo>
                  <a:pt x="1159" y="19"/>
                </a:lnTo>
                <a:lnTo>
                  <a:pt x="1130" y="15"/>
                </a:lnTo>
                <a:lnTo>
                  <a:pt x="1101" y="12"/>
                </a:lnTo>
                <a:lnTo>
                  <a:pt x="1071" y="9"/>
                </a:lnTo>
                <a:lnTo>
                  <a:pt x="1043" y="7"/>
                </a:lnTo>
                <a:lnTo>
                  <a:pt x="1013" y="5"/>
                </a:lnTo>
                <a:lnTo>
                  <a:pt x="982" y="4"/>
                </a:lnTo>
                <a:lnTo>
                  <a:pt x="952" y="1"/>
                </a:lnTo>
                <a:lnTo>
                  <a:pt x="920" y="1"/>
                </a:lnTo>
                <a:lnTo>
                  <a:pt x="889" y="0"/>
                </a:lnTo>
                <a:lnTo>
                  <a:pt x="858" y="1"/>
                </a:lnTo>
                <a:lnTo>
                  <a:pt x="826" y="1"/>
                </a:lnTo>
                <a:lnTo>
                  <a:pt x="795" y="4"/>
                </a:lnTo>
                <a:lnTo>
                  <a:pt x="765" y="5"/>
                </a:lnTo>
                <a:lnTo>
                  <a:pt x="734" y="7"/>
                </a:lnTo>
                <a:lnTo>
                  <a:pt x="704" y="9"/>
                </a:lnTo>
                <a:lnTo>
                  <a:pt x="674" y="12"/>
                </a:lnTo>
                <a:lnTo>
                  <a:pt x="645" y="15"/>
                </a:lnTo>
                <a:lnTo>
                  <a:pt x="616" y="19"/>
                </a:lnTo>
                <a:lnTo>
                  <a:pt x="587" y="22"/>
                </a:lnTo>
                <a:lnTo>
                  <a:pt x="559" y="27"/>
                </a:lnTo>
                <a:lnTo>
                  <a:pt x="531" y="30"/>
                </a:lnTo>
                <a:lnTo>
                  <a:pt x="503" y="36"/>
                </a:lnTo>
                <a:lnTo>
                  <a:pt x="477" y="40"/>
                </a:lnTo>
                <a:lnTo>
                  <a:pt x="449" y="46"/>
                </a:lnTo>
                <a:lnTo>
                  <a:pt x="424" y="52"/>
                </a:lnTo>
                <a:lnTo>
                  <a:pt x="397" y="58"/>
                </a:lnTo>
                <a:lnTo>
                  <a:pt x="372" y="65"/>
                </a:lnTo>
                <a:lnTo>
                  <a:pt x="347" y="72"/>
                </a:lnTo>
                <a:lnTo>
                  <a:pt x="322" y="78"/>
                </a:lnTo>
                <a:lnTo>
                  <a:pt x="298" y="85"/>
                </a:lnTo>
                <a:lnTo>
                  <a:pt x="275" y="93"/>
                </a:lnTo>
                <a:lnTo>
                  <a:pt x="252" y="101"/>
                </a:lnTo>
                <a:lnTo>
                  <a:pt x="229" y="110"/>
                </a:lnTo>
                <a:lnTo>
                  <a:pt x="207" y="119"/>
                </a:lnTo>
                <a:lnTo>
                  <a:pt x="185" y="127"/>
                </a:lnTo>
                <a:lnTo>
                  <a:pt x="165" y="137"/>
                </a:lnTo>
                <a:lnTo>
                  <a:pt x="144" y="146"/>
                </a:lnTo>
                <a:lnTo>
                  <a:pt x="124" y="157"/>
                </a:lnTo>
                <a:lnTo>
                  <a:pt x="105" y="166"/>
                </a:lnTo>
                <a:lnTo>
                  <a:pt x="86" y="177"/>
                </a:lnTo>
                <a:lnTo>
                  <a:pt x="68" y="188"/>
                </a:lnTo>
                <a:lnTo>
                  <a:pt x="52" y="250"/>
                </a:lnTo>
                <a:lnTo>
                  <a:pt x="38" y="313"/>
                </a:lnTo>
                <a:lnTo>
                  <a:pt x="26" y="377"/>
                </a:lnTo>
                <a:lnTo>
                  <a:pt x="17" y="442"/>
                </a:lnTo>
                <a:lnTo>
                  <a:pt x="9" y="509"/>
                </a:lnTo>
                <a:lnTo>
                  <a:pt x="4" y="576"/>
                </a:lnTo>
                <a:lnTo>
                  <a:pt x="1" y="644"/>
                </a:lnTo>
                <a:lnTo>
                  <a:pt x="0" y="713"/>
                </a:lnTo>
                <a:lnTo>
                  <a:pt x="1" y="777"/>
                </a:lnTo>
                <a:lnTo>
                  <a:pt x="4" y="842"/>
                </a:lnTo>
                <a:lnTo>
                  <a:pt x="9" y="906"/>
                </a:lnTo>
                <a:lnTo>
                  <a:pt x="16" y="971"/>
                </a:lnTo>
                <a:lnTo>
                  <a:pt x="25" y="1034"/>
                </a:lnTo>
                <a:lnTo>
                  <a:pt x="37" y="1098"/>
                </a:lnTo>
                <a:lnTo>
                  <a:pt x="50" y="1160"/>
                </a:lnTo>
                <a:lnTo>
                  <a:pt x="65" y="1222"/>
                </a:lnTo>
                <a:lnTo>
                  <a:pt x="84" y="1232"/>
                </a:lnTo>
                <a:lnTo>
                  <a:pt x="102" y="1244"/>
                </a:lnTo>
                <a:lnTo>
                  <a:pt x="122" y="1253"/>
                </a:lnTo>
                <a:lnTo>
                  <a:pt x="143" y="1263"/>
                </a:lnTo>
                <a:lnTo>
                  <a:pt x="162" y="1273"/>
                </a:lnTo>
                <a:lnTo>
                  <a:pt x="184" y="1283"/>
                </a:lnTo>
                <a:lnTo>
                  <a:pt x="205" y="1291"/>
                </a:lnTo>
                <a:lnTo>
                  <a:pt x="228" y="1300"/>
                </a:lnTo>
                <a:lnTo>
                  <a:pt x="250" y="1308"/>
                </a:lnTo>
                <a:lnTo>
                  <a:pt x="273" y="1316"/>
                </a:lnTo>
                <a:lnTo>
                  <a:pt x="297" y="1324"/>
                </a:lnTo>
                <a:lnTo>
                  <a:pt x="321" y="1331"/>
                </a:lnTo>
                <a:lnTo>
                  <a:pt x="345" y="1338"/>
                </a:lnTo>
                <a:lnTo>
                  <a:pt x="371" y="1345"/>
                </a:lnTo>
                <a:lnTo>
                  <a:pt x="396" y="1352"/>
                </a:lnTo>
                <a:lnTo>
                  <a:pt x="421" y="1358"/>
                </a:lnTo>
                <a:lnTo>
                  <a:pt x="448" y="1364"/>
                </a:lnTo>
                <a:lnTo>
                  <a:pt x="474" y="1369"/>
                </a:lnTo>
                <a:lnTo>
                  <a:pt x="502" y="1374"/>
                </a:lnTo>
                <a:lnTo>
                  <a:pt x="530" y="1379"/>
                </a:lnTo>
                <a:lnTo>
                  <a:pt x="557" y="1383"/>
                </a:lnTo>
                <a:lnTo>
                  <a:pt x="586" y="1388"/>
                </a:lnTo>
                <a:lnTo>
                  <a:pt x="615" y="1391"/>
                </a:lnTo>
                <a:lnTo>
                  <a:pt x="644" y="1395"/>
                </a:lnTo>
                <a:lnTo>
                  <a:pt x="673" y="1397"/>
                </a:lnTo>
                <a:lnTo>
                  <a:pt x="703" y="1400"/>
                </a:lnTo>
                <a:lnTo>
                  <a:pt x="734" y="1403"/>
                </a:lnTo>
                <a:lnTo>
                  <a:pt x="764" y="1404"/>
                </a:lnTo>
                <a:lnTo>
                  <a:pt x="795" y="1406"/>
                </a:lnTo>
                <a:lnTo>
                  <a:pt x="826" y="1407"/>
                </a:lnTo>
                <a:lnTo>
                  <a:pt x="857" y="1408"/>
                </a:lnTo>
                <a:lnTo>
                  <a:pt x="889" y="1408"/>
                </a:lnTo>
                <a:lnTo>
                  <a:pt x="920" y="1408"/>
                </a:lnTo>
                <a:lnTo>
                  <a:pt x="952" y="1407"/>
                </a:lnTo>
                <a:lnTo>
                  <a:pt x="983" y="1406"/>
                </a:lnTo>
                <a:lnTo>
                  <a:pt x="1013" y="1404"/>
                </a:lnTo>
                <a:lnTo>
                  <a:pt x="1043" y="1403"/>
                </a:lnTo>
                <a:lnTo>
                  <a:pt x="1073" y="1400"/>
                </a:lnTo>
                <a:lnTo>
                  <a:pt x="1101" y="1397"/>
                </a:lnTo>
                <a:lnTo>
                  <a:pt x="1131" y="1395"/>
                </a:lnTo>
                <a:lnTo>
                  <a:pt x="1160" y="1391"/>
                </a:lnTo>
                <a:lnTo>
                  <a:pt x="1188" y="1388"/>
                </a:lnTo>
                <a:lnTo>
                  <a:pt x="1217" y="1383"/>
                </a:lnTo>
                <a:lnTo>
                  <a:pt x="1244" y="1379"/>
                </a:lnTo>
                <a:lnTo>
                  <a:pt x="1271" y="1374"/>
                </a:lnTo>
                <a:lnTo>
                  <a:pt x="1298" y="1369"/>
                </a:lnTo>
                <a:lnTo>
                  <a:pt x="1325" y="1364"/>
                </a:lnTo>
                <a:lnTo>
                  <a:pt x="1351" y="1358"/>
                </a:lnTo>
                <a:lnTo>
                  <a:pt x="1377" y="1352"/>
                </a:lnTo>
                <a:lnTo>
                  <a:pt x="1402" y="1346"/>
                </a:lnTo>
                <a:lnTo>
                  <a:pt x="1427" y="1339"/>
                </a:lnTo>
                <a:lnTo>
                  <a:pt x="1452" y="1332"/>
                </a:lnTo>
                <a:lnTo>
                  <a:pt x="1476" y="1324"/>
                </a:lnTo>
                <a:lnTo>
                  <a:pt x="1499" y="1318"/>
                </a:lnTo>
                <a:lnTo>
                  <a:pt x="1522" y="1309"/>
                </a:lnTo>
                <a:lnTo>
                  <a:pt x="1545" y="1301"/>
                </a:lnTo>
                <a:lnTo>
                  <a:pt x="1567" y="1292"/>
                </a:lnTo>
                <a:lnTo>
                  <a:pt x="1588" y="1284"/>
                </a:lnTo>
                <a:lnTo>
                  <a:pt x="1610" y="1275"/>
                </a:lnTo>
                <a:lnTo>
                  <a:pt x="1629" y="1265"/>
                </a:lnTo>
                <a:lnTo>
                  <a:pt x="1650" y="1255"/>
                </a:lnTo>
                <a:lnTo>
                  <a:pt x="1669" y="1245"/>
                </a:lnTo>
                <a:lnTo>
                  <a:pt x="1688" y="1235"/>
                </a:lnTo>
                <a:lnTo>
                  <a:pt x="1706" y="1224"/>
                </a:lnTo>
                <a:close/>
              </a:path>
            </a:pathLst>
          </a:custGeom>
          <a:blipFill rotWithShape="0">
            <a:blip r:embed="rId2"/>
            <a:srcRect/>
            <a:stretch/>
          </a:blip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790560" y="5329080"/>
            <a:ext cx="3960720" cy="45720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buClr>
                <a:srgbClr val="996600"/>
              </a:buClr>
              <a:buFont typeface="Lynda Cursive"/>
              <a:buChar char="•"/>
              <a:tabLst>
                <a:tab algn="l" pos="1076400"/>
                <a:tab algn="l" pos="2152800"/>
                <a:tab algn="l" pos="3228840"/>
                <a:tab algn="l" pos="4305240"/>
                <a:tab algn="l" pos="5381640"/>
                <a:tab algn="l" pos="6458040"/>
                <a:tab algn="l" pos="7534440"/>
                <a:tab algn="l" pos="8610480"/>
                <a:tab algn="l" pos="9686880"/>
                <a:tab algn="l" pos="10763280"/>
              </a:tabLst>
            </a:pPr>
            <a:endParaRPr b="0" lang="en-US" sz="1800" spc="-1" strike="noStrike">
              <a:solidFill>
                <a:srgbClr val="000000"/>
              </a:solidFill>
              <a:latin typeface="Arial"/>
            </a:endParaRPr>
          </a:p>
        </p:txBody>
      </p:sp>
      <p:sp>
        <p:nvSpPr>
          <p:cNvPr id="40" name=""/>
          <p:cNvSpPr/>
          <p:nvPr/>
        </p:nvSpPr>
        <p:spPr>
          <a:xfrm>
            <a:off x="2087640" y="360360"/>
            <a:ext cx="7630920" cy="6410160"/>
          </a:xfrm>
          <a:custGeom>
            <a:avLst/>
            <a:gdLst/>
            <a:ahLst/>
            <a:rect l="l" t="t" r="r" b="b"/>
            <a:pathLst>
              <a:path w="1774" h="1408">
                <a:moveTo>
                  <a:pt x="1706" y="1224"/>
                </a:moveTo>
                <a:lnTo>
                  <a:pt x="1722" y="1161"/>
                </a:lnTo>
                <a:lnTo>
                  <a:pt x="1736" y="1098"/>
                </a:lnTo>
                <a:lnTo>
                  <a:pt x="1748" y="1034"/>
                </a:lnTo>
                <a:lnTo>
                  <a:pt x="1757" y="970"/>
                </a:lnTo>
                <a:lnTo>
                  <a:pt x="1765" y="905"/>
                </a:lnTo>
                <a:lnTo>
                  <a:pt x="1770" y="842"/>
                </a:lnTo>
                <a:lnTo>
                  <a:pt x="1773" y="777"/>
                </a:lnTo>
                <a:lnTo>
                  <a:pt x="1774" y="713"/>
                </a:lnTo>
                <a:lnTo>
                  <a:pt x="1773" y="645"/>
                </a:lnTo>
                <a:lnTo>
                  <a:pt x="1770" y="577"/>
                </a:lnTo>
                <a:lnTo>
                  <a:pt x="1764" y="510"/>
                </a:lnTo>
                <a:lnTo>
                  <a:pt x="1757" y="443"/>
                </a:lnTo>
                <a:lnTo>
                  <a:pt x="1747" y="377"/>
                </a:lnTo>
                <a:lnTo>
                  <a:pt x="1734" y="312"/>
                </a:lnTo>
                <a:lnTo>
                  <a:pt x="1720" y="248"/>
                </a:lnTo>
                <a:lnTo>
                  <a:pt x="1704" y="186"/>
                </a:lnTo>
                <a:lnTo>
                  <a:pt x="1686" y="175"/>
                </a:lnTo>
                <a:lnTo>
                  <a:pt x="1667" y="165"/>
                </a:lnTo>
                <a:lnTo>
                  <a:pt x="1648" y="154"/>
                </a:lnTo>
                <a:lnTo>
                  <a:pt x="1628" y="145"/>
                </a:lnTo>
                <a:lnTo>
                  <a:pt x="1607" y="135"/>
                </a:lnTo>
                <a:lnTo>
                  <a:pt x="1586" y="126"/>
                </a:lnTo>
                <a:lnTo>
                  <a:pt x="1565" y="118"/>
                </a:lnTo>
                <a:lnTo>
                  <a:pt x="1543" y="108"/>
                </a:lnTo>
                <a:lnTo>
                  <a:pt x="1520" y="100"/>
                </a:lnTo>
                <a:lnTo>
                  <a:pt x="1497" y="92"/>
                </a:lnTo>
                <a:lnTo>
                  <a:pt x="1474" y="85"/>
                </a:lnTo>
                <a:lnTo>
                  <a:pt x="1449" y="77"/>
                </a:lnTo>
                <a:lnTo>
                  <a:pt x="1425" y="70"/>
                </a:lnTo>
                <a:lnTo>
                  <a:pt x="1400" y="63"/>
                </a:lnTo>
                <a:lnTo>
                  <a:pt x="1376" y="58"/>
                </a:lnTo>
                <a:lnTo>
                  <a:pt x="1349" y="51"/>
                </a:lnTo>
                <a:lnTo>
                  <a:pt x="1324" y="46"/>
                </a:lnTo>
                <a:lnTo>
                  <a:pt x="1297" y="40"/>
                </a:lnTo>
                <a:lnTo>
                  <a:pt x="1270" y="35"/>
                </a:lnTo>
                <a:lnTo>
                  <a:pt x="1243" y="30"/>
                </a:lnTo>
                <a:lnTo>
                  <a:pt x="1215" y="27"/>
                </a:lnTo>
                <a:lnTo>
                  <a:pt x="1187" y="22"/>
                </a:lnTo>
                <a:lnTo>
                  <a:pt x="1159" y="19"/>
                </a:lnTo>
                <a:lnTo>
                  <a:pt x="1130" y="15"/>
                </a:lnTo>
                <a:lnTo>
                  <a:pt x="1101" y="12"/>
                </a:lnTo>
                <a:lnTo>
                  <a:pt x="1071" y="9"/>
                </a:lnTo>
                <a:lnTo>
                  <a:pt x="1043" y="7"/>
                </a:lnTo>
                <a:lnTo>
                  <a:pt x="1013" y="5"/>
                </a:lnTo>
                <a:lnTo>
                  <a:pt x="982" y="4"/>
                </a:lnTo>
                <a:lnTo>
                  <a:pt x="952" y="1"/>
                </a:lnTo>
                <a:lnTo>
                  <a:pt x="920" y="1"/>
                </a:lnTo>
                <a:lnTo>
                  <a:pt x="889" y="0"/>
                </a:lnTo>
                <a:lnTo>
                  <a:pt x="858" y="1"/>
                </a:lnTo>
                <a:lnTo>
                  <a:pt x="826" y="1"/>
                </a:lnTo>
                <a:lnTo>
                  <a:pt x="795" y="4"/>
                </a:lnTo>
                <a:lnTo>
                  <a:pt x="765" y="5"/>
                </a:lnTo>
                <a:lnTo>
                  <a:pt x="734" y="7"/>
                </a:lnTo>
                <a:lnTo>
                  <a:pt x="704" y="9"/>
                </a:lnTo>
                <a:lnTo>
                  <a:pt x="674" y="12"/>
                </a:lnTo>
                <a:lnTo>
                  <a:pt x="645" y="15"/>
                </a:lnTo>
                <a:lnTo>
                  <a:pt x="616" y="19"/>
                </a:lnTo>
                <a:lnTo>
                  <a:pt x="587" y="22"/>
                </a:lnTo>
                <a:lnTo>
                  <a:pt x="559" y="27"/>
                </a:lnTo>
                <a:lnTo>
                  <a:pt x="531" y="30"/>
                </a:lnTo>
                <a:lnTo>
                  <a:pt x="503" y="36"/>
                </a:lnTo>
                <a:lnTo>
                  <a:pt x="477" y="40"/>
                </a:lnTo>
                <a:lnTo>
                  <a:pt x="449" y="46"/>
                </a:lnTo>
                <a:lnTo>
                  <a:pt x="424" y="52"/>
                </a:lnTo>
                <a:lnTo>
                  <a:pt x="397" y="58"/>
                </a:lnTo>
                <a:lnTo>
                  <a:pt x="372" y="65"/>
                </a:lnTo>
                <a:lnTo>
                  <a:pt x="347" y="72"/>
                </a:lnTo>
                <a:lnTo>
                  <a:pt x="322" y="78"/>
                </a:lnTo>
                <a:lnTo>
                  <a:pt x="298" y="85"/>
                </a:lnTo>
                <a:lnTo>
                  <a:pt x="275" y="93"/>
                </a:lnTo>
                <a:lnTo>
                  <a:pt x="252" y="101"/>
                </a:lnTo>
                <a:lnTo>
                  <a:pt x="229" y="110"/>
                </a:lnTo>
                <a:lnTo>
                  <a:pt x="207" y="119"/>
                </a:lnTo>
                <a:lnTo>
                  <a:pt x="185" y="127"/>
                </a:lnTo>
                <a:lnTo>
                  <a:pt x="165" y="137"/>
                </a:lnTo>
                <a:lnTo>
                  <a:pt x="144" y="146"/>
                </a:lnTo>
                <a:lnTo>
                  <a:pt x="124" y="157"/>
                </a:lnTo>
                <a:lnTo>
                  <a:pt x="105" y="166"/>
                </a:lnTo>
                <a:lnTo>
                  <a:pt x="86" y="177"/>
                </a:lnTo>
                <a:lnTo>
                  <a:pt x="68" y="188"/>
                </a:lnTo>
                <a:lnTo>
                  <a:pt x="52" y="250"/>
                </a:lnTo>
                <a:lnTo>
                  <a:pt x="38" y="313"/>
                </a:lnTo>
                <a:lnTo>
                  <a:pt x="26" y="377"/>
                </a:lnTo>
                <a:lnTo>
                  <a:pt x="17" y="442"/>
                </a:lnTo>
                <a:lnTo>
                  <a:pt x="9" y="509"/>
                </a:lnTo>
                <a:lnTo>
                  <a:pt x="4" y="576"/>
                </a:lnTo>
                <a:lnTo>
                  <a:pt x="1" y="644"/>
                </a:lnTo>
                <a:lnTo>
                  <a:pt x="0" y="713"/>
                </a:lnTo>
                <a:lnTo>
                  <a:pt x="1" y="777"/>
                </a:lnTo>
                <a:lnTo>
                  <a:pt x="4" y="842"/>
                </a:lnTo>
                <a:lnTo>
                  <a:pt x="9" y="906"/>
                </a:lnTo>
                <a:lnTo>
                  <a:pt x="16" y="971"/>
                </a:lnTo>
                <a:lnTo>
                  <a:pt x="25" y="1034"/>
                </a:lnTo>
                <a:lnTo>
                  <a:pt x="37" y="1098"/>
                </a:lnTo>
                <a:lnTo>
                  <a:pt x="50" y="1160"/>
                </a:lnTo>
                <a:lnTo>
                  <a:pt x="65" y="1222"/>
                </a:lnTo>
                <a:lnTo>
                  <a:pt x="84" y="1232"/>
                </a:lnTo>
                <a:lnTo>
                  <a:pt x="102" y="1244"/>
                </a:lnTo>
                <a:lnTo>
                  <a:pt x="122" y="1253"/>
                </a:lnTo>
                <a:lnTo>
                  <a:pt x="143" y="1263"/>
                </a:lnTo>
                <a:lnTo>
                  <a:pt x="162" y="1273"/>
                </a:lnTo>
                <a:lnTo>
                  <a:pt x="184" y="1283"/>
                </a:lnTo>
                <a:lnTo>
                  <a:pt x="205" y="1291"/>
                </a:lnTo>
                <a:lnTo>
                  <a:pt x="228" y="1300"/>
                </a:lnTo>
                <a:lnTo>
                  <a:pt x="250" y="1308"/>
                </a:lnTo>
                <a:lnTo>
                  <a:pt x="273" y="1316"/>
                </a:lnTo>
                <a:lnTo>
                  <a:pt x="297" y="1324"/>
                </a:lnTo>
                <a:lnTo>
                  <a:pt x="321" y="1331"/>
                </a:lnTo>
                <a:lnTo>
                  <a:pt x="345" y="1338"/>
                </a:lnTo>
                <a:lnTo>
                  <a:pt x="371" y="1345"/>
                </a:lnTo>
                <a:lnTo>
                  <a:pt x="396" y="1352"/>
                </a:lnTo>
                <a:lnTo>
                  <a:pt x="421" y="1358"/>
                </a:lnTo>
                <a:lnTo>
                  <a:pt x="448" y="1364"/>
                </a:lnTo>
                <a:lnTo>
                  <a:pt x="474" y="1369"/>
                </a:lnTo>
                <a:lnTo>
                  <a:pt x="502" y="1374"/>
                </a:lnTo>
                <a:lnTo>
                  <a:pt x="530" y="1379"/>
                </a:lnTo>
                <a:lnTo>
                  <a:pt x="557" y="1383"/>
                </a:lnTo>
                <a:lnTo>
                  <a:pt x="586" y="1388"/>
                </a:lnTo>
                <a:lnTo>
                  <a:pt x="615" y="1391"/>
                </a:lnTo>
                <a:lnTo>
                  <a:pt x="644" y="1395"/>
                </a:lnTo>
                <a:lnTo>
                  <a:pt x="673" y="1397"/>
                </a:lnTo>
                <a:lnTo>
                  <a:pt x="703" y="1400"/>
                </a:lnTo>
                <a:lnTo>
                  <a:pt x="734" y="1403"/>
                </a:lnTo>
                <a:lnTo>
                  <a:pt x="764" y="1404"/>
                </a:lnTo>
                <a:lnTo>
                  <a:pt x="795" y="1406"/>
                </a:lnTo>
                <a:lnTo>
                  <a:pt x="826" y="1407"/>
                </a:lnTo>
                <a:lnTo>
                  <a:pt x="857" y="1408"/>
                </a:lnTo>
                <a:lnTo>
                  <a:pt x="889" y="1408"/>
                </a:lnTo>
                <a:lnTo>
                  <a:pt x="920" y="1408"/>
                </a:lnTo>
                <a:lnTo>
                  <a:pt x="952" y="1407"/>
                </a:lnTo>
                <a:lnTo>
                  <a:pt x="983" y="1406"/>
                </a:lnTo>
                <a:lnTo>
                  <a:pt x="1013" y="1404"/>
                </a:lnTo>
                <a:lnTo>
                  <a:pt x="1043" y="1403"/>
                </a:lnTo>
                <a:lnTo>
                  <a:pt x="1073" y="1400"/>
                </a:lnTo>
                <a:lnTo>
                  <a:pt x="1101" y="1397"/>
                </a:lnTo>
                <a:lnTo>
                  <a:pt x="1131" y="1395"/>
                </a:lnTo>
                <a:lnTo>
                  <a:pt x="1160" y="1391"/>
                </a:lnTo>
                <a:lnTo>
                  <a:pt x="1188" y="1388"/>
                </a:lnTo>
                <a:lnTo>
                  <a:pt x="1217" y="1383"/>
                </a:lnTo>
                <a:lnTo>
                  <a:pt x="1244" y="1379"/>
                </a:lnTo>
                <a:lnTo>
                  <a:pt x="1271" y="1374"/>
                </a:lnTo>
                <a:lnTo>
                  <a:pt x="1298" y="1369"/>
                </a:lnTo>
                <a:lnTo>
                  <a:pt x="1325" y="1364"/>
                </a:lnTo>
                <a:lnTo>
                  <a:pt x="1351" y="1358"/>
                </a:lnTo>
                <a:lnTo>
                  <a:pt x="1377" y="1352"/>
                </a:lnTo>
                <a:lnTo>
                  <a:pt x="1402" y="1346"/>
                </a:lnTo>
                <a:lnTo>
                  <a:pt x="1427" y="1339"/>
                </a:lnTo>
                <a:lnTo>
                  <a:pt x="1452" y="1332"/>
                </a:lnTo>
                <a:lnTo>
                  <a:pt x="1476" y="1324"/>
                </a:lnTo>
                <a:lnTo>
                  <a:pt x="1499" y="1318"/>
                </a:lnTo>
                <a:lnTo>
                  <a:pt x="1522" y="1309"/>
                </a:lnTo>
                <a:lnTo>
                  <a:pt x="1545" y="1301"/>
                </a:lnTo>
                <a:lnTo>
                  <a:pt x="1567" y="1292"/>
                </a:lnTo>
                <a:lnTo>
                  <a:pt x="1588" y="1284"/>
                </a:lnTo>
                <a:lnTo>
                  <a:pt x="1610" y="1275"/>
                </a:lnTo>
                <a:lnTo>
                  <a:pt x="1629" y="1265"/>
                </a:lnTo>
                <a:lnTo>
                  <a:pt x="1650" y="1255"/>
                </a:lnTo>
                <a:lnTo>
                  <a:pt x="1669" y="1245"/>
                </a:lnTo>
                <a:lnTo>
                  <a:pt x="1688" y="1235"/>
                </a:lnTo>
                <a:lnTo>
                  <a:pt x="1706" y="1224"/>
                </a:lnTo>
                <a:close/>
              </a:path>
            </a:pathLst>
          </a:custGeom>
          <a:blipFill rotWithShape="0">
            <a:blip r:embed="rId3"/>
            <a:srcRect/>
            <a:stretch/>
          </a:blip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txBox="1"/>
          <p:nvPr/>
        </p:nvSpPr>
        <p:spPr>
          <a:xfrm>
            <a:off x="3240000" y="3313080"/>
            <a:ext cx="561672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3399"/>
                  </a:solidFill>
                  <a:miter/>
                </a:ln>
                <a:blipFill rotWithShape="0">
                  <a:blip r:embed="rId4"/>
                  <a:srcRect/>
                  <a:stretch/>
                </a:blipFill>
                <a:effectLst>
                  <a:outerShdw dist="17819" dir="2700000" blurRad="0" rotWithShape="0">
                    <a:srgbClr val="001e5b"/>
                  </a:outerShdw>
                </a:effectLst>
                <a:latin typeface="Monotype Corsiva"/>
              </a:rPr>
              <a:t>Tren</a:t>
            </a:r>
            <a:endParaRPr b="1" lang="en-US" sz="2800" spc="1" strike="noStrike">
              <a:ln w="12600">
                <a:solidFill>
                  <a:srgbClr val="003399"/>
                </a:solidFill>
                <a:miter/>
              </a:ln>
              <a:blipFill rotWithShape="0">
                <a:blip r:embed="rId5"/>
                <a:srcRect/>
                <a:stretch/>
              </a:blipFill>
              <a:effectLst>
                <a:outerShdw dist="17819" dir="2700000" blurRad="0" rotWithShape="0">
                  <a:srgbClr val="001e5b"/>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3399"/>
                  </a:solidFill>
                  <a:miter/>
                </a:ln>
                <a:blipFill rotWithShape="0">
                  <a:blip r:embed="rId6"/>
                  <a:srcRect/>
                  <a:stretch/>
                </a:blipFill>
                <a:effectLst>
                  <a:outerShdw dist="17819" dir="2700000" blurRad="0" rotWithShape="0">
                    <a:srgbClr val="001e5b"/>
                  </a:outerShdw>
                </a:effectLst>
                <a:latin typeface="Monotype Corsiva"/>
              </a:rPr>
              <a:t>al </a:t>
            </a:r>
            <a:endParaRPr b="1" lang="en-US" sz="2800" spc="1" strike="noStrike">
              <a:ln w="12600">
                <a:solidFill>
                  <a:srgbClr val="003399"/>
                </a:solidFill>
                <a:miter/>
              </a:ln>
              <a:blipFill rotWithShape="0">
                <a:blip r:embed="rId7"/>
                <a:srcRect/>
                <a:stretch/>
              </a:blipFill>
              <a:effectLst>
                <a:outerShdw dist="17819" dir="2700000" blurRad="0" rotWithShape="0">
                  <a:srgbClr val="001e5b"/>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3399"/>
                  </a:solidFill>
                  <a:miter/>
                </a:ln>
                <a:blipFill rotWithShape="0">
                  <a:blip r:embed="rId8"/>
                  <a:srcRect/>
                  <a:stretch/>
                </a:blipFill>
                <a:effectLst>
                  <a:outerShdw dist="17819" dir="2700000" blurRad="0" rotWithShape="0">
                    <a:srgbClr val="001e5b"/>
                  </a:outerShdw>
                </a:effectLst>
                <a:latin typeface="Monotype Corsiva"/>
              </a:rPr>
              <a:t>Tibet</a:t>
            </a:r>
            <a:endParaRPr b="1" lang="en-US" sz="2800" spc="1" strike="noStrike">
              <a:ln w="12600">
                <a:solidFill>
                  <a:srgbClr val="003399"/>
                </a:solidFill>
                <a:miter/>
              </a:ln>
              <a:blipFill rotWithShape="0">
                <a:blip r:embed="rId9"/>
                <a:srcRect/>
                <a:stretch/>
              </a:blipFill>
              <a:effectLst>
                <a:outerShdw dist="17819" dir="2700000" blurRad="0" rotWithShape="0">
                  <a:srgbClr val="001e5b"/>
                </a:outerShdw>
              </a:effectLst>
              <a:latin typeface="Monotype Corsiva"/>
              <a:ea typeface="Monotype Corsiva"/>
            </a:endParaRPr>
          </a:p>
        </p:txBody>
      </p:sp>
      <p:sp>
        <p:nvSpPr>
          <p:cNvPr id="42" name=""/>
          <p:cNvSpPr txBox="1"/>
          <p:nvPr/>
        </p:nvSpPr>
        <p:spPr>
          <a:xfrm rot="16200000">
            <a:off x="-2411280" y="3923640"/>
            <a:ext cx="51102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0"/>
                  <a:srcRect/>
                  <a:stretch/>
                </a:blipFill>
                <a:effectLst>
                  <a:outerShdw dist="17819" dir="2700000" blurRad="0" rotWithShape="0">
                    <a:srgbClr val="989898"/>
                  </a:outerShdw>
                </a:effectLst>
                <a:latin typeface="Monotype Corsiva"/>
              </a:rPr>
              <a:t>Tren al Tibet</a:t>
            </a:r>
            <a:endParaRPr b="1" lang="en-US" sz="1800" spc="1" strike="noStrike">
              <a:ln w="0">
                <a:noFill/>
              </a:ln>
              <a:blipFill rotWithShape="0">
                <a:blip r:embed="rId11"/>
                <a:srcRect/>
                <a:stretch/>
              </a:blipFill>
              <a:effectLst>
                <a:outerShdw dist="17819" dir="2700000" blurRad="0" rotWithShape="0">
                  <a:srgbClr val="989898"/>
                </a:outerShdw>
              </a:effectLst>
              <a:latin typeface="Monotype Corsiva"/>
              <a:ea typeface="Monotype Corsiva"/>
            </a:endParaRPr>
          </a:p>
        </p:txBody>
      </p:sp>
      <p:sp>
        <p:nvSpPr>
          <p:cNvPr id="43" name=""/>
          <p:cNvSpPr/>
          <p:nvPr/>
        </p:nvSpPr>
        <p:spPr>
          <a:xfrm>
            <a:off x="8209080" y="6864480"/>
            <a:ext cx="2447640" cy="58068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001"/>
              </a:spcBef>
              <a:tabLst>
                <a:tab algn="l" pos="0"/>
                <a:tab algn="l" pos="1076400"/>
                <a:tab algn="l" pos="2152800"/>
                <a:tab algn="l" pos="3228840"/>
                <a:tab algn="l" pos="4305240"/>
                <a:tab algn="l" pos="5381640"/>
                <a:tab algn="l" pos="6458040"/>
                <a:tab algn="l" pos="7534440"/>
                <a:tab algn="l" pos="8610480"/>
                <a:tab algn="l" pos="9686880"/>
                <a:tab algn="l" pos="10763280"/>
              </a:tabLst>
            </a:pPr>
            <a:r>
              <a:rPr b="0" lang="es-ES_tradnl" sz="1600" spc="-1" strike="noStrike">
                <a:solidFill>
                  <a:srgbClr val="f8f8f8"/>
                </a:solidFill>
                <a:latin typeface="Monotype Corsiva"/>
              </a:rPr>
              <a:t>Pulsar una tecla para avanzar</a:t>
            </a:r>
            <a:endParaRPr b="0" lang="en-US" sz="1600" spc="-1" strike="noStrike">
              <a:solidFill>
                <a:srgbClr val="000000"/>
              </a:solidFill>
              <a:latin typeface="Arial"/>
            </a:endParaRPr>
          </a:p>
        </p:txBody>
      </p:sp>
    </p:spTree>
  </p:cSld>
  <p:transition spd="slow">
    <p:wedge/>
    <p:sndAc>
      <p:stSnd>
        <p:snd r:embed="rId12" name="China%20Instrumenta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0"/>
                                        </p:tgtEl>
                                        <p:attrNameLst>
                                          <p:attrName>style.visibility</p:attrName>
                                        </p:attrNameLst>
                                      </p:cBhvr>
                                      <p:to>
                                        <p:strVal val="visible"/>
                                      </p:to>
                                    </p:set>
                                    <p:animEffect filter="fade" transition="in">
                                      <p:cBhvr additive="repl">
                                        <p:cTn id="7" dur="3000"/>
                                        <p:tgtEl>
                                          <p:spTgt spid="40"/>
                                        </p:tgtEl>
                                      </p:cBhvr>
                                    </p:animEffect>
                                  </p:childTnLst>
                                </p:cTn>
                              </p:par>
                            </p:childTnLst>
                          </p:cTn>
                        </p:par>
                        <p:par>
                          <p:cTn id="8" fill="hold">
                            <p:stCondLst>
                              <p:cond delay="3000"/>
                            </p:stCondLst>
                            <p:childTnLst>
                              <p:par>
                                <p:cTn id="9" nodeType="afterEffect" fill="hold" presetClass="entr" presetID="2" presetSubtype="4">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base">
                                        <p:cTn id="11" dur="2000" fill="hold"/>
                                        <p:tgtEl>
                                          <p:spTgt spid="41"/>
                                        </p:tgtEl>
                                        <p:attrNameLst>
                                          <p:attrName>ppt_x</p:attrName>
                                        </p:attrNameLst>
                                      </p:cBhvr>
                                      <p:tavLst>
                                        <p:tav tm="0">
                                          <p:val>
                                            <p:strVal val="#ppt_x"/>
                                          </p:val>
                                        </p:tav>
                                        <p:tav tm="100000">
                                          <p:val>
                                            <p:strVal val="#ppt_x"/>
                                          </p:val>
                                        </p:tav>
                                      </p:tavLst>
                                    </p:anim>
                                    <p:anim calcmode="lin" valueType="num">
                                      <p:cBhvr additive="base">
                                        <p:cTn id="12" dur="2000" fill="hold"/>
                                        <p:tgtEl>
                                          <p:spTgt spid="41"/>
                                        </p:tgtEl>
                                        <p:attrNameLst>
                                          <p:attrName>ppt_y</p:attrName>
                                        </p:attrNameLst>
                                      </p:cBhvr>
                                      <p:tavLst>
                                        <p:tav tm="0">
                                          <p:val>
                                            <p:strVal val="1+#ppt_h/2"/>
                                          </p:val>
                                        </p:tav>
                                        <p:tav tm="100000">
                                          <p:val>
                                            <p:strVal val="#ppt_y"/>
                                          </p:val>
                                        </p:tav>
                                      </p:tavLst>
                                    </p:anim>
                                  </p:childTnLst>
                                </p:cTn>
                              </p:par>
                            </p:childTnLst>
                          </p:cTn>
                        </p:par>
                        <p:par>
                          <p:cTn id="13" fill="hold">
                            <p:stCondLst>
                              <p:cond delay="5000"/>
                            </p:stCondLst>
                            <p:childTnLst>
                              <p:par>
                                <p:cTn id="14" nodeType="afterEffect" fill="hold" presetClass="entr" presetID="12" presetSubtype="4">
                                  <p:stCondLst>
                                    <p:cond delay="0"/>
                                  </p:stCondLst>
                                  <p:childTnLst>
                                    <p:set>
                                      <p:cBhvr>
                                        <p:cTn id="15" dur="1" fill="hold">
                                          <p:stCondLst>
                                            <p:cond delay="0"/>
                                          </p:stCondLst>
                                        </p:cTn>
                                        <p:tgtEl>
                                          <p:spTgt spid="43"/>
                                        </p:tgtEl>
                                        <p:attrNameLst>
                                          <p:attrName>style.visibility</p:attrName>
                                        </p:attrNameLst>
                                      </p:cBhvr>
                                      <p:to>
                                        <p:strVal val="visible"/>
                                      </p:to>
                                    </p:set>
                                    <p:animEffect filter="slide(fromBottom)" transition="in">
                                      <p:cBhvr additive="repl">
                                        <p:cTn id="1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68" name=""/>
          <p:cNvSpPr/>
          <p:nvPr/>
        </p:nvSpPr>
        <p:spPr>
          <a:xfrm>
            <a:off x="1042920" y="685800"/>
            <a:ext cx="87156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70" name=""/>
          <p:cNvSpPr/>
          <p:nvPr/>
        </p:nvSpPr>
        <p:spPr>
          <a:xfrm>
            <a:off x="1512720" y="360360"/>
            <a:ext cx="77724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71" name=""/>
          <p:cNvSpPr/>
          <p:nvPr/>
        </p:nvSpPr>
        <p:spPr>
          <a:xfrm>
            <a:off x="720720" y="6264360"/>
            <a:ext cx="9505800" cy="825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n-US" sz="2400" spc="-1" strike="noStrike">
                <a:solidFill>
                  <a:srgbClr val="f8f8f8"/>
                </a:solidFill>
                <a:latin typeface="Monotype Corsiva"/>
              </a:rPr>
              <a:t>El tren transporta a unos 700 pasajeros en sus 16 vagones  en su recorrido a través del "techo del mundo",</a:t>
            </a:r>
            <a:endParaRPr b="0" lang="en-US" sz="2400" spc="-1" strike="noStrike">
              <a:solidFill>
                <a:srgbClr val="000000"/>
              </a:solidFill>
              <a:latin typeface="Arial"/>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73" name=""/>
          <p:cNvSpPr/>
          <p:nvPr/>
        </p:nvSpPr>
        <p:spPr>
          <a:xfrm>
            <a:off x="1042920" y="685800"/>
            <a:ext cx="87156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75" name=""/>
          <p:cNvSpPr/>
          <p:nvPr/>
        </p:nvSpPr>
        <p:spPr>
          <a:xfrm>
            <a:off x="1224000" y="504720"/>
            <a:ext cx="868824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76" name=""/>
          <p:cNvSpPr/>
          <p:nvPr/>
        </p:nvSpPr>
        <p:spPr>
          <a:xfrm>
            <a:off x="2879640" y="6408720"/>
            <a:ext cx="6050160" cy="45972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n-US" sz="2400" spc="-1" strike="noStrike">
                <a:solidFill>
                  <a:srgbClr val="f8f8f8"/>
                </a:solidFill>
                <a:latin typeface="Monotype Corsiva"/>
              </a:rPr>
              <a:t>Vista desde el tren</a:t>
            </a:r>
            <a:endParaRPr b="0" lang="en-US" sz="2400" spc="-1" strike="noStrike">
              <a:solidFill>
                <a:srgbClr val="000000"/>
              </a:solidFill>
              <a:latin typeface="Arial"/>
            </a:endParaRPr>
          </a:p>
        </p:txBody>
      </p:sp>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78" name=""/>
          <p:cNvSpPr/>
          <p:nvPr/>
        </p:nvSpPr>
        <p:spPr>
          <a:xfrm>
            <a:off x="1042920" y="685800"/>
            <a:ext cx="87156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80" name=""/>
          <p:cNvSpPr/>
          <p:nvPr/>
        </p:nvSpPr>
        <p:spPr>
          <a:xfrm>
            <a:off x="216000" y="647640"/>
            <a:ext cx="9308880" cy="6442200"/>
          </a:xfrm>
          <a:prstGeom prst="roundRect">
            <a:avLst>
              <a:gd name="adj" fmla="val 50000"/>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81" name=""/>
          <p:cNvSpPr/>
          <p:nvPr/>
        </p:nvSpPr>
        <p:spPr>
          <a:xfrm>
            <a:off x="6485040" y="111240"/>
            <a:ext cx="4171680" cy="3128760"/>
          </a:xfrm>
          <a:prstGeom prst="rect">
            <a:avLst/>
          </a:prstGeom>
          <a:blipFill rotWithShape="0">
            <a:blip r:embed="rId2"/>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82" name=""/>
          <p:cNvSpPr/>
          <p:nvPr/>
        </p:nvSpPr>
        <p:spPr>
          <a:xfrm>
            <a:off x="6553080" y="216000"/>
            <a:ext cx="3743280" cy="228852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buClr>
                <a:srgbClr val="996600"/>
              </a:buClr>
              <a:buFont typeface="Monotype Corsiva"/>
              <a:buChar char="•"/>
              <a:tabLst>
                <a:tab algn="l" pos="1076400"/>
                <a:tab algn="l" pos="2152800"/>
                <a:tab algn="l" pos="3228840"/>
                <a:tab algn="l" pos="4305240"/>
                <a:tab algn="l" pos="5381640"/>
                <a:tab algn="l" pos="6458040"/>
                <a:tab algn="l" pos="7534440"/>
                <a:tab algn="l" pos="8610480"/>
                <a:tab algn="l" pos="9686880"/>
                <a:tab algn="l" pos="10763280"/>
              </a:tabLst>
            </a:pPr>
            <a:r>
              <a:rPr b="0" i="1" lang="en-US" sz="2400" spc="-1" strike="noStrike">
                <a:solidFill>
                  <a:srgbClr val="000000"/>
                </a:solidFill>
                <a:latin typeface="Monotype Corsiva"/>
              </a:rPr>
              <a:t>En los vagones existen unos indicadores que muestran a la altura en que se encuentra el tren en cada momento.</a:t>
            </a:r>
            <a:endParaRPr b="0" lang="en-US" sz="2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84" name=""/>
          <p:cNvSpPr/>
          <p:nvPr/>
        </p:nvSpPr>
        <p:spPr>
          <a:xfrm>
            <a:off x="1409760" y="685800"/>
            <a:ext cx="798048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86" name=""/>
          <p:cNvSpPr/>
          <p:nvPr/>
        </p:nvSpPr>
        <p:spPr>
          <a:xfrm>
            <a:off x="1079640" y="576360"/>
            <a:ext cx="8713800" cy="582912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88" name=""/>
          <p:cNvSpPr/>
          <p:nvPr/>
        </p:nvSpPr>
        <p:spPr>
          <a:xfrm>
            <a:off x="1584360" y="77760"/>
            <a:ext cx="7569000" cy="5827680"/>
          </a:xfrm>
          <a:prstGeom prst="roundRect">
            <a:avLst>
              <a:gd name="adj" fmla="val 50000"/>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89" name=""/>
          <p:cNvSpPr/>
          <p:nvPr/>
        </p:nvSpPr>
        <p:spPr>
          <a:xfrm>
            <a:off x="216000" y="5977080"/>
            <a:ext cx="10440720" cy="15570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Las montañas de Tangula, conocidas como "las montañas de la meseta", eran vistas por los tibetanos como "insuperables hasta para las águilas", debido a que en el invierno sus bajas temperaturas alcanzan hasta 45º Cº bajo cero.  </a:t>
            </a:r>
            <a:endParaRPr b="0" lang="en-US" sz="2400" spc="-1" strike="noStrike">
              <a:solidFill>
                <a:srgbClr val="000000"/>
              </a:solidFill>
              <a:latin typeface="Arial"/>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91" name=""/>
          <p:cNvSpPr/>
          <p:nvPr/>
        </p:nvSpPr>
        <p:spPr>
          <a:xfrm>
            <a:off x="1514520" y="685800"/>
            <a:ext cx="77724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45" name=""/>
          <p:cNvSpPr/>
          <p:nvPr/>
        </p:nvSpPr>
        <p:spPr>
          <a:xfrm>
            <a:off x="1440000" y="149400"/>
            <a:ext cx="8353440" cy="546732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46" name=""/>
          <p:cNvSpPr/>
          <p:nvPr/>
        </p:nvSpPr>
        <p:spPr>
          <a:xfrm>
            <a:off x="0" y="5726160"/>
            <a:ext cx="10441080" cy="155700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buClr>
                <a:srgbClr val="996600"/>
              </a:buClr>
              <a:buFont typeface="Monotype Corsiva"/>
              <a:buChar char="•"/>
              <a:tabLst>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El 22 de junio de 2006 en su viaje inaugural el ferrocarril que une la  provincia China de Qinghai (capital Golmud) y la región autónoma de Tíbet (capital Lhasa),  cruzó por el paso de la montaña Tangula a 5.072 metros sobre el nivel del mar.  </a:t>
            </a:r>
            <a:endParaRPr b="0" lang="en-US" sz="2400" spc="-1" strike="noStrike">
              <a:solidFill>
                <a:srgbClr val="000000"/>
              </a:solidFill>
              <a:latin typeface="Arial"/>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360360" y="360360"/>
            <a:ext cx="10441080" cy="34009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lang="es-ES" sz="2400" spc="-1" strike="noStrike">
                <a:solidFill>
                  <a:srgbClr val="f8f8f8"/>
                </a:solidFill>
                <a:latin typeface="Monotype Corsiva"/>
              </a:rPr>
              <a:t>El oxígeno al paso por la montaña se reduce al 50 ó 60 % debido a la altura alcanzada durante el viaje. </a:t>
            </a:r>
            <a:endParaRPr b="0" lang="en-US" sz="2400" spc="-1" strike="noStrike">
              <a:solidFill>
                <a:srgbClr val="000000"/>
              </a:solidFill>
              <a:latin typeface="Arial"/>
            </a:endParaRPr>
          </a:p>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lang="es-ES" sz="2400" spc="-1" strike="noStrike">
                <a:solidFill>
                  <a:srgbClr val="f8f8f8"/>
                </a:solidFill>
                <a:latin typeface="Monotype Corsiva"/>
              </a:rPr>
              <a:t>Los vagones del tren no están presurizados, como sucede con las cabinas de los aviones para vuelos de gran altitud. Estos tienen un sistema especial que regula el contenido del aire para mantener los niveles de oxígeno constante en el interior del tren. Asimismo, los vagones están equipados con mascarillas de oxígeno de emergencia. </a:t>
            </a:r>
            <a:endParaRPr b="0" lang="en-US" sz="2400" spc="-1" strike="noStrike">
              <a:solidFill>
                <a:srgbClr val="000000"/>
              </a:solidFill>
              <a:latin typeface="Arial"/>
            </a:endParaRPr>
          </a:p>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lang="es-ES" sz="2400" spc="-1" strike="noStrike">
                <a:solidFill>
                  <a:srgbClr val="f8f8f8"/>
                </a:solidFill>
                <a:latin typeface="Monotype Corsiva"/>
              </a:rPr>
              <a:t>Los cristales tienen protección ultravioleta</a:t>
            </a:r>
            <a:endParaRPr b="0" lang="en-US" sz="2400" spc="-1" strike="noStrike">
              <a:solidFill>
                <a:srgbClr val="000000"/>
              </a:solidFill>
              <a:latin typeface="Arial"/>
            </a:endParaRPr>
          </a:p>
        </p:txBody>
      </p:sp>
      <p:sp>
        <p:nvSpPr>
          <p:cNvPr id="93" name=""/>
          <p:cNvSpPr/>
          <p:nvPr/>
        </p:nvSpPr>
        <p:spPr>
          <a:xfrm>
            <a:off x="5400720" y="3456000"/>
            <a:ext cx="5183280" cy="3456000"/>
          </a:xfrm>
          <a:custGeom>
            <a:avLst/>
            <a:gdLst/>
            <a:ahLst/>
            <a:rect l="l" t="t" r="r" b="b"/>
            <a:pathLst>
              <a:path w="1004" h="1148">
                <a:moveTo>
                  <a:pt x="828" y="890"/>
                </a:moveTo>
                <a:lnTo>
                  <a:pt x="828" y="890"/>
                </a:lnTo>
                <a:lnTo>
                  <a:pt x="828" y="910"/>
                </a:lnTo>
                <a:lnTo>
                  <a:pt x="824" y="932"/>
                </a:lnTo>
                <a:lnTo>
                  <a:pt x="820" y="952"/>
                </a:lnTo>
                <a:lnTo>
                  <a:pt x="814" y="970"/>
                </a:lnTo>
                <a:lnTo>
                  <a:pt x="814" y="970"/>
                </a:lnTo>
                <a:lnTo>
                  <a:pt x="806" y="990"/>
                </a:lnTo>
                <a:lnTo>
                  <a:pt x="796" y="1010"/>
                </a:lnTo>
                <a:lnTo>
                  <a:pt x="784" y="1028"/>
                </a:lnTo>
                <a:lnTo>
                  <a:pt x="772" y="1044"/>
                </a:lnTo>
                <a:lnTo>
                  <a:pt x="772" y="1044"/>
                </a:lnTo>
                <a:lnTo>
                  <a:pt x="758" y="1058"/>
                </a:lnTo>
                <a:lnTo>
                  <a:pt x="744" y="1070"/>
                </a:lnTo>
                <a:lnTo>
                  <a:pt x="730" y="1082"/>
                </a:lnTo>
                <a:lnTo>
                  <a:pt x="714" y="1092"/>
                </a:lnTo>
                <a:lnTo>
                  <a:pt x="714" y="1092"/>
                </a:lnTo>
                <a:lnTo>
                  <a:pt x="696" y="1104"/>
                </a:lnTo>
                <a:lnTo>
                  <a:pt x="678" y="1112"/>
                </a:lnTo>
                <a:lnTo>
                  <a:pt x="678" y="1112"/>
                </a:lnTo>
                <a:lnTo>
                  <a:pt x="656" y="1122"/>
                </a:lnTo>
                <a:lnTo>
                  <a:pt x="634" y="1128"/>
                </a:lnTo>
                <a:lnTo>
                  <a:pt x="612" y="1136"/>
                </a:lnTo>
                <a:lnTo>
                  <a:pt x="588" y="1140"/>
                </a:lnTo>
                <a:lnTo>
                  <a:pt x="588" y="1140"/>
                </a:lnTo>
                <a:lnTo>
                  <a:pt x="554" y="1146"/>
                </a:lnTo>
                <a:lnTo>
                  <a:pt x="520" y="1148"/>
                </a:lnTo>
                <a:lnTo>
                  <a:pt x="484" y="1148"/>
                </a:lnTo>
                <a:lnTo>
                  <a:pt x="450" y="1146"/>
                </a:lnTo>
                <a:lnTo>
                  <a:pt x="450" y="1146"/>
                </a:lnTo>
                <a:lnTo>
                  <a:pt x="404" y="1140"/>
                </a:lnTo>
                <a:lnTo>
                  <a:pt x="360" y="1130"/>
                </a:lnTo>
                <a:lnTo>
                  <a:pt x="316" y="1116"/>
                </a:lnTo>
                <a:lnTo>
                  <a:pt x="274" y="1098"/>
                </a:lnTo>
                <a:lnTo>
                  <a:pt x="274" y="1098"/>
                </a:lnTo>
                <a:lnTo>
                  <a:pt x="246" y="1084"/>
                </a:lnTo>
                <a:lnTo>
                  <a:pt x="218" y="1068"/>
                </a:lnTo>
                <a:lnTo>
                  <a:pt x="218" y="1068"/>
                </a:lnTo>
                <a:lnTo>
                  <a:pt x="184" y="1044"/>
                </a:lnTo>
                <a:lnTo>
                  <a:pt x="154" y="1020"/>
                </a:lnTo>
                <a:lnTo>
                  <a:pt x="154" y="1020"/>
                </a:lnTo>
                <a:lnTo>
                  <a:pt x="126" y="992"/>
                </a:lnTo>
                <a:lnTo>
                  <a:pt x="104" y="966"/>
                </a:lnTo>
                <a:lnTo>
                  <a:pt x="104" y="966"/>
                </a:lnTo>
                <a:lnTo>
                  <a:pt x="86" y="944"/>
                </a:lnTo>
                <a:lnTo>
                  <a:pt x="72" y="922"/>
                </a:lnTo>
                <a:lnTo>
                  <a:pt x="72" y="922"/>
                </a:lnTo>
                <a:lnTo>
                  <a:pt x="64" y="906"/>
                </a:lnTo>
                <a:lnTo>
                  <a:pt x="56" y="890"/>
                </a:lnTo>
                <a:lnTo>
                  <a:pt x="46" y="858"/>
                </a:lnTo>
                <a:lnTo>
                  <a:pt x="46" y="858"/>
                </a:lnTo>
                <a:lnTo>
                  <a:pt x="42" y="834"/>
                </a:lnTo>
                <a:lnTo>
                  <a:pt x="40" y="810"/>
                </a:lnTo>
                <a:lnTo>
                  <a:pt x="44" y="788"/>
                </a:lnTo>
                <a:lnTo>
                  <a:pt x="48" y="766"/>
                </a:lnTo>
                <a:lnTo>
                  <a:pt x="54" y="744"/>
                </a:lnTo>
                <a:lnTo>
                  <a:pt x="62" y="722"/>
                </a:lnTo>
                <a:lnTo>
                  <a:pt x="78" y="678"/>
                </a:lnTo>
                <a:lnTo>
                  <a:pt x="86" y="656"/>
                </a:lnTo>
                <a:lnTo>
                  <a:pt x="92" y="634"/>
                </a:lnTo>
                <a:lnTo>
                  <a:pt x="96" y="612"/>
                </a:lnTo>
                <a:lnTo>
                  <a:pt x="96" y="590"/>
                </a:lnTo>
                <a:lnTo>
                  <a:pt x="94" y="568"/>
                </a:lnTo>
                <a:lnTo>
                  <a:pt x="88" y="544"/>
                </a:lnTo>
                <a:lnTo>
                  <a:pt x="76" y="520"/>
                </a:lnTo>
                <a:lnTo>
                  <a:pt x="60" y="496"/>
                </a:lnTo>
                <a:lnTo>
                  <a:pt x="60" y="496"/>
                </a:lnTo>
                <a:lnTo>
                  <a:pt x="40" y="470"/>
                </a:lnTo>
                <a:lnTo>
                  <a:pt x="24" y="442"/>
                </a:lnTo>
                <a:lnTo>
                  <a:pt x="24" y="442"/>
                </a:lnTo>
                <a:lnTo>
                  <a:pt x="18" y="424"/>
                </a:lnTo>
                <a:lnTo>
                  <a:pt x="10" y="408"/>
                </a:lnTo>
                <a:lnTo>
                  <a:pt x="6" y="390"/>
                </a:lnTo>
                <a:lnTo>
                  <a:pt x="2" y="374"/>
                </a:lnTo>
                <a:lnTo>
                  <a:pt x="0" y="356"/>
                </a:lnTo>
                <a:lnTo>
                  <a:pt x="0" y="340"/>
                </a:lnTo>
                <a:lnTo>
                  <a:pt x="2" y="324"/>
                </a:lnTo>
                <a:lnTo>
                  <a:pt x="4" y="308"/>
                </a:lnTo>
                <a:lnTo>
                  <a:pt x="4" y="308"/>
                </a:lnTo>
                <a:lnTo>
                  <a:pt x="8" y="288"/>
                </a:lnTo>
                <a:lnTo>
                  <a:pt x="14" y="268"/>
                </a:lnTo>
                <a:lnTo>
                  <a:pt x="20" y="250"/>
                </a:lnTo>
                <a:lnTo>
                  <a:pt x="28" y="230"/>
                </a:lnTo>
                <a:lnTo>
                  <a:pt x="38" y="212"/>
                </a:lnTo>
                <a:lnTo>
                  <a:pt x="48" y="194"/>
                </a:lnTo>
                <a:lnTo>
                  <a:pt x="60" y="178"/>
                </a:lnTo>
                <a:lnTo>
                  <a:pt x="72" y="162"/>
                </a:lnTo>
                <a:lnTo>
                  <a:pt x="86" y="146"/>
                </a:lnTo>
                <a:lnTo>
                  <a:pt x="102" y="130"/>
                </a:lnTo>
                <a:lnTo>
                  <a:pt x="118" y="116"/>
                </a:lnTo>
                <a:lnTo>
                  <a:pt x="134" y="104"/>
                </a:lnTo>
                <a:lnTo>
                  <a:pt x="152" y="92"/>
                </a:lnTo>
                <a:lnTo>
                  <a:pt x="172" y="80"/>
                </a:lnTo>
                <a:lnTo>
                  <a:pt x="192" y="70"/>
                </a:lnTo>
                <a:lnTo>
                  <a:pt x="212" y="62"/>
                </a:lnTo>
                <a:lnTo>
                  <a:pt x="212" y="62"/>
                </a:lnTo>
                <a:lnTo>
                  <a:pt x="280" y="36"/>
                </a:lnTo>
                <a:lnTo>
                  <a:pt x="318" y="26"/>
                </a:lnTo>
                <a:lnTo>
                  <a:pt x="356" y="16"/>
                </a:lnTo>
                <a:lnTo>
                  <a:pt x="356" y="16"/>
                </a:lnTo>
                <a:lnTo>
                  <a:pt x="388" y="10"/>
                </a:lnTo>
                <a:lnTo>
                  <a:pt x="420" y="4"/>
                </a:lnTo>
                <a:lnTo>
                  <a:pt x="420" y="4"/>
                </a:lnTo>
                <a:lnTo>
                  <a:pt x="454" y="2"/>
                </a:lnTo>
                <a:lnTo>
                  <a:pt x="490" y="0"/>
                </a:lnTo>
                <a:lnTo>
                  <a:pt x="490" y="0"/>
                </a:lnTo>
                <a:lnTo>
                  <a:pt x="530" y="2"/>
                </a:lnTo>
                <a:lnTo>
                  <a:pt x="572" y="6"/>
                </a:lnTo>
                <a:lnTo>
                  <a:pt x="614" y="14"/>
                </a:lnTo>
                <a:lnTo>
                  <a:pt x="660" y="24"/>
                </a:lnTo>
                <a:lnTo>
                  <a:pt x="660" y="24"/>
                </a:lnTo>
                <a:lnTo>
                  <a:pt x="692" y="34"/>
                </a:lnTo>
                <a:lnTo>
                  <a:pt x="728" y="48"/>
                </a:lnTo>
                <a:lnTo>
                  <a:pt x="762" y="62"/>
                </a:lnTo>
                <a:lnTo>
                  <a:pt x="798" y="80"/>
                </a:lnTo>
                <a:lnTo>
                  <a:pt x="798" y="80"/>
                </a:lnTo>
                <a:lnTo>
                  <a:pt x="824" y="94"/>
                </a:lnTo>
                <a:lnTo>
                  <a:pt x="850" y="110"/>
                </a:lnTo>
                <a:lnTo>
                  <a:pt x="874" y="128"/>
                </a:lnTo>
                <a:lnTo>
                  <a:pt x="896" y="148"/>
                </a:lnTo>
                <a:lnTo>
                  <a:pt x="918" y="170"/>
                </a:lnTo>
                <a:lnTo>
                  <a:pt x="938" y="194"/>
                </a:lnTo>
                <a:lnTo>
                  <a:pt x="954" y="220"/>
                </a:lnTo>
                <a:lnTo>
                  <a:pt x="970" y="246"/>
                </a:lnTo>
                <a:lnTo>
                  <a:pt x="970" y="246"/>
                </a:lnTo>
                <a:lnTo>
                  <a:pt x="984" y="274"/>
                </a:lnTo>
                <a:lnTo>
                  <a:pt x="994" y="304"/>
                </a:lnTo>
                <a:lnTo>
                  <a:pt x="1000" y="334"/>
                </a:lnTo>
                <a:lnTo>
                  <a:pt x="1004" y="366"/>
                </a:lnTo>
                <a:lnTo>
                  <a:pt x="1004" y="398"/>
                </a:lnTo>
                <a:lnTo>
                  <a:pt x="1000" y="432"/>
                </a:lnTo>
                <a:lnTo>
                  <a:pt x="992" y="464"/>
                </a:lnTo>
                <a:lnTo>
                  <a:pt x="980" y="498"/>
                </a:lnTo>
                <a:lnTo>
                  <a:pt x="980" y="498"/>
                </a:lnTo>
                <a:lnTo>
                  <a:pt x="972" y="514"/>
                </a:lnTo>
                <a:lnTo>
                  <a:pt x="962" y="530"/>
                </a:lnTo>
                <a:lnTo>
                  <a:pt x="938" y="562"/>
                </a:lnTo>
                <a:lnTo>
                  <a:pt x="882" y="630"/>
                </a:lnTo>
                <a:lnTo>
                  <a:pt x="856" y="664"/>
                </a:lnTo>
                <a:lnTo>
                  <a:pt x="844" y="680"/>
                </a:lnTo>
                <a:lnTo>
                  <a:pt x="834" y="698"/>
                </a:lnTo>
                <a:lnTo>
                  <a:pt x="826" y="714"/>
                </a:lnTo>
                <a:lnTo>
                  <a:pt x="820" y="732"/>
                </a:lnTo>
                <a:lnTo>
                  <a:pt x="816" y="748"/>
                </a:lnTo>
                <a:lnTo>
                  <a:pt x="816" y="766"/>
                </a:lnTo>
                <a:lnTo>
                  <a:pt x="816" y="766"/>
                </a:lnTo>
                <a:lnTo>
                  <a:pt x="816" y="784"/>
                </a:lnTo>
                <a:lnTo>
                  <a:pt x="820" y="802"/>
                </a:lnTo>
                <a:lnTo>
                  <a:pt x="820" y="802"/>
                </a:lnTo>
                <a:lnTo>
                  <a:pt x="824" y="824"/>
                </a:lnTo>
                <a:lnTo>
                  <a:pt x="828" y="848"/>
                </a:lnTo>
                <a:lnTo>
                  <a:pt x="828" y="868"/>
                </a:lnTo>
                <a:lnTo>
                  <a:pt x="828" y="890"/>
                </a:lnTo>
                <a:lnTo>
                  <a:pt x="828" y="890"/>
                </a:lnTo>
                <a:close/>
              </a:path>
            </a:pathLst>
          </a:custGeom>
          <a:blipFill rotWithShape="0">
            <a:blip r:embed="rId1"/>
            <a:srcRect/>
            <a:stretch/>
          </a:blip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4720" y="3384720"/>
            <a:ext cx="4876920" cy="3549600"/>
          </a:xfrm>
          <a:custGeom>
            <a:avLst/>
            <a:gdLst/>
            <a:ahLst/>
            <a:rect l="l" t="t" r="r" b="b"/>
            <a:pathLst>
              <a:path w="4435" h="4259">
                <a:moveTo>
                  <a:pt x="2603" y="3740"/>
                </a:moveTo>
                <a:lnTo>
                  <a:pt x="2612" y="3736"/>
                </a:lnTo>
                <a:lnTo>
                  <a:pt x="2622" y="3732"/>
                </a:lnTo>
                <a:lnTo>
                  <a:pt x="2635" y="3728"/>
                </a:lnTo>
                <a:lnTo>
                  <a:pt x="2646" y="3727"/>
                </a:lnTo>
                <a:lnTo>
                  <a:pt x="2662" y="3723"/>
                </a:lnTo>
                <a:lnTo>
                  <a:pt x="2675" y="3719"/>
                </a:lnTo>
                <a:lnTo>
                  <a:pt x="2682" y="3715"/>
                </a:lnTo>
                <a:lnTo>
                  <a:pt x="2690" y="3715"/>
                </a:lnTo>
                <a:lnTo>
                  <a:pt x="2700" y="3713"/>
                </a:lnTo>
                <a:lnTo>
                  <a:pt x="2707" y="3713"/>
                </a:lnTo>
                <a:lnTo>
                  <a:pt x="2715" y="3709"/>
                </a:lnTo>
                <a:lnTo>
                  <a:pt x="2724" y="3709"/>
                </a:lnTo>
                <a:lnTo>
                  <a:pt x="2732" y="3708"/>
                </a:lnTo>
                <a:lnTo>
                  <a:pt x="2741" y="3708"/>
                </a:lnTo>
                <a:lnTo>
                  <a:pt x="2751" y="3704"/>
                </a:lnTo>
                <a:lnTo>
                  <a:pt x="2760" y="3702"/>
                </a:lnTo>
                <a:lnTo>
                  <a:pt x="2772" y="3702"/>
                </a:lnTo>
                <a:lnTo>
                  <a:pt x="2781" y="3702"/>
                </a:lnTo>
                <a:lnTo>
                  <a:pt x="2791" y="3700"/>
                </a:lnTo>
                <a:lnTo>
                  <a:pt x="2800" y="3698"/>
                </a:lnTo>
                <a:lnTo>
                  <a:pt x="2810" y="3696"/>
                </a:lnTo>
                <a:lnTo>
                  <a:pt x="2823" y="3696"/>
                </a:lnTo>
                <a:lnTo>
                  <a:pt x="2833" y="3696"/>
                </a:lnTo>
                <a:lnTo>
                  <a:pt x="2844" y="3694"/>
                </a:lnTo>
                <a:lnTo>
                  <a:pt x="2855" y="3694"/>
                </a:lnTo>
                <a:lnTo>
                  <a:pt x="2869" y="3694"/>
                </a:lnTo>
                <a:lnTo>
                  <a:pt x="2880" y="3692"/>
                </a:lnTo>
                <a:lnTo>
                  <a:pt x="2892" y="3690"/>
                </a:lnTo>
                <a:lnTo>
                  <a:pt x="2903" y="3689"/>
                </a:lnTo>
                <a:lnTo>
                  <a:pt x="2916" y="3689"/>
                </a:lnTo>
                <a:lnTo>
                  <a:pt x="2928" y="3689"/>
                </a:lnTo>
                <a:lnTo>
                  <a:pt x="2941" y="3689"/>
                </a:lnTo>
                <a:lnTo>
                  <a:pt x="2954" y="3689"/>
                </a:lnTo>
                <a:lnTo>
                  <a:pt x="2968" y="3689"/>
                </a:lnTo>
                <a:lnTo>
                  <a:pt x="2981" y="3687"/>
                </a:lnTo>
                <a:lnTo>
                  <a:pt x="2994" y="3687"/>
                </a:lnTo>
                <a:lnTo>
                  <a:pt x="3007" y="3687"/>
                </a:lnTo>
                <a:lnTo>
                  <a:pt x="3023" y="3687"/>
                </a:lnTo>
                <a:lnTo>
                  <a:pt x="3036" y="3687"/>
                </a:lnTo>
                <a:lnTo>
                  <a:pt x="3051" y="3687"/>
                </a:lnTo>
                <a:lnTo>
                  <a:pt x="3065" y="3687"/>
                </a:lnTo>
                <a:lnTo>
                  <a:pt x="3082" y="3687"/>
                </a:lnTo>
                <a:lnTo>
                  <a:pt x="3095" y="3687"/>
                </a:lnTo>
                <a:lnTo>
                  <a:pt x="3110" y="3687"/>
                </a:lnTo>
                <a:lnTo>
                  <a:pt x="3125" y="3687"/>
                </a:lnTo>
                <a:lnTo>
                  <a:pt x="3142" y="3687"/>
                </a:lnTo>
                <a:lnTo>
                  <a:pt x="3156" y="3687"/>
                </a:lnTo>
                <a:lnTo>
                  <a:pt x="3173" y="3689"/>
                </a:lnTo>
                <a:lnTo>
                  <a:pt x="3188" y="3689"/>
                </a:lnTo>
                <a:lnTo>
                  <a:pt x="3205" y="3690"/>
                </a:lnTo>
                <a:lnTo>
                  <a:pt x="3222" y="3690"/>
                </a:lnTo>
                <a:lnTo>
                  <a:pt x="3237" y="3690"/>
                </a:lnTo>
                <a:lnTo>
                  <a:pt x="3255" y="3692"/>
                </a:lnTo>
                <a:lnTo>
                  <a:pt x="3272" y="3694"/>
                </a:lnTo>
                <a:lnTo>
                  <a:pt x="3289" y="3696"/>
                </a:lnTo>
                <a:lnTo>
                  <a:pt x="3306" y="3696"/>
                </a:lnTo>
                <a:lnTo>
                  <a:pt x="3325" y="3698"/>
                </a:lnTo>
                <a:lnTo>
                  <a:pt x="3342" y="3702"/>
                </a:lnTo>
                <a:lnTo>
                  <a:pt x="3359" y="3702"/>
                </a:lnTo>
                <a:lnTo>
                  <a:pt x="3376" y="3702"/>
                </a:lnTo>
                <a:lnTo>
                  <a:pt x="3395" y="3704"/>
                </a:lnTo>
                <a:lnTo>
                  <a:pt x="3414" y="3706"/>
                </a:lnTo>
                <a:lnTo>
                  <a:pt x="3431" y="3706"/>
                </a:lnTo>
                <a:lnTo>
                  <a:pt x="3452" y="3708"/>
                </a:lnTo>
                <a:lnTo>
                  <a:pt x="3471" y="3708"/>
                </a:lnTo>
                <a:lnTo>
                  <a:pt x="3494" y="3709"/>
                </a:lnTo>
                <a:lnTo>
                  <a:pt x="3513" y="3708"/>
                </a:lnTo>
                <a:lnTo>
                  <a:pt x="3534" y="3708"/>
                </a:lnTo>
                <a:lnTo>
                  <a:pt x="3553" y="3708"/>
                </a:lnTo>
                <a:lnTo>
                  <a:pt x="3576" y="3708"/>
                </a:lnTo>
                <a:lnTo>
                  <a:pt x="3599" y="3706"/>
                </a:lnTo>
                <a:lnTo>
                  <a:pt x="3620" y="3704"/>
                </a:lnTo>
                <a:lnTo>
                  <a:pt x="3642" y="3702"/>
                </a:lnTo>
                <a:lnTo>
                  <a:pt x="3665" y="3702"/>
                </a:lnTo>
                <a:lnTo>
                  <a:pt x="3686" y="3700"/>
                </a:lnTo>
                <a:lnTo>
                  <a:pt x="3709" y="3696"/>
                </a:lnTo>
                <a:lnTo>
                  <a:pt x="3730" y="3694"/>
                </a:lnTo>
                <a:lnTo>
                  <a:pt x="3753" y="3692"/>
                </a:lnTo>
                <a:lnTo>
                  <a:pt x="3775" y="3689"/>
                </a:lnTo>
                <a:lnTo>
                  <a:pt x="3796" y="3685"/>
                </a:lnTo>
                <a:lnTo>
                  <a:pt x="3819" y="3681"/>
                </a:lnTo>
                <a:lnTo>
                  <a:pt x="3840" y="3677"/>
                </a:lnTo>
                <a:lnTo>
                  <a:pt x="3863" y="3671"/>
                </a:lnTo>
                <a:lnTo>
                  <a:pt x="3886" y="3666"/>
                </a:lnTo>
                <a:lnTo>
                  <a:pt x="3907" y="3660"/>
                </a:lnTo>
                <a:lnTo>
                  <a:pt x="3929" y="3654"/>
                </a:lnTo>
                <a:lnTo>
                  <a:pt x="3950" y="3647"/>
                </a:lnTo>
                <a:lnTo>
                  <a:pt x="3971" y="3641"/>
                </a:lnTo>
                <a:lnTo>
                  <a:pt x="3992" y="3633"/>
                </a:lnTo>
                <a:lnTo>
                  <a:pt x="4015" y="3626"/>
                </a:lnTo>
                <a:lnTo>
                  <a:pt x="4034" y="3616"/>
                </a:lnTo>
                <a:lnTo>
                  <a:pt x="4055" y="3607"/>
                </a:lnTo>
                <a:lnTo>
                  <a:pt x="4074" y="3597"/>
                </a:lnTo>
                <a:lnTo>
                  <a:pt x="4095" y="3586"/>
                </a:lnTo>
                <a:lnTo>
                  <a:pt x="4114" y="3574"/>
                </a:lnTo>
                <a:lnTo>
                  <a:pt x="4133" y="3565"/>
                </a:lnTo>
                <a:lnTo>
                  <a:pt x="4152" y="3552"/>
                </a:lnTo>
                <a:lnTo>
                  <a:pt x="4171" y="3540"/>
                </a:lnTo>
                <a:lnTo>
                  <a:pt x="4186" y="3525"/>
                </a:lnTo>
                <a:lnTo>
                  <a:pt x="4205" y="3512"/>
                </a:lnTo>
                <a:lnTo>
                  <a:pt x="4220" y="3498"/>
                </a:lnTo>
                <a:lnTo>
                  <a:pt x="4239" y="3483"/>
                </a:lnTo>
                <a:lnTo>
                  <a:pt x="4253" y="3466"/>
                </a:lnTo>
                <a:lnTo>
                  <a:pt x="4270" y="3453"/>
                </a:lnTo>
                <a:lnTo>
                  <a:pt x="4285" y="3434"/>
                </a:lnTo>
                <a:lnTo>
                  <a:pt x="4300" y="3419"/>
                </a:lnTo>
                <a:lnTo>
                  <a:pt x="4311" y="3398"/>
                </a:lnTo>
                <a:lnTo>
                  <a:pt x="4325" y="3379"/>
                </a:lnTo>
                <a:lnTo>
                  <a:pt x="4336" y="3358"/>
                </a:lnTo>
                <a:lnTo>
                  <a:pt x="4349" y="3339"/>
                </a:lnTo>
                <a:lnTo>
                  <a:pt x="4361" y="3316"/>
                </a:lnTo>
                <a:lnTo>
                  <a:pt x="4370" y="3295"/>
                </a:lnTo>
                <a:lnTo>
                  <a:pt x="4380" y="3270"/>
                </a:lnTo>
                <a:lnTo>
                  <a:pt x="4389" y="3249"/>
                </a:lnTo>
                <a:lnTo>
                  <a:pt x="4397" y="3225"/>
                </a:lnTo>
                <a:lnTo>
                  <a:pt x="4405" y="3198"/>
                </a:lnTo>
                <a:lnTo>
                  <a:pt x="4410" y="3171"/>
                </a:lnTo>
                <a:lnTo>
                  <a:pt x="4418" y="3145"/>
                </a:lnTo>
                <a:lnTo>
                  <a:pt x="4422" y="3118"/>
                </a:lnTo>
                <a:lnTo>
                  <a:pt x="4427" y="3090"/>
                </a:lnTo>
                <a:lnTo>
                  <a:pt x="4429" y="3059"/>
                </a:lnTo>
                <a:lnTo>
                  <a:pt x="4433" y="3031"/>
                </a:lnTo>
                <a:lnTo>
                  <a:pt x="4433" y="3021"/>
                </a:lnTo>
                <a:lnTo>
                  <a:pt x="4433" y="3012"/>
                </a:lnTo>
                <a:lnTo>
                  <a:pt x="4433" y="3000"/>
                </a:lnTo>
                <a:lnTo>
                  <a:pt x="4433" y="2993"/>
                </a:lnTo>
                <a:lnTo>
                  <a:pt x="4433" y="2983"/>
                </a:lnTo>
                <a:lnTo>
                  <a:pt x="4433" y="2974"/>
                </a:lnTo>
                <a:lnTo>
                  <a:pt x="4433" y="2966"/>
                </a:lnTo>
                <a:lnTo>
                  <a:pt x="4435" y="2957"/>
                </a:lnTo>
                <a:lnTo>
                  <a:pt x="4435" y="2949"/>
                </a:lnTo>
                <a:lnTo>
                  <a:pt x="4435" y="2939"/>
                </a:lnTo>
                <a:lnTo>
                  <a:pt x="4435" y="2930"/>
                </a:lnTo>
                <a:lnTo>
                  <a:pt x="4435" y="2922"/>
                </a:lnTo>
                <a:lnTo>
                  <a:pt x="4435" y="2913"/>
                </a:lnTo>
                <a:lnTo>
                  <a:pt x="4435" y="2905"/>
                </a:lnTo>
                <a:lnTo>
                  <a:pt x="4435" y="2896"/>
                </a:lnTo>
                <a:lnTo>
                  <a:pt x="4435" y="2890"/>
                </a:lnTo>
                <a:lnTo>
                  <a:pt x="4435" y="2880"/>
                </a:lnTo>
                <a:lnTo>
                  <a:pt x="4435" y="2871"/>
                </a:lnTo>
                <a:lnTo>
                  <a:pt x="4435" y="2863"/>
                </a:lnTo>
                <a:lnTo>
                  <a:pt x="4435" y="2854"/>
                </a:lnTo>
                <a:lnTo>
                  <a:pt x="4435" y="2837"/>
                </a:lnTo>
                <a:lnTo>
                  <a:pt x="4435" y="2823"/>
                </a:lnTo>
                <a:lnTo>
                  <a:pt x="4433" y="2806"/>
                </a:lnTo>
                <a:lnTo>
                  <a:pt x="4433" y="2791"/>
                </a:lnTo>
                <a:lnTo>
                  <a:pt x="4433" y="2776"/>
                </a:lnTo>
                <a:lnTo>
                  <a:pt x="4433" y="2763"/>
                </a:lnTo>
                <a:lnTo>
                  <a:pt x="4429" y="2745"/>
                </a:lnTo>
                <a:lnTo>
                  <a:pt x="4429" y="2732"/>
                </a:lnTo>
                <a:lnTo>
                  <a:pt x="4427" y="2715"/>
                </a:lnTo>
                <a:lnTo>
                  <a:pt x="4427" y="2702"/>
                </a:lnTo>
                <a:lnTo>
                  <a:pt x="4424" y="2687"/>
                </a:lnTo>
                <a:lnTo>
                  <a:pt x="4422" y="2673"/>
                </a:lnTo>
                <a:lnTo>
                  <a:pt x="4422" y="2660"/>
                </a:lnTo>
                <a:lnTo>
                  <a:pt x="4420" y="2647"/>
                </a:lnTo>
                <a:lnTo>
                  <a:pt x="4416" y="2633"/>
                </a:lnTo>
                <a:lnTo>
                  <a:pt x="4414" y="2620"/>
                </a:lnTo>
                <a:lnTo>
                  <a:pt x="4412" y="2607"/>
                </a:lnTo>
                <a:lnTo>
                  <a:pt x="4410" y="2593"/>
                </a:lnTo>
                <a:lnTo>
                  <a:pt x="4408" y="2580"/>
                </a:lnTo>
                <a:lnTo>
                  <a:pt x="4406" y="2567"/>
                </a:lnTo>
                <a:lnTo>
                  <a:pt x="4403" y="2555"/>
                </a:lnTo>
                <a:lnTo>
                  <a:pt x="4401" y="2542"/>
                </a:lnTo>
                <a:lnTo>
                  <a:pt x="4397" y="2527"/>
                </a:lnTo>
                <a:lnTo>
                  <a:pt x="4393" y="2512"/>
                </a:lnTo>
                <a:lnTo>
                  <a:pt x="4389" y="2498"/>
                </a:lnTo>
                <a:lnTo>
                  <a:pt x="4384" y="2485"/>
                </a:lnTo>
                <a:lnTo>
                  <a:pt x="4380" y="2470"/>
                </a:lnTo>
                <a:lnTo>
                  <a:pt x="4374" y="2456"/>
                </a:lnTo>
                <a:lnTo>
                  <a:pt x="4370" y="2443"/>
                </a:lnTo>
                <a:lnTo>
                  <a:pt x="4367" y="2432"/>
                </a:lnTo>
                <a:lnTo>
                  <a:pt x="4361" y="2418"/>
                </a:lnTo>
                <a:lnTo>
                  <a:pt x="4355" y="2405"/>
                </a:lnTo>
                <a:lnTo>
                  <a:pt x="4349" y="2394"/>
                </a:lnTo>
                <a:lnTo>
                  <a:pt x="4344" y="2382"/>
                </a:lnTo>
                <a:lnTo>
                  <a:pt x="4338" y="2369"/>
                </a:lnTo>
                <a:lnTo>
                  <a:pt x="4332" y="2358"/>
                </a:lnTo>
                <a:lnTo>
                  <a:pt x="4327" y="2346"/>
                </a:lnTo>
                <a:lnTo>
                  <a:pt x="4321" y="2335"/>
                </a:lnTo>
                <a:lnTo>
                  <a:pt x="4313" y="2321"/>
                </a:lnTo>
                <a:lnTo>
                  <a:pt x="4306" y="2312"/>
                </a:lnTo>
                <a:lnTo>
                  <a:pt x="4298" y="2299"/>
                </a:lnTo>
                <a:lnTo>
                  <a:pt x="4292" y="2289"/>
                </a:lnTo>
                <a:lnTo>
                  <a:pt x="4285" y="2278"/>
                </a:lnTo>
                <a:lnTo>
                  <a:pt x="4277" y="2266"/>
                </a:lnTo>
                <a:lnTo>
                  <a:pt x="4270" y="2255"/>
                </a:lnTo>
                <a:lnTo>
                  <a:pt x="4264" y="2245"/>
                </a:lnTo>
                <a:lnTo>
                  <a:pt x="4254" y="2234"/>
                </a:lnTo>
                <a:lnTo>
                  <a:pt x="4247" y="2223"/>
                </a:lnTo>
                <a:lnTo>
                  <a:pt x="4239" y="2213"/>
                </a:lnTo>
                <a:lnTo>
                  <a:pt x="4232" y="2204"/>
                </a:lnTo>
                <a:lnTo>
                  <a:pt x="4222" y="2194"/>
                </a:lnTo>
                <a:lnTo>
                  <a:pt x="4213" y="2183"/>
                </a:lnTo>
                <a:lnTo>
                  <a:pt x="4205" y="2173"/>
                </a:lnTo>
                <a:lnTo>
                  <a:pt x="4195" y="2164"/>
                </a:lnTo>
                <a:lnTo>
                  <a:pt x="4186" y="2154"/>
                </a:lnTo>
                <a:lnTo>
                  <a:pt x="4175" y="2143"/>
                </a:lnTo>
                <a:lnTo>
                  <a:pt x="4165" y="2133"/>
                </a:lnTo>
                <a:lnTo>
                  <a:pt x="4156" y="2124"/>
                </a:lnTo>
                <a:lnTo>
                  <a:pt x="4144" y="2114"/>
                </a:lnTo>
                <a:lnTo>
                  <a:pt x="4135" y="2103"/>
                </a:lnTo>
                <a:lnTo>
                  <a:pt x="4123" y="2095"/>
                </a:lnTo>
                <a:lnTo>
                  <a:pt x="4114" y="2086"/>
                </a:lnTo>
                <a:lnTo>
                  <a:pt x="4102" y="2076"/>
                </a:lnTo>
                <a:lnTo>
                  <a:pt x="4089" y="2067"/>
                </a:lnTo>
                <a:lnTo>
                  <a:pt x="4078" y="2057"/>
                </a:lnTo>
                <a:lnTo>
                  <a:pt x="4068" y="2050"/>
                </a:lnTo>
                <a:lnTo>
                  <a:pt x="4055" y="2040"/>
                </a:lnTo>
                <a:lnTo>
                  <a:pt x="4043" y="2031"/>
                </a:lnTo>
                <a:lnTo>
                  <a:pt x="4030" y="2023"/>
                </a:lnTo>
                <a:lnTo>
                  <a:pt x="4021" y="2013"/>
                </a:lnTo>
                <a:lnTo>
                  <a:pt x="4007" y="2004"/>
                </a:lnTo>
                <a:lnTo>
                  <a:pt x="3994" y="1994"/>
                </a:lnTo>
                <a:lnTo>
                  <a:pt x="3981" y="1985"/>
                </a:lnTo>
                <a:lnTo>
                  <a:pt x="3967" y="1977"/>
                </a:lnTo>
                <a:lnTo>
                  <a:pt x="3954" y="1968"/>
                </a:lnTo>
                <a:lnTo>
                  <a:pt x="3941" y="1958"/>
                </a:lnTo>
                <a:lnTo>
                  <a:pt x="3927" y="1951"/>
                </a:lnTo>
                <a:lnTo>
                  <a:pt x="3914" y="1941"/>
                </a:lnTo>
                <a:lnTo>
                  <a:pt x="3899" y="1932"/>
                </a:lnTo>
                <a:lnTo>
                  <a:pt x="3886" y="1922"/>
                </a:lnTo>
                <a:lnTo>
                  <a:pt x="3870" y="1913"/>
                </a:lnTo>
                <a:lnTo>
                  <a:pt x="3855" y="1905"/>
                </a:lnTo>
                <a:lnTo>
                  <a:pt x="3840" y="1896"/>
                </a:lnTo>
                <a:lnTo>
                  <a:pt x="3827" y="1886"/>
                </a:lnTo>
                <a:lnTo>
                  <a:pt x="3812" y="1878"/>
                </a:lnTo>
                <a:lnTo>
                  <a:pt x="3796" y="1869"/>
                </a:lnTo>
                <a:lnTo>
                  <a:pt x="3774" y="1854"/>
                </a:lnTo>
                <a:lnTo>
                  <a:pt x="3753" y="1840"/>
                </a:lnTo>
                <a:lnTo>
                  <a:pt x="3732" y="1825"/>
                </a:lnTo>
                <a:lnTo>
                  <a:pt x="3715" y="1812"/>
                </a:lnTo>
                <a:lnTo>
                  <a:pt x="3696" y="1797"/>
                </a:lnTo>
                <a:lnTo>
                  <a:pt x="3678" y="1781"/>
                </a:lnTo>
                <a:lnTo>
                  <a:pt x="3661" y="1768"/>
                </a:lnTo>
                <a:lnTo>
                  <a:pt x="3648" y="1753"/>
                </a:lnTo>
                <a:lnTo>
                  <a:pt x="3633" y="1736"/>
                </a:lnTo>
                <a:lnTo>
                  <a:pt x="3620" y="1721"/>
                </a:lnTo>
                <a:lnTo>
                  <a:pt x="3606" y="1703"/>
                </a:lnTo>
                <a:lnTo>
                  <a:pt x="3595" y="1688"/>
                </a:lnTo>
                <a:lnTo>
                  <a:pt x="3582" y="1671"/>
                </a:lnTo>
                <a:lnTo>
                  <a:pt x="3574" y="1656"/>
                </a:lnTo>
                <a:lnTo>
                  <a:pt x="3563" y="1639"/>
                </a:lnTo>
                <a:lnTo>
                  <a:pt x="3555" y="1624"/>
                </a:lnTo>
                <a:lnTo>
                  <a:pt x="3547" y="1605"/>
                </a:lnTo>
                <a:lnTo>
                  <a:pt x="3538" y="1587"/>
                </a:lnTo>
                <a:lnTo>
                  <a:pt x="3530" y="1570"/>
                </a:lnTo>
                <a:lnTo>
                  <a:pt x="3526" y="1551"/>
                </a:lnTo>
                <a:lnTo>
                  <a:pt x="3521" y="1534"/>
                </a:lnTo>
                <a:lnTo>
                  <a:pt x="3515" y="1517"/>
                </a:lnTo>
                <a:lnTo>
                  <a:pt x="3511" y="1498"/>
                </a:lnTo>
                <a:lnTo>
                  <a:pt x="3509" y="1483"/>
                </a:lnTo>
                <a:lnTo>
                  <a:pt x="3504" y="1464"/>
                </a:lnTo>
                <a:lnTo>
                  <a:pt x="3502" y="1447"/>
                </a:lnTo>
                <a:lnTo>
                  <a:pt x="3500" y="1428"/>
                </a:lnTo>
                <a:lnTo>
                  <a:pt x="3500" y="1411"/>
                </a:lnTo>
                <a:lnTo>
                  <a:pt x="3498" y="1392"/>
                </a:lnTo>
                <a:lnTo>
                  <a:pt x="3498" y="1375"/>
                </a:lnTo>
                <a:lnTo>
                  <a:pt x="3498" y="1356"/>
                </a:lnTo>
                <a:lnTo>
                  <a:pt x="3500" y="1338"/>
                </a:lnTo>
                <a:lnTo>
                  <a:pt x="3500" y="1319"/>
                </a:lnTo>
                <a:lnTo>
                  <a:pt x="3500" y="1300"/>
                </a:lnTo>
                <a:lnTo>
                  <a:pt x="3502" y="1283"/>
                </a:lnTo>
                <a:lnTo>
                  <a:pt x="3504" y="1264"/>
                </a:lnTo>
                <a:lnTo>
                  <a:pt x="3505" y="1245"/>
                </a:lnTo>
                <a:lnTo>
                  <a:pt x="3509" y="1228"/>
                </a:lnTo>
                <a:lnTo>
                  <a:pt x="3511" y="1211"/>
                </a:lnTo>
                <a:lnTo>
                  <a:pt x="3515" y="1192"/>
                </a:lnTo>
                <a:lnTo>
                  <a:pt x="3519" y="1173"/>
                </a:lnTo>
                <a:lnTo>
                  <a:pt x="3521" y="1156"/>
                </a:lnTo>
                <a:lnTo>
                  <a:pt x="3526" y="1139"/>
                </a:lnTo>
                <a:lnTo>
                  <a:pt x="3530" y="1120"/>
                </a:lnTo>
                <a:lnTo>
                  <a:pt x="3534" y="1103"/>
                </a:lnTo>
                <a:lnTo>
                  <a:pt x="3542" y="1086"/>
                </a:lnTo>
                <a:lnTo>
                  <a:pt x="3545" y="1067"/>
                </a:lnTo>
                <a:lnTo>
                  <a:pt x="3551" y="1051"/>
                </a:lnTo>
                <a:lnTo>
                  <a:pt x="3555" y="1034"/>
                </a:lnTo>
                <a:lnTo>
                  <a:pt x="3561" y="1015"/>
                </a:lnTo>
                <a:lnTo>
                  <a:pt x="3566" y="1000"/>
                </a:lnTo>
                <a:lnTo>
                  <a:pt x="3572" y="983"/>
                </a:lnTo>
                <a:lnTo>
                  <a:pt x="3576" y="966"/>
                </a:lnTo>
                <a:lnTo>
                  <a:pt x="3582" y="949"/>
                </a:lnTo>
                <a:lnTo>
                  <a:pt x="3587" y="933"/>
                </a:lnTo>
                <a:lnTo>
                  <a:pt x="3593" y="918"/>
                </a:lnTo>
                <a:lnTo>
                  <a:pt x="3599" y="903"/>
                </a:lnTo>
                <a:lnTo>
                  <a:pt x="3604" y="888"/>
                </a:lnTo>
                <a:lnTo>
                  <a:pt x="3610" y="871"/>
                </a:lnTo>
                <a:lnTo>
                  <a:pt x="3616" y="857"/>
                </a:lnTo>
                <a:lnTo>
                  <a:pt x="3620" y="842"/>
                </a:lnTo>
                <a:lnTo>
                  <a:pt x="3625" y="827"/>
                </a:lnTo>
                <a:lnTo>
                  <a:pt x="3633" y="814"/>
                </a:lnTo>
                <a:lnTo>
                  <a:pt x="3639" y="800"/>
                </a:lnTo>
                <a:lnTo>
                  <a:pt x="3640" y="785"/>
                </a:lnTo>
                <a:lnTo>
                  <a:pt x="3644" y="770"/>
                </a:lnTo>
                <a:lnTo>
                  <a:pt x="3648" y="753"/>
                </a:lnTo>
                <a:lnTo>
                  <a:pt x="3652" y="738"/>
                </a:lnTo>
                <a:lnTo>
                  <a:pt x="3652" y="728"/>
                </a:lnTo>
                <a:lnTo>
                  <a:pt x="3654" y="719"/>
                </a:lnTo>
                <a:lnTo>
                  <a:pt x="3656" y="711"/>
                </a:lnTo>
                <a:lnTo>
                  <a:pt x="3658" y="701"/>
                </a:lnTo>
                <a:lnTo>
                  <a:pt x="3658" y="692"/>
                </a:lnTo>
                <a:lnTo>
                  <a:pt x="3658" y="682"/>
                </a:lnTo>
                <a:lnTo>
                  <a:pt x="3659" y="673"/>
                </a:lnTo>
                <a:lnTo>
                  <a:pt x="3661" y="665"/>
                </a:lnTo>
                <a:lnTo>
                  <a:pt x="3661" y="654"/>
                </a:lnTo>
                <a:lnTo>
                  <a:pt x="3661" y="644"/>
                </a:lnTo>
                <a:lnTo>
                  <a:pt x="3661" y="633"/>
                </a:lnTo>
                <a:lnTo>
                  <a:pt x="3661" y="623"/>
                </a:lnTo>
                <a:lnTo>
                  <a:pt x="3661" y="612"/>
                </a:lnTo>
                <a:lnTo>
                  <a:pt x="3661" y="601"/>
                </a:lnTo>
                <a:lnTo>
                  <a:pt x="3661" y="591"/>
                </a:lnTo>
                <a:lnTo>
                  <a:pt x="3661" y="582"/>
                </a:lnTo>
                <a:lnTo>
                  <a:pt x="3659" y="568"/>
                </a:lnTo>
                <a:lnTo>
                  <a:pt x="3659" y="559"/>
                </a:lnTo>
                <a:lnTo>
                  <a:pt x="3658" y="547"/>
                </a:lnTo>
                <a:lnTo>
                  <a:pt x="3658" y="536"/>
                </a:lnTo>
                <a:lnTo>
                  <a:pt x="3658" y="525"/>
                </a:lnTo>
                <a:lnTo>
                  <a:pt x="3656" y="515"/>
                </a:lnTo>
                <a:lnTo>
                  <a:pt x="3654" y="504"/>
                </a:lnTo>
                <a:lnTo>
                  <a:pt x="3654" y="494"/>
                </a:lnTo>
                <a:lnTo>
                  <a:pt x="3652" y="481"/>
                </a:lnTo>
                <a:lnTo>
                  <a:pt x="3648" y="469"/>
                </a:lnTo>
                <a:lnTo>
                  <a:pt x="3644" y="456"/>
                </a:lnTo>
                <a:lnTo>
                  <a:pt x="3644" y="447"/>
                </a:lnTo>
                <a:lnTo>
                  <a:pt x="3639" y="435"/>
                </a:lnTo>
                <a:lnTo>
                  <a:pt x="3639" y="424"/>
                </a:lnTo>
                <a:lnTo>
                  <a:pt x="3633" y="412"/>
                </a:lnTo>
                <a:lnTo>
                  <a:pt x="3633" y="403"/>
                </a:lnTo>
                <a:lnTo>
                  <a:pt x="3627" y="390"/>
                </a:lnTo>
                <a:lnTo>
                  <a:pt x="3623" y="378"/>
                </a:lnTo>
                <a:lnTo>
                  <a:pt x="3620" y="367"/>
                </a:lnTo>
                <a:lnTo>
                  <a:pt x="3616" y="357"/>
                </a:lnTo>
                <a:lnTo>
                  <a:pt x="3612" y="346"/>
                </a:lnTo>
                <a:lnTo>
                  <a:pt x="3606" y="334"/>
                </a:lnTo>
                <a:lnTo>
                  <a:pt x="3602" y="323"/>
                </a:lnTo>
                <a:lnTo>
                  <a:pt x="3599" y="312"/>
                </a:lnTo>
                <a:lnTo>
                  <a:pt x="3591" y="300"/>
                </a:lnTo>
                <a:lnTo>
                  <a:pt x="3587" y="291"/>
                </a:lnTo>
                <a:lnTo>
                  <a:pt x="3580" y="279"/>
                </a:lnTo>
                <a:lnTo>
                  <a:pt x="3574" y="268"/>
                </a:lnTo>
                <a:lnTo>
                  <a:pt x="3566" y="257"/>
                </a:lnTo>
                <a:lnTo>
                  <a:pt x="3561" y="247"/>
                </a:lnTo>
                <a:lnTo>
                  <a:pt x="3553" y="236"/>
                </a:lnTo>
                <a:lnTo>
                  <a:pt x="3547" y="226"/>
                </a:lnTo>
                <a:lnTo>
                  <a:pt x="3540" y="217"/>
                </a:lnTo>
                <a:lnTo>
                  <a:pt x="3532" y="207"/>
                </a:lnTo>
                <a:lnTo>
                  <a:pt x="3524" y="196"/>
                </a:lnTo>
                <a:lnTo>
                  <a:pt x="3517" y="188"/>
                </a:lnTo>
                <a:lnTo>
                  <a:pt x="3509" y="179"/>
                </a:lnTo>
                <a:lnTo>
                  <a:pt x="3500" y="169"/>
                </a:lnTo>
                <a:lnTo>
                  <a:pt x="3490" y="161"/>
                </a:lnTo>
                <a:lnTo>
                  <a:pt x="3483" y="152"/>
                </a:lnTo>
                <a:lnTo>
                  <a:pt x="3473" y="142"/>
                </a:lnTo>
                <a:lnTo>
                  <a:pt x="3464" y="135"/>
                </a:lnTo>
                <a:lnTo>
                  <a:pt x="3456" y="127"/>
                </a:lnTo>
                <a:lnTo>
                  <a:pt x="3447" y="122"/>
                </a:lnTo>
                <a:lnTo>
                  <a:pt x="3437" y="112"/>
                </a:lnTo>
                <a:lnTo>
                  <a:pt x="3429" y="106"/>
                </a:lnTo>
                <a:lnTo>
                  <a:pt x="3420" y="99"/>
                </a:lnTo>
                <a:lnTo>
                  <a:pt x="3410" y="95"/>
                </a:lnTo>
                <a:lnTo>
                  <a:pt x="3401" y="87"/>
                </a:lnTo>
                <a:lnTo>
                  <a:pt x="3391" y="82"/>
                </a:lnTo>
                <a:lnTo>
                  <a:pt x="3380" y="76"/>
                </a:lnTo>
                <a:lnTo>
                  <a:pt x="3371" y="70"/>
                </a:lnTo>
                <a:lnTo>
                  <a:pt x="3361" y="64"/>
                </a:lnTo>
                <a:lnTo>
                  <a:pt x="3352" y="61"/>
                </a:lnTo>
                <a:lnTo>
                  <a:pt x="3340" y="57"/>
                </a:lnTo>
                <a:lnTo>
                  <a:pt x="3333" y="51"/>
                </a:lnTo>
                <a:lnTo>
                  <a:pt x="3319" y="47"/>
                </a:lnTo>
                <a:lnTo>
                  <a:pt x="3310" y="44"/>
                </a:lnTo>
                <a:lnTo>
                  <a:pt x="3300" y="38"/>
                </a:lnTo>
                <a:lnTo>
                  <a:pt x="3289" y="34"/>
                </a:lnTo>
                <a:lnTo>
                  <a:pt x="3277" y="30"/>
                </a:lnTo>
                <a:lnTo>
                  <a:pt x="3268" y="26"/>
                </a:lnTo>
                <a:lnTo>
                  <a:pt x="3255" y="25"/>
                </a:lnTo>
                <a:lnTo>
                  <a:pt x="3245" y="23"/>
                </a:lnTo>
                <a:lnTo>
                  <a:pt x="3234" y="17"/>
                </a:lnTo>
                <a:lnTo>
                  <a:pt x="3222" y="15"/>
                </a:lnTo>
                <a:lnTo>
                  <a:pt x="3209" y="11"/>
                </a:lnTo>
                <a:lnTo>
                  <a:pt x="3199" y="11"/>
                </a:lnTo>
                <a:lnTo>
                  <a:pt x="3188" y="9"/>
                </a:lnTo>
                <a:lnTo>
                  <a:pt x="3177" y="7"/>
                </a:lnTo>
                <a:lnTo>
                  <a:pt x="3165" y="6"/>
                </a:lnTo>
                <a:lnTo>
                  <a:pt x="3156" y="6"/>
                </a:lnTo>
                <a:lnTo>
                  <a:pt x="3142" y="4"/>
                </a:lnTo>
                <a:lnTo>
                  <a:pt x="3129" y="2"/>
                </a:lnTo>
                <a:lnTo>
                  <a:pt x="3118" y="2"/>
                </a:lnTo>
                <a:lnTo>
                  <a:pt x="3106" y="2"/>
                </a:lnTo>
                <a:lnTo>
                  <a:pt x="3093" y="0"/>
                </a:lnTo>
                <a:lnTo>
                  <a:pt x="3082" y="0"/>
                </a:lnTo>
                <a:lnTo>
                  <a:pt x="3070" y="0"/>
                </a:lnTo>
                <a:lnTo>
                  <a:pt x="3059" y="2"/>
                </a:lnTo>
                <a:lnTo>
                  <a:pt x="3045" y="2"/>
                </a:lnTo>
                <a:lnTo>
                  <a:pt x="3032" y="2"/>
                </a:lnTo>
                <a:lnTo>
                  <a:pt x="3019" y="4"/>
                </a:lnTo>
                <a:lnTo>
                  <a:pt x="3007" y="4"/>
                </a:lnTo>
                <a:lnTo>
                  <a:pt x="2994" y="6"/>
                </a:lnTo>
                <a:lnTo>
                  <a:pt x="2981" y="9"/>
                </a:lnTo>
                <a:lnTo>
                  <a:pt x="2969" y="9"/>
                </a:lnTo>
                <a:lnTo>
                  <a:pt x="2958" y="13"/>
                </a:lnTo>
                <a:lnTo>
                  <a:pt x="2945" y="15"/>
                </a:lnTo>
                <a:lnTo>
                  <a:pt x="2931" y="17"/>
                </a:lnTo>
                <a:lnTo>
                  <a:pt x="2918" y="19"/>
                </a:lnTo>
                <a:lnTo>
                  <a:pt x="2907" y="23"/>
                </a:lnTo>
                <a:lnTo>
                  <a:pt x="2893" y="25"/>
                </a:lnTo>
                <a:lnTo>
                  <a:pt x="2880" y="28"/>
                </a:lnTo>
                <a:lnTo>
                  <a:pt x="2867" y="32"/>
                </a:lnTo>
                <a:lnTo>
                  <a:pt x="2855" y="36"/>
                </a:lnTo>
                <a:lnTo>
                  <a:pt x="2842" y="40"/>
                </a:lnTo>
                <a:lnTo>
                  <a:pt x="2829" y="44"/>
                </a:lnTo>
                <a:lnTo>
                  <a:pt x="2815" y="49"/>
                </a:lnTo>
                <a:lnTo>
                  <a:pt x="2804" y="53"/>
                </a:lnTo>
                <a:lnTo>
                  <a:pt x="2791" y="57"/>
                </a:lnTo>
                <a:lnTo>
                  <a:pt x="2777" y="63"/>
                </a:lnTo>
                <a:lnTo>
                  <a:pt x="2764" y="70"/>
                </a:lnTo>
                <a:lnTo>
                  <a:pt x="2753" y="76"/>
                </a:lnTo>
                <a:lnTo>
                  <a:pt x="2726" y="83"/>
                </a:lnTo>
                <a:lnTo>
                  <a:pt x="2701" y="95"/>
                </a:lnTo>
                <a:lnTo>
                  <a:pt x="2679" y="106"/>
                </a:lnTo>
                <a:lnTo>
                  <a:pt x="2656" y="118"/>
                </a:lnTo>
                <a:lnTo>
                  <a:pt x="2633" y="129"/>
                </a:lnTo>
                <a:lnTo>
                  <a:pt x="2610" y="141"/>
                </a:lnTo>
                <a:lnTo>
                  <a:pt x="2589" y="154"/>
                </a:lnTo>
                <a:lnTo>
                  <a:pt x="2568" y="167"/>
                </a:lnTo>
                <a:lnTo>
                  <a:pt x="2547" y="179"/>
                </a:lnTo>
                <a:lnTo>
                  <a:pt x="2528" y="192"/>
                </a:lnTo>
                <a:lnTo>
                  <a:pt x="2509" y="203"/>
                </a:lnTo>
                <a:lnTo>
                  <a:pt x="2490" y="217"/>
                </a:lnTo>
                <a:lnTo>
                  <a:pt x="2471" y="230"/>
                </a:lnTo>
                <a:lnTo>
                  <a:pt x="2454" y="243"/>
                </a:lnTo>
                <a:lnTo>
                  <a:pt x="2437" y="257"/>
                </a:lnTo>
                <a:lnTo>
                  <a:pt x="2420" y="270"/>
                </a:lnTo>
                <a:lnTo>
                  <a:pt x="2401" y="281"/>
                </a:lnTo>
                <a:lnTo>
                  <a:pt x="2384" y="295"/>
                </a:lnTo>
                <a:lnTo>
                  <a:pt x="2367" y="308"/>
                </a:lnTo>
                <a:lnTo>
                  <a:pt x="2350" y="321"/>
                </a:lnTo>
                <a:lnTo>
                  <a:pt x="2333" y="334"/>
                </a:lnTo>
                <a:lnTo>
                  <a:pt x="2316" y="348"/>
                </a:lnTo>
                <a:lnTo>
                  <a:pt x="2300" y="361"/>
                </a:lnTo>
                <a:lnTo>
                  <a:pt x="2285" y="374"/>
                </a:lnTo>
                <a:lnTo>
                  <a:pt x="2268" y="386"/>
                </a:lnTo>
                <a:lnTo>
                  <a:pt x="2253" y="399"/>
                </a:lnTo>
                <a:lnTo>
                  <a:pt x="2236" y="412"/>
                </a:lnTo>
                <a:lnTo>
                  <a:pt x="2221" y="426"/>
                </a:lnTo>
                <a:lnTo>
                  <a:pt x="2203" y="437"/>
                </a:lnTo>
                <a:lnTo>
                  <a:pt x="2188" y="450"/>
                </a:lnTo>
                <a:lnTo>
                  <a:pt x="2171" y="464"/>
                </a:lnTo>
                <a:lnTo>
                  <a:pt x="2156" y="477"/>
                </a:lnTo>
                <a:lnTo>
                  <a:pt x="2139" y="487"/>
                </a:lnTo>
                <a:lnTo>
                  <a:pt x="2120" y="498"/>
                </a:lnTo>
                <a:lnTo>
                  <a:pt x="2103" y="509"/>
                </a:lnTo>
                <a:lnTo>
                  <a:pt x="2087" y="521"/>
                </a:lnTo>
                <a:lnTo>
                  <a:pt x="2067" y="530"/>
                </a:lnTo>
                <a:lnTo>
                  <a:pt x="2049" y="542"/>
                </a:lnTo>
                <a:lnTo>
                  <a:pt x="2030" y="551"/>
                </a:lnTo>
                <a:lnTo>
                  <a:pt x="2013" y="563"/>
                </a:lnTo>
                <a:lnTo>
                  <a:pt x="1992" y="572"/>
                </a:lnTo>
                <a:lnTo>
                  <a:pt x="1973" y="582"/>
                </a:lnTo>
                <a:lnTo>
                  <a:pt x="1954" y="589"/>
                </a:lnTo>
                <a:lnTo>
                  <a:pt x="1935" y="601"/>
                </a:lnTo>
                <a:lnTo>
                  <a:pt x="1913" y="606"/>
                </a:lnTo>
                <a:lnTo>
                  <a:pt x="1892" y="616"/>
                </a:lnTo>
                <a:lnTo>
                  <a:pt x="1871" y="623"/>
                </a:lnTo>
                <a:lnTo>
                  <a:pt x="1850" y="631"/>
                </a:lnTo>
                <a:lnTo>
                  <a:pt x="1825" y="637"/>
                </a:lnTo>
                <a:lnTo>
                  <a:pt x="1802" y="642"/>
                </a:lnTo>
                <a:lnTo>
                  <a:pt x="1778" y="646"/>
                </a:lnTo>
                <a:lnTo>
                  <a:pt x="1755" y="654"/>
                </a:lnTo>
                <a:lnTo>
                  <a:pt x="1728" y="658"/>
                </a:lnTo>
                <a:lnTo>
                  <a:pt x="1702" y="662"/>
                </a:lnTo>
                <a:lnTo>
                  <a:pt x="1675" y="665"/>
                </a:lnTo>
                <a:lnTo>
                  <a:pt x="1650" y="671"/>
                </a:lnTo>
                <a:lnTo>
                  <a:pt x="1620" y="673"/>
                </a:lnTo>
                <a:lnTo>
                  <a:pt x="1591" y="673"/>
                </a:lnTo>
                <a:lnTo>
                  <a:pt x="1559" y="675"/>
                </a:lnTo>
                <a:lnTo>
                  <a:pt x="1531" y="677"/>
                </a:lnTo>
                <a:lnTo>
                  <a:pt x="1498" y="677"/>
                </a:lnTo>
                <a:lnTo>
                  <a:pt x="1466" y="677"/>
                </a:lnTo>
                <a:lnTo>
                  <a:pt x="1432" y="675"/>
                </a:lnTo>
                <a:lnTo>
                  <a:pt x="1399" y="675"/>
                </a:lnTo>
                <a:lnTo>
                  <a:pt x="1363" y="673"/>
                </a:lnTo>
                <a:lnTo>
                  <a:pt x="1329" y="669"/>
                </a:lnTo>
                <a:lnTo>
                  <a:pt x="1293" y="665"/>
                </a:lnTo>
                <a:lnTo>
                  <a:pt x="1259" y="663"/>
                </a:lnTo>
                <a:lnTo>
                  <a:pt x="1225" y="660"/>
                </a:lnTo>
                <a:lnTo>
                  <a:pt x="1190" y="656"/>
                </a:lnTo>
                <a:lnTo>
                  <a:pt x="1156" y="654"/>
                </a:lnTo>
                <a:lnTo>
                  <a:pt x="1124" y="650"/>
                </a:lnTo>
                <a:lnTo>
                  <a:pt x="1090" y="646"/>
                </a:lnTo>
                <a:lnTo>
                  <a:pt x="1057" y="642"/>
                </a:lnTo>
                <a:lnTo>
                  <a:pt x="1023" y="641"/>
                </a:lnTo>
                <a:lnTo>
                  <a:pt x="991" y="637"/>
                </a:lnTo>
                <a:lnTo>
                  <a:pt x="958" y="633"/>
                </a:lnTo>
                <a:lnTo>
                  <a:pt x="928" y="629"/>
                </a:lnTo>
                <a:lnTo>
                  <a:pt x="898" y="627"/>
                </a:lnTo>
                <a:lnTo>
                  <a:pt x="867" y="625"/>
                </a:lnTo>
                <a:lnTo>
                  <a:pt x="835" y="620"/>
                </a:lnTo>
                <a:lnTo>
                  <a:pt x="804" y="618"/>
                </a:lnTo>
                <a:lnTo>
                  <a:pt x="774" y="614"/>
                </a:lnTo>
                <a:lnTo>
                  <a:pt x="744" y="614"/>
                </a:lnTo>
                <a:lnTo>
                  <a:pt x="715" y="610"/>
                </a:lnTo>
                <a:lnTo>
                  <a:pt x="687" y="608"/>
                </a:lnTo>
                <a:lnTo>
                  <a:pt x="658" y="608"/>
                </a:lnTo>
                <a:lnTo>
                  <a:pt x="631" y="608"/>
                </a:lnTo>
                <a:lnTo>
                  <a:pt x="603" y="606"/>
                </a:lnTo>
                <a:lnTo>
                  <a:pt x="576" y="606"/>
                </a:lnTo>
                <a:lnTo>
                  <a:pt x="550" y="606"/>
                </a:lnTo>
                <a:lnTo>
                  <a:pt x="523" y="610"/>
                </a:lnTo>
                <a:lnTo>
                  <a:pt x="497" y="610"/>
                </a:lnTo>
                <a:lnTo>
                  <a:pt x="474" y="614"/>
                </a:lnTo>
                <a:lnTo>
                  <a:pt x="449" y="616"/>
                </a:lnTo>
                <a:lnTo>
                  <a:pt x="426" y="620"/>
                </a:lnTo>
                <a:lnTo>
                  <a:pt x="401" y="623"/>
                </a:lnTo>
                <a:lnTo>
                  <a:pt x="379" y="627"/>
                </a:lnTo>
                <a:lnTo>
                  <a:pt x="356" y="633"/>
                </a:lnTo>
                <a:lnTo>
                  <a:pt x="335" y="639"/>
                </a:lnTo>
                <a:lnTo>
                  <a:pt x="312" y="642"/>
                </a:lnTo>
                <a:lnTo>
                  <a:pt x="293" y="652"/>
                </a:lnTo>
                <a:lnTo>
                  <a:pt x="272" y="660"/>
                </a:lnTo>
                <a:lnTo>
                  <a:pt x="255" y="669"/>
                </a:lnTo>
                <a:lnTo>
                  <a:pt x="234" y="679"/>
                </a:lnTo>
                <a:lnTo>
                  <a:pt x="215" y="688"/>
                </a:lnTo>
                <a:lnTo>
                  <a:pt x="198" y="700"/>
                </a:lnTo>
                <a:lnTo>
                  <a:pt x="183" y="713"/>
                </a:lnTo>
                <a:lnTo>
                  <a:pt x="164" y="726"/>
                </a:lnTo>
                <a:lnTo>
                  <a:pt x="151" y="741"/>
                </a:lnTo>
                <a:lnTo>
                  <a:pt x="135" y="757"/>
                </a:lnTo>
                <a:lnTo>
                  <a:pt x="122" y="774"/>
                </a:lnTo>
                <a:lnTo>
                  <a:pt x="107" y="791"/>
                </a:lnTo>
                <a:lnTo>
                  <a:pt x="94" y="810"/>
                </a:lnTo>
                <a:lnTo>
                  <a:pt x="82" y="827"/>
                </a:lnTo>
                <a:lnTo>
                  <a:pt x="73" y="850"/>
                </a:lnTo>
                <a:lnTo>
                  <a:pt x="59" y="869"/>
                </a:lnTo>
                <a:lnTo>
                  <a:pt x="52" y="893"/>
                </a:lnTo>
                <a:lnTo>
                  <a:pt x="42" y="918"/>
                </a:lnTo>
                <a:lnTo>
                  <a:pt x="35" y="945"/>
                </a:lnTo>
                <a:lnTo>
                  <a:pt x="27" y="970"/>
                </a:lnTo>
                <a:lnTo>
                  <a:pt x="19" y="998"/>
                </a:lnTo>
                <a:lnTo>
                  <a:pt x="14" y="1027"/>
                </a:lnTo>
                <a:lnTo>
                  <a:pt x="10" y="1059"/>
                </a:lnTo>
                <a:lnTo>
                  <a:pt x="6" y="1091"/>
                </a:lnTo>
                <a:lnTo>
                  <a:pt x="2" y="1125"/>
                </a:lnTo>
                <a:lnTo>
                  <a:pt x="0" y="1160"/>
                </a:lnTo>
                <a:lnTo>
                  <a:pt x="0" y="1198"/>
                </a:lnTo>
                <a:lnTo>
                  <a:pt x="0" y="1234"/>
                </a:lnTo>
                <a:lnTo>
                  <a:pt x="0" y="1270"/>
                </a:lnTo>
                <a:lnTo>
                  <a:pt x="0" y="1302"/>
                </a:lnTo>
                <a:lnTo>
                  <a:pt x="4" y="1338"/>
                </a:lnTo>
                <a:lnTo>
                  <a:pt x="8" y="1369"/>
                </a:lnTo>
                <a:lnTo>
                  <a:pt x="14" y="1401"/>
                </a:lnTo>
                <a:lnTo>
                  <a:pt x="18" y="1433"/>
                </a:lnTo>
                <a:lnTo>
                  <a:pt x="27" y="1464"/>
                </a:lnTo>
                <a:lnTo>
                  <a:pt x="33" y="1492"/>
                </a:lnTo>
                <a:lnTo>
                  <a:pt x="40" y="1521"/>
                </a:lnTo>
                <a:lnTo>
                  <a:pt x="50" y="1548"/>
                </a:lnTo>
                <a:lnTo>
                  <a:pt x="61" y="1576"/>
                </a:lnTo>
                <a:lnTo>
                  <a:pt x="71" y="1601"/>
                </a:lnTo>
                <a:lnTo>
                  <a:pt x="82" y="1627"/>
                </a:lnTo>
                <a:lnTo>
                  <a:pt x="95" y="1652"/>
                </a:lnTo>
                <a:lnTo>
                  <a:pt x="109" y="1677"/>
                </a:lnTo>
                <a:lnTo>
                  <a:pt x="120" y="1700"/>
                </a:lnTo>
                <a:lnTo>
                  <a:pt x="133" y="1722"/>
                </a:lnTo>
                <a:lnTo>
                  <a:pt x="147" y="1745"/>
                </a:lnTo>
                <a:lnTo>
                  <a:pt x="162" y="1768"/>
                </a:lnTo>
                <a:lnTo>
                  <a:pt x="175" y="1787"/>
                </a:lnTo>
                <a:lnTo>
                  <a:pt x="190" y="1810"/>
                </a:lnTo>
                <a:lnTo>
                  <a:pt x="206" y="1831"/>
                </a:lnTo>
                <a:lnTo>
                  <a:pt x="223" y="1852"/>
                </a:lnTo>
                <a:lnTo>
                  <a:pt x="234" y="1871"/>
                </a:lnTo>
                <a:lnTo>
                  <a:pt x="251" y="1892"/>
                </a:lnTo>
                <a:lnTo>
                  <a:pt x="267" y="1911"/>
                </a:lnTo>
                <a:lnTo>
                  <a:pt x="282" y="1932"/>
                </a:lnTo>
                <a:lnTo>
                  <a:pt x="297" y="1949"/>
                </a:lnTo>
                <a:lnTo>
                  <a:pt x="312" y="1970"/>
                </a:lnTo>
                <a:lnTo>
                  <a:pt x="329" y="1987"/>
                </a:lnTo>
                <a:lnTo>
                  <a:pt x="346" y="2008"/>
                </a:lnTo>
                <a:lnTo>
                  <a:pt x="360" y="2025"/>
                </a:lnTo>
                <a:lnTo>
                  <a:pt x="373" y="2044"/>
                </a:lnTo>
                <a:lnTo>
                  <a:pt x="386" y="2063"/>
                </a:lnTo>
                <a:lnTo>
                  <a:pt x="401" y="2082"/>
                </a:lnTo>
                <a:lnTo>
                  <a:pt x="415" y="2099"/>
                </a:lnTo>
                <a:lnTo>
                  <a:pt x="428" y="2118"/>
                </a:lnTo>
                <a:lnTo>
                  <a:pt x="441" y="2137"/>
                </a:lnTo>
                <a:lnTo>
                  <a:pt x="455" y="2156"/>
                </a:lnTo>
                <a:lnTo>
                  <a:pt x="464" y="2175"/>
                </a:lnTo>
                <a:lnTo>
                  <a:pt x="476" y="2194"/>
                </a:lnTo>
                <a:lnTo>
                  <a:pt x="487" y="2215"/>
                </a:lnTo>
                <a:lnTo>
                  <a:pt x="497" y="2234"/>
                </a:lnTo>
                <a:lnTo>
                  <a:pt x="504" y="2253"/>
                </a:lnTo>
                <a:lnTo>
                  <a:pt x="514" y="2274"/>
                </a:lnTo>
                <a:lnTo>
                  <a:pt x="521" y="2295"/>
                </a:lnTo>
                <a:lnTo>
                  <a:pt x="529" y="2318"/>
                </a:lnTo>
                <a:lnTo>
                  <a:pt x="533" y="2339"/>
                </a:lnTo>
                <a:lnTo>
                  <a:pt x="536" y="2359"/>
                </a:lnTo>
                <a:lnTo>
                  <a:pt x="540" y="2382"/>
                </a:lnTo>
                <a:lnTo>
                  <a:pt x="544" y="2405"/>
                </a:lnTo>
                <a:lnTo>
                  <a:pt x="544" y="2428"/>
                </a:lnTo>
                <a:lnTo>
                  <a:pt x="544" y="2453"/>
                </a:lnTo>
                <a:lnTo>
                  <a:pt x="542" y="2477"/>
                </a:lnTo>
                <a:lnTo>
                  <a:pt x="542" y="2502"/>
                </a:lnTo>
                <a:lnTo>
                  <a:pt x="538" y="2529"/>
                </a:lnTo>
                <a:lnTo>
                  <a:pt x="535" y="2555"/>
                </a:lnTo>
                <a:lnTo>
                  <a:pt x="529" y="2582"/>
                </a:lnTo>
                <a:lnTo>
                  <a:pt x="523" y="2612"/>
                </a:lnTo>
                <a:lnTo>
                  <a:pt x="512" y="2641"/>
                </a:lnTo>
                <a:lnTo>
                  <a:pt x="502" y="2671"/>
                </a:lnTo>
                <a:lnTo>
                  <a:pt x="489" y="2702"/>
                </a:lnTo>
                <a:lnTo>
                  <a:pt x="478" y="2734"/>
                </a:lnTo>
                <a:lnTo>
                  <a:pt x="470" y="2747"/>
                </a:lnTo>
                <a:lnTo>
                  <a:pt x="464" y="2761"/>
                </a:lnTo>
                <a:lnTo>
                  <a:pt x="457" y="2774"/>
                </a:lnTo>
                <a:lnTo>
                  <a:pt x="453" y="2787"/>
                </a:lnTo>
                <a:lnTo>
                  <a:pt x="447" y="2801"/>
                </a:lnTo>
                <a:lnTo>
                  <a:pt x="441" y="2814"/>
                </a:lnTo>
                <a:lnTo>
                  <a:pt x="436" y="2827"/>
                </a:lnTo>
                <a:lnTo>
                  <a:pt x="430" y="2841"/>
                </a:lnTo>
                <a:lnTo>
                  <a:pt x="424" y="2852"/>
                </a:lnTo>
                <a:lnTo>
                  <a:pt x="419" y="2865"/>
                </a:lnTo>
                <a:lnTo>
                  <a:pt x="415" y="2877"/>
                </a:lnTo>
                <a:lnTo>
                  <a:pt x="411" y="2890"/>
                </a:lnTo>
                <a:lnTo>
                  <a:pt x="405" y="2903"/>
                </a:lnTo>
                <a:lnTo>
                  <a:pt x="401" y="2917"/>
                </a:lnTo>
                <a:lnTo>
                  <a:pt x="398" y="2928"/>
                </a:lnTo>
                <a:lnTo>
                  <a:pt x="392" y="2941"/>
                </a:lnTo>
                <a:lnTo>
                  <a:pt x="386" y="2955"/>
                </a:lnTo>
                <a:lnTo>
                  <a:pt x="382" y="2966"/>
                </a:lnTo>
                <a:lnTo>
                  <a:pt x="379" y="2977"/>
                </a:lnTo>
                <a:lnTo>
                  <a:pt x="373" y="2991"/>
                </a:lnTo>
                <a:lnTo>
                  <a:pt x="369" y="3002"/>
                </a:lnTo>
                <a:lnTo>
                  <a:pt x="365" y="3014"/>
                </a:lnTo>
                <a:lnTo>
                  <a:pt x="362" y="3027"/>
                </a:lnTo>
                <a:lnTo>
                  <a:pt x="360" y="3040"/>
                </a:lnTo>
                <a:lnTo>
                  <a:pt x="354" y="3050"/>
                </a:lnTo>
                <a:lnTo>
                  <a:pt x="350" y="3063"/>
                </a:lnTo>
                <a:lnTo>
                  <a:pt x="346" y="3072"/>
                </a:lnTo>
                <a:lnTo>
                  <a:pt x="344" y="3086"/>
                </a:lnTo>
                <a:lnTo>
                  <a:pt x="341" y="3097"/>
                </a:lnTo>
                <a:lnTo>
                  <a:pt x="339" y="3111"/>
                </a:lnTo>
                <a:lnTo>
                  <a:pt x="335" y="3120"/>
                </a:lnTo>
                <a:lnTo>
                  <a:pt x="333" y="3133"/>
                </a:lnTo>
                <a:lnTo>
                  <a:pt x="329" y="3145"/>
                </a:lnTo>
                <a:lnTo>
                  <a:pt x="327" y="3156"/>
                </a:lnTo>
                <a:lnTo>
                  <a:pt x="324" y="3166"/>
                </a:lnTo>
                <a:lnTo>
                  <a:pt x="322" y="3179"/>
                </a:lnTo>
                <a:lnTo>
                  <a:pt x="320" y="3188"/>
                </a:lnTo>
                <a:lnTo>
                  <a:pt x="318" y="3200"/>
                </a:lnTo>
                <a:lnTo>
                  <a:pt x="314" y="3211"/>
                </a:lnTo>
                <a:lnTo>
                  <a:pt x="312" y="3223"/>
                </a:lnTo>
                <a:lnTo>
                  <a:pt x="310" y="3232"/>
                </a:lnTo>
                <a:lnTo>
                  <a:pt x="308" y="3244"/>
                </a:lnTo>
                <a:lnTo>
                  <a:pt x="306" y="3253"/>
                </a:lnTo>
                <a:lnTo>
                  <a:pt x="306" y="3265"/>
                </a:lnTo>
                <a:lnTo>
                  <a:pt x="305" y="3276"/>
                </a:lnTo>
                <a:lnTo>
                  <a:pt x="303" y="3285"/>
                </a:lnTo>
                <a:lnTo>
                  <a:pt x="301" y="3297"/>
                </a:lnTo>
                <a:lnTo>
                  <a:pt x="301" y="3308"/>
                </a:lnTo>
                <a:lnTo>
                  <a:pt x="299" y="3316"/>
                </a:lnTo>
                <a:lnTo>
                  <a:pt x="297" y="3327"/>
                </a:lnTo>
                <a:lnTo>
                  <a:pt x="295" y="3337"/>
                </a:lnTo>
                <a:lnTo>
                  <a:pt x="295" y="3348"/>
                </a:lnTo>
                <a:lnTo>
                  <a:pt x="293" y="3358"/>
                </a:lnTo>
                <a:lnTo>
                  <a:pt x="293" y="3367"/>
                </a:lnTo>
                <a:lnTo>
                  <a:pt x="293" y="3379"/>
                </a:lnTo>
                <a:lnTo>
                  <a:pt x="293" y="3388"/>
                </a:lnTo>
                <a:lnTo>
                  <a:pt x="293" y="3398"/>
                </a:lnTo>
                <a:lnTo>
                  <a:pt x="293" y="3407"/>
                </a:lnTo>
                <a:lnTo>
                  <a:pt x="293" y="3417"/>
                </a:lnTo>
                <a:lnTo>
                  <a:pt x="293" y="3428"/>
                </a:lnTo>
                <a:lnTo>
                  <a:pt x="293" y="3436"/>
                </a:lnTo>
                <a:lnTo>
                  <a:pt x="293" y="3447"/>
                </a:lnTo>
                <a:lnTo>
                  <a:pt x="293" y="3457"/>
                </a:lnTo>
                <a:lnTo>
                  <a:pt x="295" y="3466"/>
                </a:lnTo>
                <a:lnTo>
                  <a:pt x="295" y="3479"/>
                </a:lnTo>
                <a:lnTo>
                  <a:pt x="295" y="3491"/>
                </a:lnTo>
                <a:lnTo>
                  <a:pt x="297" y="3502"/>
                </a:lnTo>
                <a:lnTo>
                  <a:pt x="299" y="3514"/>
                </a:lnTo>
                <a:lnTo>
                  <a:pt x="299" y="3525"/>
                </a:lnTo>
                <a:lnTo>
                  <a:pt x="301" y="3538"/>
                </a:lnTo>
                <a:lnTo>
                  <a:pt x="301" y="3550"/>
                </a:lnTo>
                <a:lnTo>
                  <a:pt x="305" y="3563"/>
                </a:lnTo>
                <a:lnTo>
                  <a:pt x="306" y="3573"/>
                </a:lnTo>
                <a:lnTo>
                  <a:pt x="308" y="3586"/>
                </a:lnTo>
                <a:lnTo>
                  <a:pt x="310" y="3597"/>
                </a:lnTo>
                <a:lnTo>
                  <a:pt x="312" y="3611"/>
                </a:lnTo>
                <a:lnTo>
                  <a:pt x="316" y="3620"/>
                </a:lnTo>
                <a:lnTo>
                  <a:pt x="320" y="3632"/>
                </a:lnTo>
                <a:lnTo>
                  <a:pt x="322" y="3643"/>
                </a:lnTo>
                <a:lnTo>
                  <a:pt x="327" y="3656"/>
                </a:lnTo>
                <a:lnTo>
                  <a:pt x="329" y="3666"/>
                </a:lnTo>
                <a:lnTo>
                  <a:pt x="333" y="3675"/>
                </a:lnTo>
                <a:lnTo>
                  <a:pt x="337" y="3687"/>
                </a:lnTo>
                <a:lnTo>
                  <a:pt x="341" y="3698"/>
                </a:lnTo>
                <a:lnTo>
                  <a:pt x="346" y="3709"/>
                </a:lnTo>
                <a:lnTo>
                  <a:pt x="350" y="3719"/>
                </a:lnTo>
                <a:lnTo>
                  <a:pt x="354" y="3728"/>
                </a:lnTo>
                <a:lnTo>
                  <a:pt x="360" y="3742"/>
                </a:lnTo>
                <a:lnTo>
                  <a:pt x="365" y="3749"/>
                </a:lnTo>
                <a:lnTo>
                  <a:pt x="369" y="3761"/>
                </a:lnTo>
                <a:lnTo>
                  <a:pt x="375" y="3770"/>
                </a:lnTo>
                <a:lnTo>
                  <a:pt x="381" y="3782"/>
                </a:lnTo>
                <a:lnTo>
                  <a:pt x="386" y="3791"/>
                </a:lnTo>
                <a:lnTo>
                  <a:pt x="394" y="3803"/>
                </a:lnTo>
                <a:lnTo>
                  <a:pt x="400" y="3812"/>
                </a:lnTo>
                <a:lnTo>
                  <a:pt x="407" y="3824"/>
                </a:lnTo>
                <a:lnTo>
                  <a:pt x="411" y="3833"/>
                </a:lnTo>
                <a:lnTo>
                  <a:pt x="419" y="3841"/>
                </a:lnTo>
                <a:lnTo>
                  <a:pt x="424" y="3850"/>
                </a:lnTo>
                <a:lnTo>
                  <a:pt x="432" y="3860"/>
                </a:lnTo>
                <a:lnTo>
                  <a:pt x="439" y="3869"/>
                </a:lnTo>
                <a:lnTo>
                  <a:pt x="447" y="3881"/>
                </a:lnTo>
                <a:lnTo>
                  <a:pt x="455" y="3888"/>
                </a:lnTo>
                <a:lnTo>
                  <a:pt x="462" y="3900"/>
                </a:lnTo>
                <a:lnTo>
                  <a:pt x="470" y="3907"/>
                </a:lnTo>
                <a:lnTo>
                  <a:pt x="478" y="3917"/>
                </a:lnTo>
                <a:lnTo>
                  <a:pt x="487" y="3926"/>
                </a:lnTo>
                <a:lnTo>
                  <a:pt x="497" y="3934"/>
                </a:lnTo>
                <a:lnTo>
                  <a:pt x="504" y="3943"/>
                </a:lnTo>
                <a:lnTo>
                  <a:pt x="514" y="3951"/>
                </a:lnTo>
                <a:lnTo>
                  <a:pt x="523" y="3960"/>
                </a:lnTo>
                <a:lnTo>
                  <a:pt x="533" y="3970"/>
                </a:lnTo>
                <a:lnTo>
                  <a:pt x="542" y="3978"/>
                </a:lnTo>
                <a:lnTo>
                  <a:pt x="550" y="3985"/>
                </a:lnTo>
                <a:lnTo>
                  <a:pt x="561" y="3993"/>
                </a:lnTo>
                <a:lnTo>
                  <a:pt x="571" y="4002"/>
                </a:lnTo>
                <a:lnTo>
                  <a:pt x="580" y="4010"/>
                </a:lnTo>
                <a:lnTo>
                  <a:pt x="590" y="4017"/>
                </a:lnTo>
                <a:lnTo>
                  <a:pt x="601" y="4027"/>
                </a:lnTo>
                <a:lnTo>
                  <a:pt x="612" y="4037"/>
                </a:lnTo>
                <a:lnTo>
                  <a:pt x="622" y="4044"/>
                </a:lnTo>
                <a:lnTo>
                  <a:pt x="633" y="4052"/>
                </a:lnTo>
                <a:lnTo>
                  <a:pt x="645" y="4059"/>
                </a:lnTo>
                <a:lnTo>
                  <a:pt x="656" y="4069"/>
                </a:lnTo>
                <a:lnTo>
                  <a:pt x="668" y="4076"/>
                </a:lnTo>
                <a:lnTo>
                  <a:pt x="679" y="4084"/>
                </a:lnTo>
                <a:lnTo>
                  <a:pt x="692" y="4092"/>
                </a:lnTo>
                <a:lnTo>
                  <a:pt x="706" y="4101"/>
                </a:lnTo>
                <a:lnTo>
                  <a:pt x="715" y="4105"/>
                </a:lnTo>
                <a:lnTo>
                  <a:pt x="725" y="4111"/>
                </a:lnTo>
                <a:lnTo>
                  <a:pt x="736" y="4116"/>
                </a:lnTo>
                <a:lnTo>
                  <a:pt x="746" y="4122"/>
                </a:lnTo>
                <a:lnTo>
                  <a:pt x="755" y="4128"/>
                </a:lnTo>
                <a:lnTo>
                  <a:pt x="765" y="4133"/>
                </a:lnTo>
                <a:lnTo>
                  <a:pt x="776" y="4139"/>
                </a:lnTo>
                <a:lnTo>
                  <a:pt x="785" y="4145"/>
                </a:lnTo>
                <a:lnTo>
                  <a:pt x="795" y="4149"/>
                </a:lnTo>
                <a:lnTo>
                  <a:pt x="806" y="4154"/>
                </a:lnTo>
                <a:lnTo>
                  <a:pt x="816" y="4158"/>
                </a:lnTo>
                <a:lnTo>
                  <a:pt x="827" y="4164"/>
                </a:lnTo>
                <a:lnTo>
                  <a:pt x="837" y="4168"/>
                </a:lnTo>
                <a:lnTo>
                  <a:pt x="848" y="4173"/>
                </a:lnTo>
                <a:lnTo>
                  <a:pt x="858" y="4177"/>
                </a:lnTo>
                <a:lnTo>
                  <a:pt x="869" y="4183"/>
                </a:lnTo>
                <a:lnTo>
                  <a:pt x="879" y="4187"/>
                </a:lnTo>
                <a:lnTo>
                  <a:pt x="890" y="4191"/>
                </a:lnTo>
                <a:lnTo>
                  <a:pt x="899" y="4194"/>
                </a:lnTo>
                <a:lnTo>
                  <a:pt x="911" y="4198"/>
                </a:lnTo>
                <a:lnTo>
                  <a:pt x="920" y="4200"/>
                </a:lnTo>
                <a:lnTo>
                  <a:pt x="934" y="4204"/>
                </a:lnTo>
                <a:lnTo>
                  <a:pt x="943" y="4208"/>
                </a:lnTo>
                <a:lnTo>
                  <a:pt x="955" y="4211"/>
                </a:lnTo>
                <a:lnTo>
                  <a:pt x="966" y="4213"/>
                </a:lnTo>
                <a:lnTo>
                  <a:pt x="977" y="4217"/>
                </a:lnTo>
                <a:lnTo>
                  <a:pt x="987" y="4219"/>
                </a:lnTo>
                <a:lnTo>
                  <a:pt x="998" y="4223"/>
                </a:lnTo>
                <a:lnTo>
                  <a:pt x="1010" y="4225"/>
                </a:lnTo>
                <a:lnTo>
                  <a:pt x="1021" y="4229"/>
                </a:lnTo>
                <a:lnTo>
                  <a:pt x="1031" y="4230"/>
                </a:lnTo>
                <a:lnTo>
                  <a:pt x="1044" y="4234"/>
                </a:lnTo>
                <a:lnTo>
                  <a:pt x="1053" y="4236"/>
                </a:lnTo>
                <a:lnTo>
                  <a:pt x="1065" y="4238"/>
                </a:lnTo>
                <a:lnTo>
                  <a:pt x="1076" y="4240"/>
                </a:lnTo>
                <a:lnTo>
                  <a:pt x="1088" y="4242"/>
                </a:lnTo>
                <a:lnTo>
                  <a:pt x="1097" y="4242"/>
                </a:lnTo>
                <a:lnTo>
                  <a:pt x="1109" y="4246"/>
                </a:lnTo>
                <a:lnTo>
                  <a:pt x="1120" y="4246"/>
                </a:lnTo>
                <a:lnTo>
                  <a:pt x="1131" y="4248"/>
                </a:lnTo>
                <a:lnTo>
                  <a:pt x="1141" y="4248"/>
                </a:lnTo>
                <a:lnTo>
                  <a:pt x="1154" y="4249"/>
                </a:lnTo>
                <a:lnTo>
                  <a:pt x="1164" y="4251"/>
                </a:lnTo>
                <a:lnTo>
                  <a:pt x="1175" y="4253"/>
                </a:lnTo>
                <a:lnTo>
                  <a:pt x="1187" y="4253"/>
                </a:lnTo>
                <a:lnTo>
                  <a:pt x="1198" y="4253"/>
                </a:lnTo>
                <a:lnTo>
                  <a:pt x="1207" y="4255"/>
                </a:lnTo>
                <a:lnTo>
                  <a:pt x="1221" y="4257"/>
                </a:lnTo>
                <a:lnTo>
                  <a:pt x="1232" y="4257"/>
                </a:lnTo>
                <a:lnTo>
                  <a:pt x="1244" y="4257"/>
                </a:lnTo>
                <a:lnTo>
                  <a:pt x="1253" y="4257"/>
                </a:lnTo>
                <a:lnTo>
                  <a:pt x="1264" y="4257"/>
                </a:lnTo>
                <a:lnTo>
                  <a:pt x="1276" y="4257"/>
                </a:lnTo>
                <a:lnTo>
                  <a:pt x="1287" y="4257"/>
                </a:lnTo>
                <a:lnTo>
                  <a:pt x="1299" y="4257"/>
                </a:lnTo>
                <a:lnTo>
                  <a:pt x="1310" y="4259"/>
                </a:lnTo>
                <a:lnTo>
                  <a:pt x="1321" y="4257"/>
                </a:lnTo>
                <a:lnTo>
                  <a:pt x="1333" y="4257"/>
                </a:lnTo>
                <a:lnTo>
                  <a:pt x="1344" y="4257"/>
                </a:lnTo>
                <a:lnTo>
                  <a:pt x="1356" y="4257"/>
                </a:lnTo>
                <a:lnTo>
                  <a:pt x="1367" y="4255"/>
                </a:lnTo>
                <a:lnTo>
                  <a:pt x="1378" y="4255"/>
                </a:lnTo>
                <a:lnTo>
                  <a:pt x="1390" y="4255"/>
                </a:lnTo>
                <a:lnTo>
                  <a:pt x="1401" y="4255"/>
                </a:lnTo>
                <a:lnTo>
                  <a:pt x="1415" y="4253"/>
                </a:lnTo>
                <a:lnTo>
                  <a:pt x="1426" y="4253"/>
                </a:lnTo>
                <a:lnTo>
                  <a:pt x="1439" y="4249"/>
                </a:lnTo>
                <a:lnTo>
                  <a:pt x="1453" y="4249"/>
                </a:lnTo>
                <a:lnTo>
                  <a:pt x="1464" y="4246"/>
                </a:lnTo>
                <a:lnTo>
                  <a:pt x="1475" y="4246"/>
                </a:lnTo>
                <a:lnTo>
                  <a:pt x="1489" y="4244"/>
                </a:lnTo>
                <a:lnTo>
                  <a:pt x="1502" y="4242"/>
                </a:lnTo>
                <a:lnTo>
                  <a:pt x="1513" y="4240"/>
                </a:lnTo>
                <a:lnTo>
                  <a:pt x="1527" y="4236"/>
                </a:lnTo>
                <a:lnTo>
                  <a:pt x="1540" y="4234"/>
                </a:lnTo>
                <a:lnTo>
                  <a:pt x="1551" y="4232"/>
                </a:lnTo>
                <a:lnTo>
                  <a:pt x="1565" y="4229"/>
                </a:lnTo>
                <a:lnTo>
                  <a:pt x="1576" y="4227"/>
                </a:lnTo>
                <a:lnTo>
                  <a:pt x="1589" y="4225"/>
                </a:lnTo>
                <a:lnTo>
                  <a:pt x="1603" y="4223"/>
                </a:lnTo>
                <a:lnTo>
                  <a:pt x="1614" y="4219"/>
                </a:lnTo>
                <a:lnTo>
                  <a:pt x="1626" y="4215"/>
                </a:lnTo>
                <a:lnTo>
                  <a:pt x="1637" y="4213"/>
                </a:lnTo>
                <a:lnTo>
                  <a:pt x="1650" y="4210"/>
                </a:lnTo>
                <a:lnTo>
                  <a:pt x="1662" y="4208"/>
                </a:lnTo>
                <a:lnTo>
                  <a:pt x="1673" y="4204"/>
                </a:lnTo>
                <a:lnTo>
                  <a:pt x="1685" y="4200"/>
                </a:lnTo>
                <a:lnTo>
                  <a:pt x="1698" y="4198"/>
                </a:lnTo>
                <a:lnTo>
                  <a:pt x="1709" y="4194"/>
                </a:lnTo>
                <a:lnTo>
                  <a:pt x="1721" y="4191"/>
                </a:lnTo>
                <a:lnTo>
                  <a:pt x="1734" y="4187"/>
                </a:lnTo>
                <a:lnTo>
                  <a:pt x="1745" y="4183"/>
                </a:lnTo>
                <a:lnTo>
                  <a:pt x="1757" y="4179"/>
                </a:lnTo>
                <a:lnTo>
                  <a:pt x="1768" y="4175"/>
                </a:lnTo>
                <a:lnTo>
                  <a:pt x="1781" y="4172"/>
                </a:lnTo>
                <a:lnTo>
                  <a:pt x="1793" y="4168"/>
                </a:lnTo>
                <a:lnTo>
                  <a:pt x="1804" y="4162"/>
                </a:lnTo>
                <a:lnTo>
                  <a:pt x="1816" y="4158"/>
                </a:lnTo>
                <a:lnTo>
                  <a:pt x="1825" y="4154"/>
                </a:lnTo>
                <a:lnTo>
                  <a:pt x="1838" y="4149"/>
                </a:lnTo>
                <a:lnTo>
                  <a:pt x="1848" y="4143"/>
                </a:lnTo>
                <a:lnTo>
                  <a:pt x="1859" y="4139"/>
                </a:lnTo>
                <a:lnTo>
                  <a:pt x="1871" y="4135"/>
                </a:lnTo>
                <a:lnTo>
                  <a:pt x="1882" y="4130"/>
                </a:lnTo>
                <a:lnTo>
                  <a:pt x="1892" y="4124"/>
                </a:lnTo>
                <a:lnTo>
                  <a:pt x="1903" y="4120"/>
                </a:lnTo>
                <a:lnTo>
                  <a:pt x="1913" y="4114"/>
                </a:lnTo>
                <a:lnTo>
                  <a:pt x="1924" y="4109"/>
                </a:lnTo>
                <a:lnTo>
                  <a:pt x="1935" y="4103"/>
                </a:lnTo>
                <a:lnTo>
                  <a:pt x="1947" y="4099"/>
                </a:lnTo>
                <a:lnTo>
                  <a:pt x="1956" y="4095"/>
                </a:lnTo>
                <a:lnTo>
                  <a:pt x="1970" y="4090"/>
                </a:lnTo>
                <a:lnTo>
                  <a:pt x="1977" y="4082"/>
                </a:lnTo>
                <a:lnTo>
                  <a:pt x="1989" y="4078"/>
                </a:lnTo>
                <a:lnTo>
                  <a:pt x="1998" y="4071"/>
                </a:lnTo>
                <a:lnTo>
                  <a:pt x="2008" y="4067"/>
                </a:lnTo>
                <a:lnTo>
                  <a:pt x="2017" y="4061"/>
                </a:lnTo>
                <a:lnTo>
                  <a:pt x="2029" y="4056"/>
                </a:lnTo>
                <a:lnTo>
                  <a:pt x="2038" y="4050"/>
                </a:lnTo>
                <a:lnTo>
                  <a:pt x="2048" y="4044"/>
                </a:lnTo>
                <a:lnTo>
                  <a:pt x="2057" y="4037"/>
                </a:lnTo>
                <a:lnTo>
                  <a:pt x="2067" y="4031"/>
                </a:lnTo>
                <a:lnTo>
                  <a:pt x="2076" y="4025"/>
                </a:lnTo>
                <a:lnTo>
                  <a:pt x="2087" y="4021"/>
                </a:lnTo>
                <a:lnTo>
                  <a:pt x="2095" y="4014"/>
                </a:lnTo>
                <a:lnTo>
                  <a:pt x="2105" y="4008"/>
                </a:lnTo>
                <a:lnTo>
                  <a:pt x="2112" y="4002"/>
                </a:lnTo>
                <a:lnTo>
                  <a:pt x="2124" y="3998"/>
                </a:lnTo>
                <a:lnTo>
                  <a:pt x="2139" y="3983"/>
                </a:lnTo>
                <a:lnTo>
                  <a:pt x="2154" y="3972"/>
                </a:lnTo>
                <a:lnTo>
                  <a:pt x="2169" y="3960"/>
                </a:lnTo>
                <a:lnTo>
                  <a:pt x="2184" y="3951"/>
                </a:lnTo>
                <a:lnTo>
                  <a:pt x="2198" y="3940"/>
                </a:lnTo>
                <a:lnTo>
                  <a:pt x="2213" y="3932"/>
                </a:lnTo>
                <a:lnTo>
                  <a:pt x="2228" y="3922"/>
                </a:lnTo>
                <a:lnTo>
                  <a:pt x="2243" y="3913"/>
                </a:lnTo>
                <a:lnTo>
                  <a:pt x="2257" y="3903"/>
                </a:lnTo>
                <a:lnTo>
                  <a:pt x="2270" y="3894"/>
                </a:lnTo>
                <a:lnTo>
                  <a:pt x="2281" y="3886"/>
                </a:lnTo>
                <a:lnTo>
                  <a:pt x="2297" y="3879"/>
                </a:lnTo>
                <a:lnTo>
                  <a:pt x="2308" y="3869"/>
                </a:lnTo>
                <a:lnTo>
                  <a:pt x="2321" y="3863"/>
                </a:lnTo>
                <a:lnTo>
                  <a:pt x="2333" y="3856"/>
                </a:lnTo>
                <a:lnTo>
                  <a:pt x="2346" y="3850"/>
                </a:lnTo>
                <a:lnTo>
                  <a:pt x="2356" y="3843"/>
                </a:lnTo>
                <a:lnTo>
                  <a:pt x="2367" y="3837"/>
                </a:lnTo>
                <a:lnTo>
                  <a:pt x="2376" y="3829"/>
                </a:lnTo>
                <a:lnTo>
                  <a:pt x="2388" y="3825"/>
                </a:lnTo>
                <a:lnTo>
                  <a:pt x="2397" y="3820"/>
                </a:lnTo>
                <a:lnTo>
                  <a:pt x="2407" y="3814"/>
                </a:lnTo>
                <a:lnTo>
                  <a:pt x="2418" y="3808"/>
                </a:lnTo>
                <a:lnTo>
                  <a:pt x="2428" y="3805"/>
                </a:lnTo>
                <a:lnTo>
                  <a:pt x="2437" y="3801"/>
                </a:lnTo>
                <a:lnTo>
                  <a:pt x="2445" y="3795"/>
                </a:lnTo>
                <a:lnTo>
                  <a:pt x="2454" y="3791"/>
                </a:lnTo>
                <a:lnTo>
                  <a:pt x="2464" y="3787"/>
                </a:lnTo>
                <a:lnTo>
                  <a:pt x="2477" y="3780"/>
                </a:lnTo>
                <a:lnTo>
                  <a:pt x="2494" y="3774"/>
                </a:lnTo>
                <a:lnTo>
                  <a:pt x="2508" y="3768"/>
                </a:lnTo>
                <a:lnTo>
                  <a:pt x="2521" y="3761"/>
                </a:lnTo>
                <a:lnTo>
                  <a:pt x="2530" y="3757"/>
                </a:lnTo>
                <a:lnTo>
                  <a:pt x="2544" y="3755"/>
                </a:lnTo>
                <a:lnTo>
                  <a:pt x="2551" y="3749"/>
                </a:lnTo>
                <a:lnTo>
                  <a:pt x="2561" y="3747"/>
                </a:lnTo>
                <a:lnTo>
                  <a:pt x="2568" y="3744"/>
                </a:lnTo>
                <a:lnTo>
                  <a:pt x="2576" y="3744"/>
                </a:lnTo>
                <a:lnTo>
                  <a:pt x="2587" y="3740"/>
                </a:lnTo>
                <a:lnTo>
                  <a:pt x="2595" y="3740"/>
                </a:lnTo>
                <a:lnTo>
                  <a:pt x="2601" y="3740"/>
                </a:lnTo>
                <a:lnTo>
                  <a:pt x="2603" y="3740"/>
                </a:lnTo>
                <a:lnTo>
                  <a:pt x="2603" y="3740"/>
                </a:lnTo>
                <a:close/>
              </a:path>
            </a:pathLst>
          </a:custGeom>
          <a:blipFill rotWithShape="0">
            <a:blip r:embed="rId2"/>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edg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92"/>
                                        </p:tgtEl>
                                        <p:attrNameLst>
                                          <p:attrName>style.visibility</p:attrName>
                                        </p:attrNameLst>
                                      </p:cBhvr>
                                      <p:to>
                                        <p:strVal val="visible"/>
                                      </p:to>
                                    </p:set>
                                    <p:animEffect filter="fade" transition="in">
                                      <p:cBhvr additive="repl">
                                        <p:cTn id="23" dur="2000"/>
                                        <p:tgtEl>
                                          <p:spTgt spid="92"/>
                                        </p:tgtEl>
                                      </p:cBhvr>
                                    </p:animEffect>
                                  </p:childTnLst>
                                </p:cTn>
                              </p:par>
                            </p:childTnLst>
                          </p:cTn>
                        </p:par>
                        <p:par>
                          <p:cTn id="24" fill="hold">
                            <p:stCondLst>
                              <p:cond delay="2000"/>
                            </p:stCondLst>
                            <p:childTnLst>
                              <p:par>
                                <p:cTn id="25" nodeType="afterEffect" fill="hold" presetClass="entr" presetID="10">
                                  <p:stCondLst>
                                    <p:cond delay="0"/>
                                  </p:stCondLst>
                                  <p:childTnLst>
                                    <p:set>
                                      <p:cBhvr>
                                        <p:cTn id="26" dur="1" fill="hold">
                                          <p:stCondLst>
                                            <p:cond delay="0"/>
                                          </p:stCondLst>
                                        </p:cTn>
                                        <p:tgtEl>
                                          <p:spTgt spid="94"/>
                                        </p:tgtEl>
                                        <p:attrNameLst>
                                          <p:attrName>style.visibility</p:attrName>
                                        </p:attrNameLst>
                                      </p:cBhvr>
                                      <p:to>
                                        <p:strVal val="visible"/>
                                      </p:to>
                                    </p:set>
                                    <p:animEffect filter="fade" transition="in">
                                      <p:cBhvr additive="repl">
                                        <p:cTn id="27" dur="2000"/>
                                        <p:tgtEl>
                                          <p:spTgt spid="94"/>
                                        </p:tgtEl>
                                      </p:cBhvr>
                                    </p:animEffect>
                                  </p:childTnLst>
                                </p:cTn>
                              </p:par>
                            </p:childTnLst>
                          </p:cTn>
                        </p:par>
                        <p:par>
                          <p:cTn id="28" fill="hold">
                            <p:stCondLst>
                              <p:cond delay="4000"/>
                            </p:stCondLst>
                            <p:childTnLst>
                              <p:par>
                                <p:cTn id="29" nodeType="afterEffect" fill="hold" presetClass="entr" presetID="10">
                                  <p:stCondLst>
                                    <p:cond delay="0"/>
                                  </p:stCondLst>
                                  <p:childTnLst>
                                    <p:set>
                                      <p:cBhvr>
                                        <p:cTn id="30" dur="1" fill="hold">
                                          <p:stCondLst>
                                            <p:cond delay="0"/>
                                          </p:stCondLst>
                                        </p:cTn>
                                        <p:tgtEl>
                                          <p:spTgt spid="93"/>
                                        </p:tgtEl>
                                        <p:attrNameLst>
                                          <p:attrName>style.visibility</p:attrName>
                                        </p:attrNameLst>
                                      </p:cBhvr>
                                      <p:to>
                                        <p:strVal val="visible"/>
                                      </p:to>
                                    </p:set>
                                    <p:animEffect filter="fade" transition="in">
                                      <p:cBhvr additive="repl">
                                        <p:cTn id="3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96" name=""/>
          <p:cNvSpPr/>
          <p:nvPr/>
        </p:nvSpPr>
        <p:spPr>
          <a:xfrm>
            <a:off x="1514520" y="685800"/>
            <a:ext cx="77724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98" name=""/>
          <p:cNvSpPr/>
          <p:nvPr/>
        </p:nvSpPr>
        <p:spPr>
          <a:xfrm>
            <a:off x="5607000" y="71280"/>
            <a:ext cx="4978440" cy="3434040"/>
          </a:xfrm>
          <a:prstGeom prst="roundRect">
            <a:avLst>
              <a:gd name="adj" fmla="val 50000"/>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99" name=""/>
          <p:cNvSpPr/>
          <p:nvPr/>
        </p:nvSpPr>
        <p:spPr>
          <a:xfrm>
            <a:off x="5545080" y="3575160"/>
            <a:ext cx="5256360" cy="3625920"/>
          </a:xfrm>
          <a:prstGeom prst="roundRect">
            <a:avLst>
              <a:gd name="adj" fmla="val 50000"/>
            </a:avLst>
          </a:prstGeom>
          <a:blipFill rotWithShape="0">
            <a:blip r:embed="rId2"/>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pic>
        <p:nvPicPr>
          <p:cNvPr id="100" name="" descr="[foto de la noticia]"/>
          <p:cNvPicPr/>
          <p:nvPr/>
        </p:nvPicPr>
        <p:blipFill>
          <a:blip r:embed="rId3"/>
          <a:stretch/>
        </p:blipFill>
        <p:spPr>
          <a:xfrm>
            <a:off x="504720" y="1440000"/>
            <a:ext cx="4876920" cy="4495680"/>
          </a:xfrm>
          <a:prstGeom prst="rect">
            <a:avLst/>
          </a:prstGeom>
          <a:ln w="57240">
            <a:solidFill>
              <a:srgbClr val="b6a892"/>
            </a:solidFill>
            <a:miter/>
          </a:ln>
        </p:spPr>
      </p:pic>
      <p:sp>
        <p:nvSpPr>
          <p:cNvPr id="101" name=""/>
          <p:cNvSpPr/>
          <p:nvPr/>
        </p:nvSpPr>
        <p:spPr>
          <a:xfrm>
            <a:off x="431640" y="6337440"/>
            <a:ext cx="4681800" cy="45972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n-US" sz="2400" spc="-1" strike="noStrike">
                <a:solidFill>
                  <a:srgbClr val="f8f8f8"/>
                </a:solidFill>
                <a:latin typeface="Monotype Corsiva"/>
              </a:rPr>
              <a:t>Tibetano mostrando el billete</a:t>
            </a:r>
            <a:endParaRPr b="0" lang="en-US" sz="2400" spc="-1" strike="noStrike">
              <a:solidFill>
                <a:srgbClr val="000000"/>
              </a:solidFill>
              <a:latin typeface="Arial"/>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103" name=""/>
          <p:cNvSpPr/>
          <p:nvPr/>
        </p:nvSpPr>
        <p:spPr>
          <a:xfrm>
            <a:off x="1042920" y="685800"/>
            <a:ext cx="87156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105" name=""/>
          <p:cNvSpPr/>
          <p:nvPr/>
        </p:nvSpPr>
        <p:spPr>
          <a:xfrm>
            <a:off x="1008000" y="720720"/>
            <a:ext cx="874728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106" name=""/>
          <p:cNvSpPr/>
          <p:nvPr/>
        </p:nvSpPr>
        <p:spPr>
          <a:xfrm>
            <a:off x="2085840" y="6696000"/>
            <a:ext cx="734544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Estación de Lhasa fin de trayecto</a:t>
            </a:r>
            <a:endParaRPr b="0" lang="en-US" sz="2400" spc="-1" strike="noStrike">
              <a:solidFill>
                <a:srgbClr val="000000"/>
              </a:solidFill>
              <a:latin typeface="Arial"/>
            </a:endParaRPr>
          </a:p>
        </p:txBody>
      </p:sp>
    </p:spTree>
  </p:cSld>
  <p:transition spd="slow">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0" y="2736720"/>
            <a:ext cx="10369440" cy="228852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buClr>
                <a:srgbClr val="996600"/>
              </a:buClr>
              <a:buFont typeface="Monotype Corsiva"/>
              <a:buChar char="•"/>
              <a:tabLst>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También circula por esta vía el:  </a:t>
            </a:r>
            <a:r>
              <a:rPr b="0" i="1" lang="es-ES" sz="2400" spc="-1" strike="noStrike">
                <a:solidFill>
                  <a:srgbClr val="996600"/>
                </a:solidFill>
                <a:latin typeface="Monotype Corsiva"/>
              </a:rPr>
              <a:t>Tangula tren de lujo</a:t>
            </a:r>
            <a:r>
              <a:rPr b="0" i="1" lang="es-ES" sz="2400" spc="-1" strike="noStrike">
                <a:solidFill>
                  <a:srgbClr val="f8f8f8"/>
                </a:solidFill>
                <a:latin typeface="Monotype Corsiva"/>
              </a:rPr>
              <a:t>  formado por  15 vagones, distribuidos en: 12 vagones para el alojamiento - 6 a cada lado de los dos coches restaurante y un coche salón panorámico. Para mantener un alto nivel de exclusividad, un vagón de alojamiento tiene sólo cuatro suites privadas - dos pasajeros por suite. Cada uno de los trenes puede transportar un máximo de 96 pasajeros</a:t>
            </a:r>
            <a:endParaRPr b="0" lang="en-US" sz="2400" spc="-1" strike="noStrike">
              <a:solidFill>
                <a:srgbClr val="000000"/>
              </a:solidFill>
              <a:latin typeface="Arial"/>
            </a:endParaRPr>
          </a:p>
        </p:txBody>
      </p:sp>
      <p:sp>
        <p:nvSpPr>
          <p:cNvPr id="108"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pic>
        <p:nvPicPr>
          <p:cNvPr id="109" name="" descr=""/>
          <p:cNvPicPr/>
          <p:nvPr/>
        </p:nvPicPr>
        <p:blipFill>
          <a:blip r:embed="rId1"/>
          <a:stretch/>
        </p:blipFill>
        <p:spPr>
          <a:xfrm>
            <a:off x="6913440" y="4608360"/>
            <a:ext cx="3600720" cy="2397240"/>
          </a:xfrm>
          <a:prstGeom prst="rect">
            <a:avLst/>
          </a:prstGeom>
          <a:ln w="38160">
            <a:solidFill>
              <a:srgbClr val="996600"/>
            </a:solidFill>
            <a:miter/>
          </a:ln>
        </p:spPr>
      </p:pic>
      <p:pic>
        <p:nvPicPr>
          <p:cNvPr id="110" name="" descr=""/>
          <p:cNvPicPr/>
          <p:nvPr/>
        </p:nvPicPr>
        <p:blipFill>
          <a:blip r:embed="rId2"/>
          <a:stretch/>
        </p:blipFill>
        <p:spPr>
          <a:xfrm>
            <a:off x="216000" y="142920"/>
            <a:ext cx="3816360" cy="2449440"/>
          </a:xfrm>
          <a:prstGeom prst="rect">
            <a:avLst/>
          </a:prstGeom>
          <a:ln w="38160">
            <a:solidFill>
              <a:srgbClr val="996600"/>
            </a:solidFill>
            <a:miter/>
          </a:ln>
        </p:spPr>
      </p:pic>
      <p:pic>
        <p:nvPicPr>
          <p:cNvPr id="111" name="" descr=""/>
          <p:cNvPicPr/>
          <p:nvPr/>
        </p:nvPicPr>
        <p:blipFill>
          <a:blip r:embed="rId3"/>
          <a:stretch/>
        </p:blipFill>
        <p:spPr>
          <a:xfrm>
            <a:off x="3630600" y="216000"/>
            <a:ext cx="6954840" cy="2133360"/>
          </a:xfrm>
          <a:prstGeom prst="rect">
            <a:avLst/>
          </a:prstGeom>
          <a:ln w="0">
            <a:noFill/>
          </a:ln>
        </p:spPr>
      </p:pic>
      <p:pic>
        <p:nvPicPr>
          <p:cNvPr id="112" name="" descr=""/>
          <p:cNvPicPr/>
          <p:nvPr/>
        </p:nvPicPr>
        <p:blipFill>
          <a:blip r:embed="rId4"/>
          <a:stretch/>
        </p:blipFill>
        <p:spPr>
          <a:xfrm>
            <a:off x="0" y="4824360"/>
            <a:ext cx="8040600" cy="2076480"/>
          </a:xfrm>
          <a:prstGeom prst="rect">
            <a:avLst/>
          </a:prstGeom>
          <a:ln w="0">
            <a:noFill/>
          </a:ln>
        </p:spPr>
      </p:pic>
    </p:spTree>
  </p:cSld>
  <p:transition spd="slow">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Ecologistas, protestando, durante la inauguración. (Foto: AP)"/>
          <p:cNvPicPr/>
          <p:nvPr/>
        </p:nvPicPr>
        <p:blipFill>
          <a:blip r:embed="rId1"/>
          <a:stretch/>
        </p:blipFill>
        <p:spPr>
          <a:xfrm>
            <a:off x="1512720" y="360360"/>
            <a:ext cx="7588440" cy="4227480"/>
          </a:xfrm>
          <a:prstGeom prst="rect">
            <a:avLst/>
          </a:prstGeom>
          <a:ln w="57240">
            <a:solidFill>
              <a:srgbClr val="b6a892"/>
            </a:solidFill>
            <a:miter/>
          </a:ln>
        </p:spPr>
      </p:pic>
      <p:sp>
        <p:nvSpPr>
          <p:cNvPr id="114" name=""/>
          <p:cNvSpPr/>
          <p:nvPr/>
        </p:nvSpPr>
        <p:spPr>
          <a:xfrm>
            <a:off x="1222200" y="4680000"/>
            <a:ext cx="3592800" cy="4690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2400" spc="-1" strike="noStrike">
                <a:solidFill>
                  <a:srgbClr val="ffffff"/>
                </a:solidFill>
                <a:latin typeface="Monotype Corsiva"/>
              </a:rPr>
              <a:t>Protesta independentista</a:t>
            </a:r>
            <a:endParaRPr b="0" lang="en-US" sz="2400" spc="-1" strike="noStrike">
              <a:solidFill>
                <a:srgbClr val="000000"/>
              </a:solidFill>
              <a:latin typeface="Arial"/>
            </a:endParaRPr>
          </a:p>
        </p:txBody>
      </p:sp>
      <p:sp>
        <p:nvSpPr>
          <p:cNvPr id="115" name=""/>
          <p:cNvSpPr/>
          <p:nvPr/>
        </p:nvSpPr>
        <p:spPr>
          <a:xfrm>
            <a:off x="647640" y="5329080"/>
            <a:ext cx="9721800" cy="1922760"/>
          </a:xfrm>
          <a:prstGeom prst="rect">
            <a:avLst/>
          </a:prstGeom>
          <a:noFill/>
          <a:ln w="0">
            <a:noFill/>
          </a:ln>
        </p:spPr>
        <p:style>
          <a:lnRef idx="0"/>
          <a:fillRef idx="0"/>
          <a:effectRef idx="0"/>
          <a:fontRef idx="minor"/>
        </p:style>
        <p:txBody>
          <a:bodyPr lIns="90000" rIns="90000" tIns="46800" bIns="46800" anchor="t" anchorCtr="1">
            <a:spAutoFit/>
          </a:bodyPr>
          <a:p>
            <a:pPr marL="84240" indent="-84240">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Para el Gobierno chino, el primer tren al Tíbet es un símbolo del progreso llevado por el comunismo a esa región, pero para los independentistas tibetanos, seguidores del exiliado Dalai Lama, es un intento de aumentar el colonialismo chino sobre los pueblos del Himalaya</a:t>
            </a:r>
            <a:endParaRPr b="0" lang="en-US" sz="2400" spc="-1" strike="noStrike">
              <a:solidFill>
                <a:srgbClr val="000000"/>
              </a:solidFill>
              <a:latin typeface="Arial"/>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
            <a:hlinkClick r:id="" action="ppaction://hlinkshowjump?jump=firstslide"/>
          </p:cNvPr>
          <p:cNvSpPr/>
          <p:nvPr/>
        </p:nvSpPr>
        <p:spPr>
          <a:xfrm>
            <a:off x="216000" y="4968720"/>
            <a:ext cx="1368360" cy="765360"/>
          </a:xfrm>
          <a:custGeom>
            <a:avLst/>
            <a:gdLst>
              <a:gd name="textAreaLeft" fmla="*/ 191160 w 1368360"/>
              <a:gd name="textAreaRight" fmla="*/ 1177200 w 1368360"/>
              <a:gd name="textAreaTop" fmla="*/ 191160 h 765360"/>
              <a:gd name="textAreaBottom" fmla="*/ 574200 h 765360"/>
            </a:gdLst>
            <a:ahLst/>
            <a:rect l="textAreaLeft" t="textAreaTop" r="textAreaRight" b="textAreaBottom"/>
            <a:pathLst>
              <a:path w="38610" h="21600">
                <a:moveTo>
                  <a:pt x="0" y="0"/>
                </a:moveTo>
                <a:lnTo>
                  <a:pt x="38610" y="0"/>
                </a:lnTo>
                <a:lnTo>
                  <a:pt x="38610" y="21600"/>
                </a:lnTo>
                <a:lnTo>
                  <a:pt x="0" y="21600"/>
                </a:lnTo>
                <a:close/>
              </a:path>
              <a:path fill="lightenLess" w="38610" h="21600">
                <a:moveTo>
                  <a:pt x="0" y="0"/>
                </a:moveTo>
                <a:lnTo>
                  <a:pt x="38610" y="0"/>
                </a:lnTo>
                <a:lnTo>
                  <a:pt x="33210" y="5400"/>
                </a:lnTo>
                <a:lnTo>
                  <a:pt x="5400" y="5400"/>
                </a:lnTo>
                <a:close/>
              </a:path>
              <a:path fill="darken" w="38610" h="21600">
                <a:moveTo>
                  <a:pt x="38610" y="0"/>
                </a:moveTo>
                <a:lnTo>
                  <a:pt x="38610" y="21600"/>
                </a:lnTo>
                <a:lnTo>
                  <a:pt x="33210" y="16200"/>
                </a:lnTo>
                <a:lnTo>
                  <a:pt x="33210" y="5400"/>
                </a:lnTo>
                <a:close/>
              </a:path>
              <a:path fill="darkenLess" w="38610" h="21600">
                <a:moveTo>
                  <a:pt x="38610" y="21600"/>
                </a:moveTo>
                <a:lnTo>
                  <a:pt x="0" y="21600"/>
                </a:lnTo>
                <a:lnTo>
                  <a:pt x="5400" y="16200"/>
                </a:lnTo>
                <a:lnTo>
                  <a:pt x="33210" y="16200"/>
                </a:lnTo>
                <a:close/>
              </a:path>
              <a:path fill="lighten" w="38610" h="21600">
                <a:moveTo>
                  <a:pt x="0" y="21600"/>
                </a:moveTo>
                <a:lnTo>
                  <a:pt x="0" y="0"/>
                </a:lnTo>
                <a:lnTo>
                  <a:pt x="5400" y="5400"/>
                </a:lnTo>
                <a:lnTo>
                  <a:pt x="5400" y="16200"/>
                </a:lnTo>
                <a:close/>
              </a:path>
            </a:pathLst>
          </a:custGeom>
          <a:blipFill rotWithShape="0">
            <a:blip r:embed="rId2"/>
            <a:srcRect/>
            <a:stretch/>
          </a:blipFill>
          <a:ln w="9360">
            <a:solidFill>
              <a:srgbClr val="b6a8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Monotype Corsiva"/>
              </a:rPr>
              <a:t>Reiniciar</a:t>
            </a:r>
            <a:endParaRPr b="0" lang="en-US" sz="2400" spc="-1" strike="noStrike">
              <a:solidFill>
                <a:srgbClr val="000000"/>
              </a:solidFill>
              <a:latin typeface="Arial"/>
            </a:endParaRPr>
          </a:p>
        </p:txBody>
      </p:sp>
      <p:sp>
        <p:nvSpPr>
          <p:cNvPr id="117" name="">
            <a:hlinkClick r:id="" action="ppaction://hlinkshowjump?jump=endshow"/>
          </p:cNvPr>
          <p:cNvSpPr/>
          <p:nvPr/>
        </p:nvSpPr>
        <p:spPr>
          <a:xfrm>
            <a:off x="216000" y="6121440"/>
            <a:ext cx="1368360" cy="765000"/>
          </a:xfrm>
          <a:custGeom>
            <a:avLst/>
            <a:gdLst>
              <a:gd name="textAreaLeft" fmla="*/ 191160 w 1368360"/>
              <a:gd name="textAreaRight" fmla="*/ 1177200 w 1368360"/>
              <a:gd name="textAreaTop" fmla="*/ 191160 h 765000"/>
              <a:gd name="textAreaBottom" fmla="*/ 573840 h 765000"/>
            </a:gdLst>
            <a:ahLst/>
            <a:rect l="textAreaLeft" t="textAreaTop" r="textAreaRight" b="textAreaBottom"/>
            <a:pathLst>
              <a:path w="38628" h="21600">
                <a:moveTo>
                  <a:pt x="0" y="0"/>
                </a:moveTo>
                <a:lnTo>
                  <a:pt x="38628" y="0"/>
                </a:lnTo>
                <a:lnTo>
                  <a:pt x="38628" y="21600"/>
                </a:lnTo>
                <a:lnTo>
                  <a:pt x="0" y="21600"/>
                </a:lnTo>
                <a:close/>
              </a:path>
              <a:path fill="lightenLess" w="38628" h="21600">
                <a:moveTo>
                  <a:pt x="0" y="0"/>
                </a:moveTo>
                <a:lnTo>
                  <a:pt x="38628" y="0"/>
                </a:lnTo>
                <a:lnTo>
                  <a:pt x="33228" y="5400"/>
                </a:lnTo>
                <a:lnTo>
                  <a:pt x="5400" y="5400"/>
                </a:lnTo>
                <a:close/>
              </a:path>
              <a:path fill="darken" w="38628" h="21600">
                <a:moveTo>
                  <a:pt x="38628" y="0"/>
                </a:moveTo>
                <a:lnTo>
                  <a:pt x="38628" y="21600"/>
                </a:lnTo>
                <a:lnTo>
                  <a:pt x="33228" y="16200"/>
                </a:lnTo>
                <a:lnTo>
                  <a:pt x="33228" y="5400"/>
                </a:lnTo>
                <a:close/>
              </a:path>
              <a:path fill="darkenLess" w="38628" h="21600">
                <a:moveTo>
                  <a:pt x="38628" y="21600"/>
                </a:moveTo>
                <a:lnTo>
                  <a:pt x="0" y="21600"/>
                </a:lnTo>
                <a:lnTo>
                  <a:pt x="5400" y="16200"/>
                </a:lnTo>
                <a:lnTo>
                  <a:pt x="33228" y="16200"/>
                </a:lnTo>
                <a:close/>
              </a:path>
              <a:path fill="lighten" w="38628" h="21600">
                <a:moveTo>
                  <a:pt x="0" y="21600"/>
                </a:moveTo>
                <a:lnTo>
                  <a:pt x="0" y="0"/>
                </a:lnTo>
                <a:lnTo>
                  <a:pt x="5400" y="5400"/>
                </a:lnTo>
                <a:lnTo>
                  <a:pt x="5400" y="16200"/>
                </a:lnTo>
                <a:close/>
              </a:path>
            </a:pathLst>
          </a:custGeom>
          <a:blipFill rotWithShape="0">
            <a:blip r:embed="rId3"/>
            <a:srcRect/>
            <a:stretch/>
          </a:blipFill>
          <a:ln w="9360">
            <a:solidFill>
              <a:srgbClr val="b6a8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Monotype Corsiva"/>
              </a:rPr>
              <a:t>Salir</a:t>
            </a:r>
            <a:endParaRPr b="0" lang="en-US" sz="2400" spc="-1" strike="noStrike">
              <a:solidFill>
                <a:srgbClr val="000000"/>
              </a:solidFill>
              <a:latin typeface="Arial"/>
            </a:endParaRPr>
          </a:p>
        </p:txBody>
      </p:sp>
      <p:sp>
        <p:nvSpPr>
          <p:cNvPr id="118" name=""/>
          <p:cNvSpPr/>
          <p:nvPr/>
        </p:nvSpPr>
        <p:spPr>
          <a:xfrm>
            <a:off x="1655640" y="431640"/>
            <a:ext cx="7270920" cy="6408720"/>
          </a:xfrm>
          <a:custGeom>
            <a:avLst/>
            <a:gdLst/>
            <a:ahLst/>
            <a:rect l="l" t="t" r="r" b="b"/>
            <a:pathLst>
              <a:path w="1774" h="1408">
                <a:moveTo>
                  <a:pt x="1706" y="1224"/>
                </a:moveTo>
                <a:lnTo>
                  <a:pt x="1722" y="1161"/>
                </a:lnTo>
                <a:lnTo>
                  <a:pt x="1736" y="1098"/>
                </a:lnTo>
                <a:lnTo>
                  <a:pt x="1748" y="1034"/>
                </a:lnTo>
                <a:lnTo>
                  <a:pt x="1757" y="970"/>
                </a:lnTo>
                <a:lnTo>
                  <a:pt x="1765" y="905"/>
                </a:lnTo>
                <a:lnTo>
                  <a:pt x="1770" y="842"/>
                </a:lnTo>
                <a:lnTo>
                  <a:pt x="1773" y="777"/>
                </a:lnTo>
                <a:lnTo>
                  <a:pt x="1774" y="713"/>
                </a:lnTo>
                <a:lnTo>
                  <a:pt x="1773" y="645"/>
                </a:lnTo>
                <a:lnTo>
                  <a:pt x="1770" y="577"/>
                </a:lnTo>
                <a:lnTo>
                  <a:pt x="1764" y="510"/>
                </a:lnTo>
                <a:lnTo>
                  <a:pt x="1757" y="443"/>
                </a:lnTo>
                <a:lnTo>
                  <a:pt x="1747" y="377"/>
                </a:lnTo>
                <a:lnTo>
                  <a:pt x="1734" y="312"/>
                </a:lnTo>
                <a:lnTo>
                  <a:pt x="1720" y="248"/>
                </a:lnTo>
                <a:lnTo>
                  <a:pt x="1704" y="186"/>
                </a:lnTo>
                <a:lnTo>
                  <a:pt x="1686" y="175"/>
                </a:lnTo>
                <a:lnTo>
                  <a:pt x="1667" y="165"/>
                </a:lnTo>
                <a:lnTo>
                  <a:pt x="1648" y="154"/>
                </a:lnTo>
                <a:lnTo>
                  <a:pt x="1628" y="145"/>
                </a:lnTo>
                <a:lnTo>
                  <a:pt x="1607" y="135"/>
                </a:lnTo>
                <a:lnTo>
                  <a:pt x="1586" y="126"/>
                </a:lnTo>
                <a:lnTo>
                  <a:pt x="1565" y="118"/>
                </a:lnTo>
                <a:lnTo>
                  <a:pt x="1543" y="108"/>
                </a:lnTo>
                <a:lnTo>
                  <a:pt x="1520" y="100"/>
                </a:lnTo>
                <a:lnTo>
                  <a:pt x="1497" y="92"/>
                </a:lnTo>
                <a:lnTo>
                  <a:pt x="1474" y="85"/>
                </a:lnTo>
                <a:lnTo>
                  <a:pt x="1449" y="77"/>
                </a:lnTo>
                <a:lnTo>
                  <a:pt x="1425" y="70"/>
                </a:lnTo>
                <a:lnTo>
                  <a:pt x="1400" y="63"/>
                </a:lnTo>
                <a:lnTo>
                  <a:pt x="1376" y="58"/>
                </a:lnTo>
                <a:lnTo>
                  <a:pt x="1349" y="51"/>
                </a:lnTo>
                <a:lnTo>
                  <a:pt x="1324" y="46"/>
                </a:lnTo>
                <a:lnTo>
                  <a:pt x="1297" y="40"/>
                </a:lnTo>
                <a:lnTo>
                  <a:pt x="1270" y="35"/>
                </a:lnTo>
                <a:lnTo>
                  <a:pt x="1243" y="30"/>
                </a:lnTo>
                <a:lnTo>
                  <a:pt x="1215" y="27"/>
                </a:lnTo>
                <a:lnTo>
                  <a:pt x="1187" y="22"/>
                </a:lnTo>
                <a:lnTo>
                  <a:pt x="1159" y="19"/>
                </a:lnTo>
                <a:lnTo>
                  <a:pt x="1130" y="15"/>
                </a:lnTo>
                <a:lnTo>
                  <a:pt x="1101" y="12"/>
                </a:lnTo>
                <a:lnTo>
                  <a:pt x="1071" y="9"/>
                </a:lnTo>
                <a:lnTo>
                  <a:pt x="1043" y="7"/>
                </a:lnTo>
                <a:lnTo>
                  <a:pt x="1013" y="5"/>
                </a:lnTo>
                <a:lnTo>
                  <a:pt x="982" y="4"/>
                </a:lnTo>
                <a:lnTo>
                  <a:pt x="952" y="1"/>
                </a:lnTo>
                <a:lnTo>
                  <a:pt x="920" y="1"/>
                </a:lnTo>
                <a:lnTo>
                  <a:pt x="889" y="0"/>
                </a:lnTo>
                <a:lnTo>
                  <a:pt x="858" y="1"/>
                </a:lnTo>
                <a:lnTo>
                  <a:pt x="826" y="1"/>
                </a:lnTo>
                <a:lnTo>
                  <a:pt x="795" y="4"/>
                </a:lnTo>
                <a:lnTo>
                  <a:pt x="765" y="5"/>
                </a:lnTo>
                <a:lnTo>
                  <a:pt x="734" y="7"/>
                </a:lnTo>
                <a:lnTo>
                  <a:pt x="704" y="9"/>
                </a:lnTo>
                <a:lnTo>
                  <a:pt x="674" y="12"/>
                </a:lnTo>
                <a:lnTo>
                  <a:pt x="645" y="15"/>
                </a:lnTo>
                <a:lnTo>
                  <a:pt x="616" y="19"/>
                </a:lnTo>
                <a:lnTo>
                  <a:pt x="587" y="22"/>
                </a:lnTo>
                <a:lnTo>
                  <a:pt x="559" y="27"/>
                </a:lnTo>
                <a:lnTo>
                  <a:pt x="531" y="30"/>
                </a:lnTo>
                <a:lnTo>
                  <a:pt x="503" y="36"/>
                </a:lnTo>
                <a:lnTo>
                  <a:pt x="477" y="40"/>
                </a:lnTo>
                <a:lnTo>
                  <a:pt x="449" y="46"/>
                </a:lnTo>
                <a:lnTo>
                  <a:pt x="424" y="52"/>
                </a:lnTo>
                <a:lnTo>
                  <a:pt x="397" y="58"/>
                </a:lnTo>
                <a:lnTo>
                  <a:pt x="372" y="65"/>
                </a:lnTo>
                <a:lnTo>
                  <a:pt x="347" y="72"/>
                </a:lnTo>
                <a:lnTo>
                  <a:pt x="322" y="78"/>
                </a:lnTo>
                <a:lnTo>
                  <a:pt x="298" y="85"/>
                </a:lnTo>
                <a:lnTo>
                  <a:pt x="275" y="93"/>
                </a:lnTo>
                <a:lnTo>
                  <a:pt x="252" y="101"/>
                </a:lnTo>
                <a:lnTo>
                  <a:pt x="229" y="110"/>
                </a:lnTo>
                <a:lnTo>
                  <a:pt x="207" y="119"/>
                </a:lnTo>
                <a:lnTo>
                  <a:pt x="185" y="127"/>
                </a:lnTo>
                <a:lnTo>
                  <a:pt x="165" y="137"/>
                </a:lnTo>
                <a:lnTo>
                  <a:pt x="144" y="146"/>
                </a:lnTo>
                <a:lnTo>
                  <a:pt x="124" y="157"/>
                </a:lnTo>
                <a:lnTo>
                  <a:pt x="105" y="166"/>
                </a:lnTo>
                <a:lnTo>
                  <a:pt x="86" y="177"/>
                </a:lnTo>
                <a:lnTo>
                  <a:pt x="68" y="188"/>
                </a:lnTo>
                <a:lnTo>
                  <a:pt x="52" y="250"/>
                </a:lnTo>
                <a:lnTo>
                  <a:pt x="38" y="313"/>
                </a:lnTo>
                <a:lnTo>
                  <a:pt x="26" y="377"/>
                </a:lnTo>
                <a:lnTo>
                  <a:pt x="17" y="442"/>
                </a:lnTo>
                <a:lnTo>
                  <a:pt x="9" y="509"/>
                </a:lnTo>
                <a:lnTo>
                  <a:pt x="4" y="576"/>
                </a:lnTo>
                <a:lnTo>
                  <a:pt x="1" y="644"/>
                </a:lnTo>
                <a:lnTo>
                  <a:pt x="0" y="713"/>
                </a:lnTo>
                <a:lnTo>
                  <a:pt x="1" y="777"/>
                </a:lnTo>
                <a:lnTo>
                  <a:pt x="4" y="842"/>
                </a:lnTo>
                <a:lnTo>
                  <a:pt x="9" y="906"/>
                </a:lnTo>
                <a:lnTo>
                  <a:pt x="16" y="971"/>
                </a:lnTo>
                <a:lnTo>
                  <a:pt x="25" y="1034"/>
                </a:lnTo>
                <a:lnTo>
                  <a:pt x="37" y="1098"/>
                </a:lnTo>
                <a:lnTo>
                  <a:pt x="50" y="1160"/>
                </a:lnTo>
                <a:lnTo>
                  <a:pt x="65" y="1222"/>
                </a:lnTo>
                <a:lnTo>
                  <a:pt x="84" y="1232"/>
                </a:lnTo>
                <a:lnTo>
                  <a:pt x="102" y="1244"/>
                </a:lnTo>
                <a:lnTo>
                  <a:pt x="122" y="1253"/>
                </a:lnTo>
                <a:lnTo>
                  <a:pt x="143" y="1263"/>
                </a:lnTo>
                <a:lnTo>
                  <a:pt x="162" y="1273"/>
                </a:lnTo>
                <a:lnTo>
                  <a:pt x="184" y="1283"/>
                </a:lnTo>
                <a:lnTo>
                  <a:pt x="205" y="1291"/>
                </a:lnTo>
                <a:lnTo>
                  <a:pt x="228" y="1300"/>
                </a:lnTo>
                <a:lnTo>
                  <a:pt x="250" y="1308"/>
                </a:lnTo>
                <a:lnTo>
                  <a:pt x="273" y="1316"/>
                </a:lnTo>
                <a:lnTo>
                  <a:pt x="297" y="1324"/>
                </a:lnTo>
                <a:lnTo>
                  <a:pt x="321" y="1331"/>
                </a:lnTo>
                <a:lnTo>
                  <a:pt x="345" y="1338"/>
                </a:lnTo>
                <a:lnTo>
                  <a:pt x="371" y="1345"/>
                </a:lnTo>
                <a:lnTo>
                  <a:pt x="396" y="1352"/>
                </a:lnTo>
                <a:lnTo>
                  <a:pt x="421" y="1358"/>
                </a:lnTo>
                <a:lnTo>
                  <a:pt x="448" y="1364"/>
                </a:lnTo>
                <a:lnTo>
                  <a:pt x="474" y="1369"/>
                </a:lnTo>
                <a:lnTo>
                  <a:pt x="502" y="1374"/>
                </a:lnTo>
                <a:lnTo>
                  <a:pt x="530" y="1379"/>
                </a:lnTo>
                <a:lnTo>
                  <a:pt x="557" y="1383"/>
                </a:lnTo>
                <a:lnTo>
                  <a:pt x="586" y="1388"/>
                </a:lnTo>
                <a:lnTo>
                  <a:pt x="615" y="1391"/>
                </a:lnTo>
                <a:lnTo>
                  <a:pt x="644" y="1395"/>
                </a:lnTo>
                <a:lnTo>
                  <a:pt x="673" y="1397"/>
                </a:lnTo>
                <a:lnTo>
                  <a:pt x="703" y="1400"/>
                </a:lnTo>
                <a:lnTo>
                  <a:pt x="734" y="1403"/>
                </a:lnTo>
                <a:lnTo>
                  <a:pt x="764" y="1404"/>
                </a:lnTo>
                <a:lnTo>
                  <a:pt x="795" y="1406"/>
                </a:lnTo>
                <a:lnTo>
                  <a:pt x="826" y="1407"/>
                </a:lnTo>
                <a:lnTo>
                  <a:pt x="857" y="1408"/>
                </a:lnTo>
                <a:lnTo>
                  <a:pt x="889" y="1408"/>
                </a:lnTo>
                <a:lnTo>
                  <a:pt x="920" y="1408"/>
                </a:lnTo>
                <a:lnTo>
                  <a:pt x="952" y="1407"/>
                </a:lnTo>
                <a:lnTo>
                  <a:pt x="983" y="1406"/>
                </a:lnTo>
                <a:lnTo>
                  <a:pt x="1013" y="1404"/>
                </a:lnTo>
                <a:lnTo>
                  <a:pt x="1043" y="1403"/>
                </a:lnTo>
                <a:lnTo>
                  <a:pt x="1073" y="1400"/>
                </a:lnTo>
                <a:lnTo>
                  <a:pt x="1101" y="1397"/>
                </a:lnTo>
                <a:lnTo>
                  <a:pt x="1131" y="1395"/>
                </a:lnTo>
                <a:lnTo>
                  <a:pt x="1160" y="1391"/>
                </a:lnTo>
                <a:lnTo>
                  <a:pt x="1188" y="1388"/>
                </a:lnTo>
                <a:lnTo>
                  <a:pt x="1217" y="1383"/>
                </a:lnTo>
                <a:lnTo>
                  <a:pt x="1244" y="1379"/>
                </a:lnTo>
                <a:lnTo>
                  <a:pt x="1271" y="1374"/>
                </a:lnTo>
                <a:lnTo>
                  <a:pt x="1298" y="1369"/>
                </a:lnTo>
                <a:lnTo>
                  <a:pt x="1325" y="1364"/>
                </a:lnTo>
                <a:lnTo>
                  <a:pt x="1351" y="1358"/>
                </a:lnTo>
                <a:lnTo>
                  <a:pt x="1377" y="1352"/>
                </a:lnTo>
                <a:lnTo>
                  <a:pt x="1402" y="1346"/>
                </a:lnTo>
                <a:lnTo>
                  <a:pt x="1427" y="1339"/>
                </a:lnTo>
                <a:lnTo>
                  <a:pt x="1452" y="1332"/>
                </a:lnTo>
                <a:lnTo>
                  <a:pt x="1476" y="1324"/>
                </a:lnTo>
                <a:lnTo>
                  <a:pt x="1499" y="1318"/>
                </a:lnTo>
                <a:lnTo>
                  <a:pt x="1522" y="1309"/>
                </a:lnTo>
                <a:lnTo>
                  <a:pt x="1545" y="1301"/>
                </a:lnTo>
                <a:lnTo>
                  <a:pt x="1567" y="1292"/>
                </a:lnTo>
                <a:lnTo>
                  <a:pt x="1588" y="1284"/>
                </a:lnTo>
                <a:lnTo>
                  <a:pt x="1610" y="1275"/>
                </a:lnTo>
                <a:lnTo>
                  <a:pt x="1629" y="1265"/>
                </a:lnTo>
                <a:lnTo>
                  <a:pt x="1650" y="1255"/>
                </a:lnTo>
                <a:lnTo>
                  <a:pt x="1669" y="1245"/>
                </a:lnTo>
                <a:lnTo>
                  <a:pt x="1688" y="1235"/>
                </a:lnTo>
                <a:lnTo>
                  <a:pt x="1706" y="1224"/>
                </a:lnTo>
                <a:close/>
              </a:path>
            </a:pathLst>
          </a:custGeom>
          <a:blipFill rotWithShape="0">
            <a:blip r:embed="rId4"/>
            <a:srcRect/>
            <a:stretch/>
          </a:blip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txBox="1"/>
          <p:nvPr/>
        </p:nvSpPr>
        <p:spPr>
          <a:xfrm rot="16200000">
            <a:off x="7777800" y="3527640"/>
            <a:ext cx="57596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5"/>
                  <a:srcRect/>
                  <a:stretch/>
                </a:blipFill>
                <a:effectLst>
                  <a:outerShdw dist="17819" dir="2700000" blurRad="0" rotWithShape="0">
                    <a:srgbClr val="989898"/>
                  </a:outerShdw>
                </a:effectLst>
                <a:latin typeface="Monotype Corsiva"/>
              </a:rPr>
              <a:t>Tren al Tibet</a:t>
            </a:r>
            <a:endParaRPr b="1" lang="en-US" sz="1800" spc="1" strike="noStrike">
              <a:ln w="0">
                <a:noFill/>
              </a:ln>
              <a:blipFill rotWithShape="0">
                <a:blip r:embed="rId6"/>
                <a:srcRect/>
                <a:stretch/>
              </a:blipFill>
              <a:effectLst>
                <a:outerShdw dist="17819" dir="2700000" blurRad="0" rotWithShape="0">
                  <a:srgbClr val="989898"/>
                </a:outerShdw>
              </a:effectLst>
              <a:latin typeface="Monotype Corsiva"/>
              <a:ea typeface="Monotype Corsiva"/>
            </a:endParaRPr>
          </a:p>
        </p:txBody>
      </p:sp>
      <p:sp>
        <p:nvSpPr>
          <p:cNvPr id="120" name=""/>
          <p:cNvSpPr txBox="1"/>
          <p:nvPr/>
        </p:nvSpPr>
        <p:spPr>
          <a:xfrm>
            <a:off x="7705800" y="6337440"/>
            <a:ext cx="2016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7"/>
                  <a:srcRect/>
                  <a:stretch/>
                </a:blipFill>
                <a:effectLst>
                  <a:outerShdw dist="17819" dir="2700000" blurRad="0" rotWithShape="0">
                    <a:srgbClr val="989898"/>
                  </a:outerShdw>
                </a:effectLst>
                <a:latin typeface="Monotype Corsiva"/>
              </a:rPr>
              <a:t>PePeeSe 2009</a:t>
            </a:r>
            <a:endParaRPr b="1" lang="en-US" sz="2800" spc="1" strike="noStrike">
              <a:ln w="0">
                <a:noFill/>
              </a:ln>
              <a:blipFill rotWithShape="0">
                <a:blip r:embed="rId8"/>
                <a:srcRect/>
                <a:stretch/>
              </a:blipFill>
              <a:effectLst>
                <a:outerShdw dist="17819" dir="2700000" blurRad="0" rotWithShape="0">
                  <a:srgbClr val="989898"/>
                </a:outerShdw>
              </a:effectLst>
              <a:latin typeface="Monotype Corsiva"/>
              <a:ea typeface="Monotype Corsiva"/>
            </a:endParaRPr>
          </a:p>
        </p:txBody>
      </p:sp>
      <p:graphicFrame>
        <p:nvGraphicFramePr>
          <p:cNvPr id="121" name=""/>
          <p:cNvGraphicFramePr/>
          <p:nvPr/>
        </p:nvGraphicFramePr>
        <p:xfrm>
          <a:off x="1871640" y="1585800"/>
          <a:ext cx="7273800" cy="4535280"/>
        </p:xfrm>
        <a:graphic>
          <a:graphicData uri="http://schemas.openxmlformats.org/drawingml/2006/table">
            <a:tbl>
              <a:tblPr/>
              <a:tblGrid>
                <a:gridCol w="2020320"/>
                <a:gridCol w="312120"/>
                <a:gridCol w="4941360"/>
              </a:tblGrid>
              <a:tr h="831240">
                <a:tc>
                  <a:txBody>
                    <a:bodyPr lIns="17280" rIns="17280" tIns="10440" bIns="10440" anchor="t">
                      <a:noAutofit/>
                    </a:bodyPr>
                    <a:p>
                      <a:pPr algn="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Fotos :</a:t>
                      </a:r>
                      <a:endParaRPr b="0" lang="en-US" sz="26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Internet - Flickr.com</a:t>
                      </a:r>
                      <a:endParaRPr b="0" lang="en-US" sz="2600" spc="-1" strike="noStrike">
                        <a:solidFill>
                          <a:srgbClr val="000000"/>
                        </a:solidFill>
                        <a:latin typeface="Arial"/>
                      </a:endParaRPr>
                    </a:p>
                  </a:txBody>
                  <a:tcPr anchor="t" marL="17280" marR="17280">
                    <a:lnL>
                      <a:noFill/>
                    </a:lnL>
                    <a:lnR>
                      <a:noFill/>
                    </a:lnR>
                    <a:lnT>
                      <a:noFill/>
                    </a:lnT>
                    <a:lnB>
                      <a:noFill/>
                    </a:lnB>
                    <a:noFill/>
                  </a:tcPr>
                </a:tc>
              </a:tr>
              <a:tr h="1032480">
                <a:tc>
                  <a:txBody>
                    <a:bodyPr lIns="17280" rIns="17280" tIns="10440" bIns="10440" anchor="t">
                      <a:noAutofit/>
                    </a:bodyPr>
                    <a:p>
                      <a:pPr algn="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Documentación :</a:t>
                      </a:r>
                      <a:endParaRPr b="0" lang="en-US" sz="26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http://www.tangulaluxurytrains.com</a:t>
                      </a:r>
                      <a:endParaRPr b="0" lang="en-US" sz="2600" spc="-1" strike="noStrike">
                        <a:solidFill>
                          <a:srgbClr val="000000"/>
                        </a:solidFill>
                        <a:latin typeface="Arial"/>
                      </a:endParaRPr>
                    </a:p>
                  </a:txBody>
                  <a:tcPr anchor="t" marL="17280" marR="17280">
                    <a:lnL>
                      <a:noFill/>
                    </a:lnL>
                    <a:lnR>
                      <a:noFill/>
                    </a:lnR>
                    <a:lnT>
                      <a:noFill/>
                    </a:lnT>
                    <a:lnB>
                      <a:noFill/>
                    </a:lnB>
                    <a:noFill/>
                  </a:tcPr>
                </a:tc>
              </a:tr>
              <a:tr h="887040">
                <a:tc>
                  <a:txBody>
                    <a:bodyPr lIns="17280" rIns="17280" tIns="10440" bIns="10440" anchor="t">
                      <a:noAutofit/>
                    </a:bodyPr>
                    <a:p>
                      <a:pPr algn="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Edición :</a:t>
                      </a:r>
                      <a:endParaRPr b="0" lang="en-US" sz="26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Powerpoint - 2003</a:t>
                      </a:r>
                      <a:endParaRPr b="0" lang="en-US" sz="2600" spc="-1" strike="noStrike">
                        <a:solidFill>
                          <a:srgbClr val="000000"/>
                        </a:solidFill>
                        <a:latin typeface="Arial"/>
                      </a:endParaRPr>
                    </a:p>
                  </a:txBody>
                  <a:tcPr anchor="t" marL="17280" marR="17280">
                    <a:lnL>
                      <a:noFill/>
                    </a:lnL>
                    <a:lnR>
                      <a:noFill/>
                    </a:lnR>
                    <a:lnT>
                      <a:noFill/>
                    </a:lnT>
                    <a:lnB>
                      <a:noFill/>
                    </a:lnB>
                    <a:noFill/>
                  </a:tcPr>
                </a:tc>
              </a:tr>
              <a:tr h="803160">
                <a:tc>
                  <a:txBody>
                    <a:bodyPr lIns="17280" rIns="17280" tIns="10440" bIns="10440" anchor="t">
                      <a:noAutofit/>
                    </a:bodyPr>
                    <a:p>
                      <a:pPr algn="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Montaje :</a:t>
                      </a:r>
                      <a:endParaRPr b="0" lang="en-US" sz="26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000000"/>
                        </a:solidFill>
                        <a:latin typeface="Arial"/>
                      </a:endParaRPr>
                    </a:p>
                  </a:txBody>
                  <a:tcPr anchor="t" marL="17280" marR="17280">
                    <a:lnL>
                      <a:noFill/>
                    </a:lnL>
                    <a:lnR>
                      <a:noFill/>
                    </a:lnR>
                    <a:lnT>
                      <a:noFill/>
                    </a:lnT>
                    <a:lnB>
                      <a:noFill/>
                    </a:lnB>
                    <a:noFill/>
                  </a:tcPr>
                </a:tc>
                <a:tc>
                  <a:txBody>
                    <a:bodyPr lIns="17280" rIns="17280" tIns="10440" bIns="10440" anchor="t">
                      <a:noAutofit/>
                    </a:bodyPr>
                    <a:p>
                      <a:pP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El Taller del PePeeSe</a:t>
                      </a:r>
                      <a:endParaRPr b="0" lang="en-US" sz="2600" spc="-1" strike="noStrike">
                        <a:solidFill>
                          <a:srgbClr val="000000"/>
                        </a:solidFill>
                        <a:latin typeface="Arial"/>
                      </a:endParaRPr>
                    </a:p>
                  </a:txBody>
                  <a:tcPr anchor="t" marL="17280" marR="17280">
                    <a:lnL>
                      <a:noFill/>
                    </a:lnL>
                    <a:lnR>
                      <a:noFill/>
                    </a:lnR>
                    <a:lnT>
                      <a:noFill/>
                    </a:lnT>
                    <a:lnB>
                      <a:noFill/>
                    </a:lnB>
                    <a:noFill/>
                  </a:tcPr>
                </a:tc>
              </a:tr>
              <a:tr h="981360">
                <a:tc gridSpan="3">
                  <a:txBody>
                    <a:bodyPr lIns="17280" rIns="17280" tIns="10440" bIns="10440" anchor="t">
                      <a:noAutofit/>
                    </a:bodyPr>
                    <a:p>
                      <a:pPr algn="ctr">
                        <a:lnSpc>
                          <a:spcPct val="100000"/>
                        </a:lnSpc>
                        <a:spcBef>
                          <a:spcPts val="649"/>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s-ES_tradnl" sz="2600" spc="-1" strike="noStrike">
                          <a:solidFill>
                            <a:srgbClr val="000000"/>
                          </a:solidFill>
                          <a:latin typeface="Monotype Corsiva"/>
                        </a:rPr>
                        <a:t>Octubre - 2009</a:t>
                      </a:r>
                      <a:endParaRPr b="0" lang="en-US" sz="2600" spc="-1" strike="noStrike">
                        <a:solidFill>
                          <a:srgbClr val="000000"/>
                        </a:solidFill>
                        <a:latin typeface="Arial"/>
                      </a:endParaRPr>
                    </a:p>
                  </a:txBody>
                  <a:tcPr anchor="t" marL="17280" marR="172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a:off x="1871640" y="647640"/>
            <a:ext cx="6912000" cy="5937480"/>
          </a:xfrm>
          <a:custGeom>
            <a:avLst/>
            <a:gdLst/>
            <a:ahLst/>
            <a:rect l="l" t="t" r="r" b="b"/>
            <a:pathLst>
              <a:path w="1774" h="1408">
                <a:moveTo>
                  <a:pt x="1706" y="1224"/>
                </a:moveTo>
                <a:lnTo>
                  <a:pt x="1722" y="1161"/>
                </a:lnTo>
                <a:lnTo>
                  <a:pt x="1736" y="1098"/>
                </a:lnTo>
                <a:lnTo>
                  <a:pt x="1748" y="1034"/>
                </a:lnTo>
                <a:lnTo>
                  <a:pt x="1757" y="970"/>
                </a:lnTo>
                <a:lnTo>
                  <a:pt x="1765" y="905"/>
                </a:lnTo>
                <a:lnTo>
                  <a:pt x="1770" y="842"/>
                </a:lnTo>
                <a:lnTo>
                  <a:pt x="1773" y="777"/>
                </a:lnTo>
                <a:lnTo>
                  <a:pt x="1774" y="713"/>
                </a:lnTo>
                <a:lnTo>
                  <a:pt x="1773" y="645"/>
                </a:lnTo>
                <a:lnTo>
                  <a:pt x="1770" y="577"/>
                </a:lnTo>
                <a:lnTo>
                  <a:pt x="1764" y="510"/>
                </a:lnTo>
                <a:lnTo>
                  <a:pt x="1757" y="443"/>
                </a:lnTo>
                <a:lnTo>
                  <a:pt x="1747" y="377"/>
                </a:lnTo>
                <a:lnTo>
                  <a:pt x="1734" y="312"/>
                </a:lnTo>
                <a:lnTo>
                  <a:pt x="1720" y="248"/>
                </a:lnTo>
                <a:lnTo>
                  <a:pt x="1704" y="186"/>
                </a:lnTo>
                <a:lnTo>
                  <a:pt x="1686" y="175"/>
                </a:lnTo>
                <a:lnTo>
                  <a:pt x="1667" y="165"/>
                </a:lnTo>
                <a:lnTo>
                  <a:pt x="1648" y="154"/>
                </a:lnTo>
                <a:lnTo>
                  <a:pt x="1628" y="145"/>
                </a:lnTo>
                <a:lnTo>
                  <a:pt x="1607" y="135"/>
                </a:lnTo>
                <a:lnTo>
                  <a:pt x="1586" y="126"/>
                </a:lnTo>
                <a:lnTo>
                  <a:pt x="1565" y="118"/>
                </a:lnTo>
                <a:lnTo>
                  <a:pt x="1543" y="108"/>
                </a:lnTo>
                <a:lnTo>
                  <a:pt x="1520" y="100"/>
                </a:lnTo>
                <a:lnTo>
                  <a:pt x="1497" y="92"/>
                </a:lnTo>
                <a:lnTo>
                  <a:pt x="1474" y="85"/>
                </a:lnTo>
                <a:lnTo>
                  <a:pt x="1449" y="77"/>
                </a:lnTo>
                <a:lnTo>
                  <a:pt x="1425" y="70"/>
                </a:lnTo>
                <a:lnTo>
                  <a:pt x="1400" y="63"/>
                </a:lnTo>
                <a:lnTo>
                  <a:pt x="1376" y="58"/>
                </a:lnTo>
                <a:lnTo>
                  <a:pt x="1349" y="51"/>
                </a:lnTo>
                <a:lnTo>
                  <a:pt x="1324" y="46"/>
                </a:lnTo>
                <a:lnTo>
                  <a:pt x="1297" y="40"/>
                </a:lnTo>
                <a:lnTo>
                  <a:pt x="1270" y="35"/>
                </a:lnTo>
                <a:lnTo>
                  <a:pt x="1243" y="30"/>
                </a:lnTo>
                <a:lnTo>
                  <a:pt x="1215" y="27"/>
                </a:lnTo>
                <a:lnTo>
                  <a:pt x="1187" y="22"/>
                </a:lnTo>
                <a:lnTo>
                  <a:pt x="1159" y="19"/>
                </a:lnTo>
                <a:lnTo>
                  <a:pt x="1130" y="15"/>
                </a:lnTo>
                <a:lnTo>
                  <a:pt x="1101" y="12"/>
                </a:lnTo>
                <a:lnTo>
                  <a:pt x="1071" y="9"/>
                </a:lnTo>
                <a:lnTo>
                  <a:pt x="1043" y="7"/>
                </a:lnTo>
                <a:lnTo>
                  <a:pt x="1013" y="5"/>
                </a:lnTo>
                <a:lnTo>
                  <a:pt x="982" y="4"/>
                </a:lnTo>
                <a:lnTo>
                  <a:pt x="952" y="1"/>
                </a:lnTo>
                <a:lnTo>
                  <a:pt x="920" y="1"/>
                </a:lnTo>
                <a:lnTo>
                  <a:pt x="889" y="0"/>
                </a:lnTo>
                <a:lnTo>
                  <a:pt x="858" y="1"/>
                </a:lnTo>
                <a:lnTo>
                  <a:pt x="826" y="1"/>
                </a:lnTo>
                <a:lnTo>
                  <a:pt x="795" y="4"/>
                </a:lnTo>
                <a:lnTo>
                  <a:pt x="765" y="5"/>
                </a:lnTo>
                <a:lnTo>
                  <a:pt x="734" y="7"/>
                </a:lnTo>
                <a:lnTo>
                  <a:pt x="704" y="9"/>
                </a:lnTo>
                <a:lnTo>
                  <a:pt x="674" y="12"/>
                </a:lnTo>
                <a:lnTo>
                  <a:pt x="645" y="15"/>
                </a:lnTo>
                <a:lnTo>
                  <a:pt x="616" y="19"/>
                </a:lnTo>
                <a:lnTo>
                  <a:pt x="587" y="22"/>
                </a:lnTo>
                <a:lnTo>
                  <a:pt x="559" y="27"/>
                </a:lnTo>
                <a:lnTo>
                  <a:pt x="531" y="30"/>
                </a:lnTo>
                <a:lnTo>
                  <a:pt x="503" y="36"/>
                </a:lnTo>
                <a:lnTo>
                  <a:pt x="477" y="40"/>
                </a:lnTo>
                <a:lnTo>
                  <a:pt x="449" y="46"/>
                </a:lnTo>
                <a:lnTo>
                  <a:pt x="424" y="52"/>
                </a:lnTo>
                <a:lnTo>
                  <a:pt x="397" y="58"/>
                </a:lnTo>
                <a:lnTo>
                  <a:pt x="372" y="65"/>
                </a:lnTo>
                <a:lnTo>
                  <a:pt x="347" y="72"/>
                </a:lnTo>
                <a:lnTo>
                  <a:pt x="322" y="78"/>
                </a:lnTo>
                <a:lnTo>
                  <a:pt x="298" y="85"/>
                </a:lnTo>
                <a:lnTo>
                  <a:pt x="275" y="93"/>
                </a:lnTo>
                <a:lnTo>
                  <a:pt x="252" y="101"/>
                </a:lnTo>
                <a:lnTo>
                  <a:pt x="229" y="110"/>
                </a:lnTo>
                <a:lnTo>
                  <a:pt x="207" y="119"/>
                </a:lnTo>
                <a:lnTo>
                  <a:pt x="185" y="127"/>
                </a:lnTo>
                <a:lnTo>
                  <a:pt x="165" y="137"/>
                </a:lnTo>
                <a:lnTo>
                  <a:pt x="144" y="146"/>
                </a:lnTo>
                <a:lnTo>
                  <a:pt x="124" y="157"/>
                </a:lnTo>
                <a:lnTo>
                  <a:pt x="105" y="166"/>
                </a:lnTo>
                <a:lnTo>
                  <a:pt x="86" y="177"/>
                </a:lnTo>
                <a:lnTo>
                  <a:pt x="68" y="188"/>
                </a:lnTo>
                <a:lnTo>
                  <a:pt x="52" y="250"/>
                </a:lnTo>
                <a:lnTo>
                  <a:pt x="38" y="313"/>
                </a:lnTo>
                <a:lnTo>
                  <a:pt x="26" y="377"/>
                </a:lnTo>
                <a:lnTo>
                  <a:pt x="17" y="442"/>
                </a:lnTo>
                <a:lnTo>
                  <a:pt x="9" y="509"/>
                </a:lnTo>
                <a:lnTo>
                  <a:pt x="4" y="576"/>
                </a:lnTo>
                <a:lnTo>
                  <a:pt x="1" y="644"/>
                </a:lnTo>
                <a:lnTo>
                  <a:pt x="0" y="713"/>
                </a:lnTo>
                <a:lnTo>
                  <a:pt x="1" y="777"/>
                </a:lnTo>
                <a:lnTo>
                  <a:pt x="4" y="842"/>
                </a:lnTo>
                <a:lnTo>
                  <a:pt x="9" y="906"/>
                </a:lnTo>
                <a:lnTo>
                  <a:pt x="16" y="971"/>
                </a:lnTo>
                <a:lnTo>
                  <a:pt x="25" y="1034"/>
                </a:lnTo>
                <a:lnTo>
                  <a:pt x="37" y="1098"/>
                </a:lnTo>
                <a:lnTo>
                  <a:pt x="50" y="1160"/>
                </a:lnTo>
                <a:lnTo>
                  <a:pt x="65" y="1222"/>
                </a:lnTo>
                <a:lnTo>
                  <a:pt x="84" y="1232"/>
                </a:lnTo>
                <a:lnTo>
                  <a:pt x="102" y="1244"/>
                </a:lnTo>
                <a:lnTo>
                  <a:pt x="122" y="1253"/>
                </a:lnTo>
                <a:lnTo>
                  <a:pt x="143" y="1263"/>
                </a:lnTo>
                <a:lnTo>
                  <a:pt x="162" y="1273"/>
                </a:lnTo>
                <a:lnTo>
                  <a:pt x="184" y="1283"/>
                </a:lnTo>
                <a:lnTo>
                  <a:pt x="205" y="1291"/>
                </a:lnTo>
                <a:lnTo>
                  <a:pt x="228" y="1300"/>
                </a:lnTo>
                <a:lnTo>
                  <a:pt x="250" y="1308"/>
                </a:lnTo>
                <a:lnTo>
                  <a:pt x="273" y="1316"/>
                </a:lnTo>
                <a:lnTo>
                  <a:pt x="297" y="1324"/>
                </a:lnTo>
                <a:lnTo>
                  <a:pt x="321" y="1331"/>
                </a:lnTo>
                <a:lnTo>
                  <a:pt x="345" y="1338"/>
                </a:lnTo>
                <a:lnTo>
                  <a:pt x="371" y="1345"/>
                </a:lnTo>
                <a:lnTo>
                  <a:pt x="396" y="1352"/>
                </a:lnTo>
                <a:lnTo>
                  <a:pt x="421" y="1358"/>
                </a:lnTo>
                <a:lnTo>
                  <a:pt x="448" y="1364"/>
                </a:lnTo>
                <a:lnTo>
                  <a:pt x="474" y="1369"/>
                </a:lnTo>
                <a:lnTo>
                  <a:pt x="502" y="1374"/>
                </a:lnTo>
                <a:lnTo>
                  <a:pt x="530" y="1379"/>
                </a:lnTo>
                <a:lnTo>
                  <a:pt x="557" y="1383"/>
                </a:lnTo>
                <a:lnTo>
                  <a:pt x="586" y="1388"/>
                </a:lnTo>
                <a:lnTo>
                  <a:pt x="615" y="1391"/>
                </a:lnTo>
                <a:lnTo>
                  <a:pt x="644" y="1395"/>
                </a:lnTo>
                <a:lnTo>
                  <a:pt x="673" y="1397"/>
                </a:lnTo>
                <a:lnTo>
                  <a:pt x="703" y="1400"/>
                </a:lnTo>
                <a:lnTo>
                  <a:pt x="734" y="1403"/>
                </a:lnTo>
                <a:lnTo>
                  <a:pt x="764" y="1404"/>
                </a:lnTo>
                <a:lnTo>
                  <a:pt x="795" y="1406"/>
                </a:lnTo>
                <a:lnTo>
                  <a:pt x="826" y="1407"/>
                </a:lnTo>
                <a:lnTo>
                  <a:pt x="857" y="1408"/>
                </a:lnTo>
                <a:lnTo>
                  <a:pt x="889" y="1408"/>
                </a:lnTo>
                <a:lnTo>
                  <a:pt x="920" y="1408"/>
                </a:lnTo>
                <a:lnTo>
                  <a:pt x="952" y="1407"/>
                </a:lnTo>
                <a:lnTo>
                  <a:pt x="983" y="1406"/>
                </a:lnTo>
                <a:lnTo>
                  <a:pt x="1013" y="1404"/>
                </a:lnTo>
                <a:lnTo>
                  <a:pt x="1043" y="1403"/>
                </a:lnTo>
                <a:lnTo>
                  <a:pt x="1073" y="1400"/>
                </a:lnTo>
                <a:lnTo>
                  <a:pt x="1101" y="1397"/>
                </a:lnTo>
                <a:lnTo>
                  <a:pt x="1131" y="1395"/>
                </a:lnTo>
                <a:lnTo>
                  <a:pt x="1160" y="1391"/>
                </a:lnTo>
                <a:lnTo>
                  <a:pt x="1188" y="1388"/>
                </a:lnTo>
                <a:lnTo>
                  <a:pt x="1217" y="1383"/>
                </a:lnTo>
                <a:lnTo>
                  <a:pt x="1244" y="1379"/>
                </a:lnTo>
                <a:lnTo>
                  <a:pt x="1271" y="1374"/>
                </a:lnTo>
                <a:lnTo>
                  <a:pt x="1298" y="1369"/>
                </a:lnTo>
                <a:lnTo>
                  <a:pt x="1325" y="1364"/>
                </a:lnTo>
                <a:lnTo>
                  <a:pt x="1351" y="1358"/>
                </a:lnTo>
                <a:lnTo>
                  <a:pt x="1377" y="1352"/>
                </a:lnTo>
                <a:lnTo>
                  <a:pt x="1402" y="1346"/>
                </a:lnTo>
                <a:lnTo>
                  <a:pt x="1427" y="1339"/>
                </a:lnTo>
                <a:lnTo>
                  <a:pt x="1452" y="1332"/>
                </a:lnTo>
                <a:lnTo>
                  <a:pt x="1476" y="1324"/>
                </a:lnTo>
                <a:lnTo>
                  <a:pt x="1499" y="1318"/>
                </a:lnTo>
                <a:lnTo>
                  <a:pt x="1522" y="1309"/>
                </a:lnTo>
                <a:lnTo>
                  <a:pt x="1545" y="1301"/>
                </a:lnTo>
                <a:lnTo>
                  <a:pt x="1567" y="1292"/>
                </a:lnTo>
                <a:lnTo>
                  <a:pt x="1588" y="1284"/>
                </a:lnTo>
                <a:lnTo>
                  <a:pt x="1610" y="1275"/>
                </a:lnTo>
                <a:lnTo>
                  <a:pt x="1629" y="1265"/>
                </a:lnTo>
                <a:lnTo>
                  <a:pt x="1650" y="1255"/>
                </a:lnTo>
                <a:lnTo>
                  <a:pt x="1669" y="1245"/>
                </a:lnTo>
                <a:lnTo>
                  <a:pt x="1688" y="1235"/>
                </a:lnTo>
                <a:lnTo>
                  <a:pt x="1706" y="1224"/>
                </a:lnTo>
                <a:close/>
              </a:path>
            </a:pathLst>
          </a:custGeom>
          <a:blipFill rotWithShape="0">
            <a:blip r:embed="rId9"/>
            <a:srcRect/>
            <a:stretch/>
          </a:blip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txBox="1"/>
          <p:nvPr/>
        </p:nvSpPr>
        <p:spPr>
          <a:xfrm>
            <a:off x="2951280" y="4610160"/>
            <a:ext cx="3889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0"/>
                  <a:srcRect/>
                  <a:stretch/>
                </a:blipFill>
                <a:effectLst>
                  <a:outerShdw dist="17819" dir="2700000" blurRad="0" rotWithShape="0">
                    <a:srgbClr val="989898"/>
                  </a:outerShdw>
                </a:effectLst>
                <a:latin typeface="Monotype Corsiva"/>
              </a:rPr>
              <a:t>Final</a:t>
            </a:r>
            <a:endParaRPr b="1" lang="en-US" sz="2800" spc="1" strike="noStrike">
              <a:ln w="0">
                <a:noFill/>
              </a:ln>
              <a:blipFill rotWithShape="0">
                <a:blip r:embed="rId11"/>
                <a:srcRect/>
                <a:stretch/>
              </a:blipFill>
              <a:effectLst>
                <a:outerShdw dist="17819" dir="2700000" blurRad="0" rotWithShape="0">
                  <a:srgbClr val="989898"/>
                </a:outerShdw>
              </a:effectLst>
              <a:latin typeface="Monotype Corsiva"/>
              <a:ea typeface="Monotype Corsiva"/>
            </a:endParaRPr>
          </a:p>
        </p:txBody>
      </p:sp>
    </p:spTree>
  </p:cSld>
  <p:transition spd="slow">
    <p:wedg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0">
                                  <p:stCondLst>
                                    <p:cond delay="2000"/>
                                  </p:stCondLst>
                                  <p:childTnLst>
                                    <p:set>
                                      <p:cBhvr>
                                        <p:cTn id="37" dur="1" fill="hold">
                                          <p:stCondLst>
                                            <p:cond delay="0"/>
                                          </p:stCondLst>
                                        </p:cTn>
                                        <p:tgtEl>
                                          <p:spTgt spid="122"/>
                                        </p:tgtEl>
                                        <p:attrNameLst>
                                          <p:attrName>style.visibility</p:attrName>
                                        </p:attrNameLst>
                                      </p:cBhvr>
                                      <p:to>
                                        <p:strVal val="visible"/>
                                      </p:to>
                                    </p:set>
                                    <p:animEffect filter="fade" transition="in">
                                      <p:cBhvr additive="repl">
                                        <p:cTn id="38" dur="2000"/>
                                        <p:tgtEl>
                                          <p:spTgt spid="122"/>
                                        </p:tgtEl>
                                      </p:cBhvr>
                                    </p:animEffect>
                                  </p:childTnLst>
                                </p:cTn>
                              </p:par>
                            </p:childTnLst>
                          </p:cTn>
                        </p:par>
                        <p:par>
                          <p:cTn id="39" fill="hold">
                            <p:stCondLst>
                              <p:cond delay="4000"/>
                            </p:stCondLst>
                            <p:childTnLst>
                              <p:par>
                                <p:cTn id="40" nodeType="afterEffect" fill="hold" presetClass="entr" presetID="35">
                                  <p:stCondLst>
                                    <p:cond delay="0"/>
                                  </p:stCondLst>
                                  <p:childTnLst>
                                    <p:set>
                                      <p:cBhvr>
                                        <p:cTn id="41" dur="1" fill="hold">
                                          <p:stCondLst>
                                            <p:cond delay="0"/>
                                          </p:stCondLst>
                                        </p:cTn>
                                        <p:tgtEl>
                                          <p:spTgt spid="123"/>
                                        </p:tgtEl>
                                        <p:attrNameLst>
                                          <p:attrName>style.visibility</p:attrName>
                                        </p:attrNameLst>
                                      </p:cBhvr>
                                      <p:to>
                                        <p:strVal val="visible"/>
                                      </p:to>
                                    </p:set>
                                    <p:animEffect filter="fade" transition="in">
                                      <p:cBhvr additive="repl">
                                        <p:cTn id="42" dur="2000"/>
                                        <p:tgtEl>
                                          <p:spTgt spid="123"/>
                                        </p:tgtEl>
                                      </p:cBhvr>
                                    </p:animEffect>
                                    <p:anim calcmode="lin" valueType="num">
                                      <p:cBhvr additive="repl">
                                        <p:cTn id="43" dur="2000" fill="hold"/>
                                        <p:tgtEl>
                                          <p:spTgt spid="123"/>
                                        </p:tgtEl>
                                        <p:attrNameLst>
                                          <p:attrName>r</p:attrName>
                                        </p:attrNameLst>
                                      </p:cBhvr>
                                      <p:tavLst>
                                        <p:tav tm="0">
                                          <p:val>
                                            <p:strVal val="720"/>
                                          </p:val>
                                        </p:tav>
                                        <p:tav tm="100000">
                                          <p:val>
                                            <p:strVal val="0"/>
                                          </p:val>
                                        </p:tav>
                                      </p:tavLst>
                                    </p:anim>
                                    <p:anim calcmode="lin" valueType="num">
                                      <p:cBhvr additive="repl">
                                        <p:cTn id="44" dur="2000" fill="hold"/>
                                        <p:tgtEl>
                                          <p:spTgt spid="123"/>
                                        </p:tgtEl>
                                        <p:attrNameLst>
                                          <p:attrName>ppt_h</p:attrName>
                                        </p:attrNameLst>
                                      </p:cBhvr>
                                      <p:tavLst>
                                        <p:tav tm="0">
                                          <p:val>
                                            <p:fltVal val="0"/>
                                          </p:val>
                                        </p:tav>
                                        <p:tav tm="100000">
                                          <p:val>
                                            <p:strVal val="#ppt_h"/>
                                          </p:val>
                                        </p:tav>
                                      </p:tavLst>
                                    </p:anim>
                                    <p:anim calcmode="lin" valueType="num">
                                      <p:cBhvr additive="repl">
                                        <p:cTn id="45" dur="2000" fill="hold"/>
                                        <p:tgtEl>
                                          <p:spTgt spid="123"/>
                                        </p:tgtEl>
                                        <p:attrNameLst>
                                          <p:attrName>ppt_w</p:attrName>
                                        </p:attrNameLst>
                                      </p:cBhvr>
                                      <p:tavLst>
                                        <p:tav tm="0">
                                          <p:val>
                                            <p:fltVal val="0"/>
                                          </p:val>
                                        </p:tav>
                                        <p:tav tm="100000">
                                          <p:val>
                                            <p:strVal val="#ppt_w"/>
                                          </p:val>
                                        </p:tav>
                                      </p:tavLst>
                                    </p:anim>
                                  </p:childTnLst>
                                </p:cTn>
                              </p:par>
                            </p:childTnLst>
                          </p:cTn>
                        </p:par>
                        <p:par>
                          <p:cTn id="46" fill="hold">
                            <p:stCondLst>
                              <p:cond delay="6000"/>
                            </p:stCondLst>
                            <p:childTnLst>
                              <p:par>
                                <p:cTn id="47" nodeType="afterEffect" fill="hold" presetClass="entr" presetID="12" presetSubtype="4">
                                  <p:stCondLst>
                                    <p:cond delay="0"/>
                                  </p:stCondLst>
                                  <p:childTnLst>
                                    <p:set>
                                      <p:cBhvr>
                                        <p:cTn id="48" dur="1" fill="hold">
                                          <p:stCondLst>
                                            <p:cond delay="0"/>
                                          </p:stCondLst>
                                        </p:cTn>
                                        <p:tgtEl>
                                          <p:spTgt spid="116"/>
                                        </p:tgtEl>
                                        <p:attrNameLst>
                                          <p:attrName>style.visibility</p:attrName>
                                        </p:attrNameLst>
                                      </p:cBhvr>
                                      <p:to>
                                        <p:strVal val="visible"/>
                                      </p:to>
                                    </p:set>
                                    <p:animEffect filter="slide(fromBottom)" transition="in">
                                      <p:cBhvr additive="repl">
                                        <p:cTn id="49" dur="500"/>
                                        <p:tgtEl>
                                          <p:spTgt spid="116"/>
                                        </p:tgtEl>
                                      </p:cBhvr>
                                    </p:animEffect>
                                  </p:childTnLst>
                                </p:cTn>
                              </p:par>
                            </p:childTnLst>
                          </p:cTn>
                        </p:par>
                        <p:par>
                          <p:cTn id="50" fill="hold">
                            <p:stCondLst>
                              <p:cond delay="6500"/>
                            </p:stCondLst>
                            <p:childTnLst>
                              <p:par>
                                <p:cTn id="51" nodeType="afterEffect" fill="hold" presetClass="entr" presetID="12" presetSubtype="4">
                                  <p:stCondLst>
                                    <p:cond delay="0"/>
                                  </p:stCondLst>
                                  <p:childTnLst>
                                    <p:set>
                                      <p:cBhvr>
                                        <p:cTn id="52" dur="1" fill="hold">
                                          <p:stCondLst>
                                            <p:cond delay="0"/>
                                          </p:stCondLst>
                                        </p:cTn>
                                        <p:tgtEl>
                                          <p:spTgt spid="117"/>
                                        </p:tgtEl>
                                        <p:attrNameLst>
                                          <p:attrName>style.visibility</p:attrName>
                                        </p:attrNameLst>
                                      </p:cBhvr>
                                      <p:to>
                                        <p:strVal val="visible"/>
                                      </p:to>
                                    </p:set>
                                    <p:animEffect filter="slide(fromBottom)" transition="in">
                                      <p:cBhvr additive="repl">
                                        <p:cTn id="53" dur="500"/>
                                        <p:tgtEl>
                                          <p:spTgt spid="117"/>
                                        </p:tgtEl>
                                      </p:cBhvr>
                                    </p:animEffect>
                                  </p:childTnLst>
                                </p:cTn>
                              </p:par>
                            </p:childTnLst>
                          </p:cTn>
                        </p:par>
                        <p:par>
                          <p:cTn id="54" fill="hold">
                            <p:stCondLst>
                              <p:cond delay="7000"/>
                            </p:stCondLst>
                            <p:childTnLst>
                              <p:par>
                                <p:cTn id="55" nodeType="afterEffect" fill="hold" presetClass="entr" presetID="2" presetSubtype="4">
                                  <p:stCondLst>
                                    <p:cond delay="0"/>
                                  </p:stCondLst>
                                  <p:childTnLst>
                                    <p:set>
                                      <p:cBhvr>
                                        <p:cTn id="56" dur="1" fill="hold">
                                          <p:stCondLst>
                                            <p:cond delay="0"/>
                                          </p:stCondLst>
                                        </p:cTn>
                                        <p:tgtEl>
                                          <p:spTgt spid="120"/>
                                        </p:tgtEl>
                                        <p:attrNameLst>
                                          <p:attrName>style.visibility</p:attrName>
                                        </p:attrNameLst>
                                      </p:cBhvr>
                                      <p:to>
                                        <p:strVal val="visible"/>
                                      </p:to>
                                    </p:set>
                                    <p:anim calcmode="lin" valueType="num">
                                      <p:cBhvr additive="base">
                                        <p:cTn id="57" dur="2000" fill="hold"/>
                                        <p:tgtEl>
                                          <p:spTgt spid="120"/>
                                        </p:tgtEl>
                                        <p:attrNameLst>
                                          <p:attrName>ppt_x</p:attrName>
                                        </p:attrNameLst>
                                      </p:cBhvr>
                                      <p:tavLst>
                                        <p:tav tm="0">
                                          <p:val>
                                            <p:strVal val="#ppt_x"/>
                                          </p:val>
                                        </p:tav>
                                        <p:tav tm="100000">
                                          <p:val>
                                            <p:strVal val="#ppt_x"/>
                                          </p:val>
                                        </p:tav>
                                      </p:tavLst>
                                    </p:anim>
                                    <p:anim calcmode="lin" valueType="num">
                                      <p:cBhvr additive="base">
                                        <p:cTn id="58" dur="2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48" name=""/>
          <p:cNvSpPr/>
          <p:nvPr/>
        </p:nvSpPr>
        <p:spPr>
          <a:xfrm>
            <a:off x="1152360" y="504720"/>
            <a:ext cx="840132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49" name=""/>
          <p:cNvSpPr/>
          <p:nvPr/>
        </p:nvSpPr>
        <p:spPr>
          <a:xfrm>
            <a:off x="2879640" y="6553080"/>
            <a:ext cx="5113440" cy="45972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Estación de Golmud</a:t>
            </a:r>
            <a:endParaRPr b="0" lang="en-US" sz="2400" spc="-1" strike="noStrike">
              <a:solidFill>
                <a:srgbClr val="000000"/>
              </a:solidFill>
              <a:latin typeface="Arial"/>
            </a:endParaRPr>
          </a:p>
        </p:txBody>
      </p:sp>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51" name=""/>
          <p:cNvSpPr/>
          <p:nvPr/>
        </p:nvSpPr>
        <p:spPr>
          <a:xfrm>
            <a:off x="5040360" y="3562200"/>
            <a:ext cx="5256000" cy="3638880"/>
          </a:xfrm>
          <a:prstGeom prst="roundRect">
            <a:avLst>
              <a:gd name="adj" fmla="val 16667"/>
            </a:avLst>
          </a:prstGeom>
          <a:blipFill rotWithShape="0">
            <a:blip r:embed="rId1"/>
            <a:srcRect/>
            <a:stretch/>
          </a:blipFill>
          <a:ln w="76320">
            <a:solidFill>
              <a:srgbClr val="b6a892"/>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52" name=""/>
          <p:cNvSpPr/>
          <p:nvPr/>
        </p:nvSpPr>
        <p:spPr>
          <a:xfrm>
            <a:off x="287280" y="287280"/>
            <a:ext cx="4421160" cy="6238800"/>
          </a:xfrm>
          <a:custGeom>
            <a:avLst/>
            <a:gdLst>
              <a:gd name="textAreaLeft" fmla="*/ 215640 w 4421160"/>
              <a:gd name="textAreaRight" fmla="*/ 4205520 w 4421160"/>
              <a:gd name="textAreaTop" fmla="*/ 215640 h 6238800"/>
              <a:gd name="textAreaBottom" fmla="*/ 6023160 h 6238800"/>
            </a:gdLst>
            <a:ahLst/>
            <a:rect l="textAreaLeft" t="textAreaTop" r="textAreaRight" b="textAreaBottom"/>
            <a:pathLst>
              <a:path w="21600" h="30480">
                <a:moveTo>
                  <a:pt x="3600" y="0"/>
                </a:moveTo>
                <a:arcTo wR="3600" hR="3600" stAng="16200000" swAng="-5400000"/>
                <a:lnTo>
                  <a:pt x="0" y="26880"/>
                </a:lnTo>
                <a:arcTo wR="3600" hR="3600" stAng="10800000" swAng="-5400000"/>
                <a:lnTo>
                  <a:pt x="18000" y="30480"/>
                </a:lnTo>
                <a:arcTo wR="3600" hR="3600" stAng="5400000" swAng="-5400000"/>
                <a:lnTo>
                  <a:pt x="21600" y="3600"/>
                </a:lnTo>
                <a:arcTo wR="3600" hR="3600" stAng="0" swAng="-5400000"/>
                <a:close/>
              </a:path>
            </a:pathLst>
          </a:custGeom>
          <a:blipFill rotWithShape="0">
            <a:blip r:embed="rId2"/>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pic>
        <p:nvPicPr>
          <p:cNvPr id="53" name="" descr="[foto de la noticia]"/>
          <p:cNvPicPr/>
          <p:nvPr/>
        </p:nvPicPr>
        <p:blipFill>
          <a:blip r:embed="rId3"/>
          <a:stretch/>
        </p:blipFill>
        <p:spPr>
          <a:xfrm>
            <a:off x="5040360" y="127080"/>
            <a:ext cx="5256000" cy="3257640"/>
          </a:xfrm>
          <a:prstGeom prst="rect">
            <a:avLst/>
          </a:prstGeom>
          <a:ln w="57240">
            <a:solidFill>
              <a:srgbClr val="b6a892"/>
            </a:solidFill>
            <a:miter/>
          </a:ln>
        </p:spPr>
      </p:pic>
      <p:sp>
        <p:nvSpPr>
          <p:cNvPr id="54" name=""/>
          <p:cNvSpPr/>
          <p:nvPr/>
        </p:nvSpPr>
        <p:spPr>
          <a:xfrm>
            <a:off x="1079640" y="6599160"/>
            <a:ext cx="2879640" cy="459720"/>
          </a:xfrm>
          <a:prstGeom prst="rect">
            <a:avLst/>
          </a:prstGeom>
          <a:noFill/>
          <a:ln w="0">
            <a:noFill/>
          </a:ln>
        </p:spPr>
        <p:style>
          <a:lnRef idx="0"/>
          <a:fillRef idx="0"/>
          <a:effectRef idx="0"/>
          <a:fontRef idx="minor"/>
        </p:style>
        <p:txBody>
          <a:bodyPr lIns="90000" rIns="90000" tIns="46800" bIns="46800" anchor="t" anchorCtr="1">
            <a:spAutoFit/>
          </a:bodyPr>
          <a:p>
            <a:pPr marL="403200" indent="-403200">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n-US" sz="2400" spc="-1" strike="noStrike">
                <a:solidFill>
                  <a:srgbClr val="f8f8f8"/>
                </a:solidFill>
                <a:latin typeface="Monotype Corsiva"/>
              </a:rPr>
              <a:t>Billetes</a:t>
            </a:r>
            <a:endParaRPr b="0" lang="en-US" sz="2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79640" y="504720"/>
            <a:ext cx="8845560" cy="5746680"/>
          </a:xfrm>
          <a:prstGeom prst="rect">
            <a:avLst/>
          </a:prstGeom>
          <a:ln w="57240">
            <a:solidFill>
              <a:srgbClr val="b6a892"/>
            </a:solidFill>
            <a:miter/>
          </a:ln>
        </p:spPr>
      </p:pic>
      <p:sp>
        <p:nvSpPr>
          <p:cNvPr id="56" name=""/>
          <p:cNvSpPr/>
          <p:nvPr/>
        </p:nvSpPr>
        <p:spPr>
          <a:xfrm>
            <a:off x="354960" y="6672240"/>
            <a:ext cx="6080040" cy="408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s-ES" sz="2000" spc="-1" strike="noStrike">
                <a:solidFill>
                  <a:srgbClr val="e9e2b6"/>
                </a:solidFill>
                <a:latin typeface="Monotype Corsiva"/>
              </a:rPr>
              <a:t>Tren saliendo de la estación de Golmud (Qinghai)</a:t>
            </a:r>
            <a:endParaRPr b="0" lang="en-US" sz="2000" spc="-1" strike="noStrike">
              <a:solidFill>
                <a:srgbClr val="000000"/>
              </a:solidFill>
              <a:latin typeface="Arial"/>
            </a:endParaRPr>
          </a:p>
        </p:txBody>
      </p:sp>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87280" y="216000"/>
            <a:ext cx="6769080" cy="4194000"/>
          </a:xfrm>
          <a:prstGeom prst="rect">
            <a:avLst/>
          </a:prstGeom>
          <a:ln w="57240">
            <a:solidFill>
              <a:srgbClr val="b6a892"/>
            </a:solidFill>
            <a:miter/>
          </a:ln>
        </p:spPr>
      </p:pic>
      <p:pic>
        <p:nvPicPr>
          <p:cNvPr id="58" name="" descr="Ferrocarril del Tíbet. Puente sobre la carretera Qinghai-Tíbet"/>
          <p:cNvPicPr/>
          <p:nvPr/>
        </p:nvPicPr>
        <p:blipFill>
          <a:blip r:embed="rId2"/>
          <a:stretch/>
        </p:blipFill>
        <p:spPr>
          <a:xfrm>
            <a:off x="4248000" y="3067200"/>
            <a:ext cx="6516720" cy="3917880"/>
          </a:xfrm>
          <a:prstGeom prst="rect">
            <a:avLst/>
          </a:prstGeom>
          <a:ln w="57240">
            <a:solidFill>
              <a:srgbClr val="b6a892"/>
            </a:solidFill>
            <a:miter/>
          </a:ln>
        </p:spPr>
      </p:pic>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60" name=""/>
          <p:cNvSpPr/>
          <p:nvPr/>
        </p:nvSpPr>
        <p:spPr>
          <a:xfrm>
            <a:off x="1512720" y="360360"/>
            <a:ext cx="777240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61" name=""/>
          <p:cNvSpPr/>
          <p:nvPr/>
        </p:nvSpPr>
        <p:spPr>
          <a:xfrm>
            <a:off x="792000" y="6264360"/>
            <a:ext cx="9217080" cy="1191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La travesía del tren entre Qinghai y el Tíbet es monitorizada vía satélite por el Departamento correspondiente de la Cía. de los Ferrocarriles de China.   </a:t>
            </a:r>
            <a:endParaRPr b="0" lang="en-US" sz="2400" spc="-1" strike="noStrike">
              <a:solidFill>
                <a:srgbClr val="000000"/>
              </a:solidFill>
              <a:latin typeface="Arial"/>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63" name=""/>
          <p:cNvSpPr/>
          <p:nvPr/>
        </p:nvSpPr>
        <p:spPr>
          <a:xfrm>
            <a:off x="1200240" y="685800"/>
            <a:ext cx="8400960" cy="582948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288720"/>
            <a:ext cx="9721800" cy="1199880"/>
          </a:xfrm>
          <a:prstGeom prst="rect">
            <a:avLst/>
          </a:prstGeom>
          <a:noFill/>
          <a:ln w="0">
            <a:noFill/>
          </a:ln>
        </p:spPr>
        <p:txBody>
          <a:bodyPr lIns="0" rIns="0" tIns="0" bIns="0" anchor="t">
            <a:noAutofit/>
          </a:bodyPr>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1" lang="en-US" sz="2400" spc="-1" strike="noStrike">
              <a:solidFill>
                <a:srgbClr val="f8f8f8"/>
              </a:solidFill>
              <a:latin typeface="Lynda Cursive"/>
            </a:endParaRPr>
          </a:p>
        </p:txBody>
      </p:sp>
      <p:sp>
        <p:nvSpPr>
          <p:cNvPr id="65" name=""/>
          <p:cNvSpPr/>
          <p:nvPr/>
        </p:nvSpPr>
        <p:spPr>
          <a:xfrm>
            <a:off x="720720" y="576360"/>
            <a:ext cx="9429840" cy="4787640"/>
          </a:xfrm>
          <a:prstGeom prst="rect">
            <a:avLst/>
          </a:prstGeom>
          <a:blipFill rotWithShape="0">
            <a:blip r:embed="rId1"/>
            <a:srcRect/>
            <a:stretch/>
          </a:blipFill>
          <a:ln w="76320">
            <a:solidFill>
              <a:srgbClr val="9966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66" name=""/>
          <p:cNvSpPr/>
          <p:nvPr/>
        </p:nvSpPr>
        <p:spPr>
          <a:xfrm>
            <a:off x="431640" y="5832360"/>
            <a:ext cx="9937800" cy="15570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1076400"/>
                <a:tab algn="l" pos="2152800"/>
                <a:tab algn="l" pos="3228840"/>
                <a:tab algn="l" pos="4305240"/>
                <a:tab algn="l" pos="5381640"/>
                <a:tab algn="l" pos="6458040"/>
                <a:tab algn="l" pos="7534440"/>
                <a:tab algn="l" pos="8610480"/>
                <a:tab algn="l" pos="9686880"/>
                <a:tab algn="l" pos="10763280"/>
              </a:tabLst>
            </a:pPr>
            <a:r>
              <a:rPr b="0" i="1" lang="es-ES" sz="2400" spc="-1" strike="noStrike">
                <a:solidFill>
                  <a:srgbClr val="f8f8f8"/>
                </a:solidFill>
                <a:latin typeface="Monotype Corsiva"/>
              </a:rPr>
              <a:t>El tren al  Tibet alcanza los 5072 metros de altura, sobrepasando en 237 metros de altitud al tren del Perú: </a:t>
            </a:r>
            <a:r>
              <a:rPr b="0" i="1" lang="es-ES" sz="2400" spc="-1" strike="noStrike">
                <a:solidFill>
                  <a:srgbClr val="996600"/>
                </a:solidFill>
                <a:latin typeface="Monotype Corsiva"/>
              </a:rPr>
              <a:t>Lima – Huancayo</a:t>
            </a:r>
            <a:r>
              <a:rPr b="0" i="1" lang="es-ES" sz="2400" spc="-1" strike="noStrike">
                <a:solidFill>
                  <a:srgbClr val="f8f8f8"/>
                </a:solidFill>
                <a:latin typeface="Monotype Corsiva"/>
              </a:rPr>
              <a:t> ( alcanza 4835 metros) en Los Andes, por este motivo, el ferrocarril chino se ha convertido en el más alto del mundo.</a:t>
            </a:r>
            <a:endParaRPr b="0" lang="en-US" sz="2400" spc="-1" strike="noStrike">
              <a:solidFill>
                <a:srgbClr val="000000"/>
              </a:solidFill>
              <a:latin typeface="Arial"/>
            </a:endParaRPr>
          </a:p>
        </p:txBody>
      </p:sp>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2:04:35Z</dcterms:created>
  <dc:creator>El Taller del PePeeSe</dc:creator>
  <dc:description/>
  <dc:language>en-US</dc:language>
  <cp:lastModifiedBy>JLA</cp:lastModifiedBy>
  <dcterms:modified xsi:type="dcterms:W3CDTF">2009-10-07T16:53:28Z</dcterms:modified>
  <cp:revision>153</cp:revision>
  <dc:subject/>
  <dc:title>Tren al Tibet</dc:title>
</cp:coreProperties>
</file>