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03-Cancion%20para%20el%20se%C3%B1or.wav" ContentType="audio/x-wav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915040"/>
            <a:ext cx="297180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991360"/>
            <a:ext cx="2971800" cy="1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37C-F5EE-4369-9092-9332D061B41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6774-6E7E-4E86-81A5-5CBFFF2877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7FE9-1B87-486E-8C01-8AD22B4E63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5AF-2BD4-4C7C-8423-507814DE16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0A3-0A65-4068-888B-9ABCA226CC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28A6-69F3-4955-9922-3E50A35B3D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301-DAA5-4EAD-8BA5-37F641E939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D5B-BC0B-488C-B3AF-364699B3FE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EE2-6215-498D-B6E1-84CC637F30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97D-98B7-4919-B31C-79D09DC2C6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A569-0299-4B96-80B5-B93F8F3D1E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71A-E7C8-488D-BC3B-BF3343CDC8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1C3E-229F-432C-B515-9FE5B4871B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B3E-4556-47CF-BF3A-4C134F0D0A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5C0-41B0-4202-A38E-27AE275CA0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C859-4709-4363-AF11-D6870DD38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41CD-F22B-405F-B685-F672AC958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46A-6897-4B75-9059-67C5539872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D60D-BC2F-4028-A20A-73FFC7138A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5042-2FAA-4308-ABA1-30111757C6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D9E-AEF4-4C6B-94AB-9E9DA0B03C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42A-DC18-46A2-B596-30DB56D57B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E0AC-D82A-4507-8E2A-EDFDC63774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9A9-834F-4DCC-A814-24E0882359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7F9D-8287-4E8F-A827-E7E29B8DC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A65-6DC6-4997-A99D-0295E99908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51A7-341C-4DC6-8DAF-85B56ACC40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F02C-09F6-48BB-9EF6-96CF19C88B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991720"/>
            <a:ext cx="297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2C75-AD4B-4BFD-BD39-E8E1D5EB10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5CC-452A-45F5-B112-FCD14B96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975-3321-402B-B7A3-757CC6A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269-1C66-48DE-9796-9E226727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54D-1ACB-469C-B551-0AF79679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D72-A156-42C2-A078-F5C4F237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F252-59CF-4DA3-9461-3684920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649F-43BA-4D12-B340-D57C006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13A9-951E-49D9-A329-3DDE12D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E162-312C-44CE-8124-7B49D23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CE8E-F1F1-4D89-B48E-5AE3A680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59C-2B9A-4C67-9EBD-A831B50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E35-4739-4C29-ADBD-454955E3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1156-D973-4F79-9DE1-16BCBF2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A63E-2E50-4F74-8358-0EFCD59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BAD3-8097-4D0A-AED3-62570808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228-5D23-44B7-B58D-94BF05A8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FB5-B34F-4AAA-8AE9-D0EB2587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F93-BBA1-442E-8C5B-C873E5E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E55-020E-46C9-AE1C-01891E85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7AD-213A-4525-AE3D-5CC9621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F3B-3046-4671-A39A-B844EE2A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D27-2DD3-4B68-971A-7F020C5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E7A-71F2-409F-92AB-A99996F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164-0AB5-4F44-B827-976BC2C4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934B-0F10-4886-966B-587104EB6976}" type="datetime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3F8-A08B-4FBE-AB05-FFA665EFA99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4A0-F268-482B-BE33-703A9FA5BA6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17C-ED56-4FF6-BC94-954EFCF3EC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3-Cancion%20para%20el%20se&#241;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rsc.org/images/FEATURE-GREEN%2520TEA-250_tcm18-38928.jpg&amp;imgrefurl=http://www.rsc.org/chemistryworld/restricted/2005/October/tea.asp&amp;h=254&amp;w=250&amp;sz=60&amp;hl=en&amp;start=15&amp;tbnid=KoFa4QoO5qWfyM:&amp;tbnh=111&amp;tbnw=109&amp;prev=/images%3Fq%3Dgreen%2Btea%26svnum%3D10%26hl%3Den%26lr%3D%26rls%3DGGLJ,GGLJ:2006-32,GGLJ: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4 Rectángulo"/>
          <p:cNvSpPr/>
          <p:nvPr/>
        </p:nvSpPr>
        <p:spPr>
          <a:xfrm>
            <a:off x="1285920" y="2249640"/>
            <a:ext cx="6572160" cy="2358720"/>
          </a:xfrm>
          <a:prstGeom prst="rect">
            <a:avLst/>
          </a:prstGeom>
          <a:solidFill>
            <a:srgbClr val="4c520e">
              <a:alpha val="6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285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f99"/>
                </a:solidFill>
                <a:latin typeface="Century"/>
              </a:rPr>
              <a:t>25 Razones para comenzar a tomarlo</a:t>
            </a:r>
            <a:br>
              <a:rPr sz="2400"/>
            </a:br>
            <a:r>
              <a:rPr b="0" lang="en-US" sz="2400" spc="-1" strike="noStrike">
                <a:solidFill>
                  <a:srgbClr val="dbff99"/>
                </a:solidFill>
                <a:latin typeface="Century"/>
              </a:rPr>
              <a:t>ahora mismo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50020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"/>
              </a:rPr>
              <a:t>Té Ve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143760"/>
            <a:ext cx="9144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entury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03-Cancion%20para%20el%20se%C3%B1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4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5B95-70EB-479F-AC0A-D01BD861BA81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8. Colestero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093680" y="2362320"/>
            <a:ext cx="695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reducir el nivel de coleste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También mejora la proporción de buen colesterol y mal colesterol, reduciendo el nivel del colesterol m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http://tkfiles.storage.live.com/y1pyQ_1YpDJSEmf7ig-8tGz5vL-dDydmPh9aJ2EOfRdeB1zbAuIbzU0q8MFdFAqHV5vUK103UAwTRY"/>
          <p:cNvPicPr/>
          <p:nvPr/>
        </p:nvPicPr>
        <p:blipFill>
          <a:blip r:embed="rId1"/>
          <a:stretch/>
        </p:blipFill>
        <p:spPr>
          <a:xfrm>
            <a:off x="3143160" y="4286160"/>
            <a:ext cx="29084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A020-E686-4A3B-AC12-ED37317B0357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9. Obesida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65280" y="222120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 obesidad al detener el movimento de la glucosa en las células gra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ien siga una dieta sana, haga ejercicio regularmente y beba té verde, es muy poco probable que llegue a estar ob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http://www.intramed.net/UserFiles/imagenes/obesidad.jpg"/>
          <p:cNvPicPr/>
          <p:nvPr/>
        </p:nvPicPr>
        <p:blipFill>
          <a:blip r:embed="rId1"/>
          <a:stretch/>
        </p:blipFill>
        <p:spPr>
          <a:xfrm>
            <a:off x="3681360" y="4286160"/>
            <a:ext cx="1781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AA9E-27A6-4752-9977-C15215F5DD35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0. Diabet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2559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mejora el metabolismo en relación a los lípidos y la glucosa, y previene de súbitos incrementos en el nivel de azúcar en la sangre, equilibrando el metabolismo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green tea weight loss picture"/>
          <p:cNvPicPr/>
          <p:nvPr/>
        </p:nvPicPr>
        <p:blipFill>
          <a:blip r:embed="rId1"/>
          <a:stretch/>
        </p:blipFill>
        <p:spPr>
          <a:xfrm>
            <a:off x="3189240" y="4286160"/>
            <a:ext cx="27655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9CB-21A9-4366-83E8-A555D79571E2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1. Alzheimer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31800" y="2221200"/>
            <a:ext cx="788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fortalecer la mem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unque aún no se conoce cura para el Alzheimer, el té verde ayuda a ralentisar el proceso de reducción de acetilcolina en el cerebro, que es lo que provoca el Alzhei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http://www.cprevia.com/wp-content/uploads/2007/07/alzheimer.jpg"/>
          <p:cNvPicPr/>
          <p:nvPr/>
        </p:nvPicPr>
        <p:blipFill>
          <a:blip r:embed="rId1"/>
          <a:stretch/>
        </p:blipFill>
        <p:spPr>
          <a:xfrm>
            <a:off x="3638520" y="4286160"/>
            <a:ext cx="18669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F7C1-A582-4336-B196-7EF0264002B5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2. Mal de Parkins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20560" y="2149560"/>
            <a:ext cx="810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antioxidantes en el té verde ayudan a prevenir el daño celular en el cerebro, que es una de las causas del mal de Parkin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ien toma té verde regularmente es muy poco probable que desarrolle esta enferm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http://www.queciencia.com/wp-content/uploads/2008/02/parkinson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9EA-3296-443E-88FA-24C9A08B27D9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3. Enfermedades Hepátic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Picture 7" descr="greentea2"/>
          <p:cNvPicPr/>
          <p:nvPr/>
        </p:nvPicPr>
        <p:blipFill>
          <a:blip r:embed="rId1"/>
          <a:stretch/>
        </p:blipFill>
        <p:spPr>
          <a:xfrm>
            <a:off x="3071880" y="4286160"/>
            <a:ext cx="3052800" cy="216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852480" y="2232360"/>
            <a:ext cx="743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s fallas de transplante de hígado en personas con disfuncionamiento hep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s investigaciones muestran que el té verde destruye los radicales libres en el hígado gr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E80D-14A7-45C9-B26F-19F8433BF9EA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4. Alta Presión sanguínea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934920" y="2292480"/>
            <a:ext cx="727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la alta presión sanguíne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Beber té verde ayuda a reducir la presión sanguínea al reprimir la angiotensina, que hace elevar la presión sangu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http://static.20minutos.es/img/2008/06/06/824592.jpg"/>
          <p:cNvPicPr/>
          <p:nvPr/>
        </p:nvPicPr>
        <p:blipFill>
          <a:blip r:embed="rId1"/>
          <a:stretch/>
        </p:blipFill>
        <p:spPr>
          <a:xfrm>
            <a:off x="3129120" y="4286160"/>
            <a:ext cx="28857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CF1-43E7-4D46-B559-97E357FAC375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5. Envenenamiento por aliment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68160" y="2718360"/>
            <a:ext cx="780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catechin que se encuentra en el té verde puede matar las bacterias que causan el envenenamiento por alimentos y destruye las toxinas producidas por esas bacte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http://cache.daylife.com/imageserve/0bul8fd5q2bzu/610x.jpg"/>
          <p:cNvPicPr/>
          <p:nvPr/>
        </p:nvPicPr>
        <p:blipFill>
          <a:blip r:embed="rId1"/>
          <a:srcRect l="6468" t="65884" r="3178" b="0"/>
          <a:stretch/>
        </p:blipFill>
        <p:spPr>
          <a:xfrm>
            <a:off x="642960" y="4286160"/>
            <a:ext cx="78580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711-D125-4B7F-8D58-4D05F1A2D66D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701028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961-CC36-45A3-BCEC-232F1CFD655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6. Azúcar en la Sangr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863640" y="25038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zúcar en la sangre tiende a incrementar con la edad, pero los polifenoles y los polisacáridos en el té verde ayudan a reducir el nivel de azúcar en la sang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www.blogmuchoviaje.com/wp-content/uploads/2008/05/te-verde.jpg"/>
          <p:cNvPicPr/>
          <p:nvPr/>
        </p:nvPicPr>
        <p:blipFill>
          <a:blip r:embed="rId1"/>
          <a:stretch/>
        </p:blipFill>
        <p:spPr>
          <a:xfrm>
            <a:off x="3127320" y="4286160"/>
            <a:ext cx="28893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85D-5D66-4971-B7FF-275490DFDC5E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7. Inmunida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73280" y="2503800"/>
            <a:ext cx="75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polifenoles y flavonoides que se encuentran en el té verde ayudan a estimular el sistema inmunológico, fortaleciendo la salud en su lucha contra las infe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weblogs.madrimasd.org/images/weblogs_madrimasd_org/salud_publica/656/r_vacuna4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7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3c410b">
              <a:alpha val="7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2230-8B37-43B5-91E9-1ADFA734A6BD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71760" y="1428480"/>
            <a:ext cx="610056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  <a:ea typeface="Arial"/>
              </a:rPr>
              <a:t>El té verde se ha convertido en una bebida cada vez más popular a nivel mundial debido a sus poderosos beneficios para la salu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entury"/>
                <a:ea typeface="Arial"/>
              </a:rPr>
              <a:t>Es verdaderamente asombroso lo que el té verde puede hacer por la salu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Picture 17" descr="DSC00014osencha216"/>
          <p:cNvPicPr/>
          <p:nvPr/>
        </p:nvPicPr>
        <p:blipFill>
          <a:blip r:embed="rId1"/>
          <a:stretch/>
        </p:blipFill>
        <p:spPr>
          <a:xfrm>
            <a:off x="3543480" y="4071960"/>
            <a:ext cx="2160360" cy="207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C1BB-4279-4300-AA5A-E2F27E77B217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8. Gripe y Resfriad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30360" y="2433960"/>
            <a:ext cx="78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evitar la gripe y los resfr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vitamina C en el té verde ayuda en el tratamiento del resfriado y la grip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www.deportesysalud.com/wp-content/uploads/2007/11/gripe.jpg"/>
          <p:cNvPicPr/>
          <p:nvPr/>
        </p:nvPicPr>
        <p:blipFill>
          <a:blip r:embed="rId1"/>
          <a:stretch/>
        </p:blipFill>
        <p:spPr>
          <a:xfrm>
            <a:off x="2948040" y="4286160"/>
            <a:ext cx="32479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19F-FFEA-4AF8-A7C1-A21387DFBDE4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19. Asma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38080" y="271656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Teofilina en el té verde relaja los músculos que soportan los tubos bronquiales, reduciendo la severidad del 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http://www.elite-tea.com/wp-content/uploads/green-tea.jpg"/>
          <p:cNvPicPr/>
          <p:nvPr/>
        </p:nvPicPr>
        <p:blipFill>
          <a:blip r:embed="rId1"/>
          <a:stretch/>
        </p:blipFill>
        <p:spPr>
          <a:xfrm>
            <a:off x="3557520" y="4286160"/>
            <a:ext cx="20289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473E-E270-422E-8888-7D0D77C51C0B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0. Infección de Oíd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71400" y="2221200"/>
            <a:ext cx="780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es de gran ayuda para combatir el problema de infección de oí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ara una limpieza natural de oídos, empapar un cotonete en té verde y limpiar el oído inf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http://www.rimith.com/web/images/profesor/120.jpg"/>
          <p:cNvPicPr/>
          <p:nvPr/>
        </p:nvPicPr>
        <p:blipFill>
          <a:blip r:embed="rId1"/>
          <a:stretch/>
        </p:blipFill>
        <p:spPr>
          <a:xfrm>
            <a:off x="3429000" y="42861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452-B987-4244-A534-041D32BD8082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1. Herp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900000" y="2292480"/>
            <a:ext cx="73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incrementa la efectividad del tratamiento de interferon para el Her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rimero se aplica una compresa de té verde y luego se deja secar la piel antes de aplicar el tratamiento de interfe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http://medicalimages.allrefer.com/large/herpes-zoster-shingles-on-the-back-1.jpg"/>
          <p:cNvPicPr/>
          <p:nvPr/>
        </p:nvPicPr>
        <p:blipFill>
          <a:blip r:embed="rId1"/>
          <a:stretch/>
        </p:blipFill>
        <p:spPr>
          <a:xfrm>
            <a:off x="3110040" y="4286160"/>
            <a:ext cx="2923920" cy="2160720"/>
          </a:xfrm>
          <a:prstGeom prst="rect">
            <a:avLst/>
          </a:prstGeom>
          <a:ln w="0">
            <a:noFill/>
          </a:ln>
        </p:spPr>
      </p:pic>
      <p:sp>
        <p:nvSpPr>
          <p:cNvPr id="228" name="13 Rectángulo"/>
          <p:cNvSpPr/>
          <p:nvPr/>
        </p:nvSpPr>
        <p:spPr>
          <a:xfrm>
            <a:off x="5286240" y="6286680"/>
            <a:ext cx="714600" cy="142560"/>
          </a:xfrm>
          <a:prstGeom prst="rect">
            <a:avLst/>
          </a:prstGeom>
          <a:solidFill>
            <a:srgbClr val="ac4a3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9D0C-8433-4262-8E4F-E60CE4F77B62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2. Cari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887400" y="2303640"/>
            <a:ext cx="736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destruye las bacterias y virus que causan muchos de los problemas d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También ralentisa el crecimiento de bacterias que provocan el mal al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http://naranja.bitacoras.com/imagenes/sonrisa_p.jpg"/>
          <p:cNvPicPr/>
          <p:nvPr/>
        </p:nvPicPr>
        <p:blipFill>
          <a:blip r:embed="rId1"/>
          <a:stretch/>
        </p:blipFill>
        <p:spPr>
          <a:xfrm>
            <a:off x="3346560" y="4286160"/>
            <a:ext cx="2450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6B4-1E71-4BE0-AE23-1A799CD0BF46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3. St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17640" y="255960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L-teanina, que es un tipo de amino ácido que se encuentra en el té verde, puede ayudar a reducir el stress y la ans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http://www.problemasycrisis.com.ar/problemadepresion/stressg.jpg"/>
          <p:cNvPicPr/>
          <p:nvPr/>
        </p:nvPicPr>
        <p:blipFill>
          <a:blip r:embed="rId1"/>
          <a:stretch/>
        </p:blipFill>
        <p:spPr>
          <a:xfrm>
            <a:off x="3132000" y="428616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422-0A41-4A01-9AD5-6264DC85C28D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4. Alergi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863640" y="2433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entury"/>
              </a:rPr>
              <a:t>El EGCG que se encuentra en el té verde mitiga las aler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00"/>
                </a:solidFill>
                <a:latin typeface="Century"/>
              </a:rPr>
              <a:t>Entonces, si existen alergias, debe considerarse seriamente el beber té verde con reg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www.finejapaneseimports.com.au/images/green-tea-in-cups.jpg"/>
          <p:cNvPicPr/>
          <p:nvPr/>
        </p:nvPicPr>
        <p:blipFill>
          <a:blip r:embed="rId1"/>
          <a:stretch/>
        </p:blipFill>
        <p:spPr>
          <a:xfrm>
            <a:off x="3286080" y="4286160"/>
            <a:ext cx="25718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EE5-48F2-48F9-96BF-9D404F9272BB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25. VIH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79320" y="1866240"/>
            <a:ext cx="7783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s científicos en Japón han encontrado que el EGCC (Epigallocatechin Gallate) del té verde puede ayudar a reducir el ataque del VIH a las células saludables del sistema inmunoló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 que esto significa es que el té verde puede ayudar a detener que se extienda el VI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C:\Users\Carlos Rangel\AppData\Local\Microsoft\Windows\Temporary Internet Files\Low\Content.IE5\AE3TA06M\green_tea_leaves[1].jpg"/>
          <p:cNvPicPr/>
          <p:nvPr/>
        </p:nvPicPr>
        <p:blipFill>
          <a:blip r:embed="rId1"/>
          <a:stretch/>
        </p:blipFill>
        <p:spPr>
          <a:xfrm>
            <a:off x="3292560" y="4286160"/>
            <a:ext cx="2558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4 Rectángulo"/>
          <p:cNvSpPr/>
          <p:nvPr/>
        </p:nvSpPr>
        <p:spPr>
          <a:xfrm>
            <a:off x="2892600" y="2482920"/>
            <a:ext cx="3358800" cy="1892160"/>
          </a:xfrm>
          <a:prstGeom prst="rect">
            <a:avLst/>
          </a:prstGeom>
          <a:solidFill>
            <a:srgbClr val="4c520e">
              <a:alpha val="60000"/>
            </a:srgbClr>
          </a:solidFill>
          <a:ln w="3240">
            <a:solidFill>
              <a:srgbClr val="7a8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f99"/>
                </a:solidFill>
                <a:latin typeface="Century"/>
              </a:rPr>
              <a:t>F i 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5643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f99"/>
                </a:solidFill>
                <a:latin typeface="Century"/>
              </a:rPr>
              <a:t>Textos y montaje original de autor no identificado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ff99"/>
                </a:solidFill>
                <a:latin typeface="Century"/>
              </a:rPr>
              <a:t>de amplia difusión en la r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Traducción al español y reedición de formato,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con el reconocimiento a su autor orig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Santiago de Querétaro, Mex. Oct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1b640"/>
                </a:solidFill>
                <a:latin typeface="Century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1. Cáncer</a:t>
            </a:r>
            <a:r>
              <a:rPr b="0" lang="en-US" sz="4400" spc="-1" strike="noStrike">
                <a:solidFill>
                  <a:srgbClr val="ccff33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25640" y="1897200"/>
            <a:ext cx="70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reducir el riesgo del cá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ntioxidante en el té verde es 100 veces más efectivo que la vitamina C y 25 veces mejor que la vitamina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sto ayuda al cuerpo a proteger sus células del daño que se asocia con el cá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21C4-53D8-46DB-B50B-E86B2BC67A70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http://images.google.com.mx/url?q=http://www.ferato.com/wiki/images/3/3b/20071107_mgb_te_verde_.jpg&amp;usg=AFQjCNFA_whpu0DPu6AP2K2zVuuWvFi1qA"/>
          <p:cNvPicPr/>
          <p:nvPr/>
        </p:nvPicPr>
        <p:blipFill>
          <a:blip r:embed="rId1"/>
          <a:stretch/>
        </p:blipFill>
        <p:spPr>
          <a:xfrm>
            <a:off x="3303720" y="4286160"/>
            <a:ext cx="253656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52E-F376-4A58-9C95-A765EE5C7581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39760" y="2079000"/>
            <a:ext cx="686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enfermedades del corazón y derrame cerebral al reducir el nivel del coleste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ún depués de un ataque al corazón, previene la muerte de las células y acelera la recuperación de las células del co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2. Enfermedades Cardiaca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Picture 10" descr="http://fitnessywellness.tengoestilo.com/2007/05/31/heart-1/corazon-1.jpg"/>
          <p:cNvPicPr/>
          <p:nvPr/>
        </p:nvPicPr>
        <p:blipFill>
          <a:blip r:embed="rId1"/>
          <a:stretch/>
        </p:blipFill>
        <p:spPr>
          <a:xfrm>
            <a:off x="3263760" y="4286160"/>
            <a:ext cx="26164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11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4D26-232D-4E6A-8B81-0A348088A550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2360" y="2214720"/>
            <a:ext cx="7674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     </a:t>
            </a: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contiene antioxidantes conocidos como polifenoles que atacan a los radicales libr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     </a:t>
            </a: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o que significa que ayuda a combatir los efectos del envejecimiento y promueve la longevida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3. Anti envejecimient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5" name="Picture 8" descr="http://contenido.sugerimos.com/contenido/uploads/234746a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8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EFC8-13AF-4593-9A9D-C3DAE6574A5B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  <a:ea typeface="Arial"/>
              </a:rPr>
              <a:t>4. Pérdida de peso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14240" y="2079000"/>
            <a:ext cx="771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que el cuerpo pierda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Quema la grasa y es un estimulante natural del metabol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Puede ayudar a quemar hasta 70 calorías por día, lo que se traduce en 3.17 kg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img.vitonica.com/2007/08/perdidapeso.jpg"/>
          <p:cNvPicPr/>
          <p:nvPr/>
        </p:nvPicPr>
        <p:blipFill>
          <a:blip r:embed="rId1"/>
          <a:stretch/>
        </p:blipFill>
        <p:spPr>
          <a:xfrm>
            <a:off x="3492360" y="428616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0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DE9-4232-46F7-8B71-A27F838171C3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5. La Piel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6" name="Picture 10" descr="greenteacupset"/>
          <p:cNvPicPr/>
          <p:nvPr/>
        </p:nvPicPr>
        <p:blipFill>
          <a:blip r:embed="rId1"/>
          <a:stretch/>
        </p:blipFill>
        <p:spPr>
          <a:xfrm>
            <a:off x="3135240" y="4286160"/>
            <a:ext cx="2873520" cy="2160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814320" y="1997280"/>
            <a:ext cx="751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antioxidante en el te verde protege la piel de los efectos dañinos de los radicales libres, que son los causantes de las arrugas y el envejacimiento de la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también ayuda en la lucha contra el cáncer de pi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91BB-0C45-4A8A-BA04-8FAF56F96C48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6. Artriti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09640" y="2221200"/>
            <a:ext cx="75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l té verde ayuda a prevenir y a reducir el riesgo de artritis reumato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Es de gran beneficio para la salud ya que protege el cartílago y bloquea las enzimas que destruyen el cartíl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http://www.aldeaeducativa.com/images/artritis05.jpg"/>
          <p:cNvPicPr/>
          <p:nvPr/>
        </p:nvPicPr>
        <p:blipFill>
          <a:blip r:embed="rId1"/>
          <a:stretch/>
        </p:blipFill>
        <p:spPr>
          <a:xfrm>
            <a:off x="3071880" y="4286160"/>
            <a:ext cx="32400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9 Rectángulo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f1f5c7">
              <a:alpha val="70000"/>
            </a:srgbClr>
          </a:solidFill>
          <a:ln w="3240">
            <a:solidFill>
              <a:srgbClr val="568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fecha"/>
          <p:cNvSpPr/>
          <p:nvPr/>
        </p:nvSpPr>
        <p:spPr>
          <a:xfrm>
            <a:off x="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7D64-0E93-498A-9D89-A4C05584D41B}" type="datetime"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 Marcador de pie de página"/>
          <p:cNvSpPr/>
          <p:nvPr/>
        </p:nvSpPr>
        <p:spPr>
          <a:xfrm>
            <a:off x="449568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aa3c"/>
                </a:solidFill>
                <a:latin typeface="Century Gothic"/>
              </a:rPr>
              <a:t>Free Template from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560" y="738000"/>
            <a:ext cx="7674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785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Century"/>
              </a:rPr>
              <a:t>7. Hueso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047600" y="2149560"/>
            <a:ext cx="704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La clave es su alto contenido de fluoruro que ayuda a mantener los huesos fue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entury"/>
              </a:rPr>
              <a:t>Al beber té verde cada día, se ayuda a preservar la densidad ó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FEATURE-GREEN%2520TEA-250_tcm18-389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11440" y="4286160"/>
            <a:ext cx="212112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9:23:24Z</dcterms:created>
  <dc:creator>O &amp; H Computer</dc:creator>
  <dc:description/>
  <dc:language>en-US</dc:language>
  <cp:lastModifiedBy>Carlos Rangel</cp:lastModifiedBy>
  <dcterms:modified xsi:type="dcterms:W3CDTF">2008-10-06T04:56:21Z</dcterms:modified>
  <cp:revision>26</cp:revision>
  <dc:subject/>
  <dc:title>25 Reasons Why You Should Start Drinking Green Tea Now</dc:title>
</cp:coreProperties>
</file>