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03-Cancion%20para%20el%20se%C3%B1or.wav" ContentType="audio/x-wav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915040"/>
            <a:ext cx="297180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991360"/>
            <a:ext cx="297180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1278-2BDF-47C0-8BFF-A005B909DD8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6D36-771D-428E-97C9-B8068DC9C6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B227-8F30-450F-97BC-A8CB48CE0F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1AA1-5A2C-4033-9A53-20C28EB1DD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32F1-8E0D-42C2-82C9-A313C09E87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601A-6813-4857-AB3F-24A32A1D40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C2D8-C55D-45C0-89EA-C8AA1FD990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2593-8828-4E52-80DF-8931023F5E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1321-1488-4C4D-82E2-74C76183B8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2791-C127-4BBB-BAEC-C21FC48772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F642-6A6A-4C1D-9A21-5617910282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73DE-32CF-4866-BDA0-81822760E8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784-BB82-4E90-A091-6369508172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9B37-2582-4E51-A657-A1496988EA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C856-A156-4C90-BB8E-49FD2A0001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65BD-AE56-4909-BA7D-35A2002A17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6215-256E-457F-BFC0-53898F64F8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BC8-3653-44C7-B547-D7D8F655A5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A86F-E87F-45E8-B4EE-094E42E6FD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3E3-8D60-428F-977F-E5C55B9028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1E5F-FEEF-4A12-A370-DEACC57287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57C-D454-4FC2-9C2F-2A836A0018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E9F7-7D8E-4130-B427-BB1E0D4589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6042-E9EB-46A8-8963-1B6D3D6508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950D-7B90-4952-8010-6AF83F4D6A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AEF-BAB3-4A05-AD1B-7A6927A591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6104-136D-4E84-A488-6C1C058721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8CCD-3A63-4FFD-A63C-5D46C23807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3FE6-B29C-4D7E-A3C6-C20986A69F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960-6F03-440E-AC1E-2E74C62B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19C-B854-481B-9E79-E56562B9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9A0-6134-4824-A407-3BD96705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1A9-D13D-4AC0-9786-22B88EB6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FEE1-DF96-4FF5-A4FD-9F804C83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2B42-5BCD-49E5-BED7-350FCC92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AD86-D0B1-4050-9F2D-63E861BA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DED-3BC8-4065-8CF4-96DEC49E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4A40-30C1-411E-A687-23EFDFFA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3CC5-AC02-4BDF-96A7-323AA171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33C0-2777-40A2-B942-792A764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3E6-9405-4A49-BEE5-DFF7CF58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1C12-B5B8-4990-AC24-3859F759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BAE8-54D8-448E-B31E-6186B2B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3DE4-E1D2-465D-A440-5ACEF788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F470-73B0-47A9-982E-64E9EFEE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CF38-911A-4699-A532-47D2B47A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9CA-6A6A-4B73-94F3-5CBCDD1B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4A1-4A9E-48B4-A5AA-017D02D0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37A-CB7A-4A64-9A8E-ECC20581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9FC-F74C-451D-B880-689E1D9A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07D-CC2E-4994-9373-68E0EB82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984-BB5B-4084-8D55-BC62453A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076-400E-4098-93DD-6787AD1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19AF-F9A9-4B71-A6CC-CABD4EB65BBE}" type="datetime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68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F270-29D8-438F-8A9D-0C90FAE72F2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BE1-DD27-4C1D-9C00-92269B96AA7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853-83B8-4065-B5B7-C7EFE74B88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03-Cancion%20para%20el%20se&#241;o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rsc.org/images/FEATURE-GREEN%2520TEA-250_tcm18-38928.jpg&amp;imgrefurl=http://www.rsc.org/chemistryworld/restricted/2005/October/tea.asp&amp;h=254&amp;w=250&amp;sz=60&amp;hl=en&amp;start=15&amp;tbnid=KoFa4QoO5qWfyM:&amp;tbnh=111&amp;tbnw=109&amp;prev=/images%3Fq%3Dgreen%2Btea%26svnum%3D10%26hl%3Den%26lr%3D%26rls%3DGGLJ,GGLJ:2006-32,GGLJ:en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4 Rectángulo"/>
          <p:cNvSpPr/>
          <p:nvPr/>
        </p:nvSpPr>
        <p:spPr>
          <a:xfrm>
            <a:off x="1285920" y="2249640"/>
            <a:ext cx="6572160" cy="2358720"/>
          </a:xfrm>
          <a:prstGeom prst="rect">
            <a:avLst/>
          </a:prstGeom>
          <a:solidFill>
            <a:srgbClr val="4c520e">
              <a:alpha val="60000"/>
            </a:srgbClr>
          </a:solidFill>
          <a:ln w="3240">
            <a:solidFill>
              <a:srgbClr val="7a8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285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f99"/>
                </a:solidFill>
                <a:latin typeface="Century"/>
              </a:rPr>
              <a:t>25 Razones para comenzar a tomarlo</a:t>
            </a:r>
            <a:br>
              <a:rPr sz="2400"/>
            </a:br>
            <a:r>
              <a:rPr b="0" lang="en-US" sz="2400" spc="-1" strike="noStrike">
                <a:solidFill>
                  <a:srgbClr val="dbff99"/>
                </a:solidFill>
                <a:latin typeface="Century"/>
              </a:rPr>
              <a:t>ahora mismo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250020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"/>
              </a:rPr>
              <a:t>Té Ve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6143760"/>
            <a:ext cx="9144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entury"/>
              </a:rPr>
              <a:t>Hacer click para contin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03-Cancion%20para%20el%20se%C3%B1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4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1921-F7EF-49EC-AC26-4C9D2A718787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8. Colestero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093680" y="2362320"/>
            <a:ext cx="695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reducir el nivel de coleste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También mejora la proporción de buen colesterol y mal colesterol, reduciendo el nivel del colesterol m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http://tkfiles.storage.live.com/y1pyQ_1YpDJSEmf7ig-8tGz5vL-dDydmPh9aJ2EOfRdeB1zbAuIbzU0q8MFdFAqHV5vUK103UAwTRY"/>
          <p:cNvPicPr/>
          <p:nvPr/>
        </p:nvPicPr>
        <p:blipFill>
          <a:blip r:embed="rId1"/>
          <a:stretch/>
        </p:blipFill>
        <p:spPr>
          <a:xfrm>
            <a:off x="3143160" y="4286160"/>
            <a:ext cx="290844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4DD9-67F2-451F-A6C9-C98CAD0BF33A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9. Obesida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65280" y="2221200"/>
            <a:ext cx="781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la obesidad al detener el movimento de la glucosa en las células gra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Quien siga una dieta sana, haga ejercicio regularmente y beba té verde, es muy poco probable que llegue a estar ob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http://www.intramed.net/UserFiles/imagenes/obesidad.jpg"/>
          <p:cNvPicPr/>
          <p:nvPr/>
        </p:nvPicPr>
        <p:blipFill>
          <a:blip r:embed="rId1"/>
          <a:stretch/>
        </p:blipFill>
        <p:spPr>
          <a:xfrm>
            <a:off x="3681360" y="4286160"/>
            <a:ext cx="1781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0231-1BBC-4257-8B5E-FA7FE74B01F7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0. Diabet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25596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mejora el metabolismo en relación a los lípidos y la glucosa, y previene de súbitos incrementos en el nivel de azúcar en la sangre, equilibrando el metabolismo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green tea weight loss picture"/>
          <p:cNvPicPr/>
          <p:nvPr/>
        </p:nvPicPr>
        <p:blipFill>
          <a:blip r:embed="rId1"/>
          <a:stretch/>
        </p:blipFill>
        <p:spPr>
          <a:xfrm>
            <a:off x="3189240" y="4286160"/>
            <a:ext cx="27655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EFED-54B1-430E-8A0B-844FC8FA45DF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1. Alzheimer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31800" y="2221200"/>
            <a:ext cx="788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fortalecer la mem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Aunque aún no se conoce cura para el Alzheimer, el té verde ayuda a ralentisar el proceso de reducción de acetilcolina en el cerebro, que es lo que provoca el Alzhei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http://www.cprevia.com/wp-content/uploads/2007/07/alzheimer.jpg"/>
          <p:cNvPicPr/>
          <p:nvPr/>
        </p:nvPicPr>
        <p:blipFill>
          <a:blip r:embed="rId1"/>
          <a:stretch/>
        </p:blipFill>
        <p:spPr>
          <a:xfrm>
            <a:off x="3638520" y="4286160"/>
            <a:ext cx="18669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5206-C3A8-46AC-B19E-253686D653E5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2. Mal de Parkins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20560" y="2149560"/>
            <a:ext cx="810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s antioxidantes en el té verde ayudan a prevenir el daño celular en el cerebro, que es una de las causas del mal de Parkin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Quien toma té verde regularmente es muy poco probable que desarrolle esta enferm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http://www.queciencia.com/wp-content/uploads/2008/02/parkinson.jpg"/>
          <p:cNvPicPr/>
          <p:nvPr/>
        </p:nvPicPr>
        <p:blipFill>
          <a:blip r:embed="rId1"/>
          <a:stretch/>
        </p:blipFill>
        <p:spPr>
          <a:xfrm>
            <a:off x="3492360" y="428616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CB07-E411-4780-B544-19E4B957F778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3. Enfermedades Hepática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7" name="Picture 7" descr="greentea2"/>
          <p:cNvPicPr/>
          <p:nvPr/>
        </p:nvPicPr>
        <p:blipFill>
          <a:blip r:embed="rId1"/>
          <a:stretch/>
        </p:blipFill>
        <p:spPr>
          <a:xfrm>
            <a:off x="3071880" y="4286160"/>
            <a:ext cx="3052800" cy="216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852480" y="2232360"/>
            <a:ext cx="743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las fallas de transplante de hígado en personas con disfuncionamiento hepá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s investigaciones muestran que el té verde destruye los radicales libres en el hígado gr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2523-C144-418F-92CA-EB65D2DC014E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4. Alta Presión sanguínea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34920" y="2292480"/>
            <a:ext cx="727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la alta presión sanguíne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Beber té verde ayuda a reducir la presión sanguínea al reprimir la angiotensina, que hace elevar la presión sanguí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http://static.20minutos.es/img/2008/06/06/824592.jpg"/>
          <p:cNvPicPr/>
          <p:nvPr/>
        </p:nvPicPr>
        <p:blipFill>
          <a:blip r:embed="rId1"/>
          <a:stretch/>
        </p:blipFill>
        <p:spPr>
          <a:xfrm>
            <a:off x="3129120" y="4286160"/>
            <a:ext cx="28857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CA68-4163-473E-A933-476C3E4EAD92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5. Envenenamiento por alimento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68160" y="2718360"/>
            <a:ext cx="780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catechin que se encuentra en el té verde puede matar las bacterias que causan el envenenamiento por alimentos y destruye las toxinas producidas por esas bacte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http://cache.daylife.com/imageserve/0bul8fd5q2bzu/610x.jpg"/>
          <p:cNvPicPr/>
          <p:nvPr/>
        </p:nvPicPr>
        <p:blipFill>
          <a:blip r:embed="rId1"/>
          <a:srcRect l="6468" t="65884" r="3178" b="0"/>
          <a:stretch/>
        </p:blipFill>
        <p:spPr>
          <a:xfrm>
            <a:off x="642960" y="4286160"/>
            <a:ext cx="78580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ACC9-18E0-47BE-90EB-5AE73D4C0861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701028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11BC-48CD-4B94-9B3B-635420C9605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6. Azúcar en la Sangr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863640" y="25038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azúcar en la sangre tiende a incrementar con la edad, pero los polifenoles y los polisacáridos en el té verde ayudan a reducir el nivel de azúcar en la sang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blogmuchoviaje.com/wp-content/uploads/2008/05/te-verde.jpg"/>
          <p:cNvPicPr/>
          <p:nvPr/>
        </p:nvPicPr>
        <p:blipFill>
          <a:blip r:embed="rId1"/>
          <a:stretch/>
        </p:blipFill>
        <p:spPr>
          <a:xfrm>
            <a:off x="3127320" y="4286160"/>
            <a:ext cx="28893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B373-E49C-477B-9833-AE8FB1339FBC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7. Inmunida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773280" y="2503800"/>
            <a:ext cx="75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s polifenoles y flavonoides que se encuentran en el té verde ayudan a estimular el sistema inmunológico, fortaleciendo la salud en su lucha contra las infe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http://weblogs.madrimasd.org/images/weblogs_madrimasd_org/salud_publica/656/r_vacuna4.jpg"/>
          <p:cNvPicPr/>
          <p:nvPr/>
        </p:nvPicPr>
        <p:blipFill>
          <a:blip r:embed="rId1"/>
          <a:stretch/>
        </p:blipFill>
        <p:spPr>
          <a:xfrm>
            <a:off x="3492360" y="428616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7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3c410b">
              <a:alpha val="70000"/>
            </a:srgbClr>
          </a:solidFill>
          <a:ln w="3240">
            <a:solidFill>
              <a:srgbClr val="7a8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765A-EE3E-423A-B38D-57BC05C37036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71760" y="1428480"/>
            <a:ext cx="610056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  <a:ea typeface="Arial"/>
              </a:rPr>
              <a:t>El té verde se ha convertido en una bebida cada vez más popular a nivel mundial debido a sus poderosos beneficios para la salu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  <a:ea typeface="Arial"/>
              </a:rPr>
              <a:t>Es verdaderamente asombroso lo que el té verde puede hacer por la salud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Picture 17" descr="DSC00014osencha216"/>
          <p:cNvPicPr/>
          <p:nvPr/>
        </p:nvPicPr>
        <p:blipFill>
          <a:blip r:embed="rId1"/>
          <a:stretch/>
        </p:blipFill>
        <p:spPr>
          <a:xfrm>
            <a:off x="3543480" y="4071960"/>
            <a:ext cx="2160360" cy="207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A61D-EE15-40CF-8ABF-47205968B80C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8. Gripe y Resfriado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30360" y="2433960"/>
            <a:ext cx="78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evitar la gripe y los resfr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 vitamina C en el té verde ayuda en el tratamiento del resfriado y la grip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http://www.deportesysalud.com/wp-content/uploads/2007/11/gripe.jpg"/>
          <p:cNvPicPr/>
          <p:nvPr/>
        </p:nvPicPr>
        <p:blipFill>
          <a:blip r:embed="rId1"/>
          <a:stretch/>
        </p:blipFill>
        <p:spPr>
          <a:xfrm>
            <a:off x="2948040" y="4286160"/>
            <a:ext cx="32479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1DDA-21D1-4022-9D53-427654CB0FED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9. Asma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38080" y="271656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 Teofilina en el té verde relaja los músculos que soportan los tubos bronquiales, reduciendo la severidad del a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http://www.elite-tea.com/wp-content/uploads/green-tea.jpg"/>
          <p:cNvPicPr/>
          <p:nvPr/>
        </p:nvPicPr>
        <p:blipFill>
          <a:blip r:embed="rId1"/>
          <a:stretch/>
        </p:blipFill>
        <p:spPr>
          <a:xfrm>
            <a:off x="3557520" y="4286160"/>
            <a:ext cx="20289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E63A-A653-4326-88F5-A6E63C78BA7E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0. Infección de Oído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71400" y="2221200"/>
            <a:ext cx="7801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es de gran ayuda para combatir el problema de infección de oí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Para una limpieza natural de oídos, empapar un cotonete en té verde y limpiar el oído inf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http://www.rimith.com/web/images/profesor/120.jpg"/>
          <p:cNvPicPr/>
          <p:nvPr/>
        </p:nvPicPr>
        <p:blipFill>
          <a:blip r:embed="rId1"/>
          <a:stretch/>
        </p:blipFill>
        <p:spPr>
          <a:xfrm>
            <a:off x="3429000" y="428616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0366-282D-41F9-B9E6-47259BD8FF7B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1. Herp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900000" y="2292480"/>
            <a:ext cx="73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incrementa la efectividad del tratamiento de interferon para el Her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Primero se aplica una compresa de té verde y luego se deja secar la piel antes de aplicar el tratamiento de interfe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http://medicalimages.allrefer.com/large/herpes-zoster-shingles-on-the-back-1.jpg"/>
          <p:cNvPicPr/>
          <p:nvPr/>
        </p:nvPicPr>
        <p:blipFill>
          <a:blip r:embed="rId1"/>
          <a:stretch/>
        </p:blipFill>
        <p:spPr>
          <a:xfrm>
            <a:off x="3110040" y="4286160"/>
            <a:ext cx="2923920" cy="2160720"/>
          </a:xfrm>
          <a:prstGeom prst="rect">
            <a:avLst/>
          </a:prstGeom>
          <a:ln w="0">
            <a:noFill/>
          </a:ln>
        </p:spPr>
      </p:pic>
      <p:sp>
        <p:nvSpPr>
          <p:cNvPr id="228" name="13 Rectángulo"/>
          <p:cNvSpPr/>
          <p:nvPr/>
        </p:nvSpPr>
        <p:spPr>
          <a:xfrm>
            <a:off x="5286240" y="6286680"/>
            <a:ext cx="714600" cy="142560"/>
          </a:xfrm>
          <a:prstGeom prst="rect">
            <a:avLst/>
          </a:prstGeom>
          <a:solidFill>
            <a:srgbClr val="ac4a3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FF4A-737E-4BCD-82B6-DFC98E02E99F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2. Cari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887400" y="2303640"/>
            <a:ext cx="736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destruye las bacterias y virus que causan muchos de los problemas d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También ralentisa el crecimiento de bacterias que provocan el mal al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http://naranja.bitacoras.com/imagenes/sonrisa_p.jpg"/>
          <p:cNvPicPr/>
          <p:nvPr/>
        </p:nvPicPr>
        <p:blipFill>
          <a:blip r:embed="rId1"/>
          <a:stretch/>
        </p:blipFill>
        <p:spPr>
          <a:xfrm>
            <a:off x="3346560" y="4286160"/>
            <a:ext cx="24508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A4DE-0815-4200-9BF9-655250E056A8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3. St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17640" y="255960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 L-teanina, que es un tipo de amino ácido que se encuentra en el té verde, puede ayudar a reducir el stress y la ans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http://www.problemasycrisis.com.ar/problemadepresion/stressg.jpg"/>
          <p:cNvPicPr/>
          <p:nvPr/>
        </p:nvPicPr>
        <p:blipFill>
          <a:blip r:embed="rId1"/>
          <a:stretch/>
        </p:blipFill>
        <p:spPr>
          <a:xfrm>
            <a:off x="3132000" y="428616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BCCE-9CBA-4235-A5BA-0A674743D879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4. Alergia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863640" y="24339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Century"/>
              </a:rPr>
              <a:t>El EGCG que se encuentra en el té verde mitiga las alerg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Century"/>
              </a:rPr>
              <a:t>Entonces, si existen alergias, debe considerarse seriamente el beber té verde con regula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www.finejapaneseimports.com.au/images/green-tea-in-cups.jpg"/>
          <p:cNvPicPr/>
          <p:nvPr/>
        </p:nvPicPr>
        <p:blipFill>
          <a:blip r:embed="rId1"/>
          <a:stretch/>
        </p:blipFill>
        <p:spPr>
          <a:xfrm>
            <a:off x="3286080" y="4286160"/>
            <a:ext cx="257184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FCEE-96DB-4978-8154-AD9BECC1F0F2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5. VIH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679320" y="1866240"/>
            <a:ext cx="7783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s científicos en Japón han encontrado que el EGCC (Epigallocatechin Gallate) del té verde puede ayudar a reducir el ataque del VIH a las células saludables del sistema inmunológ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 que esto significa es que el té verde puede ayudar a detener que se extienda el VI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C:\Users\Carlos Rangel\AppData\Local\Microsoft\Windows\Temporary Internet Files\Low\Content.IE5\AE3TA06M\green_tea_leaves[1].jpg"/>
          <p:cNvPicPr/>
          <p:nvPr/>
        </p:nvPicPr>
        <p:blipFill>
          <a:blip r:embed="rId1"/>
          <a:stretch/>
        </p:blipFill>
        <p:spPr>
          <a:xfrm>
            <a:off x="3292560" y="4286160"/>
            <a:ext cx="25588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4 Rectángulo"/>
          <p:cNvSpPr/>
          <p:nvPr/>
        </p:nvSpPr>
        <p:spPr>
          <a:xfrm>
            <a:off x="2892600" y="2482920"/>
            <a:ext cx="3358800" cy="1892160"/>
          </a:xfrm>
          <a:prstGeom prst="rect">
            <a:avLst/>
          </a:prstGeom>
          <a:solidFill>
            <a:srgbClr val="4c520e">
              <a:alpha val="60000"/>
            </a:srgbClr>
          </a:solidFill>
          <a:ln w="3240">
            <a:solidFill>
              <a:srgbClr val="7a8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f99"/>
                </a:solidFill>
                <a:latin typeface="Century"/>
              </a:rPr>
              <a:t>F i 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5643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f99"/>
                </a:solidFill>
                <a:latin typeface="Century"/>
              </a:rPr>
              <a:t>Textos y montaje original de autor no identificado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f99"/>
                </a:solidFill>
                <a:latin typeface="Century"/>
              </a:rPr>
              <a:t>de amplia difusión en la r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1b640"/>
                </a:solidFill>
                <a:latin typeface="Century"/>
              </a:rPr>
              <a:t>Traducción al español y reedición de formato, cortesía de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1b640"/>
                </a:solidFill>
                <a:latin typeface="Century"/>
              </a:rPr>
              <a:t>con el reconocimiento a su autor orig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1b640"/>
                </a:solidFill>
                <a:latin typeface="Century"/>
              </a:rPr>
              <a:t>Santiago de Querétaro, Mex. Oct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1b640"/>
                </a:solidFill>
                <a:latin typeface="Century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  <a:ea typeface="Arial"/>
              </a:rPr>
              <a:t>1. Cáncer</a:t>
            </a:r>
            <a:r>
              <a:rPr b="0" lang="en-US" sz="4400" spc="-1" strike="noStrike">
                <a:solidFill>
                  <a:srgbClr val="ccff33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25640" y="1897200"/>
            <a:ext cx="709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reducir el riesgo del cá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antioxidante en el té verde es 100 veces más efectivo que la vitamina C y 25 veces mejor que la vitamina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sto ayuda al cuerpo a proteger sus células del daño que se asocia con el cá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AE50-D842-413C-B4D2-3356AA1D23D5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http://images.google.com.mx/url?q=http://www.ferato.com/wiki/images/3/3b/20071107_mgb_te_verde_.jpg&amp;usg=AFQjCNFA_whpu0DPu6AP2K2zVuuWvFi1qA"/>
          <p:cNvPicPr/>
          <p:nvPr/>
        </p:nvPicPr>
        <p:blipFill>
          <a:blip r:embed="rId1"/>
          <a:stretch/>
        </p:blipFill>
        <p:spPr>
          <a:xfrm>
            <a:off x="3303720" y="4286160"/>
            <a:ext cx="25365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A78C-2FE9-4C8D-A6F9-2377D8F76EA8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139760" y="2079000"/>
            <a:ext cx="6864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enfermedades del corazón y derrame cerebral al reducir el nivel del coleste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Aún depués de un ataque al corazón, previene la muerte de las células y acelera la recuperación de las células del co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  <a:ea typeface="Arial"/>
              </a:rPr>
              <a:t>2. Enfermedades Cardiaca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9" name="Picture 10" descr="http://fitnessywellness.tengoestilo.com/2007/05/31/heart-1/corazon-1.jpg"/>
          <p:cNvPicPr/>
          <p:nvPr/>
        </p:nvPicPr>
        <p:blipFill>
          <a:blip r:embed="rId1"/>
          <a:stretch/>
        </p:blipFill>
        <p:spPr>
          <a:xfrm>
            <a:off x="3263760" y="4286160"/>
            <a:ext cx="26164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11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7DF5-5E3B-411E-A589-46408441DB26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2360" y="2214720"/>
            <a:ext cx="7674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     </a:t>
            </a: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contiene antioxidantes conocidos como polifenoles que atacan a los radicales libr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     </a:t>
            </a: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 que significa que ayuda a combatir los efectos del envejecimiento y promueve la longevida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  <a:ea typeface="Arial"/>
              </a:rPr>
              <a:t>3. Anti envejecimiento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5" name="Picture 8" descr="http://contenido.sugerimos.com/contenido/uploads/234746a.JPG"/>
          <p:cNvPicPr/>
          <p:nvPr/>
        </p:nvPicPr>
        <p:blipFill>
          <a:blip r:embed="rId1"/>
          <a:stretch/>
        </p:blipFill>
        <p:spPr>
          <a:xfrm>
            <a:off x="3492360" y="428616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0C0F-466E-48B4-A40D-D36BC23F372F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  <a:ea typeface="Arial"/>
              </a:rPr>
              <a:t>4. Pérdida de peso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714240" y="2079000"/>
            <a:ext cx="771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que el cuerpo pierda 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Quema la grasa y es un estimulante natural del metabol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Puede ayudar a quemar hasta 70 calorías por día, lo que se traduce en 3.17 kg po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img.vitonica.com/2007/08/perdidapeso.jpg"/>
          <p:cNvPicPr/>
          <p:nvPr/>
        </p:nvPicPr>
        <p:blipFill>
          <a:blip r:embed="rId1"/>
          <a:stretch/>
        </p:blipFill>
        <p:spPr>
          <a:xfrm>
            <a:off x="3492360" y="428616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0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CEDE-6049-4C5E-A64A-8E3AEA6934A8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5. La Pie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6" name="Picture 10" descr="greenteacupset"/>
          <p:cNvPicPr/>
          <p:nvPr/>
        </p:nvPicPr>
        <p:blipFill>
          <a:blip r:embed="rId1"/>
          <a:stretch/>
        </p:blipFill>
        <p:spPr>
          <a:xfrm>
            <a:off x="3135240" y="4286160"/>
            <a:ext cx="2873520" cy="2160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814320" y="1997280"/>
            <a:ext cx="751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antioxidante en el te verde protege la piel de los efectos dañinos de los radicales libres, que son los causantes de las arrugas y el envejacimiento de la pi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también ayuda en la lucha contra el cáncer de pi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9EDE-11FD-4418-B3D2-87FAAE7FDCE8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6. Artriti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09640" y="2221200"/>
            <a:ext cx="75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y a reducir el riesgo de artritis reumato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s de gran beneficio para la salud ya que protege el cartílago y bloquea las enzimas que destruyen el cartíl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http://www.aldeaeducativa.com/images/artritis05.jpg"/>
          <p:cNvPicPr/>
          <p:nvPr/>
        </p:nvPicPr>
        <p:blipFill>
          <a:blip r:embed="rId1"/>
          <a:stretch/>
        </p:blipFill>
        <p:spPr>
          <a:xfrm>
            <a:off x="3071880" y="4286160"/>
            <a:ext cx="32400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19CE-D37D-4BF6-99B3-AC17392B38BE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42560" y="738000"/>
            <a:ext cx="76741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7. Hueso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047600" y="2149560"/>
            <a:ext cx="704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 clave es su alto contenido de fluoruro que ayuda a mantener los huesos fue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Al beber té verde cada día, se ayuda a preservar la densidad ó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FEATURE-GREEN%2520TEA-250_tcm18-389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11440" y="4286160"/>
            <a:ext cx="21211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9:23:24Z</dcterms:created>
  <dc:creator>O &amp; H Computer</dc:creator>
  <dc:description/>
  <dc:language>en-US</dc:language>
  <cp:lastModifiedBy>Carlos Rangel</cp:lastModifiedBy>
  <dcterms:modified xsi:type="dcterms:W3CDTF">2008-10-06T04:56:21Z</dcterms:modified>
  <cp:revision>26</cp:revision>
  <dc:subject/>
  <dc:title>25 Reasons Why You Should Start Drinking Green Tea Now</dc:title>
</cp:coreProperties>
</file>