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Chamin%20Correa1.wav" ContentType="audio/x-wav"/>
  <Override PartName="/ppt/media/image5.gif" ContentType="image/gif"/>
  <Override PartName="/ppt/media/image19.jpeg" ContentType="image/jpeg"/>
  <Override PartName="/ppt/media/image4.gif" ContentType="image/gif"/>
  <Override PartName="/ppt/media/image1.jpeg" ContentType="image/jpeg"/>
  <Override PartName="/ppt/media/image3.gif" ContentType="image/gif"/>
  <Override PartName="/ppt/media/image12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320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Chamin%20Correa1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1906560" y="1600200"/>
            <a:ext cx="5257800" cy="1905120"/>
            <a:chOff x="1906560" y="1600200"/>
            <a:chExt cx="5257800" cy="1905120"/>
          </a:xfrm>
        </p:grpSpPr>
        <p:sp>
          <p:nvSpPr>
            <p:cNvPr id="42" name="Freeform 3"/>
            <p:cNvSpPr/>
            <p:nvPr/>
          </p:nvSpPr>
          <p:spPr>
            <a:xfrm>
              <a:off x="2039760" y="1609560"/>
              <a:ext cx="246240" cy="61452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78160" y="1609560"/>
              <a:ext cx="336600" cy="61452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2862360" y="1600200"/>
              <a:ext cx="280800" cy="63504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3664080" y="1609560"/>
              <a:ext cx="336600" cy="61452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4143240" y="1609560"/>
              <a:ext cx="260640" cy="61452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4560840" y="1609560"/>
              <a:ext cx="297000" cy="61452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4995720" y="1609560"/>
              <a:ext cx="290520" cy="61452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450040" y="1609560"/>
              <a:ext cx="336240" cy="61452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894280" y="1609560"/>
              <a:ext cx="249480" cy="62568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07200" y="1609560"/>
              <a:ext cx="336600" cy="61452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791400" y="1600200"/>
              <a:ext cx="280800" cy="63504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1906560" y="2881440"/>
              <a:ext cx="28584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2241720" y="2881440"/>
              <a:ext cx="26028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2697120" y="2881440"/>
              <a:ext cx="24444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2954160" y="2881440"/>
              <a:ext cx="33660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3444840" y="2881440"/>
              <a:ext cx="29052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3778200" y="2881440"/>
              <a:ext cx="26208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4091040" y="2881440"/>
              <a:ext cx="30492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4414680" y="2870280"/>
              <a:ext cx="301680" cy="63504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762440" y="2881440"/>
              <a:ext cx="26028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076720" y="2881440"/>
              <a:ext cx="30492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5380200" y="2881440"/>
              <a:ext cx="33624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891040" y="2881440"/>
              <a:ext cx="26208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6205680" y="2881440"/>
              <a:ext cx="28548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6508800" y="2881440"/>
              <a:ext cx="33660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6878520" y="2881440"/>
              <a:ext cx="285840" cy="614160"/>
            </a:xfrm>
            <a:prstGeom prst="pie">
              <a:avLst/>
            </a:pr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8" name="Picture 29" descr=""/>
          <p:cNvPicPr/>
          <p:nvPr/>
        </p:nvPicPr>
        <p:blipFill>
          <a:blip r:embed="rId2"/>
          <a:stretch/>
        </p:blipFill>
        <p:spPr>
          <a:xfrm>
            <a:off x="3500280" y="3762360"/>
            <a:ext cx="2251080" cy="2021040"/>
          </a:xfrm>
          <a:prstGeom prst="rect">
            <a:avLst/>
          </a:prstGeom>
          <a:ln w="0">
            <a:noFill/>
          </a:ln>
        </p:spPr>
      </p:pic>
      <p:sp>
        <p:nvSpPr>
          <p:cNvPr id="69" name="30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1025640" y="928800"/>
            <a:ext cx="7086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9900"/>
                </a:solidFill>
                <a:latin typeface="Comic Sans MS"/>
              </a:rPr>
              <a:t>9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9900"/>
                </a:solidFill>
                <a:latin typeface="Comic Sans MS"/>
              </a:rPr>
              <a:t>Puedes vivir sin sex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9900"/>
                </a:solidFill>
                <a:latin typeface="Comic Sans MS"/>
              </a:rPr>
              <a:t>pero no sin anteojos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3740040" y="3355920"/>
            <a:ext cx="1629000" cy="2529000"/>
          </a:xfrm>
          <a:prstGeom prst="rect">
            <a:avLst/>
          </a:prstGeom>
          <a:ln w="0">
            <a:noFill/>
          </a:ln>
        </p:spPr>
      </p:pic>
      <p:sp>
        <p:nvSpPr>
          <p:cNvPr id="105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1071720" y="1000080"/>
            <a:ext cx="708660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10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 encanta enterarte de los chismes de los amig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645000" y="3851280"/>
            <a:ext cx="2057400" cy="1930320"/>
          </a:xfrm>
          <a:prstGeom prst="rect">
            <a:avLst/>
          </a:prstGeom>
          <a:ln w="0">
            <a:noFill/>
          </a:ln>
        </p:spPr>
      </p:pic>
      <p:sp>
        <p:nvSpPr>
          <p:cNvPr id="109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1027080" y="928800"/>
            <a:ext cx="7086600" cy="26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Comic Sans MS"/>
              </a:rPr>
              <a:t>11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Comic Sans MS"/>
              </a:rPr>
              <a:t>Discutes acalorad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Comic Sans MS"/>
              </a:rPr>
              <a:t>sobre la jubil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Comic Sans MS"/>
              </a:rPr>
              <a:t>y los seguros de sal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3643200" y="4057560"/>
            <a:ext cx="1832040" cy="1870200"/>
          </a:xfrm>
          <a:prstGeom prst="rect">
            <a:avLst/>
          </a:prstGeom>
          <a:ln w="0">
            <a:noFill/>
          </a:ln>
        </p:spPr>
      </p:pic>
      <p:sp>
        <p:nvSpPr>
          <p:cNvPr id="113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1000080" y="1000080"/>
            <a:ext cx="7086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Comic Sans MS"/>
              </a:rPr>
              <a:t>12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Comic Sans MS"/>
              </a:rPr>
              <a:t>Cuando haces reuniones en tu ca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Comic Sans MS"/>
              </a:rPr>
              <a:t>los vecinos ni lo not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Download Pareja de ancianos (152Wx173H)"/>
          <p:cNvPicPr/>
          <p:nvPr/>
        </p:nvPicPr>
        <p:blipFill>
          <a:blip r:embed="rId2"/>
          <a:stretch/>
        </p:blipFill>
        <p:spPr>
          <a:xfrm>
            <a:off x="3571920" y="3571920"/>
            <a:ext cx="1857240" cy="2114640"/>
          </a:xfrm>
          <a:prstGeom prst="rect">
            <a:avLst/>
          </a:prstGeom>
          <a:ln w="0">
            <a:noFill/>
          </a:ln>
        </p:spPr>
      </p:pic>
      <p:sp>
        <p:nvSpPr>
          <p:cNvPr id="117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1122480" y="857160"/>
            <a:ext cx="7086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13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El límite de velo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eja de ser un desafí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6" descr="oldlady2.gif (8405 bytes)"/>
          <p:cNvPicPr/>
          <p:nvPr/>
        </p:nvPicPr>
        <p:blipFill>
          <a:blip r:embed="rId2"/>
          <a:stretch/>
        </p:blipFill>
        <p:spPr>
          <a:xfrm>
            <a:off x="4286160" y="3233880"/>
            <a:ext cx="803520" cy="2266920"/>
          </a:xfrm>
          <a:prstGeom prst="rect">
            <a:avLst/>
          </a:prstGeom>
          <a:ln w="0">
            <a:noFill/>
          </a:ln>
        </p:spPr>
      </p:pic>
      <p:sp>
        <p:nvSpPr>
          <p:cNvPr id="121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1011240" y="1000080"/>
            <a:ext cx="7086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14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Ya no te impor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conder la barrig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3878280" y="4016520"/>
            <a:ext cx="1355760" cy="1801800"/>
          </a:xfrm>
          <a:prstGeom prst="rect">
            <a:avLst/>
          </a:prstGeom>
          <a:ln w="0">
            <a:noFill/>
          </a:ln>
        </p:spPr>
      </p:pic>
      <p:sp>
        <p:nvSpPr>
          <p:cNvPr id="125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357120" y="1071720"/>
            <a:ext cx="842976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Comic Sans MS"/>
              </a:rPr>
              <a:t>15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66ff"/>
                </a:solidFill>
                <a:latin typeface="Comic Sans MS"/>
              </a:rPr>
              <a:t>Tu inversión en la póliza de gastos médicos, comienza a valer la p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http://www.imagenesanimadas.net/Personas/Enfermos/Enfermo-10.gif"/>
          <p:cNvPicPr/>
          <p:nvPr/>
        </p:nvPicPr>
        <p:blipFill>
          <a:blip r:embed="rId2"/>
          <a:stretch/>
        </p:blipFill>
        <p:spPr>
          <a:xfrm>
            <a:off x="3209760" y="3643200"/>
            <a:ext cx="221940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"/>
          <p:cNvSpPr/>
          <p:nvPr/>
        </p:nvSpPr>
        <p:spPr>
          <a:xfrm>
            <a:off x="366840" y="785880"/>
            <a:ext cx="8348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Comic Sans MS"/>
              </a:rPr>
              <a:t>¿No recuerdas quién te envió este mai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Comic Sans MS"/>
              </a:rPr>
              <a:t>No te preocupes, quien te lo envió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Comic Sans MS"/>
              </a:rPr>
              <a:t>tampoco recuerda que te lo mandó a 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http://www.imagenesanimadas.net/Personas/Pensando/Pensando-01.gif"/>
          <p:cNvPicPr/>
          <p:nvPr/>
        </p:nvPicPr>
        <p:blipFill>
          <a:blip r:embed="rId2"/>
          <a:stretch/>
        </p:blipFill>
        <p:spPr>
          <a:xfrm>
            <a:off x="3857760" y="3500280"/>
            <a:ext cx="1428480" cy="2343240"/>
          </a:xfrm>
          <a:prstGeom prst="rect">
            <a:avLst/>
          </a:prstGeom>
          <a:ln w="0">
            <a:noFill/>
          </a:ln>
        </p:spPr>
      </p:pic>
      <p:sp>
        <p:nvSpPr>
          <p:cNvPr id="133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1057320" y="714240"/>
            <a:ext cx="708660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víalo a todos tus amigos 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la tercera edad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No me acuerdo si y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ya lo hice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3611520" y="3994200"/>
            <a:ext cx="2032200" cy="2031840"/>
          </a:xfrm>
          <a:prstGeom prst="rect">
            <a:avLst/>
          </a:prstGeom>
          <a:ln w="0">
            <a:noFill/>
          </a:ln>
        </p:spPr>
      </p:pic>
      <p:sp>
        <p:nvSpPr>
          <p:cNvPr id="137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642960" y="428760"/>
            <a:ext cx="778680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Comic Sans MS"/>
              </a:rPr>
              <a:t>Ah, y también envíaselos a 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3333ff"/>
                </a:solidFill>
                <a:latin typeface="Comic Sans MS"/>
              </a:rPr>
              <a:t>más jóvenes” para que v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Comic Sans MS"/>
              </a:rPr>
              <a:t>“</a:t>
            </a:r>
            <a:r>
              <a:rPr b="0" lang="en-GB" sz="3200" spc="-1" strike="noStrike">
                <a:solidFill>
                  <a:srgbClr val="3333ff"/>
                </a:solidFill>
                <a:latin typeface="Comic Sans MS"/>
              </a:rPr>
              <a:t>lo que les espera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Comic Sans MS"/>
              </a:rPr>
              <a:t>y aprecien “lo que tienen ho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4029120" y="4145040"/>
            <a:ext cx="1157400" cy="1949400"/>
          </a:xfrm>
          <a:prstGeom prst="rect">
            <a:avLst/>
          </a:prstGeom>
          <a:ln w="0">
            <a:noFill/>
          </a:ln>
        </p:spPr>
      </p:pic>
      <p:sp>
        <p:nvSpPr>
          <p:cNvPr id="141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3533760" y="3713040"/>
            <a:ext cx="2158920" cy="2035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985680" y="1071720"/>
            <a:ext cx="70866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1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cantidad de neuronas finalmente bajó a un nivel administr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714240" y="642960"/>
            <a:ext cx="7715520" cy="31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2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us secre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tán seguros con tus amigo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pues ellos tampoco pueden recordarl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929040" y="3914640"/>
            <a:ext cx="1198440" cy="1874880"/>
          </a:xfrm>
          <a:prstGeom prst="rect">
            <a:avLst/>
          </a:prstGeom>
          <a:ln w="0">
            <a:noFill/>
          </a:ln>
        </p:spPr>
      </p:pic>
      <p:sp>
        <p:nvSpPr>
          <p:cNvPr id="77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1108080" y="642960"/>
            <a:ext cx="7086600" cy="27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mic Sans MS"/>
              </a:rPr>
              <a:t>3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mic Sans MS"/>
              </a:rPr>
              <a:t>Tus articulaciones hacen una predicción del tiempo                  más exacta que la del                                Servicio Nacional de Meteorolog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809880" y="4016520"/>
            <a:ext cx="1597320" cy="1720800"/>
          </a:xfrm>
          <a:prstGeom prst="rect">
            <a:avLst/>
          </a:prstGeom>
          <a:ln w="0">
            <a:noFill/>
          </a:ln>
        </p:spPr>
      </p:pic>
      <p:sp>
        <p:nvSpPr>
          <p:cNvPr id="81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1143000" y="1000080"/>
            <a:ext cx="685800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4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Tienes amistades que te telefonean a las 8 pm y pregunt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¿Te desperté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6" descr="http://www.imagenesanimadas.net/Personas/Durmiendo/Dormiendo-05.gif"/>
          <p:cNvPicPr/>
          <p:nvPr/>
        </p:nvPicPr>
        <p:blipFill>
          <a:blip r:embed="rId2"/>
          <a:stretch/>
        </p:blipFill>
        <p:spPr>
          <a:xfrm>
            <a:off x="3500280" y="3848040"/>
            <a:ext cx="2428920" cy="1633680"/>
          </a:xfrm>
          <a:prstGeom prst="rect">
            <a:avLst/>
          </a:prstGeom>
          <a:ln w="0">
            <a:noFill/>
          </a:ln>
        </p:spPr>
      </p:pic>
      <p:sp>
        <p:nvSpPr>
          <p:cNvPr id="85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1038240" y="785880"/>
            <a:ext cx="70866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Comic Sans MS"/>
              </a:rPr>
              <a:t>5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Comic Sans MS"/>
              </a:rPr>
              <a:t>Ya nadie pensará que eres hipocondríaco; ahora sí padeces de todas esas enferme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http://www.imagenesanimadas.net/Personas/Enfermos/Enfermo-11.gif"/>
          <p:cNvPicPr/>
          <p:nvPr/>
        </p:nvPicPr>
        <p:blipFill>
          <a:blip r:embed="rId2"/>
          <a:stretch/>
        </p:blipFill>
        <p:spPr>
          <a:xfrm>
            <a:off x="3643200" y="3605040"/>
            <a:ext cx="1866960" cy="1895760"/>
          </a:xfrm>
          <a:prstGeom prst="rect">
            <a:avLst/>
          </a:prstGeom>
          <a:ln w="0">
            <a:noFill/>
          </a:ln>
        </p:spPr>
      </p:pic>
      <p:sp>
        <p:nvSpPr>
          <p:cNvPr id="89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1028880" y="1071720"/>
            <a:ext cx="7086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Comic Sans MS"/>
              </a:rPr>
              <a:t>6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Comic Sans MS"/>
              </a:rPr>
              <a:t>Ya no tienes que estudiar nad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Comic Sans MS"/>
              </a:rPr>
              <a:t>ahora te estudi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8" descr="http://www.imagenesanimadas.net/Profesiones/Medicos/medico-02.gif"/>
          <p:cNvPicPr/>
          <p:nvPr/>
        </p:nvPicPr>
        <p:blipFill>
          <a:blip r:embed="rId2"/>
          <a:stretch/>
        </p:blipFill>
        <p:spPr>
          <a:xfrm>
            <a:off x="3357720" y="3143160"/>
            <a:ext cx="2952720" cy="1790640"/>
          </a:xfrm>
          <a:prstGeom prst="rect">
            <a:avLst/>
          </a:prstGeom>
          <a:ln w="0">
            <a:noFill/>
          </a:ln>
        </p:spPr>
      </p:pic>
      <p:sp>
        <p:nvSpPr>
          <p:cNvPr id="93" name="6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736560" y="1000080"/>
            <a:ext cx="76820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Comic Sans MS"/>
              </a:rPr>
              <a:t>7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Comic Sans MS"/>
              </a:rPr>
              <a:t>La ropa que comp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Comic Sans MS"/>
              </a:rPr>
              <a:t>ya no pasa de mo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672000" y="3809880"/>
            <a:ext cx="1908000" cy="1833840"/>
          </a:xfrm>
          <a:prstGeom prst="rect">
            <a:avLst/>
          </a:prstGeom>
          <a:ln w="0">
            <a:noFill/>
          </a:ln>
        </p:spPr>
      </p:pic>
      <p:sp>
        <p:nvSpPr>
          <p:cNvPr id="97" name="4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1098720" y="1000080"/>
            <a:ext cx="70866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8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Puedes cenar a las 6 de la tarde                                       y roncar a la hora de la telenove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http://www.imagenesanimadas.net/Personas/Comiendo/Comiendo-08.gif"/>
          <p:cNvPicPr/>
          <p:nvPr/>
        </p:nvPicPr>
        <p:blipFill>
          <a:blip r:embed="rId2"/>
          <a:stretch/>
        </p:blipFill>
        <p:spPr>
          <a:xfrm>
            <a:off x="3571920" y="3143160"/>
            <a:ext cx="2676600" cy="2600280"/>
          </a:xfrm>
          <a:prstGeom prst="rect">
            <a:avLst/>
          </a:prstGeom>
          <a:ln w="0">
            <a:noFill/>
          </a:ln>
        </p:spPr>
      </p:pic>
      <p:sp>
        <p:nvSpPr>
          <p:cNvPr id="101" name="5 Rectángulo"/>
          <p:cNvSpPr/>
          <p:nvPr/>
        </p:nvSpPr>
        <p:spPr>
          <a:xfrm>
            <a:off x="4214880" y="6500880"/>
            <a:ext cx="7142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</cp:lastModifiedBy>
  <dcterms:modified xsi:type="dcterms:W3CDTF">2008-12-03T18:48:45Z</dcterms:modified>
  <cp:revision>16</cp:revision>
  <dc:subject/>
  <dc:title>Diapositiva 1</dc:title>
</cp:coreProperties>
</file>