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EC63-735D-40FA-95AF-4F4E5561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68B-64E6-4BF9-BE02-9EB9865D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8510-B008-4189-B488-99859AA3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B8D9-31E9-4528-8E1A-ACCDDFC8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95A7-E11B-4ABC-B428-D31667D6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3A84-7AA7-4693-B2A1-DC882924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8EDE-0E98-4E87-A968-ACE7102F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3D7C-F180-45DF-8F8E-BDD8D337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4EA8-D331-4412-9A43-02568B35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844D-19F6-4B67-962B-A7985341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0A57-CE3D-4B32-AD78-DF8E3682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557F-225E-4DF5-B671-BD065A4D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B51D-1C1F-438C-A345-B0B5A222F5B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ENTIERRO DE LA ESPOSA DE UN NARCOTRAFICANTE EN 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RIO DE JANEIRO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¡</a:t>
            </a: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No vas a creer lo que verá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13840" y="1071360"/>
            <a:ext cx="89298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Presta atención en los detalles:</a:t>
            </a:r>
            <a:br>
              <a:rPr sz="3600"/>
            </a:br>
            <a:r>
              <a:rPr b="1" i="1" lang="pt-BR" sz="3600" spc="-1" strike="noStrike">
                <a:solidFill>
                  <a:srgbClr val="000000"/>
                </a:solidFill>
                <a:latin typeface="Calibri"/>
              </a:rPr>
              <a:t>La tumba tiene la dimensión de una habitación</a:t>
            </a: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s-VE" sz="3600" spc="-1" strike="noStrike">
                <a:solidFill>
                  <a:srgbClr val="000000"/>
                </a:solidFill>
                <a:latin typeface="Calibri"/>
              </a:rPr>
              <a:t>El ataúd está sobre la cama y la mujer será enterrada con una Televisión LCD, con sillas, cama, todo su guardarropa y sus zapatos,   el espejo, el tocador, bebidas importadas, etc. 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Espaço Reservado para Conteúdo 3" descr="ATT00067.jpeg"/>
          <p:cNvPicPr/>
          <p:nvPr/>
        </p:nvPicPr>
        <p:blipFill>
          <a:blip r:embed="rId1"/>
          <a:stretch/>
        </p:blipFill>
        <p:spPr>
          <a:xfrm>
            <a:off x="0" y="357120"/>
            <a:ext cx="92264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689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000000"/>
                </a:solidFill>
                <a:latin typeface="Calibri"/>
              </a:rPr>
              <a:t>Tenga en cuenta que las paredes son de yeso pintado de blanco, con alfombra de primera clase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000000"/>
                </a:solidFill>
                <a:latin typeface="Calibri"/>
              </a:rPr>
              <a:t>Las personas que acudieron al funeral se asombraron al ver esa tumba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000000"/>
                </a:solidFill>
                <a:latin typeface="Calibri"/>
              </a:rPr>
              <a:t>Me imagino que nadie se atreverá a robar ese televisor LCD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Espaço Reservado para Conteúdo 3" descr="ATT00070.jpeg"/>
          <p:cNvPicPr/>
          <p:nvPr/>
        </p:nvPicPr>
        <p:blipFill>
          <a:blip r:embed="rId1"/>
          <a:stretch/>
        </p:blipFill>
        <p:spPr>
          <a:xfrm>
            <a:off x="214200" y="500040"/>
            <a:ext cx="879804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501120" cy="68580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1280" y="714240"/>
            <a:ext cx="9429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000000"/>
                </a:solidFill>
                <a:latin typeface="Calibri"/>
              </a:rPr>
              <a:t>Lleva a recordar los entierros de los faraones de Egipto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000000"/>
                </a:solidFill>
                <a:latin typeface="Calibri"/>
              </a:rPr>
              <a:t>Pareciera que a nadie le importa lo que se hace con el dinero robado obtenido del narcotráfic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VE" sz="4400" spc="-1" strike="noStrike">
                <a:solidFill>
                  <a:srgbClr val="000000"/>
                </a:solidFill>
                <a:latin typeface="Calibri"/>
              </a:rPr>
              <a:t>Incluso se aprecia que el viudo ni se molesta en preocuparse por tal manifiesto de derroche y aberración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286920" cy="68580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Espaço Reservado para Conteúdo 3" descr="ATT00073.jpeg"/>
          <p:cNvPicPr/>
          <p:nvPr/>
        </p:nvPicPr>
        <p:blipFill>
          <a:blip r:embed="rId1"/>
          <a:stretch/>
        </p:blipFill>
        <p:spPr>
          <a:xfrm>
            <a:off x="131760" y="428760"/>
            <a:ext cx="901224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46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Calibri"/>
              </a:rPr>
              <a:t>Esto pasó en Rio de Janeiro, ya dominada por esos narcotraficantes bandidos .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14:28:31Z</dcterms:created>
  <dc:creator>Cherry</dc:creator>
  <dc:description/>
  <dc:language>en-US</dc:language>
  <cp:lastModifiedBy>Eduardo Rosas</cp:lastModifiedBy>
  <dcterms:modified xsi:type="dcterms:W3CDTF">2014-06-17T00:12:10Z</dcterms:modified>
  <cp:revision>14</cp:revision>
  <dc:subject/>
  <dc:title>ENTERRO DA ESPOSA DE UM TRAFICANTE NO RIO Você não vai acreditar no que vai ver!</dc:title>
</cp:coreProperties>
</file>