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D8D0-107F-4BEC-B56D-AE15DBE1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5DC-FE96-493A-BD58-196C919C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57DE-026C-4E51-B151-DEDC6BA0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E2A-C4DF-4FC9-BA5D-E842A708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D00-26ED-447E-9283-8FE1A6A6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D4C-D22E-4E5D-A30A-859A5E4C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220-6F06-45A9-B944-0999111E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2FB-49AC-4F36-AA13-3F505CEF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1A0-99E4-4F19-B9A6-E6F3C6F8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BF0A-4C3D-4274-B05A-67855D73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A9C6-D399-4A22-AB20-DB3C1AA9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CEE-2396-469A-9707-C12B964C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8B1C-96CE-4E5E-8274-C05B4DA52DD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ENTIERRO DE LA ESPOSA DE UN NARCOTRAFICANTE EN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RIO DE JANEIRO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¡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No vas a creer lo que verá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3840" y="1071360"/>
            <a:ext cx="89298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Presta atención en los detalles:</a:t>
            </a:r>
            <a:br>
              <a:rPr sz="3600"/>
            </a:br>
            <a:r>
              <a:rPr b="1" i="1" lang="pt-BR" sz="3600" spc="-1" strike="noStrike">
                <a:solidFill>
                  <a:srgbClr val="000000"/>
                </a:solidFill>
                <a:latin typeface="Calibri"/>
              </a:rPr>
              <a:t>La tumba tiene la dimensión de una habitación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VE" sz="3600" spc="-1" strike="noStrike">
                <a:solidFill>
                  <a:srgbClr val="000000"/>
                </a:solidFill>
                <a:latin typeface="Calibri"/>
              </a:rPr>
              <a:t>El ataúd está sobre la cama y la mujer será enterrada con una Televisión LCD, con sillas, cama, todo su guardarropa y sus zapatos,   el espejo, el tocador, bebidas importadas, etc. 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Espaço Reservado para Conteúdo 3" descr="ATT00067.jpeg"/>
          <p:cNvPicPr/>
          <p:nvPr/>
        </p:nvPicPr>
        <p:blipFill>
          <a:blip r:embed="rId1"/>
          <a:stretch/>
        </p:blipFill>
        <p:spPr>
          <a:xfrm>
            <a:off x="0" y="357120"/>
            <a:ext cx="92264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689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000000"/>
                </a:solidFill>
                <a:latin typeface="Calibri"/>
              </a:rPr>
              <a:t>Tenga en cuenta que las paredes son de yeso pintado de blanco, con alfombra de primera clase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000000"/>
                </a:solidFill>
                <a:latin typeface="Calibri"/>
              </a:rPr>
              <a:t>Las personas que acudieron al funeral se asombraron al ver esa tumba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000000"/>
                </a:solidFill>
                <a:latin typeface="Calibri"/>
              </a:rPr>
              <a:t>Me imagino que nadie se atreverá a robar ese televisor LCD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Espaço Reservado para Conteúdo 3" descr="ATT00070.jpeg"/>
          <p:cNvPicPr/>
          <p:nvPr/>
        </p:nvPicPr>
        <p:blipFill>
          <a:blip r:embed="rId1"/>
          <a:stretch/>
        </p:blipFill>
        <p:spPr>
          <a:xfrm>
            <a:off x="214200" y="500040"/>
            <a:ext cx="87980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01120" cy="6858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1280" y="714240"/>
            <a:ext cx="942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00"/>
                </a:solidFill>
                <a:latin typeface="Calibri"/>
              </a:rPr>
              <a:t>Lleva a recordar los entierros de los faraones de Egipto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00"/>
                </a:solidFill>
                <a:latin typeface="Calibri"/>
              </a:rPr>
              <a:t>Pareciera que a nadie le importa lo que se hace con el dinero robado obtenido del narcotráfic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VE" sz="4400" spc="-1" strike="noStrike">
                <a:solidFill>
                  <a:srgbClr val="000000"/>
                </a:solidFill>
                <a:latin typeface="Calibri"/>
              </a:rPr>
              <a:t>Incluso se aprecia que el viudo ni se molesta en preocuparse por tal manifiesto de derroche y aberración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286920" cy="6858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Espaço Reservado para Conteúdo 3" descr="ATT00073.jpeg"/>
          <p:cNvPicPr/>
          <p:nvPr/>
        </p:nvPicPr>
        <p:blipFill>
          <a:blip r:embed="rId1"/>
          <a:stretch/>
        </p:blipFill>
        <p:spPr>
          <a:xfrm>
            <a:off x="131760" y="428760"/>
            <a:ext cx="90122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46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Calibri"/>
              </a:rPr>
              <a:t>Esto pasó en Rio de Janeiro, ya dominada por esos narcotraficantes bandidos .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4:28:31Z</dcterms:created>
  <dc:creator>Cherry</dc:creator>
  <dc:description/>
  <dc:language>en-US</dc:language>
  <cp:lastModifiedBy>Eduardo Rosas</cp:lastModifiedBy>
  <dcterms:modified xsi:type="dcterms:W3CDTF">2014-06-17T00:12:10Z</dcterms:modified>
  <cp:revision>14</cp:revision>
  <dc:subject/>
  <dc:title>ENTERRO DA ESPOSA DE UM TRAFICANTE NO RIO Você não vai acreditar no que vai ver!</dc:title>
</cp:coreProperties>
</file>