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ArtPopular-TaDoendoDemaisEssaSaudade.wav" ContentType="audio/x-wav"/>
  <Override PartName="/ppt/media/image2.jpeg" ContentType="image/jpeg"/>
  <Override PartName="/ppt/media/image5.jpeg" ContentType="image/jpeg"/>
  <Override PartName="/ppt/media/image26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C4FD-FA08-4EFC-816E-933EA7FE8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8A61-B33F-4066-969A-BF91A92C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7C61-A5BE-4B1F-BA0E-1BDF34B58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A78A-07BC-43B7-B11F-4C0B45C98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7E79-F9BE-462E-9338-8F83363A1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B768-F74E-4C64-AF02-89834356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94F61-56A0-42AD-A706-E2713B9A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B10A-7CBB-498D-A812-2D55248C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EF4D-37B8-4BFA-9361-C585CA1B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0729-CDAA-4E2C-8D89-6218EC63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E076D-58F8-4C36-8828-5DC70AF2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07BD-8F87-4771-AC32-37D29444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167B-4412-4046-B758-7DB794A4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C9CB-6AC6-4DCF-A2C7-A8DD5434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9317-8C22-4B29-8A1E-072C7B3D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EE42-8B3E-46EC-A266-11E9EE4AC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C094-17A3-46CE-894F-5C9E8E7B6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4EAE-BF85-47B5-945D-CAABB956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E225-D5F4-4D09-8B2C-1187601E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2170-AD6B-4FD6-A055-0CA34924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B8DC-A5A3-4DFF-80ED-AE51DD12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8F13-B5C0-4657-ACF3-1A354840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A841-C718-40DD-8B72-ABFE6EC8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0A01-B099-4A54-AE93-BE8667FC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1BFC-8AE6-43AC-85B0-F94F2C6AE16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8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D32B-4DCC-4E91-92A9-D4DA1C9CA2B4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rtPopular-TaDoendoDemaisEssaSaudad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mis-frases.org/frases/ver/51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mispps.com/lists/?p=subscribe&amp;id=2" TargetMode="External"/><Relationship Id="rId2" Type="http://schemas.openxmlformats.org/officeDocument/2006/relationships/image" Target="../media/image24.png"/><Relationship Id="rId3" Type="http://schemas.openxmlformats.org/officeDocument/2006/relationships/hyperlink" Target="http://www.mispps.com/" TargetMode="External"/><Relationship Id="rId4" Type="http://schemas.openxmlformats.org/officeDocument/2006/relationships/image" Target="../media/image25.png"/><Relationship Id="rId5" Type="http://schemas.openxmlformats.org/officeDocument/2006/relationships/hyperlink" Target="http://www.mispps.com/index.php?board=40.0" TargetMode="External"/><Relationship Id="rId6" Type="http://schemas.openxmlformats.org/officeDocument/2006/relationships/hyperlink" Target="http://www.mispps.com/index.php?board=13.0" TargetMode="External"/><Relationship Id="rId7" Type="http://schemas.openxmlformats.org/officeDocument/2006/relationships/hyperlink" Target="http://www.mispps.com/index.php?board=14.0" TargetMode="External"/><Relationship Id="rId8" Type="http://schemas.openxmlformats.org/officeDocument/2006/relationships/hyperlink" Target="http://www.mispps.com/index.php?board=38.0" TargetMode="External"/><Relationship Id="rId9" Type="http://schemas.openxmlformats.org/officeDocument/2006/relationships/hyperlink" Target="http://www.mispps.com/index.php?board=19.0" TargetMode="External"/><Relationship Id="rId10" Type="http://schemas.openxmlformats.org/officeDocument/2006/relationships/hyperlink" Target="http://www.mispps.com/index.php?board=61.0" TargetMode="External"/><Relationship Id="rId11" Type="http://schemas.openxmlformats.org/officeDocument/2006/relationships/hyperlink" Target="http://www.mispps.com/index.php?board=30.0" TargetMode="External"/><Relationship Id="rId12" Type="http://schemas.openxmlformats.org/officeDocument/2006/relationships/hyperlink" Target="http://www.mispps.com/index.php?board=34.0" TargetMode="External"/><Relationship Id="rId13" Type="http://schemas.openxmlformats.org/officeDocument/2006/relationships/hyperlink" Target="http://www.mispps.com/index.php?board=16.0" TargetMode="External"/><Relationship Id="rId14" Type="http://schemas.openxmlformats.org/officeDocument/2006/relationships/hyperlink" Target="http://www.mispps.com/index.php?board=32.0" TargetMode="External"/><Relationship Id="rId15" Type="http://schemas.openxmlformats.org/officeDocument/2006/relationships/hyperlink" Target="http://www.mispps.com/index.php?board=17.0" TargetMode="External"/><Relationship Id="rId16" Type="http://schemas.openxmlformats.org/officeDocument/2006/relationships/hyperlink" Target="http://www.mispps.com/index.php?board=28.0" TargetMode="External"/><Relationship Id="rId17" Type="http://schemas.openxmlformats.org/officeDocument/2006/relationships/hyperlink" Target="http://www.mispps.com/index.php?board=29.0" TargetMode="External"/><Relationship Id="rId18" Type="http://schemas.openxmlformats.org/officeDocument/2006/relationships/hyperlink" Target="http://www.mispps.com/index.php?board=35.0" TargetMode="External"/><Relationship Id="rId19" Type="http://schemas.openxmlformats.org/officeDocument/2006/relationships/hyperlink" Target="http://www.mispps.com/index.php?board=11.0" TargetMode="External"/><Relationship Id="rId20" Type="http://schemas.openxmlformats.org/officeDocument/2006/relationships/hyperlink" Target="http://www.mispps.com/index.php?board=31.0" TargetMode="External"/><Relationship Id="rId21" Type="http://schemas.openxmlformats.org/officeDocument/2006/relationships/hyperlink" Target="http://www.mispps.com/index.php?board=10.0" TargetMode="External"/><Relationship Id="rId22" Type="http://schemas.openxmlformats.org/officeDocument/2006/relationships/hyperlink" Target="http://www.mispps.com/index.php?board=26.0" TargetMode="External"/><Relationship Id="rId23" Type="http://schemas.openxmlformats.org/officeDocument/2006/relationships/image" Target="../media/image26.jpeg"/><Relationship Id="rId2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点击查看下一张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-50760" y="-3816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-457200" y="304920"/>
            <a:ext cx="670572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262673"/>
                </a:solidFill>
                <a:latin typeface="Arial Black"/>
              </a:rPr>
              <a:t>¡SONRIE!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fade thruBlk="true"/>
    <p:sndAc>
      <p:stSnd>
        <p:snd r:embed="rId2" name="ArtPopular-TaDoendoDemaisEssaSauda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5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点击查看下一张"/>
          <p:cNvPicPr/>
          <p:nvPr/>
        </p:nvPicPr>
        <p:blipFill>
          <a:blip r:embed="rId1"/>
          <a:stretch/>
        </p:blipFill>
        <p:spPr>
          <a:xfrm>
            <a:off x="0" y="-3816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1923480" y="456120"/>
            <a:ext cx="60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¡Un amor sin beso es como un macarrón sin queso! 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_x000b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fade thruBlk="true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5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5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9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6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点击查看下一张"/>
          <p:cNvPicPr/>
          <p:nvPr/>
        </p:nvPicPr>
        <p:blipFill>
          <a:blip r:embed="rId1"/>
          <a:stretch/>
        </p:blipFill>
        <p:spPr>
          <a:xfrm>
            <a:off x="-50760" y="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228600" y="4419720"/>
            <a:ext cx="870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 malo de ser puntual es que llega uno a un lugar y no hay nadie allí para apreciar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fade thruBlk="true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7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5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7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点击查看下一张"/>
          <p:cNvPicPr/>
          <p:nvPr/>
        </p:nvPicPr>
        <p:blipFill>
          <a:blip r:embed="rId1"/>
          <a:stretch/>
        </p:blipFill>
        <p:spPr>
          <a:xfrm>
            <a:off x="0" y="-3816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0" y="5713920"/>
            <a:ext cx="220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i no puedes convencerlos, confúndel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fade thruBlk="true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8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1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9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点击查看下一张"/>
          <p:cNvPicPr/>
          <p:nvPr/>
        </p:nvPicPr>
        <p:blipFill>
          <a:blip r:embed="rId1"/>
          <a:stretch/>
        </p:blipFill>
        <p:spPr>
          <a:xfrm>
            <a:off x="0" y="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3276720" y="601884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 sientes un gran vacío, ingiere algo es hambre 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fade thruBlk="true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0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0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07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0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点击查看下一张"/>
          <p:cNvPicPr/>
          <p:nvPr/>
        </p:nvPicPr>
        <p:blipFill>
          <a:blip r:embed="rId1"/>
          <a:stretch/>
        </p:blipFill>
        <p:spPr>
          <a:xfrm>
            <a:off x="0" y="-3816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4"/>
          <p:cNvSpPr/>
          <p:nvPr/>
        </p:nvSpPr>
        <p:spPr>
          <a:xfrm>
            <a:off x="685800" y="60840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ienza tu día con una sonrisa y verás lo divertido que es ir por ahí desentonando con todo el mundo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fade thruBlk="true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2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2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23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2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点击查看下一张"/>
          <p:cNvPicPr/>
          <p:nvPr/>
        </p:nvPicPr>
        <p:blipFill>
          <a:blip r:embed="rId1"/>
          <a:stretch/>
        </p:blipFill>
        <p:spPr>
          <a:xfrm>
            <a:off x="-50760" y="-3816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"/>
          <p:cNvSpPr/>
          <p:nvPr/>
        </p:nvSpPr>
        <p:spPr>
          <a:xfrm>
            <a:off x="826920" y="65448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 el amor es ciego ¿ por qué tiene tanto éxito la ropa interior sexy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fade thruBlk="true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3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3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39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4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点击查看下一张"/>
          <p:cNvPicPr/>
          <p:nvPr/>
        </p:nvPicPr>
        <p:blipFill>
          <a:blip r:embed="rId1"/>
          <a:stretch/>
        </p:blipFill>
        <p:spPr>
          <a:xfrm>
            <a:off x="0" y="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4"/>
          <p:cNvSpPr/>
          <p:nvPr/>
        </p:nvSpPr>
        <p:spPr>
          <a:xfrm>
            <a:off x="672840" y="6095160"/>
            <a:ext cx="774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ienaventurados los borrachos porque ellos verán a Dios 2 vec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fade thruBlk="true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5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5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5" dur="3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5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点击查看下一张"/>
          <p:cNvPicPr/>
          <p:nvPr/>
        </p:nvPicPr>
        <p:blipFill>
          <a:blip r:embed="rId1"/>
          <a:stretch/>
        </p:blipFill>
        <p:spPr>
          <a:xfrm>
            <a:off x="0" y="-3816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4"/>
          <p:cNvSpPr/>
          <p:nvPr/>
        </p:nvSpPr>
        <p:spPr>
          <a:xfrm>
            <a:off x="914400" y="165600"/>
            <a:ext cx="709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 soy un completo inútil: sirvo de mal ejempl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fade thruBlk="true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6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7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71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7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点击查看下一张"/>
          <p:cNvPicPr/>
          <p:nvPr/>
        </p:nvPicPr>
        <p:blipFill>
          <a:blip r:embed="rId1"/>
          <a:stretch/>
        </p:blipFill>
        <p:spPr>
          <a:xfrm>
            <a:off x="-50760" y="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6"/>
          <p:cNvSpPr/>
          <p:nvPr/>
        </p:nvSpPr>
        <p:spPr>
          <a:xfrm>
            <a:off x="1972440" y="121320"/>
            <a:ext cx="604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 la montaña viene a ti ... ¡ corre, es un derrumbe !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 thruBlk="true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8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8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87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8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点击查看下一张"/>
          <p:cNvPicPr/>
          <p:nvPr/>
        </p:nvPicPr>
        <p:blipFill>
          <a:blip r:embed="rId1"/>
          <a:stretch/>
        </p:blipFill>
        <p:spPr>
          <a:xfrm>
            <a:off x="0" y="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6"/>
          <p:cNvSpPr/>
          <p:nvPr/>
        </p:nvSpPr>
        <p:spPr>
          <a:xfrm>
            <a:off x="5489280" y="990000"/>
            <a:ext cx="343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tiempo sin ti es solo "..empo“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 thruBlk="true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0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30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03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0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点击查看下一张"/>
          <p:cNvPicPr/>
          <p:nvPr/>
        </p:nvPicPr>
        <p:blipFill>
          <a:blip r:embed="rId1"/>
          <a:stretch/>
        </p:blipFill>
        <p:spPr>
          <a:xfrm>
            <a:off x="-50760" y="-3816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228600" y="684720"/>
            <a:ext cx="912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ásate con un arqueólogo. Cuanto más vieja te hagas, más encantadora te encontrará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1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点击查看下一张"/>
          <p:cNvPicPr/>
          <p:nvPr/>
        </p:nvPicPr>
        <p:blipFill>
          <a:blip r:embed="rId1"/>
          <a:stretch/>
        </p:blipFill>
        <p:spPr>
          <a:xfrm>
            <a:off x="-50760" y="-3816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1364040" y="227520"/>
            <a:ext cx="64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 hay opiniones estúpidas, sólo estúpidos que opina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fade thruBlk="true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1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31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19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2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点击查看下一张"/>
          <p:cNvPicPr/>
          <p:nvPr/>
        </p:nvPicPr>
        <p:blipFill>
          <a:blip r:embed="rId1"/>
          <a:stretch/>
        </p:blipFill>
        <p:spPr>
          <a:xfrm>
            <a:off x="-50760" y="-3816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6"/>
          <p:cNvSpPr/>
          <p:nvPr/>
        </p:nvSpPr>
        <p:spPr>
          <a:xfrm>
            <a:off x="304920" y="1980000"/>
            <a:ext cx="297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me con quién sueñas, te diré con quién no te acuestas....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 thruBlk="true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3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33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35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3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点击查看下一张"/>
          <p:cNvPicPr/>
          <p:nvPr/>
        </p:nvPicPr>
        <p:blipFill>
          <a:blip r:embed="rId1"/>
          <a:stretch/>
        </p:blipFill>
        <p:spPr>
          <a:xfrm>
            <a:off x="-50760" y="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7"/>
          <p:cNvSpPr/>
          <p:nvPr/>
        </p:nvSpPr>
        <p:spPr>
          <a:xfrm>
            <a:off x="3878640" y="730800"/>
            <a:ext cx="495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i cerebro es mi segundo órgano favorito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Woody Alle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bandera%20001"/>
          <p:cNvPicPr/>
          <p:nvPr/>
        </p:nvPicPr>
        <p:blipFill>
          <a:blip r:embed="rId2"/>
          <a:stretch/>
        </p:blipFill>
        <p:spPr>
          <a:xfrm>
            <a:off x="7238880" y="6324480"/>
            <a:ext cx="1584360" cy="30492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9"/>
          <p:cNvSpPr/>
          <p:nvPr/>
        </p:nvSpPr>
        <p:spPr>
          <a:xfrm flipV="1" rot="10832400">
            <a:off x="7086240" y="601956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ciela E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 thruBlk="true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800"/>
                            </p:stCondLst>
                            <p:childTnLst>
                              <p:par>
                                <p:cTn id="347" nodeType="after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4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34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5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5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8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2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0d7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332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120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5791320"/>
            <a:ext cx="3811680" cy="546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0" y="54864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4265c"/>
                </a:solidFill>
                <a:latin typeface="Berlin Sans FB Demi"/>
              </a:rPr>
              <a:t>Si deseas recibir pps periódicamente en tu correo electrónico subscríbete aquí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71800" y="4572000"/>
            <a:ext cx="2540160" cy="1130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914400" y="2590920"/>
            <a:ext cx="1066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029200" y="3352680"/>
          <a:ext cx="3200400" cy="1532160"/>
        </p:xfrm>
        <a:graphic>
          <a:graphicData uri="http://schemas.openxmlformats.org/drawingml/2006/table">
            <a:tbl>
              <a:tblPr/>
              <a:tblGrid>
                <a:gridCol w="1106640"/>
                <a:gridCol w="1046160"/>
                <a:gridCol w="1047600"/>
              </a:tblGrid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 u="sng">
                          <a:solidFill>
                            <a:srgbClr val="2e49cf"/>
                          </a:solidFill>
                          <a:uFillTx/>
                          <a:latin typeface="Arial"/>
                          <a:hlinkClick r:id="rId5"/>
                        </a:rPr>
                        <a:t>Dedicatori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 u="sng">
                          <a:solidFill>
                            <a:srgbClr val="2e49cf"/>
                          </a:solidFill>
                          <a:uFillTx/>
                          <a:latin typeface="Arial"/>
                          <a:hlinkClick r:id="rId6"/>
                        </a:rPr>
                        <a:t>Fechas Especia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 u="sng">
                          <a:solidFill>
                            <a:srgbClr val="2e49cf"/>
                          </a:solidFill>
                          <a:uFillTx/>
                          <a:latin typeface="Arial"/>
                          <a:hlinkClick r:id="rId7"/>
                        </a:rPr>
                        <a:t>Gracios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6f6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 u="sng">
                          <a:solidFill>
                            <a:srgbClr val="2e49cf"/>
                          </a:solidFill>
                          <a:uFillTx/>
                          <a:latin typeface="Arial"/>
                          <a:hlinkClick r:id="rId8"/>
                        </a:rPr>
                        <a:t>Historia y Ar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 u="sng">
                          <a:solidFill>
                            <a:srgbClr val="2e49cf"/>
                          </a:solidFill>
                          <a:uFillTx/>
                          <a:latin typeface="Arial"/>
                          <a:hlinkClick r:id="rId9"/>
                        </a:rPr>
                        <a:t>Luga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 u="sng">
                          <a:solidFill>
                            <a:srgbClr val="2e49cf"/>
                          </a:solidFill>
                          <a:uFillTx/>
                          <a:latin typeface="Arial"/>
                          <a:hlinkClick r:id="rId10"/>
                        </a:rPr>
                        <a:t>Musica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6f6"/>
                    </a:solidFill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 u="sng">
                          <a:solidFill>
                            <a:srgbClr val="2e49cf"/>
                          </a:solidFill>
                          <a:uFillTx/>
                          <a:latin typeface="Arial"/>
                          <a:hlinkClick r:id="rId11"/>
                        </a:rPr>
                        <a:t>Naturaleza y Cienci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 u="sng">
                          <a:solidFill>
                            <a:srgbClr val="2e49cf"/>
                          </a:solidFill>
                          <a:uFillTx/>
                          <a:latin typeface="Arial"/>
                          <a:hlinkClick r:id="rId12"/>
                        </a:rPr>
                        <a:t>Polít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 u="sng">
                          <a:solidFill>
                            <a:srgbClr val="2e49cf"/>
                          </a:solidFill>
                          <a:uFillTx/>
                          <a:latin typeface="Arial"/>
                          <a:hlinkClick r:id="rId13"/>
                        </a:rPr>
                        <a:t>Reflexió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6f6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 u="sng">
                          <a:solidFill>
                            <a:srgbClr val="2e49cf"/>
                          </a:solidFill>
                          <a:uFillTx/>
                          <a:latin typeface="Arial"/>
                          <a:hlinkClick r:id="rId14"/>
                        </a:rPr>
                        <a:t>Religios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 u="sng">
                          <a:solidFill>
                            <a:srgbClr val="2e49cf"/>
                          </a:solidFill>
                          <a:uFillTx/>
                          <a:latin typeface="Arial"/>
                          <a:hlinkClick r:id="rId15"/>
                        </a:rPr>
                        <a:t>Romántic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 u="sng">
                          <a:solidFill>
                            <a:srgbClr val="2e49cf"/>
                          </a:solidFill>
                          <a:uFillTx/>
                          <a:latin typeface="Arial"/>
                          <a:hlinkClick r:id="rId16"/>
                        </a:rPr>
                        <a:t>Salu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f6f6"/>
                    </a:solidFill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914400" y="2895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4265c"/>
                </a:solidFill>
                <a:uFillTx/>
                <a:latin typeface="Berlin Sans FB Demi"/>
              </a:rPr>
              <a:t>Propia Cre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2895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4265c"/>
                </a:solidFill>
                <a:uFillTx/>
                <a:latin typeface="Berlin Sans FB Demi"/>
              </a:rPr>
              <a:t>De la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914400" y="3352680"/>
          <a:ext cx="3200400" cy="1508400"/>
        </p:xfrm>
        <a:graphic>
          <a:graphicData uri="http://schemas.openxmlformats.org/drawingml/2006/table">
            <a:tbl>
              <a:tblPr/>
              <a:tblGrid>
                <a:gridCol w="1106640"/>
                <a:gridCol w="1046160"/>
                <a:gridCol w="1047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2e49d5"/>
                          </a:solidFill>
                          <a:latin typeface="Arial"/>
                        </a:rPr>
                        <a:t>Dedicatori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echas Especia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Gracios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6f6"/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Historia y Ar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Luga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usica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6f6"/>
                    </a:solidFill>
                  </a:tcPr>
                </a:tc>
              </a:tr>
              <a:tr h="34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 u="sng">
                          <a:solidFill>
                            <a:srgbClr val="2e49cf"/>
                          </a:solidFill>
                          <a:uFillTx/>
                          <a:latin typeface="Arial"/>
                          <a:hlinkClick r:id="rId17"/>
                        </a:rPr>
                        <a:t>Naturaleza y Cienci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 u="sng">
                          <a:solidFill>
                            <a:srgbClr val="2e49cf"/>
                          </a:solidFill>
                          <a:uFillTx/>
                          <a:latin typeface="Arial"/>
                          <a:hlinkClick r:id="rId18"/>
                        </a:rPr>
                        <a:t>Polít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 u="sng">
                          <a:solidFill>
                            <a:srgbClr val="2e49cf"/>
                          </a:solidFill>
                          <a:uFillTx/>
                          <a:latin typeface="Arial"/>
                          <a:hlinkClick r:id="rId19"/>
                        </a:rPr>
                        <a:t>Reflexió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6f6"/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 u="sng">
                          <a:solidFill>
                            <a:srgbClr val="2e49cf"/>
                          </a:solidFill>
                          <a:uFillTx/>
                          <a:latin typeface="Arial"/>
                          <a:hlinkClick r:id="rId20"/>
                        </a:rPr>
                        <a:t>Religios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 u="sng">
                          <a:solidFill>
                            <a:srgbClr val="2e49cf"/>
                          </a:solidFill>
                          <a:uFillTx/>
                          <a:latin typeface="Arial"/>
                          <a:hlinkClick r:id="rId21"/>
                        </a:rPr>
                        <a:t>Romántic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 u="sng">
                          <a:solidFill>
                            <a:srgbClr val="2e49cf"/>
                          </a:solidFill>
                          <a:uFillTx/>
                          <a:latin typeface="Arial"/>
                          <a:hlinkClick r:id="rId22"/>
                        </a:rPr>
                        <a:t>Salu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f6f6"/>
                    </a:solidFill>
                  </a:tcPr>
                </a:tc>
              </a:tr>
            </a:tbl>
          </a:graphicData>
        </a:graphic>
      </p:graphicFrame>
      <p:pic>
        <p:nvPicPr>
          <p:cNvPr id="139" name="" descr=""/>
          <p:cNvPicPr/>
          <p:nvPr/>
        </p:nvPicPr>
        <p:blipFill>
          <a:blip r:embed="rId23"/>
          <a:stretch/>
        </p:blipFill>
        <p:spPr>
          <a:xfrm>
            <a:off x="609480" y="685800"/>
            <a:ext cx="7925040" cy="1295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152280" y="2362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4265c"/>
                </a:solidFill>
                <a:latin typeface="Berlin Sans FB Demi"/>
              </a:rPr>
              <a:t>Accede a la sección que desees desde aqu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点击查看下一张"/>
          <p:cNvPicPr/>
          <p:nvPr/>
        </p:nvPicPr>
        <p:blipFill>
          <a:blip r:embed="rId1"/>
          <a:stretch/>
        </p:blipFill>
        <p:spPr>
          <a:xfrm>
            <a:off x="0" y="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4"/>
          <p:cNvSpPr/>
          <p:nvPr/>
        </p:nvSpPr>
        <p:spPr>
          <a:xfrm>
            <a:off x="179280" y="259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matrimonio es como las libretas de ahorro: de tanto meter y sacar se pierde el interés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点击查看下一张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-50760" y="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-13680" y="-1080"/>
            <a:ext cx="91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ay dos palabras que te abrirán muchas puertas en la vida: "tirar" y "empujar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6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3" dur="3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点击查看下一张"/>
          <p:cNvPicPr/>
          <p:nvPr/>
        </p:nvPicPr>
        <p:blipFill>
          <a:blip r:embed="rId1"/>
          <a:stretch/>
        </p:blipFill>
        <p:spPr>
          <a:xfrm>
            <a:off x="-50760" y="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8"/>
          <p:cNvSpPr/>
          <p:nvPr/>
        </p:nvSpPr>
        <p:spPr>
          <a:xfrm>
            <a:off x="609480" y="303840"/>
            <a:ext cx="837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mayor frustración es cuando uno sabe todas las respuestas, pero nadie le hace la pregun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fade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9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点击查看下一张"/>
          <p:cNvPicPr/>
          <p:nvPr/>
        </p:nvPicPr>
        <p:blipFill>
          <a:blip r:embed="rId1"/>
          <a:stretch/>
        </p:blipFill>
        <p:spPr>
          <a:xfrm>
            <a:off x="-50760" y="-3816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4"/>
          <p:cNvSpPr/>
          <p:nvPr/>
        </p:nvSpPr>
        <p:spPr>
          <a:xfrm>
            <a:off x="-14400" y="838080"/>
            <a:ext cx="897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pereza es la madre de todos los vicios. Y como madre...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hay que respetar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点击查看下一张"/>
          <p:cNvPicPr/>
          <p:nvPr/>
        </p:nvPicPr>
        <p:blipFill>
          <a:blip r:embed="rId1"/>
          <a:stretch/>
        </p:blipFill>
        <p:spPr>
          <a:xfrm>
            <a:off x="0" y="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4"/>
          <p:cNvSpPr/>
          <p:nvPr/>
        </p:nvSpPr>
        <p:spPr>
          <a:xfrm>
            <a:off x="304920" y="15156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e oído hablar tan bien de ti, que            creía que estabas muer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fade thruBlk="true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1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1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点击查看下一张"/>
          <p:cNvPicPr/>
          <p:nvPr/>
        </p:nvPicPr>
        <p:blipFill>
          <a:blip r:embed="rId1"/>
          <a:stretch/>
        </p:blipFill>
        <p:spPr>
          <a:xfrm>
            <a:off x="0" y="-3816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"/>
          <p:cNvSpPr/>
          <p:nvPr/>
        </p:nvSpPr>
        <p:spPr>
          <a:xfrm>
            <a:off x="3276720" y="380160"/>
            <a:ext cx="5470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chicas "perdidas"... son las más buscada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fade thruBlk="true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2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7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点击查看下一张"/>
          <p:cNvPicPr/>
          <p:nvPr/>
        </p:nvPicPr>
        <p:blipFill>
          <a:blip r:embed="rId1"/>
          <a:stretch/>
        </p:blipFill>
        <p:spPr>
          <a:xfrm>
            <a:off x="0" y="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"/>
          <p:cNvSpPr/>
          <p:nvPr/>
        </p:nvSpPr>
        <p:spPr>
          <a:xfrm>
            <a:off x="0" y="175140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  aún no has encontrado la persona de tu vida... ¡disfruta con la que tienes a mano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fade thruBlk="true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4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4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3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09:42:17Z</dcterms:created>
  <dc:creator>XP</dc:creator>
  <dc:description/>
  <dc:language>en-US</dc:language>
  <cp:lastModifiedBy>Ines</cp:lastModifiedBy>
  <dcterms:modified xsi:type="dcterms:W3CDTF">2014-10-05T23:30:38Z</dcterms:modified>
  <cp:revision>90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