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ArtPopular-TaDoendoDemaisEssaSaudade.wav" ContentType="audio/x-wav"/>
  <Override PartName="/ppt/media/image2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5D4-27DA-4571-9218-F3F8B591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1C7-FB2C-43F5-B560-C52AA86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76B-2AD6-4AA6-9293-3801044F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D51-6422-48B4-B520-852BA06E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80C7-CAD9-477B-A2F0-87F5CFA7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AD63-766C-4F2E-8DEA-59E9FE34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D3BA-640C-47E1-BC12-8D9BBC71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B2ED-5C36-4812-9EEE-C3AC54B5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D2B1-549A-4B3E-B4A3-7BC2B63E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482-9AC1-437D-AC8A-00F44323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5541-0DCA-44C6-A4D1-5229C10E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23E-EB4D-4F5B-95EF-5BB88252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AF24-11B0-4C0E-AD60-2B126BC1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92EC-2B0B-4473-9F14-BE60CD8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8145-1726-4377-A71A-B801F665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715E-753A-4A4F-8322-19747436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CE64-8B7C-4120-B9C8-24626A7D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0C9-21E3-4013-AAD6-AA6CE641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221-ECE4-498B-A23D-B9BC0FDB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C22-B6D6-499B-A9B9-24E86572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411-0BEB-47EF-8A44-C5B1D0A0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D2B-D9FD-4EBB-8BD1-A2CDEEC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6FC-1129-42E1-8530-595FAA83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41D-2782-48CC-A475-1CC0F1A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D646-8DB9-46DA-BC53-61B5E39731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8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7106-EFA3-4C54-857B-D291066A14B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tPopular-TaDoendoDemaisEssaSaudad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mis-frases.org/frases/ver/51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ispps.com/lists/?p=subscribe&amp;id=2" TargetMode="External"/><Relationship Id="rId2" Type="http://schemas.openxmlformats.org/officeDocument/2006/relationships/image" Target="../media/image24.png"/><Relationship Id="rId3" Type="http://schemas.openxmlformats.org/officeDocument/2006/relationships/hyperlink" Target="http://www.mispps.com/" TargetMode="External"/><Relationship Id="rId4" Type="http://schemas.openxmlformats.org/officeDocument/2006/relationships/image" Target="../media/image25.png"/><Relationship Id="rId5" Type="http://schemas.openxmlformats.org/officeDocument/2006/relationships/hyperlink" Target="http://www.mispps.com/index.php?board=40.0" TargetMode="External"/><Relationship Id="rId6" Type="http://schemas.openxmlformats.org/officeDocument/2006/relationships/hyperlink" Target="http://www.mispps.com/index.php?board=13.0" TargetMode="External"/><Relationship Id="rId7" Type="http://schemas.openxmlformats.org/officeDocument/2006/relationships/hyperlink" Target="http://www.mispps.com/index.php?board=14.0" TargetMode="External"/><Relationship Id="rId8" Type="http://schemas.openxmlformats.org/officeDocument/2006/relationships/hyperlink" Target="http://www.mispps.com/index.php?board=38.0" TargetMode="External"/><Relationship Id="rId9" Type="http://schemas.openxmlformats.org/officeDocument/2006/relationships/hyperlink" Target="http://www.mispps.com/index.php?board=19.0" TargetMode="External"/><Relationship Id="rId10" Type="http://schemas.openxmlformats.org/officeDocument/2006/relationships/hyperlink" Target="http://www.mispps.com/index.php?board=61.0" TargetMode="External"/><Relationship Id="rId11" Type="http://schemas.openxmlformats.org/officeDocument/2006/relationships/hyperlink" Target="http://www.mispps.com/index.php?board=30.0" TargetMode="External"/><Relationship Id="rId12" Type="http://schemas.openxmlformats.org/officeDocument/2006/relationships/hyperlink" Target="http://www.mispps.com/index.php?board=34.0" TargetMode="External"/><Relationship Id="rId13" Type="http://schemas.openxmlformats.org/officeDocument/2006/relationships/hyperlink" Target="http://www.mispps.com/index.php?board=16.0" TargetMode="External"/><Relationship Id="rId14" Type="http://schemas.openxmlformats.org/officeDocument/2006/relationships/hyperlink" Target="http://www.mispps.com/index.php?board=32.0" TargetMode="External"/><Relationship Id="rId15" Type="http://schemas.openxmlformats.org/officeDocument/2006/relationships/hyperlink" Target="http://www.mispps.com/index.php?board=17.0" TargetMode="External"/><Relationship Id="rId16" Type="http://schemas.openxmlformats.org/officeDocument/2006/relationships/hyperlink" Target="http://www.mispps.com/index.php?board=28.0" TargetMode="External"/><Relationship Id="rId17" Type="http://schemas.openxmlformats.org/officeDocument/2006/relationships/hyperlink" Target="http://www.mispps.com/index.php?board=29.0" TargetMode="External"/><Relationship Id="rId18" Type="http://schemas.openxmlformats.org/officeDocument/2006/relationships/hyperlink" Target="http://www.mispps.com/index.php?board=35.0" TargetMode="External"/><Relationship Id="rId19" Type="http://schemas.openxmlformats.org/officeDocument/2006/relationships/hyperlink" Target="http://www.mispps.com/index.php?board=11.0" TargetMode="External"/><Relationship Id="rId20" Type="http://schemas.openxmlformats.org/officeDocument/2006/relationships/hyperlink" Target="http://www.mispps.com/index.php?board=31.0" TargetMode="External"/><Relationship Id="rId21" Type="http://schemas.openxmlformats.org/officeDocument/2006/relationships/hyperlink" Target="http://www.mispps.com/index.php?board=10.0" TargetMode="External"/><Relationship Id="rId22" Type="http://schemas.openxmlformats.org/officeDocument/2006/relationships/hyperlink" Target="http://www.mispps.com/index.php?board=26.0" TargetMode="External"/><Relationship Id="rId23" Type="http://schemas.openxmlformats.org/officeDocument/2006/relationships/image" Target="../media/image26.jpeg"/><Relationship Id="rId2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点击查看下一张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-457200" y="304920"/>
            <a:ext cx="67057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262673"/>
                </a:solidFill>
                <a:latin typeface="Arial Black"/>
              </a:rPr>
              <a:t>¡SONRIE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  <p:sndAc>
      <p:stSnd>
        <p:snd r:embed="rId2" name="ArtPopular-TaDoendoDemaisEssaSauda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923480" y="456120"/>
            <a:ext cx="60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Un amor sin beso es como un macarrón sin queso!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_x000b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28600" y="4419720"/>
            <a:ext cx="870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 malo de ser puntual es que llega uno a un lugar y no hay nadie allí para apreci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571392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 no puedes convencerlos, confúnde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276720" y="601884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ientes un gran vacío, ingiere algo es hambre 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685800" y="6084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a tu día con una sonrisa y verás lo divertido que es ir por ahí desentonando con todo el mundo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826920" y="65448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el amor es ciego ¿ por qué tiene tanto éxito la ropa interior sex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672840" y="6095160"/>
            <a:ext cx="774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ienaventurados los borrachos porque ellos verán a Dios 2 ve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914400" y="165600"/>
            <a:ext cx="709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oy un completo inútil: sirvo de mal ejempl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1972440" y="121320"/>
            <a:ext cx="60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la montaña viene a ti ... ¡ corre, es un derrumbe 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5489280" y="99000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iempo sin ti es solo "..empo“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228600" y="684720"/>
            <a:ext cx="912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ásate con un arqueólogo. Cuanto más vieja te hagas, más encantadora te encontrar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364040" y="227520"/>
            <a:ext cx="64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hay opiniones estúpidas, sólo estúpidos que opina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304920" y="19800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me con quién sueñas, te diré con quién no te acuestas..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878640" y="730800"/>
            <a:ext cx="495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 cerebro es mi segundo órgano favorito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Woody All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andera%20001"/>
          <p:cNvPicPr/>
          <p:nvPr/>
        </p:nvPicPr>
        <p:blipFill>
          <a:blip r:embed="rId2"/>
          <a:stretch/>
        </p:blipFill>
        <p:spPr>
          <a:xfrm>
            <a:off x="7238880" y="6324480"/>
            <a:ext cx="15843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 flipV="1" rot="10832400">
            <a:off x="7086240" y="60195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iela 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800"/>
                            </p:stCondLst>
                            <p:childTnLst>
                              <p:par>
                                <p:cTn id="347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8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33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5791320"/>
            <a:ext cx="3811680" cy="546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5486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4265c"/>
                </a:solidFill>
                <a:latin typeface="Berlin Sans FB Demi"/>
              </a:rPr>
              <a:t>Si deseas recibir pps periódicamente en tu correo electrónico subscríbete aquí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572000"/>
            <a:ext cx="2540160" cy="1130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25909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029200" y="3352680"/>
          <a:ext cx="3200400" cy="1532160"/>
        </p:xfrm>
        <a:graphic>
          <a:graphicData uri="http://schemas.openxmlformats.org/drawingml/2006/table">
            <a:tbl>
              <a:tblPr/>
              <a:tblGrid>
                <a:gridCol w="1106640"/>
                <a:gridCol w="1046160"/>
                <a:gridCol w="1047600"/>
              </a:tblGrid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5"/>
                        </a:rPr>
                        <a:t>Dedicato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6"/>
                        </a:rPr>
                        <a:t>Fechas Espe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7"/>
                        </a:rPr>
                        <a:t>Gracio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8"/>
                        </a:rPr>
                        <a:t>Historia y A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9"/>
                        </a:rPr>
                        <a:t>Luga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0"/>
                        </a:rPr>
                        <a:t>Music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1"/>
                        </a:rPr>
                        <a:t>Naturaleza y Ci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2"/>
                        </a:rPr>
                        <a:t>Polí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3"/>
                        </a:rPr>
                        <a:t>Reflex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4"/>
                        </a:rPr>
                        <a:t>Religio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5"/>
                        </a:rPr>
                        <a:t>Románt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6"/>
                        </a:rPr>
                        <a:t>Sal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914400" y="2895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4265c"/>
                </a:solidFill>
                <a:uFillTx/>
                <a:latin typeface="Berlin Sans FB Demi"/>
              </a:rPr>
              <a:t>Propia Cr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895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4265c"/>
                </a:solidFill>
                <a:uFillTx/>
                <a:latin typeface="Berlin Sans FB Demi"/>
              </a:rPr>
              <a:t>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3352680"/>
          <a:ext cx="3200400" cy="1508400"/>
        </p:xfrm>
        <a:graphic>
          <a:graphicData uri="http://schemas.openxmlformats.org/drawingml/2006/table">
            <a:tbl>
              <a:tblPr/>
              <a:tblGrid>
                <a:gridCol w="1106640"/>
                <a:gridCol w="1046160"/>
                <a:gridCol w="104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2e49d5"/>
                          </a:solidFill>
                          <a:latin typeface="Arial"/>
                        </a:rPr>
                        <a:t>Dedicato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echas Espe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racio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Historia y A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uga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usic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7"/>
                        </a:rPr>
                        <a:t>Naturaleza y Ci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8"/>
                        </a:rPr>
                        <a:t>Polí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9"/>
                        </a:rPr>
                        <a:t>Reflex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20"/>
                        </a:rPr>
                        <a:t>Religio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21"/>
                        </a:rPr>
                        <a:t>Románt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22"/>
                        </a:rPr>
                        <a:t>Sal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23"/>
          <a:stretch/>
        </p:blipFill>
        <p:spPr>
          <a:xfrm>
            <a:off x="609480" y="685800"/>
            <a:ext cx="7925040" cy="129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52280" y="2362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4265c"/>
                </a:solidFill>
                <a:latin typeface="Berlin Sans FB Demi"/>
              </a:rPr>
              <a:t>Accede a la sección que desees desde aqu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79280" y="25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matrimonio es como las libretas de ahorro: de tanto meter y sacar se pierde el interé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点击查看下一张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-13680" y="-1080"/>
            <a:ext cx="91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dos palabras que te abrirán muchas puertas en la vida: "tirar" y "empuja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09480" y="303840"/>
            <a:ext cx="83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ayor frustración es cuando uno sabe todas las respuestas, pero nadie le hace la pregu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4400" y="838080"/>
            <a:ext cx="89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reza es la madre de todos los vicios. Y como madre...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y que respet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04920" y="1515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 oído hablar tan bien de ti, que            creía que estabas muer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276720" y="380160"/>
            <a:ext cx="547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hicas "perdidas"... son las más buscad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17514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 aún no has encontrado la persona de tu vida... ¡disfruta con la que tienes a mano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9:42:17Z</dcterms:created>
  <dc:creator>XP</dc:creator>
  <dc:description/>
  <dc:language>en-US</dc:language>
  <cp:lastModifiedBy>Ines</cp:lastModifiedBy>
  <dcterms:modified xsi:type="dcterms:W3CDTF">2014-10-05T23:30:38Z</dcterms:modified>
  <cp:revision>9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