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ei%20GenitrixsXIIIw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306-B2D4-421C-B108-4921B8AC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E9B-BA22-4947-8B4F-B5C92D6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7E6-51DA-4972-99B2-0E75CD79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AAE-6DCD-4F50-9A1B-719A26B4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EF9-E57C-4961-A0B3-DB89E8B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BFA-9FC7-41AF-B6BB-F821E7E7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27C-6536-4EF7-AAA7-0F43EB0B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85D-1F66-4D30-B393-90742EB2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3A8-1686-4E19-9E82-1EEA14E1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0C9-9188-481D-98D8-720D252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CFD-85AE-4FDA-82A4-36C7FBDF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961-7C76-4FB9-82C6-3D1D975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BE72-06BB-45BD-B05D-1E73EAA32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ei%20GenitrixsXIII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10666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28464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5867280"/>
            <a:ext cx="70120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9144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3505320"/>
            <a:ext cx="8686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579132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cc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41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Ave Dei Genitrix” (sXIII) nos acerca a la Mad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Dei%20GenitrixsXII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8385120" cy="528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333360"/>
            <a:ext cx="4969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Formamos Familia  buscando a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060640"/>
            <a:ext cx="3024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uando no buscamos reducimo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espacio famili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4720" y="2919240"/>
            <a:ext cx="2340000" cy="3748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Iglesia de Ramala donde sus padres se dieron cuenta que Jesús no estab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304920"/>
            <a:ext cx="8208720" cy="62661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los tres días, lo encontraron en el templo, sentado en medio de los maestros, escuchándolos y haciéndoles preguntas; todos los que le oían quedaban asombrados de su talento y de las respuestas que dab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7840" y="260280"/>
            <a:ext cx="2665440" cy="23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mos instruidos por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(Jn 6:4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333360"/>
            <a:ext cx="583236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s maestros estudian la Ley, Jesús la 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280" y="5805360"/>
            <a:ext cx="4932360" cy="100764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hico comprometiéndose a cumplir la L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152280"/>
            <a:ext cx="7561440" cy="618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l verlo, se quedaron atónitos, y le dijo su madre: "Hijo, ¿por qué nos has tratado así? Mira que tu padre y yo te buscábamos angustiados." Él les contesto: "¿Por qué me buscabais? ¿No sabíais que yo debía estar en la casa de mi Padre?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820000" cy="542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5280" y="260280"/>
            <a:ext cx="70578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ivimos entre dos Familias: la de la tierra y la del cie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357880"/>
            <a:ext cx="3960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Las dos son indispens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6048360"/>
            <a:ext cx="3240000" cy="5508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oca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762120"/>
            <a:ext cx="7272360" cy="43592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ellos no comprendieron lo que quería decir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19280" y="1160640"/>
            <a:ext cx="8424720" cy="56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8000" y="260280"/>
            <a:ext cx="8893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ólo por la FE se entiende que Dios forma parte del grupo famili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844640"/>
            <a:ext cx="2089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s una visión inter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765000"/>
            <a:ext cx="8137440" cy="48945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bajó con ellos a Nazaret y siguió bajo su autoridad. Su madre conservaba todo esto en su corazón. Y Jesús iba creciendo en sabiduría, en estatura y en gracia ante Dios y los hombre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-316080"/>
            <a:ext cx="5114880" cy="662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56360" y="1916280"/>
            <a:ext cx="2448000" cy="43603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tento a Dios y a sus padres, Jesús es  “el” HIJO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6093000"/>
            <a:ext cx="7956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Somos familiares de Dios </a:t>
            </a: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(Ef 2,19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907920"/>
            <a:ext cx="6048360" cy="5047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haznos FAMILIAS acogedoras de los de fuera y de los de dentro. Como Jesús, María y José, que en cada Navidad sintamos que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omos PADRES e HIJ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88200" y="476280"/>
            <a:ext cx="4813560" cy="764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a4ad2"/>
                </a:solidFill>
                <a:latin typeface="Arial Black"/>
              </a:rPr>
              <a:t>Tiempo Navid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03640" y="1268280"/>
            <a:ext cx="56386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8664e6"/>
                </a:solidFill>
                <a:latin typeface="Arial Black"/>
              </a:rPr>
              <a:t>Jesús se revela</a:t>
            </a:r>
            <a:endParaRPr b="1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8664e6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333360"/>
            <a:ext cx="2736720" cy="3080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plete cerca del Templo que recuerda el encuentro de Jesús con sus pad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5280" y="6021360"/>
            <a:ext cx="7373880" cy="550800"/>
            <a:chOff x="395280" y="6021360"/>
            <a:chExt cx="7373880" cy="550800"/>
          </a:xfrm>
        </p:grpSpPr>
        <p:sp>
          <p:nvSpPr>
            <p:cNvPr id="58" name=""/>
            <p:cNvSpPr/>
            <p:nvPr/>
          </p:nvSpPr>
          <p:spPr>
            <a:xfrm>
              <a:off x="1007640" y="6021360"/>
              <a:ext cx="6761520" cy="550800"/>
            </a:xfrm>
            <a:prstGeom prst="rect">
              <a:avLst/>
            </a:pr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4a4ad2"/>
                  </a:solidFill>
                  <a:latin typeface="Arial"/>
                </a:rPr>
                <a:t>Monjas de Sant Benet de Montserra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95280" y="6096240"/>
              <a:ext cx="6094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052640"/>
            <a:ext cx="7848360" cy="544320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noche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Nace, Hijo, en una cue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d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Es Palabra eterna que viene a la tierr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de la Sagrada Familia (ciclo C):</a:t>
            </a:r>
            <a:br>
              <a:rPr sz="2700"/>
            </a:b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Los padres de Jesús lo encuentran en la Casa del PAD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olemnidad de la Madre de Dios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e ponen el nombre de JESÚS (Salvado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pifan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anifestación del REY a los pag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Bautismo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ientras ora, el Padre revela al Hijo am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 Navidad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esús manifiesta su gloria en la fiesta de Caná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60280"/>
            <a:ext cx="78483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se revela Hijo y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27000"/>
            <a:ext cx="9144000" cy="712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773440" y="-25560"/>
            <a:ext cx="14716080" cy="6839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5591160"/>
            <a:ext cx="5832360" cy="100764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egún el evangelio, aquí Jesús se encuentra con el Pad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33360"/>
            <a:ext cx="1942920" cy="192132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ugar donde estaba 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677 -9.89367E-007 L -0.37153 -0.00532 E">
                                      <p:cBhvr>
                                        <p:cTn id="67" dur="10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80880"/>
            <a:ext cx="8280360" cy="54262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c 2, 41-52 Los padres de Jesús solían ir cada año a Jerusalén por las fiestas de Pascua. Cuando Jesús cumplió doce años, subieron a la fiesta según la costumbr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-747720"/>
            <a:ext cx="7080120" cy="8148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333360"/>
            <a:ext cx="43560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Templo es la CASA de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1844640"/>
            <a:ext cx="2520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ada uno tiene su lugar prop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457200"/>
            <a:ext cx="820728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terminó, se volvieron; pero el niño Jesús se quedó en Jerusalén, sin que lo supieran sus padres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8351640" cy="6289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189000"/>
            <a:ext cx="8137440" cy="1922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n Jerusalén vivimos la Navidad y la Pascua: el nacimiento y la muerte de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4076640"/>
            <a:ext cx="36352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es nuestro Hermano, del principio hasta el f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64360"/>
            <a:ext cx="37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uros del T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835020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stos, creyendo que estaba en la caravana, hicieron una jornada y se pusieron a buscarlo entre los parientes y conocidos; al no encontrarlo, se volvieron a Jerusalén en su busc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12-26T14:08:12Z</dcterms:modified>
  <cp:revision>331</cp:revision>
  <dc:subject>stbenet@benedictinescat.com</dc:subject>
  <dc:title>evangeli</dc:title>
</cp:coreProperties>
</file>