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ei%20GenitrixsXIIIw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456-DFE9-42B2-A330-E24767AB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749-970C-42C9-83BC-EC5EC83A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154-7C13-408D-B20F-589D5697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69A-B8A8-4CF0-AD1C-BFC51C58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263-0BBF-4C7F-AD95-6EA4A0B7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EF3-4F72-4FFD-9D45-4F220B2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C10-9B57-40B7-AA82-66419431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2C4-64C2-468E-AFC4-63BCE5C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E6A-9D8D-4692-8673-C3E6DA77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22F-9697-45F0-A5C2-47E3682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251-9316-4B3E-A94D-A55978D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BFE-4DEF-4782-BB40-8A97589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48C-E3E8-4DF8-A9BC-B02E05E03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ei%20GenitrixsXIII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10666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28464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5867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9144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3505320"/>
            <a:ext cx="868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579132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cc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41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Ave Dei Genitrix” (sXIII) nos acerca a la Mad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Dei%20GenitrixsXII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8385120" cy="528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333360"/>
            <a:ext cx="4969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Formamos Familia  buscando a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060640"/>
            <a:ext cx="3024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uando no buscamos reducimo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espacio famili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4720" y="2919240"/>
            <a:ext cx="2340000" cy="3748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glesia de Ramala donde sus padres se dieron cuenta que Jesús no estab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304920"/>
            <a:ext cx="820872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los tres días, lo encontraron en el templo, sentado en medio de los maestros, escuchándolos y haciéndoles preguntas; todos los que le oían quedaban asombrados de su talento y de las respuestas que dab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7840" y="260280"/>
            <a:ext cx="2665440" cy="23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mos instruidos por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Jn 6:4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33336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maestros estudian la Ley, Jesús la 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280" y="5805360"/>
            <a:ext cx="4932360" cy="1007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hico comprometiéndose a cumplir la L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152280"/>
            <a:ext cx="7561440" cy="618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verlo, se quedaron atónitos, y le dijo su madre: "Hijo, ¿por qué nos has tratado así? Mira que tu padre y yo te buscábamos angustiados." Él les contesto: "¿Por qué me buscabais? ¿No sabíais que yo debía estar en la casa de mi Padre?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820000" cy="542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260280"/>
            <a:ext cx="7057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vimos entre dos Familias: la de la tierra y la del cie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357880"/>
            <a:ext cx="3960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Las dos son indispens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6048360"/>
            <a:ext cx="3240000" cy="550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oca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762120"/>
            <a:ext cx="7272360" cy="43592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ellos no comprendieron lo que quería decir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19280" y="1160640"/>
            <a:ext cx="8424720" cy="56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8000" y="260280"/>
            <a:ext cx="889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ólo por la FE se entiende que Dios forma parte del grupo famili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844640"/>
            <a:ext cx="2089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s una visión inter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765000"/>
            <a:ext cx="8137440" cy="4894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bajó con ellos a Nazaret y siguió bajo su autoridad. Su madre conservaba todo esto en su corazón. Y Jesús iba creciendo en sabiduría, en estatura y en gracia ante Dios y los hombre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-316080"/>
            <a:ext cx="5114880" cy="662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56360" y="1916280"/>
            <a:ext cx="2448000" cy="43603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tento a Dios y a sus padres, Jesús es  “el” HIJO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6093000"/>
            <a:ext cx="7956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Somos familiares de Dios 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(Ef 2,1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907920"/>
            <a:ext cx="6048360" cy="5047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FAMILIAS acogedoras de los de fuera y de los de dentro. Como Jesús, María y José, que en cada Navidad sintamos que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omos PADRES e HIJ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88200" y="476280"/>
            <a:ext cx="481356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a4ad2"/>
                </a:solidFill>
                <a:latin typeface="Arial Black"/>
              </a:rPr>
              <a:t>Tiempo Navid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03640" y="1268280"/>
            <a:ext cx="56386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Jesús se revela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333360"/>
            <a:ext cx="2736720" cy="3080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plete cerca del Templo que recuerda el encuentro de Jesús con sus pad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5280" y="6021360"/>
            <a:ext cx="7373880" cy="550800"/>
            <a:chOff x="395280" y="6021360"/>
            <a:chExt cx="7373880" cy="550800"/>
          </a:xfrm>
        </p:grpSpPr>
        <p:sp>
          <p:nvSpPr>
            <p:cNvPr id="58" name=""/>
            <p:cNvSpPr/>
            <p:nvPr/>
          </p:nvSpPr>
          <p:spPr>
            <a:xfrm>
              <a:off x="1007640" y="6021360"/>
              <a:ext cx="6761520" cy="55080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4a4ad2"/>
                  </a:solidFill>
                  <a:latin typeface="Arial"/>
                </a:rPr>
                <a:t>Monjas de Sant Benet de Montserra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95280" y="6096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052640"/>
            <a:ext cx="7848360" cy="544320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noche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Nace, Hijo, en una cue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d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Es Palabra eterna que viene a la tier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de la Sagrada Familia (ciclo C):</a:t>
            </a:r>
            <a:br>
              <a:rPr sz="2700"/>
            </a:b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os padres de Jesús lo encuentran en la Casa del PAD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olemnidad de la Madre de Dios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e ponen el nombre de JESÚS (Salvad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pifan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anifestación del REY a los pag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Bautismo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ientras ora, el Padre revela al Hijo am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 Navidad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esús manifiesta su gloria en la fiesta de Caná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60280"/>
            <a:ext cx="78483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se revela Hijo y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27000"/>
            <a:ext cx="9144000" cy="712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773440" y="-25560"/>
            <a:ext cx="14716080" cy="6839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5591160"/>
            <a:ext cx="5832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gún el evangelio, aquí Jesús se encuentra con el Pad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33360"/>
            <a:ext cx="1942920" cy="192132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ugar donde estaba 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677 -9.89367E-007 L -0.37153 -0.00532 E">
                                      <p:cBhvr>
                                        <p:cTn id="67" dur="10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80880"/>
            <a:ext cx="8280360" cy="54262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2, 41-52 Los padres de Jesús solían ir cada año a Jerusalén por las fiestas de Pascua. Cuando Jesús cumplió doce años, subieron a la fiesta según la costumbr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7080120" cy="814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333360"/>
            <a:ext cx="43560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Templo es la CASA de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1844640"/>
            <a:ext cx="2520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ada uno tiene su lugar prop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457200"/>
            <a:ext cx="820728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terminó, se volvieron; pero el niño Jesús se quedó en Jerusalén, sin que lo supieran sus padre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8351640" cy="628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189000"/>
            <a:ext cx="813744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n Jerusalén vivimos la Navidad y la Pascua: el nacimiento y la muerte de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4076640"/>
            <a:ext cx="36352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es nuestro Hermano, del principio hasta el f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64360"/>
            <a:ext cx="37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uros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835020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tos, creyendo que estaba en la caravana, hicieron una jornada y se pusieron a buscarlo entre los parientes y conocidos; al no encontrarlo, se volvieron a Jerusalén en su busc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2-26T14:08:12Z</dcterms:modified>
  <cp:revision>331</cp:revision>
  <dc:subject>stbenet@benedictinescat.com</dc:subject>
  <dc:title>evangeli</dc:title>
</cp:coreProperties>
</file>