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wmf" ContentType="image/x-wmf"/>
  <Override PartName="/ppt/media/image54.gif" ContentType="image/gif"/>
  <Override PartName="/ppt/media/image53.gif" ContentType="image/gif"/>
  <Override PartName="/ppt/media/image1.wmf" ContentType="image/x-wmf"/>
  <Override PartName="/ppt/media/image52.gif" ContentType="image/gif"/>
  <Override PartName="/ppt/media/image12.wmf" ContentType="image/x-wmf"/>
  <Override PartName="/ppt/media/image51.gif" ContentType="image/gif"/>
  <Override PartName="/ppt/media/image56.gif" ContentType="image/gif"/>
  <Override PartName="/ppt/media/image49.png" ContentType="image/png"/>
  <Override PartName="/ppt/media/image71.wmf" ContentType="image/x-wmf"/>
  <Override PartName="/ppt/media/image55.gif" ContentType="image/gif"/>
  <Override PartName="/ppt/media/image48.png" ContentType="image/png"/>
  <Override PartName="/ppt/media/image70.wmf" ContentType="image/x-wmf"/>
  <Override PartName="/ppt/media/image45.wmf" ContentType="image/x-wmf"/>
  <Override PartName="/ppt/media/image43.png" ContentType="image/png"/>
  <Override PartName="/ppt/media/image42.jpeg" ContentType="image/jpeg"/>
  <Override PartName="/ppt/media/image40.wmf" ContentType="image/x-wmf"/>
  <Override PartName="/ppt/media/image3.gif" ContentType="image/gif"/>
  <Override PartName="/ppt/media/image15.gif" ContentType="image/gif"/>
  <Override PartName="/ppt/media/image80.gif" ContentType="image/gif"/>
  <Override PartName="/ppt/media/image41.wmf" ContentType="image/x-wmf"/>
  <Override PartName="/ppt/media/image4.gif" ContentType="image/gif"/>
  <Override PartName="/ppt/media/image16.gif" ContentType="image/gif"/>
  <Override PartName="/ppt/media/image62.jpeg" ContentType="image/jpeg"/>
  <Override PartName="/ppt/media/image81.gif" ContentType="image/gif"/>
  <Override PartName="/ppt/media/image44.gif" ContentType="image/gif"/>
  <Override PartName="/ppt/media/image35.wmf" ContentType="image/x-wmf"/>
  <Override PartName="/ppt/media/image33.wmf" ContentType="image/x-wmf"/>
  <Override PartName="/ppt/media/image31.png" ContentType="image/png"/>
  <Override PartName="/ppt/media/image2.jpeg" ContentType="image/jpeg"/>
  <Override PartName="/ppt/media/image30.png" ContentType="image/png"/>
  <Override PartName="/ppt/media/image17.gif" ContentType="image/gif"/>
  <Override PartName="/ppt/media/image19.gif" ContentType="image/gif"/>
  <Override PartName="/ppt/media/image24.png" ContentType="image/png"/>
  <Override PartName="/ppt/media/image27.jpeg" ContentType="image/jpeg"/>
  <Override PartName="/ppt/media/image57.gif" ContentType="image/gif"/>
  <Override PartName="/ppt/media/image82.wmf" ContentType="image/x-wmf"/>
  <Override PartName="/ppt/media/image25.jpeg" ContentType="image/jpeg"/>
  <Override PartName="/ppt/media/image32.png" ContentType="image/png"/>
  <Override PartName="/ppt/media/image72.wmf" ContentType="image/x-wmf"/>
  <Override PartName="/ppt/media/image28.png" ContentType="image/png"/>
  <Override PartName="/ppt/media/image68.wmf" ContentType="image/x-wmf"/>
  <Override PartName="/ppt/media/image59.wmf" ContentType="image/x-wmf"/>
  <Override PartName="/ppt/media/image60.wmf" ContentType="image/x-wmf"/>
  <Override PartName="/ppt/media/image64.gif" ContentType="image/gif"/>
  <Override PartName="/ppt/media/image61.jpeg" ContentType="image/jpeg"/>
  <Override PartName="/ppt/media/image38.wmf" ContentType="image/x-wmf"/>
  <Override PartName="/ppt/media/image63.png" ContentType="image/png"/>
  <Override PartName="/ppt/media/image76.wmf" ContentType="image/x-wmf"/>
  <Override PartName="/ppt/media/image20.gif" ContentType="image/gif"/>
  <Override PartName="/ppt/media/image23.png" ContentType="image/png"/>
  <Override PartName="/ppt/media/image78.wmf" ContentType="image/x-wmf"/>
  <Override PartName="/ppt/media/image66.wmf" ContentType="image/x-wmf"/>
  <Override PartName="/ppt/media/image77.wmf" ContentType="image/x-wmf"/>
  <Override PartName="/ppt/media/image74.wmf" ContentType="image/x-wmf"/>
  <Override PartName="/ppt/media/image73.wmf" ContentType="image/x-wmf"/>
  <Override PartName="/ppt/media/image69.wmf" ContentType="image/x-wmf"/>
  <Override PartName="/ppt/media/image21.jpeg" ContentType="image/jpeg"/>
  <Override PartName="/ppt/media/image26.gif" ContentType="image/gif"/>
  <Override PartName="/ppt/media/image29.png" ContentType="image/png"/>
  <Override PartName="/ppt/media/image75.jpeg" ContentType="image/jpeg"/>
  <Override PartName="/ppt/media/image13.gif" ContentType="image/gif"/>
  <Override PartName="/ppt/media/image89.png" ContentType="image/png"/>
  <Override PartName="/ppt/media/image86.gif" ContentType="image/gif"/>
  <Override PartName="/ppt/media/image46.wmf" ContentType="image/x-wmf"/>
  <Override PartName="/ppt/media/image88.wmf" ContentType="image/x-wmf"/>
  <Override PartName="/ppt/media/image65.gif" ContentType="image/gif"/>
  <Override PartName="/ppt/media/image67.wmf" ContentType="image/x-wmf"/>
  <Override PartName="/ppt/media/image34.gif" ContentType="image/gif"/>
  <Override PartName="/ppt/media/image18.gif" ContentType="image/gif"/>
  <Override PartName="/ppt/media/image5.jpeg" ContentType="image/jpeg"/>
  <Override PartName="/ppt/media/image50.png" ContentType="image/png"/>
  <Override PartName="/ppt/media/image14.gif" ContentType="image/gif"/>
  <Override PartName="/ppt/media/image47.wmf" ContentType="image/x-wmf"/>
  <Override PartName="/ppt/media/image87.gif" ContentType="image/gif"/>
  <Override PartName="/ppt/media/(Acama)%20Toscana%20Magic%20%5B01%5D%20Ceramica.wav" ContentType="audio/x-wav"/>
  <Override PartName="/ppt/media/image83.wmf" ContentType="image/x-wmf"/>
  <Override PartName="/ppt/media/image6.wmf" ContentType="image/x-wmf"/>
  <Override PartName="/ppt/media/image36.wmf" ContentType="image/x-wmf"/>
  <Override PartName="/ppt/media/image22.jpeg" ContentType="image/jpeg"/>
  <Override PartName="/ppt/media/image84.wmf" ContentType="image/x-wmf"/>
  <Override PartName="/ppt/media/image7.wmf" ContentType="image/x-wmf"/>
  <Override PartName="/ppt/media/image37.wmf" ContentType="image/x-wmf"/>
  <Override PartName="/ppt/media/image9.wmf" ContentType="image/x-wmf"/>
  <Override PartName="/ppt/media/image39.wmf" ContentType="image/x-wmf"/>
  <Override PartName="/ppt/media/image79.gif" ContentType="image/gif"/>
  <Override PartName="/ppt/media/image11.gif" ContentType="image/gif"/>
  <Override PartName="/ppt/media/image8.wmf" ContentType="image/x-wmf"/>
  <Override PartName="/ppt/media/image85.wmf" ContentType="image/x-wmf"/>
  <Override PartName="/ppt/media/image10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84A7-5B35-41FE-9CB8-58145EDEA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905B-8A41-4BD4-9AAA-21B71491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E96E-2E12-4EA8-9A93-E986CDF3D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A3C3-D882-4DEB-BED7-01275057B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F4B4-E5DB-4DBA-9D0D-0F3FCEE6C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D6E1-718A-45B4-A3F2-A5CB1CFE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AB69-ABA7-4D24-BEA0-6AC69F7F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716A-B026-4469-8E08-1934D6B1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D725-2E52-41C6-B04B-2966C15E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980F-3E4A-4879-80E2-15EC95E5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4567-EDBB-4709-A8E7-D5961B24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B1FD-497D-4768-857B-9F0982E9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A4E1-45BC-47F2-9C05-F70F7924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B7FA-6BFA-4827-ACE5-6EACC1C8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89F1-E35D-4C9B-84BE-CDF32F18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4D38-B002-4B5A-A014-C38630940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1CAF-C417-4D83-A42F-03848F1B8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EC79-5EE8-470D-A550-CD4C4796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CA6D-72F7-4A17-A095-38E716D1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46A0-34B3-41A7-97B9-F46E0E33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91C8-A234-4A7C-910B-DC9FDC0C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52FB-B532-4A30-9B26-9D92325D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ED3D-AB11-4566-A73F-8A8DD1E0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DFD3-254F-460A-81D2-F8F3F0F5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3AB5-5C3D-4110-A62A-86BD1A9C9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93E9-86ED-4EC2-BA36-5B2631E17F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(Acama)%20Toscana%20Magic%20%5B01%5D%20Ceramica.wav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gif"/><Relationship Id="rId3" Type="http://schemas.openxmlformats.org/officeDocument/2006/relationships/image" Target="../media/image44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gif"/><Relationship Id="rId2" Type="http://schemas.openxmlformats.org/officeDocument/2006/relationships/image" Target="../media/image52.gif"/><Relationship Id="rId3" Type="http://schemas.openxmlformats.org/officeDocument/2006/relationships/image" Target="../media/image53.gif"/><Relationship Id="rId4" Type="http://schemas.openxmlformats.org/officeDocument/2006/relationships/image" Target="../media/image54.gif"/><Relationship Id="rId5" Type="http://schemas.openxmlformats.org/officeDocument/2006/relationships/image" Target="../media/image55.gif"/><Relationship Id="rId6" Type="http://schemas.openxmlformats.org/officeDocument/2006/relationships/image" Target="../media/image56.gi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7.gif"/><Relationship Id="rId3" Type="http://schemas.openxmlformats.org/officeDocument/2006/relationships/image" Target="../media/image57.gif"/><Relationship Id="rId4" Type="http://schemas.openxmlformats.org/officeDocument/2006/relationships/image" Target="../media/image58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gif"/><Relationship Id="rId3" Type="http://schemas.openxmlformats.org/officeDocument/2006/relationships/image" Target="../media/image65.gi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wmf"/><Relationship Id="rId3" Type="http://schemas.openxmlformats.org/officeDocument/2006/relationships/image" Target="../media/image68.wmf"/><Relationship Id="rId4" Type="http://schemas.openxmlformats.org/officeDocument/2006/relationships/image" Target="../media/image69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71.wmf"/><Relationship Id="rId3" Type="http://schemas.openxmlformats.org/officeDocument/2006/relationships/image" Target="../media/image72.wmf"/><Relationship Id="rId4" Type="http://schemas.openxmlformats.org/officeDocument/2006/relationships/image" Target="../media/image73.wmf"/><Relationship Id="rId5" Type="http://schemas.openxmlformats.org/officeDocument/2006/relationships/image" Target="../media/image74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wmf"/><Relationship Id="rId3" Type="http://schemas.openxmlformats.org/officeDocument/2006/relationships/image" Target="../media/image77.wmf"/><Relationship Id="rId4" Type="http://schemas.openxmlformats.org/officeDocument/2006/relationships/image" Target="../media/image78.wmf"/><Relationship Id="rId5" Type="http://schemas.openxmlformats.org/officeDocument/2006/relationships/image" Target="../media/image79.gi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0.gif"/><Relationship Id="rId2" Type="http://schemas.openxmlformats.org/officeDocument/2006/relationships/image" Target="../media/image81.gif"/><Relationship Id="rId3" Type="http://schemas.openxmlformats.org/officeDocument/2006/relationships/image" Target="../media/image82.wmf"/><Relationship Id="rId4" Type="http://schemas.openxmlformats.org/officeDocument/2006/relationships/image" Target="../media/image83.wmf"/><Relationship Id="rId5" Type="http://schemas.openxmlformats.org/officeDocument/2006/relationships/image" Target="../media/image84.wmf"/><Relationship Id="rId6" Type="http://schemas.openxmlformats.org/officeDocument/2006/relationships/image" Target="../media/image65.gif"/><Relationship Id="rId7" Type="http://schemas.openxmlformats.org/officeDocument/2006/relationships/image" Target="../media/image57.gif"/><Relationship Id="rId8" Type="http://schemas.openxmlformats.org/officeDocument/2006/relationships/image" Target="../media/image85.wmf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6.gif"/><Relationship Id="rId2" Type="http://schemas.openxmlformats.org/officeDocument/2006/relationships/image" Target="../media/image2.jpeg"/><Relationship Id="rId3" Type="http://schemas.openxmlformats.org/officeDocument/2006/relationships/image" Target="../media/image87.gif"/><Relationship Id="rId4" Type="http://schemas.openxmlformats.org/officeDocument/2006/relationships/image" Target="../media/image88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1.wmf"/><Relationship Id="rId3" Type="http://schemas.openxmlformats.org/officeDocument/2006/relationships/hyperlink" Target="mailto:terapeutaolga@yahoo.com.br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wm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image" Target="../media/image16.gif"/><Relationship Id="rId9" Type="http://schemas.openxmlformats.org/officeDocument/2006/relationships/image" Target="../media/image17.gif"/><Relationship Id="rId10" Type="http://schemas.openxmlformats.org/officeDocument/2006/relationships/image" Target="../media/image18.gif"/><Relationship Id="rId11" Type="http://schemas.openxmlformats.org/officeDocument/2006/relationships/image" Target="../media/image19.gif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724120" y="1052640"/>
            <a:ext cx="3694320" cy="3816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916360" y="3500280"/>
            <a:ext cx="33112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atin typeface="Arial Black"/>
              </a:rPr>
              <a:t>Olga Mendonça PP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fd1"/>
                  </a:gs>
                  <a:gs pos="100000">
                    <a:srgbClr val="d1c39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atin typeface="Arial Black"/>
              </a:rPr>
              <a:t>200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fd1"/>
                  </a:gs>
                  <a:gs pos="100000">
                    <a:srgbClr val="d1c39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66920" y="2133720"/>
            <a:ext cx="4608720" cy="10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atin typeface="Benguiat Bk BT"/>
              </a:rPr>
              <a:t>Tu Hígad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fd1"/>
                  </a:gs>
                  <a:gs pos="100000">
                    <a:srgbClr val="d1c39f"/>
                  </a:gs>
                </a:gsLst>
                <a:lin ang="5400000"/>
              </a:gradFill>
              <a:latin typeface="Benguiat Bk BT"/>
              <a:ea typeface="Benguiat Bk B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195640" y="5300640"/>
            <a:ext cx="4572000" cy="10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99">
                        <a:alpha val="99215"/>
                      </a:srgbClr>
                    </a:gs>
                    <a:gs pos="50000">
                      <a:srgbClr val="ff99ff"/>
                    </a:gs>
                    <a:gs pos="100000">
                      <a:srgbClr val="cc0099">
                        <a:alpha val="99215"/>
                      </a:srgbClr>
                    </a:gs>
                  </a:gsLst>
                  <a:lin ang="5400000"/>
                </a:gradFill>
                <a:latin typeface="Arial Black"/>
              </a:rPr>
              <a:t>Conecte el sonido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99">
                      <a:alpha val="99215"/>
                    </a:srgbClr>
                  </a:gs>
                  <a:gs pos="50000">
                    <a:srgbClr val="ff99ff"/>
                  </a:gs>
                  <a:gs pos="100000">
                    <a:srgbClr val="cc0099">
                      <a:alpha val="99215"/>
                    </a:srgbClr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435400" y="2492280"/>
            <a:ext cx="4271760" cy="3737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55640" y="549360"/>
            <a:ext cx="78771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Soy un depósito de toxinas. Ellas permanecen en mi por bastante tiempo hasta que sean procesadas. Si la carga se vuelve excesiva, quedo impedido de trabajar adecuadamente y el proceso digestivo se vuelve difíc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3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894040" y="2205000"/>
            <a:ext cx="3355920" cy="3378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0200" y="552600"/>
            <a:ext cx="828216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Yo reservo energía, como una batería, almacenando    azúcar (carbohidratos y grasas) hasta que de él necesites. Soy yo quien  alimenta tu cerebro de energía y lo hace funcionar. Sin mi, entrarías en estado de coma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n verdad, no podrías levantarte de la cama si yo no  estuviese trabajando</a:t>
            </a:r>
            <a:r>
              <a:rPr b="1" lang="pt-BR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3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12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12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2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55640" y="692280"/>
            <a:ext cx="7920000" cy="49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¡Es importante que me quieras!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ero no te pido mucho...¡Basta que me trates bien!                                                              No me llenes de alcohol - cerveza, wisky o agua ardiente!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i tomas con frecuencia , me puedes lesionar para                     el resto de nuestras vida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211640" y="2997360"/>
            <a:ext cx="2786040" cy="3049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475000" y="3141720"/>
            <a:ext cx="2097000" cy="3141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1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1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9100"/>
                            </p:stCondLst>
                            <p:childTnLst>
                              <p:par>
                                <p:cTn id="18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066760" y="2637000"/>
            <a:ext cx="5008680" cy="3806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47640" y="13413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Y yo me lesiono facilmente...                                           Estas lesiones llamadas  "cirrosis“, son  permanentes.</a:t>
            </a: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916360" y="306864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3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368520" y="1882800"/>
            <a:ext cx="2405160" cy="32353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640" y="600120"/>
            <a:ext cx="7848720" cy="60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Cuidado con el hábito de la automedicación!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Los remedios son importantes, pero al tomar remedios sin necesidad, puedes sobrecargarme e intoxicarm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Todos los remedios son productos químicos y cuando tú los combinas sin la aprobación de un médico, puedes crear algo venenoso y perjudicarme seri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7500"/>
                            </p:stCondLst>
                            <p:childTnLst>
                              <p:par>
                                <p:cTn id="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2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2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2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067280" y="1484280"/>
            <a:ext cx="1008000" cy="8064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55640" y="404640"/>
            <a:ext cx="7858080" cy="65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Para que sepas, yo no me quejo. Si me maltratas, no podré avisarte que estoy en peligr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Otra cosa importante - cuida de tu alimentación!                                                                </a:t>
            </a:r>
            <a:r>
              <a:rPr b="1" i="1" lang="pt-BR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 abuses de los alimentos grasos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llos pueden dejarme cubierto de grasa y si eso sucede,desequilibraré varios sistemas de tu cuerpo!                                                                  Aliméntate con una dieta balancea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Haga clic para obtener la vista previa"/>
          <p:cNvPicPr/>
          <p:nvPr/>
        </p:nvPicPr>
        <p:blipFill>
          <a:blip r:embed="rId2"/>
          <a:stretch/>
        </p:blipFill>
        <p:spPr>
          <a:xfrm>
            <a:off x="1258920" y="3573360"/>
            <a:ext cx="1361880" cy="13622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Haga clic para obtener la vista previa"/>
          <p:cNvPicPr/>
          <p:nvPr/>
        </p:nvPicPr>
        <p:blipFill>
          <a:blip r:embed="rId3"/>
          <a:stretch/>
        </p:blipFill>
        <p:spPr>
          <a:xfrm>
            <a:off x="2916360" y="3860640"/>
            <a:ext cx="1268280" cy="1268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Haga clic para obtener la vista previa"/>
          <p:cNvPicPr/>
          <p:nvPr/>
        </p:nvPicPr>
        <p:blipFill>
          <a:blip r:embed="rId4"/>
          <a:srcRect l="0" t="21441" r="0" b="21441"/>
          <a:stretch/>
        </p:blipFill>
        <p:spPr>
          <a:xfrm>
            <a:off x="6372360" y="4076640"/>
            <a:ext cx="1439640" cy="8222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Haga clic para obtener la vista previa"/>
          <p:cNvPicPr/>
          <p:nvPr/>
        </p:nvPicPr>
        <p:blipFill>
          <a:blip r:embed="rId5"/>
          <a:stretch/>
        </p:blipFill>
        <p:spPr>
          <a:xfrm>
            <a:off x="4572000" y="3860640"/>
            <a:ext cx="1279440" cy="12798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58920" y="3645000"/>
            <a:ext cx="136836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ernhardFashion BT"/>
              </a:rPr>
              <a:t>x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ernhardFashion BT"/>
              <a:ea typeface="BernhardFashion B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843280" y="3716280"/>
            <a:ext cx="136836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ernhardFashion BT"/>
              </a:rPr>
              <a:t>x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ernhardFashion BT"/>
              <a:ea typeface="BernhardFashion B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0" y="3645000"/>
            <a:ext cx="136836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ernhardFashion BT"/>
              </a:rPr>
              <a:t>x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ernhardFashion BT"/>
              <a:ea typeface="BernhardFashion B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372360" y="3645000"/>
            <a:ext cx="115236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ernhardFashion BT"/>
              </a:rPr>
              <a:t>x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ernhardFashion BT"/>
              <a:ea typeface="BernhardFashion BT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2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2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2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3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9300"/>
                            </p:stCondLst>
                            <p:childTnLst>
                              <p:par>
                                <p:cTn id="2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2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2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2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66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6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86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96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6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1600"/>
                            </p:stCondLst>
                            <p:childTnLst>
                              <p:par>
                                <p:cTn id="2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2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2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2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55640" y="620640"/>
            <a:ext cx="781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Soy vulnerable a los diversos virus de la </a:t>
            </a:r>
            <a:r>
              <a:rPr b="1" i="1" lang="pt-BR" sz="2400" spc="-1" strike="noStrike">
                <a:solidFill>
                  <a:srgbClr val="000000"/>
                </a:solidFill>
                <a:latin typeface="Arial Unicode MS"/>
              </a:rPr>
              <a:t>hepatitis</a:t>
            </a: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, los cuales viven en la sangre, en la saliva, en los excrementos  y  en el sémen hum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Casi siempre soy capaz de destruir esos virus, pero a veces ellos son más fuertes que yo y me infectan, causándome mucho dañ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56000" y="3357720"/>
            <a:ext cx="4254480" cy="3259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580000" y="3500280"/>
            <a:ext cx="1204920" cy="12733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8317080" y="2584440"/>
            <a:ext cx="2879640" cy="18320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8244000" y="4508640"/>
            <a:ext cx="2879640" cy="183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3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3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60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8000"/>
                            </p:stCondLst>
                            <p:childTnLst>
                              <p:par>
                                <p:cTn id="29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26214E-006 L -0.37795 1.26214E-006 E">
                                      <p:cBhvr>
                                        <p:cTn id="303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56 0.00185 L -0.31771 -0.01918 E">
                                      <p:cBhvr>
                                        <p:cTn id="306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82663E-006 L -0.67709 -0.14379 E">
                                      <p:cBhvr>
                                        <p:cTn id="312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156360" y="3789360"/>
            <a:ext cx="1871640" cy="21812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300480" y="3933720"/>
            <a:ext cx="2543040" cy="1997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971640" y="3789360"/>
            <a:ext cx="1938240" cy="2252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22360" y="1125360"/>
            <a:ext cx="83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El virus de la hepatitis C, es transmitido por la transfusión de sangre y hemodiálisis, por el uso de drogas intravenosas, material cortante o perforante de uso colectivo, sin esterilización adecuada: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Arial Unicode MS"/>
              </a:rPr>
              <a:t>procedimientos médicos/odontológicos,tatuajes, piercing, manicure,</a:t>
            </a: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3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826920" y="836640"/>
            <a:ext cx="795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El vírus de la hepatitis A, es transmitido a través del agua y de los alimentos, mientras que el de la hepatitis B, a través de los contactos íntimos, de la madre infectada para el recién nacido y por el uso de sangre infect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284720" y="3860640"/>
            <a:ext cx="2484360" cy="2451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659640" y="3141720"/>
            <a:ext cx="1901880" cy="22017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826920" y="4149720"/>
            <a:ext cx="1884600" cy="18241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2700360" y="2997360"/>
            <a:ext cx="1547640" cy="21524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3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0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7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90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444760" y="692280"/>
            <a:ext cx="4254480" cy="32590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20640" y="4149720"/>
            <a:ext cx="790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Entonces observa la procedencia de la sangre que necesites recibir, de los alimentos y del agua que tomas y ten cuidado con la higiene en el toilete. Usa preservativos con nuevas parejas, exige que los instrumentos que perforen tu piel o boca estén estereliza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224240" y="1989000"/>
            <a:ext cx="1812960" cy="21672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3898800" y="1844640"/>
            <a:ext cx="13464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ATENCIÓ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2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2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2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050920" y="1122480"/>
            <a:ext cx="5695920" cy="4362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143160" y="907920"/>
            <a:ext cx="2855880" cy="29512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2484360" y="2924280"/>
            <a:ext cx="2603520" cy="34718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4640" y="1268280"/>
            <a:ext cx="779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Según la Tradicional Medicina China, soy un órgano regido por la </a:t>
            </a:r>
            <a:r>
              <a:rPr b="1" i="1" lang="pt-BR" sz="2400" spc="-1" strike="noStrike">
                <a:solidFill>
                  <a:srgbClr val="000000"/>
                </a:solidFill>
                <a:latin typeface="Arial Unicode MS"/>
              </a:rPr>
              <a:t>energía de la madera</a:t>
            </a: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. Por eso, como una planta, si me sacas un pedazo, soy capaz de regenerarme y crecer nue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859280" y="3933720"/>
            <a:ext cx="1793880" cy="239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3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00000" y="620640"/>
            <a:ext cx="748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Soy yo quien controla tu sistema nervioso y ejerzo una actividad importante sobre tus pensami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Cuando estoy desequilibrado, no consigues  concentrarte ni tener claridad mental. También te enervas fácilmente, te quedas incitado a las peleas, predispuesto a dolores de cabeza, en la nuca y región lumba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659640" y="4149720"/>
            <a:ext cx="1639800" cy="19749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116000" y="3789360"/>
            <a:ext cx="2178000" cy="2197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3414600" y="4076640"/>
            <a:ext cx="2313000" cy="196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3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3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6000"/>
                            </p:stCondLst>
                            <p:childTnLst>
                              <p:par>
                                <p:cTn id="398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8500"/>
                            </p:stCondLst>
                            <p:childTnLst>
                              <p:par>
                                <p:cTn id="4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9500"/>
                            </p:stCondLst>
                            <p:childTnLst>
                              <p:par>
                                <p:cTn id="4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 rot="362400">
            <a:off x="4571640" y="3860280"/>
            <a:ext cx="2952720" cy="2671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2050920" y="3789360"/>
            <a:ext cx="2808360" cy="25146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3457440" y="836640"/>
            <a:ext cx="2229120" cy="2303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116000" y="2852640"/>
            <a:ext cx="3816360" cy="360072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100000">
                <a:srgbClr val="5e9eff">
                  <a:alpha val="4117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0" y="2852640"/>
            <a:ext cx="3889440" cy="3672000"/>
          </a:xfrm>
          <a:prstGeom prst="ellipse">
            <a:avLst/>
          </a:prstGeom>
          <a:gradFill rotWithShape="0">
            <a:gsLst>
              <a:gs pos="0">
                <a:srgbClr val="5e9eff">
                  <a:alpha val="47058"/>
                </a:srgbClr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22160" y="836640"/>
            <a:ext cx="7697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Todavía según la milenar Medicina Chin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soy la morada de las HUN, seres espirituales que celan por tu salu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2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2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2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600"/>
                            </p:stCondLst>
                            <p:childTnLst>
                              <p:par>
                                <p:cTn id="4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2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2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2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9300"/>
                            </p:stCondLst>
                            <p:childTnLst>
                              <p:par>
                                <p:cTn id="43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826920" y="765000"/>
            <a:ext cx="7473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A ellas no les gusta, absolutamente nada, de  la rabia  ni de 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toxinas venenosas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012000" y="4221000"/>
            <a:ext cx="2436840" cy="18846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1258920" y="4365720"/>
            <a:ext cx="1785960" cy="1574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2195640" y="177156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6227640" y="1812960"/>
            <a:ext cx="2005200" cy="16873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826920" y="1849320"/>
            <a:ext cx="1651320" cy="16509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3851280" y="2997360"/>
            <a:ext cx="2233440" cy="18684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1403280" y="4653000"/>
            <a:ext cx="136836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ernhardFashion BT"/>
              </a:rPr>
              <a:t>x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ernhardFashion BT"/>
              <a:ea typeface="BernhardFashion B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547640" y="1989000"/>
            <a:ext cx="136872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ernhardFashion BT"/>
              </a:rPr>
              <a:t>x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ernhardFashion BT"/>
              <a:ea typeface="BernhardFashion B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443640" y="1989000"/>
            <a:ext cx="136836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ernhardFashion BT"/>
              </a:rPr>
              <a:t>x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ernhardFashion BT"/>
              <a:ea typeface="BernhardFashion BT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211640" y="3500280"/>
            <a:ext cx="136836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ernhardFashion BT"/>
              </a:rPr>
              <a:t>x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ernhardFashion BT"/>
              <a:ea typeface="BernhardFashion B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732720" y="4869000"/>
            <a:ext cx="136836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ernhardFashion BT"/>
              </a:rPr>
              <a:t>x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ernhardFashion BT"/>
              <a:ea typeface="BernhardFashion BT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2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2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2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200"/>
                            </p:stCondLst>
                            <p:childTnLst>
                              <p:par>
                                <p:cTn id="4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2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2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2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7000"/>
                            </p:stCondLst>
                            <p:childTnLst>
                              <p:par>
                                <p:cTn id="4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800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3000"/>
                            </p:stCondLst>
                            <p:childTnLst>
                              <p:par>
                                <p:cTn id="4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755640" y="620640"/>
            <a:ext cx="7970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Cuando te vuelves iracundo, soy agredido por las toxinas del stress. Si eso ocurre con frecuencia, las HUN me abandonan y huyen de tu cuerp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011320" y="2349360"/>
            <a:ext cx="5119560" cy="39211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284720" y="1935000"/>
            <a:ext cx="1747800" cy="1565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1068600">
            <a:off x="4571640" y="3500280"/>
            <a:ext cx="1747800" cy="15652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6732720" y="3789360"/>
            <a:ext cx="1584360" cy="137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2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2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2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4000"/>
                            </p:stCondLst>
                            <p:childTnLst>
                              <p:par>
                                <p:cTn id="5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1595 L -0.45278 -0.02889 E">
                                      <p:cBhvr>
                                        <p:cTn id="515" dur="3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7000"/>
                            </p:stCondLst>
                            <p:childTnLst>
                              <p:par>
                                <p:cTn id="5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48 0.11396 L 0.40052 -0.44175 E">
                                      <p:cBhvr>
                                        <p:cTn id="524" dur="3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671 0.0245 L 0.48732 0.02242 E">
                                      <p:cBhvr>
                                        <p:cTn id="526" dur="3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4360" y="476280"/>
            <a:ext cx="799308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Entonces, te vuelves endurecido y tu humor cada vez pe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En la antigüedad, Hipócrates clasificó los principales temperamentos humanos de acuerdo con los humores predominantes. Él denominó </a:t>
            </a:r>
            <a:r>
              <a:rPr b="1" i="1" lang="pt-BR" sz="2400" spc="-1" strike="noStrike">
                <a:solidFill>
                  <a:srgbClr val="000000"/>
                </a:solidFill>
                <a:latin typeface="Arial Unicode MS"/>
              </a:rPr>
              <a:t>temperamento bilioso - que significa lleno de bilis y de rabia, irritable -  </a:t>
            </a:r>
            <a:r>
              <a:rPr b="0" lang="pt-BR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aquel dominado por mi actuación negativa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154240" y="3500280"/>
            <a:ext cx="2417760" cy="2921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572000" y="3500280"/>
            <a:ext cx="2335320" cy="29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000"/>
                            </p:stCondLst>
                            <p:childTnLst>
                              <p:par>
                                <p:cTn id="543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435640" y="2637000"/>
            <a:ext cx="2444760" cy="36576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332000" y="3500280"/>
            <a:ext cx="2828880" cy="28292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68360" y="54936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Las toxinas de la rabia son un veneno que no consigo metabolizar...Y ellas pueden destruirme, volviéndome un </a:t>
            </a:r>
            <a:r>
              <a:rPr b="1" i="1" lang="pt-BR" sz="2400" spc="-1" strike="noStrike">
                <a:solidFill>
                  <a:srgbClr val="000000"/>
                </a:solidFill>
                <a:latin typeface="Arial Unicode MS"/>
              </a:rPr>
              <a:t>serio candidato al cáncer</a:t>
            </a: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A parte de esto, cuando estoy envenenado por la rabia, afectaré a tu corazón, que se volverá impaciente y rencoroso, incapaz de sentir amor, alegría y respe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Y eso, fácilmente, puede destruir tus relac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9" dur="2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2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2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1800"/>
                            </p:stCondLst>
                            <p:childTnLst>
                              <p:par>
                                <p:cTn id="5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2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2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2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5200"/>
                            </p:stCondLst>
                            <p:childTnLst>
                              <p:par>
                                <p:cTn id="5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2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2" dur="2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2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9800"/>
                            </p:stCondLst>
                            <p:childTnLst>
                              <p:par>
                                <p:cTn id="57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451240" y="2708280"/>
            <a:ext cx="4241520" cy="38433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36400" y="836640"/>
            <a:ext cx="8069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La única forma de convencer a las HU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volver a tu cuerpo, es que practiques actos de bondad para contigo mismo y para con los otros.                       Cuando transformes tus actitudes rabiosas en tolerancia,conciliación y solicitud, ellas quedarán a tu lado,trayéndote salud y suerte!</a:t>
            </a: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2340000" y="3860640"/>
            <a:ext cx="2232000" cy="1722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5003640" y="3500280"/>
            <a:ext cx="2016360" cy="182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168720" y="3068640"/>
            <a:ext cx="2805120" cy="34146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3749760" y="1197000"/>
            <a:ext cx="1644480" cy="17431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6227640" y="2708280"/>
            <a:ext cx="1117800" cy="10987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2124000" y="2708280"/>
            <a:ext cx="930240" cy="10857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561960" y="620640"/>
            <a:ext cx="8258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Entiendes ahora que necesitas buscar la Sabiduría del Vivir, para que puedas enfrentar los desafíos del día a día, con inteligencia, calma y serenida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Comprendes la importancia de apaciguarte con todas las circunstancias de tu vida y todos los seres a tu alreded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1" dur="2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2" dur="2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2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2500"/>
                            </p:stCondLst>
                            <p:childTnLst>
                              <p:par>
                                <p:cTn id="6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620640"/>
            <a:ext cx="8099280" cy="81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Como ves, tu vida, salud y  felicidad, dependen de que </a:t>
            </a:r>
            <a:r>
              <a:rPr b="1" lang="pt-BR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uides muy bien de mi y de t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vita el stress. Correr contra el reloj es un hábito peligroso. Cultiva el buen humor. ¿Para qué llevar la vida tan en serio? Procura sonreir y jugar. Permítete el relax y el placer.                                                                               Descontracción y diversión son esenciales para      </a:t>
            </a:r>
            <a:r>
              <a:rPr b="1" lang="pt-BR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anterme bien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826920" y="4508640"/>
            <a:ext cx="1806840" cy="1758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877080" y="4653000"/>
            <a:ext cx="1825560" cy="17208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2749680" y="4653000"/>
            <a:ext cx="1822320" cy="15206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4788000" y="4869000"/>
            <a:ext cx="1812960" cy="1349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3808440" y="1484280"/>
            <a:ext cx="1527120" cy="14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3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300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0"/>
                            </p:stCondLst>
                            <p:childTnLst>
                              <p:par>
                                <p:cTn id="6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3" dur="2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4" dur="2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2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5500"/>
                            </p:stCondLst>
                            <p:childTnLst>
                              <p:par>
                                <p:cTn id="6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7500"/>
                            </p:stCondLst>
                            <p:childTnLst>
                              <p:par>
                                <p:cTn id="6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9500"/>
                            </p:stCondLst>
                            <p:childTnLst>
                              <p:par>
                                <p:cTn id="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31500"/>
                            </p:stCondLst>
                            <p:childTnLst>
                              <p:par>
                                <p:cTn id="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0920" y="1122480"/>
            <a:ext cx="5695920" cy="4362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556000" y="2147760"/>
            <a:ext cx="2414520" cy="1352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484360" y="4292640"/>
            <a:ext cx="331164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latin typeface="Impact"/>
              </a:rPr>
              <a:t>Hola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latin typeface="Impact"/>
              </a:rPr>
              <a:t>Soy tu hígado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804000" y="1741320"/>
            <a:ext cx="1800360" cy="17589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933640" y="1647720"/>
            <a:ext cx="1638360" cy="18525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4932360" y="1566720"/>
            <a:ext cx="1655640" cy="19335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900000" y="1633680"/>
            <a:ext cx="2059200" cy="18666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3962520" y="620640"/>
            <a:ext cx="1218960" cy="961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593640" y="3500280"/>
            <a:ext cx="7956720" cy="49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Busca tu bienestar a través del contacto con la naturaleza, de la práctica de ejercícios físicos, del relajamiento y principalmente, de la meditación, que te conecta con la Fuente de la Vid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000"/>
                            </p:stCondLst>
                            <p:childTnLst>
                              <p:par>
                                <p:cTn id="6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3000"/>
                            </p:stCondLst>
                            <p:childTnLst>
                              <p:par>
                                <p:cTn id="6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4000"/>
                            </p:stCondLst>
                            <p:childTnLst>
                              <p:par>
                                <p:cTn id="6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000"/>
                            </p:stCondLst>
                            <p:childTnLst>
                              <p:par>
                                <p:cTn id="6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2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2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2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659040" y="3860640"/>
            <a:ext cx="1824120" cy="1824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00000" y="5589720"/>
            <a:ext cx="7559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¡ Que las HUN te den   una salud vibrante y mucha suerte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960640" y="476280"/>
            <a:ext cx="3220920" cy="41148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2627280" y="4508640"/>
            <a:ext cx="893880" cy="9684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5724360" y="4292640"/>
            <a:ext cx="1151280" cy="11811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5"/>
          <a:stretch/>
        </p:blipFill>
        <p:spPr>
          <a:xfrm rot="1739400">
            <a:off x="7020000" y="4365360"/>
            <a:ext cx="1224000" cy="9712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4427640" y="2276640"/>
            <a:ext cx="144360" cy="72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82920" y="981000"/>
            <a:ext cx="2844720" cy="20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6"/>
          <a:stretch/>
        </p:blipFill>
        <p:spPr>
          <a:xfrm rot="19397400">
            <a:off x="4932000" y="1988640"/>
            <a:ext cx="2519280" cy="22798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7"/>
          <a:stretch/>
        </p:blipFill>
        <p:spPr>
          <a:xfrm rot="2280000">
            <a:off x="1979280" y="2133360"/>
            <a:ext cx="2341440" cy="2097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2484360" y="1052640"/>
            <a:ext cx="4116600" cy="12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99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¡ Gracias por tu atención 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99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99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8"/>
          <a:stretch/>
        </p:blipFill>
        <p:spPr>
          <a:xfrm>
            <a:off x="684360" y="4005360"/>
            <a:ext cx="1753920" cy="172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000"/>
                            </p:stCondLst>
                            <p:childTnLst>
                              <p:par>
                                <p:cTn id="7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4000"/>
                            </p:stCondLst>
                            <p:childTnLst>
                              <p:par>
                                <p:cTn id="7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6000"/>
                            </p:stCondLst>
                            <p:childTnLst>
                              <p:par>
                                <p:cTn id="7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 rot="14787000">
            <a:off x="1101600" y="2264760"/>
            <a:ext cx="1176120" cy="12938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2263680" y="1197000"/>
            <a:ext cx="4614840" cy="35352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341520" y="1989000"/>
            <a:ext cx="1230480" cy="12304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63640" y="927000"/>
            <a:ext cx="7416720" cy="52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Unicode MS"/>
              </a:rPr>
              <a:t>Tu silencioso compañer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100320" y="5661000"/>
            <a:ext cx="29433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100000">
                      <a:srgbClr val="ff99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Lucida Handwriting"/>
              </a:rPr>
              <a:t>El hígad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100000">
                    <a:srgbClr val="ff99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Lucida Handwriting"/>
              <a:ea typeface="Lucida Handwriting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611280" y="1268280"/>
            <a:ext cx="202716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20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2000"/>
                                        <p:tgtEl>
                                          <p:spTgt spid="2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4000"/>
                            </p:stCondLst>
                            <p:childTnLst>
                              <p:par>
                                <p:cTn id="7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09720" y="790560"/>
            <a:ext cx="7324560" cy="54198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3652920" y="981000"/>
            <a:ext cx="1838160" cy="18986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539640" y="2708280"/>
            <a:ext cx="8064720" cy="34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Unicode MS"/>
              </a:rPr>
              <a:t>Texto adaptado del libro:                                                                                    CHI NEI TSANG – </a:t>
            </a:r>
            <a:r>
              <a:rPr b="1" i="1" lang="pt-BR" sz="1800" spc="-1" strike="noStrike">
                <a:solidFill>
                  <a:srgbClr val="000000"/>
                </a:solidFill>
                <a:latin typeface="Arial Unicode MS"/>
              </a:rPr>
              <a:t>EL MESAJE DE LOS ÓRGANOS INTERNOS</a:t>
            </a:r>
            <a:r>
              <a:rPr b="1" lang="pt-BR" sz="1800" spc="-1" strike="noStrike">
                <a:solidFill>
                  <a:srgbClr val="000000"/>
                </a:solidFill>
                <a:latin typeface="Arial Unicode MS"/>
              </a:rPr>
              <a:t> - Mantak Ch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Unicode MS"/>
              </a:rPr>
              <a:t>Formatación: OLGA MENDONÇ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Unicode MS"/>
              </a:rPr>
              <a:t>Psicóloga                                                                           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 Unicode MS"/>
              </a:rPr>
              <a:t>Psicoterapia - Naturoterapia - Reprogramación M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Unicode MS"/>
              </a:rPr>
              <a:t>Contacto: </a:t>
            </a: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 Unicode MS"/>
                <a:hlinkClick r:id="rId3"/>
              </a:rPr>
              <a:t>terapeutaolga@yahoo.com.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Unicode MS"/>
              </a:rPr>
              <a:t>Recife, Agosto de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Unicode MS"/>
              </a:rPr>
              <a:t>CLIQUE PARA SAL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0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000"/>
                            </p:stCondLst>
                            <p:childTnLst>
                              <p:par>
                                <p:cTn id="7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1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2000"/>
                            </p:stCondLst>
                            <p:childTnLst>
                              <p:par>
                                <p:cTn id="7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10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10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0"/>
                            </p:stCondLst>
                            <p:childTnLst>
                              <p:par>
                                <p:cTn id="7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050920" y="1122480"/>
            <a:ext cx="5695920" cy="4362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56000" y="2147760"/>
            <a:ext cx="2414520" cy="1352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30520" y="4724280"/>
            <a:ext cx="45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ermite que me present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2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2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2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050920" y="1122480"/>
            <a:ext cx="5695920" cy="4362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556000" y="2147760"/>
            <a:ext cx="2414520" cy="1352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258920" y="4797360"/>
            <a:ext cx="6624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¿Cómo me puedes querer y cuidar, si no me conoc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268360" y="1773360"/>
            <a:ext cx="3886200" cy="208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2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2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2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32000" y="1467000"/>
            <a:ext cx="698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Soy el mayor órgano de tu cuerpo y estoy localizado en el lado superior derecho del abdomen, protegido por las costillas (gradio cost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Soy responsable por aproximad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5.000 (cinco mil) funciones vital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produciendo la gran mayoría de las substancias esenciales para mantener funcionando el resto de tu organis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476280"/>
            <a:ext cx="8459640" cy="6084720"/>
          </a:xfrm>
          <a:prstGeom prst="rect">
            <a:avLst/>
          </a:prstGeom>
          <a:blipFill rotWithShape="0">
            <a:blip r:embed="rId1">
              <a:alphaModFix amt="3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74760" y="1197000"/>
            <a:ext cx="4792680" cy="3670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-324000" y="-24300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00720" y="1341360"/>
            <a:ext cx="1495440" cy="1513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95280" y="398160"/>
            <a:ext cx="7993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Soy un </a:t>
            </a:r>
            <a:r>
              <a:rPr b="1" i="1" lang="es-ES" sz="2400" spc="-1" strike="noStrike">
                <a:solidFill>
                  <a:srgbClr val="000000"/>
                </a:solidFill>
                <a:latin typeface="Arial Unicode MS"/>
              </a:rPr>
              <a:t>gran laboratori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Produzco la bilis que es llevada al intestino delgado para juntarse al proceso de digest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Yo mantengo las reservas de hierro que tu necesitas, bien como las vitaminas y otros minerales.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 También produzco hormonas, proteínas y enzimas que mantienen tu cuerpo funcionando normalme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556000" y="2276640"/>
            <a:ext cx="1538280" cy="1512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940360" y="907920"/>
            <a:ext cx="1424160" cy="1487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2484360" y="836640"/>
            <a:ext cx="1409760" cy="16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88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88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30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88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3000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835280" y="549360"/>
            <a:ext cx="5551200" cy="42526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763640" y="3213000"/>
            <a:ext cx="1552680" cy="1219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411280" y="1989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6732720" y="981000"/>
            <a:ext cx="911160" cy="1133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5508720" y="1700280"/>
            <a:ext cx="1081080" cy="1049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5640" y="365868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Tengo participación en la producción de substa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que ayudan a la sangre a coagular y un papel importante en la descomposición del colesterol y de medicamentos.                                                                  </a:t>
            </a: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Sin mi no tendrías fuerzas para llevar tu vida adelan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3141720" y="2766960"/>
            <a:ext cx="1430280" cy="1465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5364000" y="54936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3635280" y="765000"/>
            <a:ext cx="1219320" cy="1057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9"/>
          <a:stretch/>
        </p:blipFill>
        <p:spPr>
          <a:xfrm>
            <a:off x="3878280" y="1484280"/>
            <a:ext cx="1246320" cy="1289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0"/>
          <a:stretch/>
        </p:blipFill>
        <p:spPr>
          <a:xfrm>
            <a:off x="1095480" y="2060640"/>
            <a:ext cx="1241280" cy="1439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1"/>
          <a:stretch/>
        </p:blipFill>
        <p:spPr>
          <a:xfrm>
            <a:off x="2124000" y="1052640"/>
            <a:ext cx="981000" cy="8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El Voceador haciendo un experimento"/>
          <p:cNvPicPr/>
          <p:nvPr/>
        </p:nvPicPr>
        <p:blipFill>
          <a:blip r:embed="rId1"/>
          <a:stretch/>
        </p:blipFill>
        <p:spPr>
          <a:xfrm>
            <a:off x="2619360" y="2924280"/>
            <a:ext cx="3905280" cy="3670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042920" y="620640"/>
            <a:ext cx="7113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Yo almaceno todas las toxinas, venenos, alcohol, substancias químicas y drogas que entran en tu cuerpo. Mi función es quebrar químicamente estos venenos, de modo que puedan ser más fácilmente eliminados por los riñones y por la pi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7T01:09:16Z</dcterms:created>
  <dc:creator>Staff Sit</dc:creator>
  <dc:description/>
  <dc:language>en-US</dc:language>
  <cp:lastModifiedBy>Amanda Céspedes</cp:lastModifiedBy>
  <dcterms:modified xsi:type="dcterms:W3CDTF">2010-02-03T19:57:44Z</dcterms:modified>
  <cp:revision>116</cp:revision>
  <dc:subject/>
  <dc:title>Presentación de PowerPoint</dc:title>
</cp:coreProperties>
</file>