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54.gif" ContentType="image/gif"/>
  <Override PartName="/ppt/media/image53.gif" ContentType="image/gif"/>
  <Override PartName="/ppt/media/image1.wmf" ContentType="image/x-wmf"/>
  <Override PartName="/ppt/media/image52.gif" ContentType="image/gif"/>
  <Override PartName="/ppt/media/image12.wmf" ContentType="image/x-wmf"/>
  <Override PartName="/ppt/media/image51.gif" ContentType="image/gif"/>
  <Override PartName="/ppt/media/image56.gif" ContentType="image/gif"/>
  <Override PartName="/ppt/media/image49.png" ContentType="image/png"/>
  <Override PartName="/ppt/media/image71.wmf" ContentType="image/x-wmf"/>
  <Override PartName="/ppt/media/image55.gif" ContentType="image/gif"/>
  <Override PartName="/ppt/media/image48.png" ContentType="image/png"/>
  <Override PartName="/ppt/media/image70.wmf" ContentType="image/x-wmf"/>
  <Override PartName="/ppt/media/image45.wmf" ContentType="image/x-wmf"/>
  <Override PartName="/ppt/media/image43.png" ContentType="image/png"/>
  <Override PartName="/ppt/media/image42.jpeg" ContentType="image/jpeg"/>
  <Override PartName="/ppt/media/image40.wmf" ContentType="image/x-wmf"/>
  <Override PartName="/ppt/media/image3.gif" ContentType="image/gif"/>
  <Override PartName="/ppt/media/image15.gif" ContentType="image/gif"/>
  <Override PartName="/ppt/media/image80.gif" ContentType="image/gif"/>
  <Override PartName="/ppt/media/image41.wmf" ContentType="image/x-wmf"/>
  <Override PartName="/ppt/media/image4.gif" ContentType="image/gif"/>
  <Override PartName="/ppt/media/image16.gif" ContentType="image/gif"/>
  <Override PartName="/ppt/media/image62.jpeg" ContentType="image/jpeg"/>
  <Override PartName="/ppt/media/image81.gif" ContentType="image/gif"/>
  <Override PartName="/ppt/media/image44.gif" ContentType="image/gif"/>
  <Override PartName="/ppt/media/image35.wmf" ContentType="image/x-wmf"/>
  <Override PartName="/ppt/media/image33.wmf" ContentType="image/x-wmf"/>
  <Override PartName="/ppt/media/image31.png" ContentType="image/png"/>
  <Override PartName="/ppt/media/image2.jpeg" ContentType="image/jpeg"/>
  <Override PartName="/ppt/media/image30.png" ContentType="image/png"/>
  <Override PartName="/ppt/media/image17.gif" ContentType="image/gif"/>
  <Override PartName="/ppt/media/image19.gif" ContentType="image/gif"/>
  <Override PartName="/ppt/media/image24.png" ContentType="image/png"/>
  <Override PartName="/ppt/media/image27.jpeg" ContentType="image/jpeg"/>
  <Override PartName="/ppt/media/image57.gif" ContentType="image/gif"/>
  <Override PartName="/ppt/media/image82.wmf" ContentType="image/x-wmf"/>
  <Override PartName="/ppt/media/image25.jpeg" ContentType="image/jpeg"/>
  <Override PartName="/ppt/media/image32.png" ContentType="image/png"/>
  <Override PartName="/ppt/media/image72.wmf" ContentType="image/x-wmf"/>
  <Override PartName="/ppt/media/image28.png" ContentType="image/png"/>
  <Override PartName="/ppt/media/image68.wmf" ContentType="image/x-wmf"/>
  <Override PartName="/ppt/media/image59.wmf" ContentType="image/x-wmf"/>
  <Override PartName="/ppt/media/image60.wmf" ContentType="image/x-wmf"/>
  <Override PartName="/ppt/media/image64.gif" ContentType="image/gif"/>
  <Override PartName="/ppt/media/image61.jpeg" ContentType="image/jpeg"/>
  <Override PartName="/ppt/media/image38.wmf" ContentType="image/x-wmf"/>
  <Override PartName="/ppt/media/image63.png" ContentType="image/png"/>
  <Override PartName="/ppt/media/image76.wmf" ContentType="image/x-wmf"/>
  <Override PartName="/ppt/media/image20.gif" ContentType="image/gif"/>
  <Override PartName="/ppt/media/image23.png" ContentType="image/png"/>
  <Override PartName="/ppt/media/image78.wmf" ContentType="image/x-wmf"/>
  <Override PartName="/ppt/media/image66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69.wmf" ContentType="image/x-wmf"/>
  <Override PartName="/ppt/media/image21.jpeg" ContentType="image/jpeg"/>
  <Override PartName="/ppt/media/image26.gif" ContentType="image/gif"/>
  <Override PartName="/ppt/media/image29.png" ContentType="image/png"/>
  <Override PartName="/ppt/media/image75.jpeg" ContentType="image/jpeg"/>
  <Override PartName="/ppt/media/image13.gif" ContentType="image/gif"/>
  <Override PartName="/ppt/media/image89.png" ContentType="image/png"/>
  <Override PartName="/ppt/media/image86.gif" ContentType="image/gif"/>
  <Override PartName="/ppt/media/image46.wmf" ContentType="image/x-wmf"/>
  <Override PartName="/ppt/media/image88.wmf" ContentType="image/x-wmf"/>
  <Override PartName="/ppt/media/image65.gif" ContentType="image/gif"/>
  <Override PartName="/ppt/media/image67.wmf" ContentType="image/x-wmf"/>
  <Override PartName="/ppt/media/image34.gif" ContentType="image/gif"/>
  <Override PartName="/ppt/media/image18.gif" ContentType="image/gif"/>
  <Override PartName="/ppt/media/image5.jpeg" ContentType="image/jpeg"/>
  <Override PartName="/ppt/media/image50.png" ContentType="image/png"/>
  <Override PartName="/ppt/media/image14.gif" ContentType="image/gif"/>
  <Override PartName="/ppt/media/image47.wmf" ContentType="image/x-wmf"/>
  <Override PartName="/ppt/media/image87.gif" ContentType="image/gif"/>
  <Override PartName="/ppt/media/(Acama)%20Toscana%20Magic%20%5B01%5D%20Ceramica.wav" ContentType="audio/x-wav"/>
  <Override PartName="/ppt/media/image83.wmf" ContentType="image/x-wmf"/>
  <Override PartName="/ppt/media/image6.wmf" ContentType="image/x-wmf"/>
  <Override PartName="/ppt/media/image36.wmf" ContentType="image/x-wmf"/>
  <Override PartName="/ppt/media/image22.jpeg" ContentType="image/jpeg"/>
  <Override PartName="/ppt/media/image84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79.gif" ContentType="image/gif"/>
  <Override PartName="/ppt/media/image11.gif" ContentType="image/gif"/>
  <Override PartName="/ppt/media/image8.wmf" ContentType="image/x-wmf"/>
  <Override PartName="/ppt/media/image85.wmf" ContentType="image/x-wmf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83A-B592-43E3-B81B-9F42EC5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6BE-D8B5-4869-B85F-D851924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EB6-5067-4B42-8224-16F83BD2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ED2-D5DC-4173-827E-1E0EDF9A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A905-27F2-4A6D-9846-04ADC4C6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AAB-6044-4FF8-A3D9-18687D20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6B1-4925-4B7A-B4AF-22B2357F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0E06-752C-4CC4-8722-CD68E3A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9CE-B660-4505-B824-1AC38E1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5DF7-2F84-4ED7-ACCB-6ACD10BA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FB63-8E34-43AA-95D1-F2995C7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35F-1E3C-4070-B1BA-8FBF1079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EBDF-EE3B-4327-9F9B-37C3B70C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9B7-2908-4CF0-BD9E-F157C9F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11E4-D518-478D-B321-B88C37D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5485-0FCA-4C8C-9818-D985AB6E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B44-3B71-419C-8DAA-B73BC719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4AD-D42F-46F2-BF0F-4DE29EA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BD8-5CBA-4A57-B948-783A262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1E0-1901-4058-B43C-42C21A14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7AE-2C7C-466C-A78B-E51A5D8F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156-1C3B-4706-8196-116092A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1A4-301E-4A5E-A04F-219016B5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876-4B17-46BB-83A5-54B48D8D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80AB-E8DB-410B-BE3F-CD067988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2D7A-6849-421D-9C2A-1223468B2D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(Acama)%20Toscana%20Magic%20%5B01%5D%20Ceramica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7.gif"/><Relationship Id="rId3" Type="http://schemas.openxmlformats.org/officeDocument/2006/relationships/image" Target="../media/image57.gif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image" Target="../media/image81.gi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65.gif"/><Relationship Id="rId7" Type="http://schemas.openxmlformats.org/officeDocument/2006/relationships/image" Target="../media/image57.gif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image" Target="../media/image2.jpeg"/><Relationship Id="rId3" Type="http://schemas.openxmlformats.org/officeDocument/2006/relationships/image" Target="../media/image87.gif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wmf"/><Relationship Id="rId3" Type="http://schemas.openxmlformats.org/officeDocument/2006/relationships/hyperlink" Target="mailto:terapeutaolga@yahoo.com.br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24120" y="1052640"/>
            <a:ext cx="3694320" cy="381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16360" y="3500280"/>
            <a:ext cx="3311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Arial Black"/>
              </a:rPr>
              <a:t>Olga Mendonça P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Arial Black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66920" y="2133720"/>
            <a:ext cx="46087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lin ang="5400000"/>
                </a:gradFill>
                <a:latin typeface="Benguiat Bk BT"/>
              </a:rPr>
              <a:t>Tu Hí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lin ang="5400000"/>
              </a:gradFill>
              <a:latin typeface="Benguiat Bk BT"/>
              <a:ea typeface="Benguiat Bk B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95640" y="5300640"/>
            <a:ext cx="45720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>
                        <a:alpha val="99215"/>
                      </a:srgbClr>
                    </a:gs>
                    <a:gs pos="50000">
                      <a:srgbClr val="ff99ff"/>
                    </a:gs>
                    <a:gs pos="100000">
                      <a:srgbClr val="cc0099">
                        <a:alpha val="99215"/>
                      </a:srgbClr>
                    </a:gs>
                  </a:gsLst>
                  <a:lin ang="5400000"/>
                </a:gradFill>
                <a:latin typeface="Arial Black"/>
              </a:rPr>
              <a:t>Conecte el sonido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>
                      <a:alpha val="99215"/>
                    </a:srgbClr>
                  </a:gs>
                  <a:gs pos="50000">
                    <a:srgbClr val="ff99ff"/>
                  </a:gs>
                  <a:gs pos="100000">
                    <a:srgbClr val="cc0099">
                      <a:alpha val="99215"/>
                    </a:srgbClr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5400" y="2492280"/>
            <a:ext cx="4271760" cy="373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549360"/>
            <a:ext cx="7877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un depósito de toxinas. Ellas permanecen en mi por bastante tiempo hasta que sean procesadas. Si la carga se vuelve excesiva, quedo impedido de trabajar adecuadamente y el proceso digestivo se vuelve difíc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94040" y="2205000"/>
            <a:ext cx="3355920" cy="337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0200" y="552600"/>
            <a:ext cx="828216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 reservo energía, como una batería, almacenando    azúcar (carbohidratos y grasas) hasta que de él necesites. Soy yo quien  alimenta tu cerebro de energía y lo hace funcionar. Sin mi, entrarías en estado de com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verdad, no podrías levantarte de la cama si yo no  estuviese trabajando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2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692280"/>
            <a:ext cx="792000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Es importante que me quieras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o no te pido mucho...¡Basta que me trates bien!                                                              No me llenes de alcohol - cerveza, wisky o agua ardiente!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i tomas con frecuencia , me puedes lesionar para                     el resto de nuestras vid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2997360"/>
            <a:ext cx="2786040" cy="304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75000" y="3141720"/>
            <a:ext cx="2097000" cy="3141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1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66760" y="2637000"/>
            <a:ext cx="5008680" cy="3806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640" y="1341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 yo me lesiono facilmente...                                           Estas lesiones llamadas  "cirrosis“, son  permanentes.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16360" y="306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68520" y="1882800"/>
            <a:ext cx="2405160" cy="3235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640" y="600120"/>
            <a:ext cx="7848720" cy="60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idado con el hábito de la automedicación!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os remedios son importantes, pero al tomar remedios sin necesidad, puedes sobrecargarme e intoxicar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dos los remedios son productos químicos y cuando tú los combinas sin la aprobación de un médico, puedes crear algo venenoso y perjudicarme se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2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10080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5640" y="404640"/>
            <a:ext cx="78580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Para que sepas, yo no me quejo. Si me maltratas, no podré avisarte que estoy en pelig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Otra cosa importante - cuida de tu alimentación!                                                               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 abuses de los alimentos grasos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los pueden dejarme cubierto de grasa y si eso sucede,desequilibraré varios sistemas de tu cuerpo!                                                                  Aliméntate con una dieta balance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Haga clic para obtener la vista previa"/>
          <p:cNvPicPr/>
          <p:nvPr/>
        </p:nvPicPr>
        <p:blipFill>
          <a:blip r:embed="rId2"/>
          <a:stretch/>
        </p:blipFill>
        <p:spPr>
          <a:xfrm>
            <a:off x="1258920" y="3573360"/>
            <a:ext cx="1361880" cy="13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Haga clic para obtener la vista previa"/>
          <p:cNvPicPr/>
          <p:nvPr/>
        </p:nvPicPr>
        <p:blipFill>
          <a:blip r:embed="rId3"/>
          <a:stretch/>
        </p:blipFill>
        <p:spPr>
          <a:xfrm>
            <a:off x="2916360" y="3860640"/>
            <a:ext cx="126828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Haga clic para obtener la vista previa"/>
          <p:cNvPicPr/>
          <p:nvPr/>
        </p:nvPicPr>
        <p:blipFill>
          <a:blip r:embed="rId4"/>
          <a:srcRect l="0" t="21441" r="0" b="21441"/>
          <a:stretch/>
        </p:blipFill>
        <p:spPr>
          <a:xfrm>
            <a:off x="6372360" y="4076640"/>
            <a:ext cx="1439640" cy="82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Haga clic para obtener la vista previa"/>
          <p:cNvPicPr/>
          <p:nvPr/>
        </p:nvPicPr>
        <p:blipFill>
          <a:blip r:embed="rId5"/>
          <a:stretch/>
        </p:blipFill>
        <p:spPr>
          <a:xfrm>
            <a:off x="4572000" y="3860640"/>
            <a:ext cx="1279440" cy="1279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920" y="36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43280" y="371628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0" y="36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72360" y="3645000"/>
            <a:ext cx="1152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2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3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3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2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6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6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6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6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6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2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55640" y="62064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vulnerable a los diversos virus de la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hepatitis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, los cuales viven en la sangre, en la saliva, en los excrementos  y  en el sémen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asi siempre soy capaz de destruir esos virus, pero a veces ellos son más fuertes que yo y me infectan, causándome mucho d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54480" cy="3259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1204920" cy="1273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17080" y="2584440"/>
            <a:ext cx="2879640" cy="1832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244000" y="4508640"/>
            <a:ext cx="287964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26214E-006 L -0.37795 1.26214E-006 E">
                                      <p:cBhvr>
                                        <p:cTn id="3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56 0.00185 L -0.31771 -0.01918 E">
                                      <p:cBhvr>
                                        <p:cTn id="30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82663E-006 L -0.67709 -0.14379 E">
                                      <p:cBhvr>
                                        <p:cTn id="31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871640" cy="2181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300480" y="3933720"/>
            <a:ext cx="2543040" cy="199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938240" cy="2252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2360" y="1125360"/>
            <a:ext cx="83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l virus de la hepatitis C, es transmitido por la transfusión de sangre y hemodiálisis, por el uso de drogas intravenosas, material cortante o perforante de uso colectivo, sin esterilización adecuad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procedimientos médicos/odontológicos,tatuajes, piercing, manicure,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6920" y="83664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l vírus de la hepatitis A, es transmitido a través del agua y de los alimentos, mientras que el de la hepatitis B, a través de los contactos íntimos, de la madre infectada para el recién nacido y por el uso de sangre infec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84720" y="3860640"/>
            <a:ext cx="2484360" cy="245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901880" cy="2201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1884600" cy="182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00360" y="2997360"/>
            <a:ext cx="1547640" cy="2152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44760" y="692280"/>
            <a:ext cx="4254480" cy="3259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20640" y="4149720"/>
            <a:ext cx="790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onces observa la procedencia de la sangre que necesites recibir, de los alimentos y del agua que tomas y ten cuidado con la higiene en el toilete. Usa preservativos con nuevas parejas, exige que los instrumentos que perforen tu piel o boca estén estereliz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24240" y="1989000"/>
            <a:ext cx="1812960" cy="2167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898800" y="1844640"/>
            <a:ext cx="13464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ATENCIÓ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143160" y="907920"/>
            <a:ext cx="2855880" cy="295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484360" y="2924280"/>
            <a:ext cx="2603520" cy="34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640" y="1268280"/>
            <a:ext cx="779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egún la Tradicional Medicina China, soy un órgano regido por la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energía de la madera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 Por eso, como una planta, si me sacas un pedazo, soy capaz de regenerarme y crecer nue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859280" y="3933720"/>
            <a:ext cx="1793880" cy="23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3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00000" y="62064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yo quien controla tu sistema nervioso y ejerzo una actividad importante sobre tus pensa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ando estoy desequilibrado, no consigues  concentrarte ni tener claridad mental. También te enervas fácilmente, te quedas incitado a las peleas, predispuesto a dolores de cabeza, en la nuca y región lumba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639800" cy="1974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2178000" cy="219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414600" y="4076640"/>
            <a:ext cx="2313000" cy="19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3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362400">
            <a:off x="4571640" y="3860280"/>
            <a:ext cx="2952720" cy="2671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280836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457440" y="836640"/>
            <a:ext cx="2229120" cy="230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16000" y="2852640"/>
            <a:ext cx="3816360" cy="36007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>
                  <a:alpha val="4117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852640"/>
            <a:ext cx="3889440" cy="3672000"/>
          </a:xfrm>
          <a:prstGeom prst="ellipse">
            <a:avLst/>
          </a:prstGeom>
          <a:gradFill rotWithShape="0">
            <a:gsLst>
              <a:gs pos="0">
                <a:srgbClr val="5e9eff">
                  <a:alpha val="47058"/>
                </a:srgbClr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2160" y="836640"/>
            <a:ext cx="769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davía según la milenar Medicina Chi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oy la morada de las HUN, seres espirituales que celan por tu salu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2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6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2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9300"/>
                            </p:stCondLst>
                            <p:childTnLst>
                              <p:par>
                                <p:cTn id="4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26920" y="765000"/>
            <a:ext cx="747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 ellas no les gusta, absolutamente nada, de  la rabia  ni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toxinas venenosa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12000" y="4221000"/>
            <a:ext cx="2436840" cy="1884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1785960" cy="1574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95640" y="17715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227640" y="1812960"/>
            <a:ext cx="2005200" cy="168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26920" y="1849320"/>
            <a:ext cx="1651320" cy="1650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851280" y="2997360"/>
            <a:ext cx="2233440" cy="1868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403280" y="4653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47640" y="1989000"/>
            <a:ext cx="1368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3640" y="1989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11640" y="350028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32720" y="4869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hardFashion BT"/>
              </a:rPr>
              <a:t>x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hardFashion BT"/>
              <a:ea typeface="BernhardFashion BT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2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2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2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620640"/>
            <a:ext cx="797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uando te vuelves iracundo, soy agredido por las toxinas del stress. Si eso ocurre con frecuencia, las HUN me abandonan y huyen de tu cuerp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11320" y="2349360"/>
            <a:ext cx="5119560" cy="3921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284720" y="1935000"/>
            <a:ext cx="1747800" cy="156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1068600">
            <a:off x="4571640" y="3500280"/>
            <a:ext cx="174780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732720" y="3789360"/>
            <a:ext cx="1584360" cy="13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2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595 L -0.45278 -0.02889 E">
                                      <p:cBhvr>
                                        <p:cTn id="515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48 0.11396 L 0.40052 -0.44175 E">
                                      <p:cBhvr>
                                        <p:cTn id="524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71 0.0245 L 0.48732 0.02242 E">
                                      <p:cBhvr>
                                        <p:cTn id="526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476280"/>
            <a:ext cx="79930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onces, te vuelves endurecido y tu humor cada vez pe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 la antigüedad, Hipócrates clasificó los principales temperamentos humanos de acuerdo con los humores predominantes. Él denominó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temperamento bilioso - que significa lleno de bilis y de rabia, irritable -  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quel dominado por mi actuación negativa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4240" y="3500280"/>
            <a:ext cx="2417760" cy="2921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2335320" cy="29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44476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828880" cy="2829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8360" y="549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as toxinas de la rabia son un veneno que no consigo metabolizar...Y ellas pueden destruirme, volviéndome un </a:t>
            </a: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serio candidato al cáncer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 parte de esto, cuando estoy envenenado por la rabia, afectaré a tu corazón, que se volverá impaciente y rencoroso, incapaz de sentir amor, alegría y resp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 eso, fácilmente, puede destruir tus relac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2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18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2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20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2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9800"/>
                            </p:stCondLst>
                            <p:childTnLst>
                              <p:par>
                                <p:cTn id="5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51240" y="2708280"/>
            <a:ext cx="4241520" cy="3843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6400" y="836640"/>
            <a:ext cx="806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La única forma de convencer a las HU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volver a tu cuerpo, es que practiques actos de bondad para contigo mismo y para con los otros.                       Cuando transformes tus actitudes rabiosas en tolerancia,conciliación y solicitud, ellas quedarán a tu lado,trayéndote salud y suerte!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2232000" cy="172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003640" y="3500280"/>
            <a:ext cx="201636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168720" y="3068640"/>
            <a:ext cx="2805120" cy="3414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749760" y="1197000"/>
            <a:ext cx="164448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1117800" cy="1098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124000" y="2708280"/>
            <a:ext cx="930240" cy="1085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61960" y="62064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Entiendes ahora que necesitas buscar la Sabiduría del Vivir, para que puedas enfrentar los desafíos del día a día, con inteligencia, calma y seren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omprendes la importancia de apaciguarte con todas las circunstancias de tu vida y todos los seres a tu alrede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2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620640"/>
            <a:ext cx="8099280" cy="81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Como ves, tu vida, salud y  felicidad, dependen de que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ides muy bien de mi y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vita el stress. Correr contra el reloj es un hábito peligroso. Cultiva el buen humor. ¿Para qué llevar la vida tan en serio? Procura sonreir y jugar. Permítete el relax y el placer.                                                                               Descontracción y diversión son esenciales para     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nterme bi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1806840" cy="175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1825560" cy="1720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749680" y="4653000"/>
            <a:ext cx="1822320" cy="1520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788000" y="4869000"/>
            <a:ext cx="1812960" cy="134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808440" y="1484280"/>
            <a:ext cx="15271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3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2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75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84360" y="4292640"/>
            <a:ext cx="33116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Impact"/>
              </a:rPr>
              <a:t>Hola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Impact"/>
              </a:rPr>
              <a:t>Soy tu hígado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04000" y="1741320"/>
            <a:ext cx="1800360" cy="175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33640" y="1647720"/>
            <a:ext cx="1638360" cy="185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932360" y="1566720"/>
            <a:ext cx="1655640" cy="1933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1633680"/>
            <a:ext cx="2059200" cy="186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962520" y="620640"/>
            <a:ext cx="1218960" cy="961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93640" y="3500280"/>
            <a:ext cx="795672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usca tu bienestar a través del contacto con la naturaleza, de la práctica de ejercícios físicos, del relajamiento y principalmente, de la meditación, que te conecta con la Fuente de l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2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659040" y="3860640"/>
            <a:ext cx="1824120" cy="182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00000" y="5589720"/>
            <a:ext cx="755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Que las HUN te den   una salud vibrante y mucha suert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960640" y="476280"/>
            <a:ext cx="3220920" cy="4114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627280" y="4508640"/>
            <a:ext cx="893880" cy="9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724360" y="4292640"/>
            <a:ext cx="1151280" cy="118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 rot="1739400">
            <a:off x="7020000" y="4365360"/>
            <a:ext cx="1224000" cy="971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427640" y="2276640"/>
            <a:ext cx="144360" cy="7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82920" y="981000"/>
            <a:ext cx="284472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 rot="19397400">
            <a:off x="4932000" y="1988640"/>
            <a:ext cx="2519280" cy="2279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 rot="2280000">
            <a:off x="1979280" y="2133360"/>
            <a:ext cx="2341440" cy="2097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2484360" y="1052640"/>
            <a:ext cx="41166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¡ Gracias por tu atención 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684360" y="4005360"/>
            <a:ext cx="175392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 rot="14787000">
            <a:off x="1101600" y="2264760"/>
            <a:ext cx="117612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263680" y="1197000"/>
            <a:ext cx="4614840" cy="3535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341520" y="1989000"/>
            <a:ext cx="1230480" cy="1230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3640" y="927000"/>
            <a:ext cx="741672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Tu silencioso compañer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0320" y="5661000"/>
            <a:ext cx="2943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l hí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20271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09720" y="790560"/>
            <a:ext cx="7324560" cy="5419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652920" y="981000"/>
            <a:ext cx="1838160" cy="1898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39640" y="2708280"/>
            <a:ext cx="80647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Texto adaptado del libro:                                                                                    CHI NEI TSANG – </a:t>
            </a:r>
            <a:r>
              <a:rPr b="1" i="1" lang="pt-BR" sz="1800" spc="-1" strike="noStrike">
                <a:solidFill>
                  <a:srgbClr val="000000"/>
                </a:solidFill>
                <a:latin typeface="Arial Unicode MS"/>
              </a:rPr>
              <a:t>EL MESAJE DE LOS ÓRGANOS INTERNOS</a:t>
            </a: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 - Mantak Ch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Formatación: OLGA MENDO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Unicode MS"/>
              </a:rPr>
              <a:t>Psicóloga                                                                       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Psicoterapia - Naturoterapia - Reprogramación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Contacto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terapeutaolga@yahoo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Recife, Agosto d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Unicode MS"/>
              </a:rPr>
              <a:t>CLIQUE PARA SAL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30520" y="472428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mite que me prese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1122480"/>
            <a:ext cx="5695920" cy="436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2147760"/>
            <a:ext cx="2414520" cy="135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58920" y="4797360"/>
            <a:ext cx="66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Cómo me puedes querer y cuidar, si no me cono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68360" y="1773360"/>
            <a:ext cx="3886200" cy="20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000" y="146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el mayor órgano de tu cuerpo y estoy localizado en el lado superior derecho del abdomen, protegido por las costillas (gradio cost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responsable por aproxim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5.000 (cinco mil) funciones vit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produciendo la gran mayoría de las substancias esenciales para mantener funcionando el resto de tu org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76280"/>
            <a:ext cx="8459640" cy="6084720"/>
          </a:xfrm>
          <a:prstGeom prst="rect">
            <a:avLst/>
          </a:prstGeom>
          <a:blipFill rotWithShape="0">
            <a:blip r:embed="rId1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74760" y="1197000"/>
            <a:ext cx="4792680" cy="3670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324000" y="-24300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1495440" cy="151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39816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Soy un </a:t>
            </a:r>
            <a:r>
              <a:rPr b="1" i="1" lang="es-ES" sz="2400" spc="-1" strike="noStrike">
                <a:solidFill>
                  <a:srgbClr val="000000"/>
                </a:solidFill>
                <a:latin typeface="Arial Unicode MS"/>
              </a:rPr>
              <a:t>gran laborator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Produzco la bilis que es llevada al intestino delgado para juntarse al proceso de digest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o mantengo las reservas de hierro que tu necesitas, bien como las vitaminas y otros minerales.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También produzco hormonas, proteínas y enzimas que mantienen tu cuerpo funcionando normal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1538280" cy="151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0360" y="907920"/>
            <a:ext cx="1424160" cy="148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484360" y="836640"/>
            <a:ext cx="14097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8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88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88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5551200" cy="4252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63640" y="3213000"/>
            <a:ext cx="155268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732720" y="981000"/>
            <a:ext cx="911160" cy="113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508720" y="1700280"/>
            <a:ext cx="1081080" cy="104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36586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Tengo participación en la producción de subst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que ayudan a la sangre a coagular y un papel importante en la descomposición del colesterol y de medicamentos.                                  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Sin mi no tendrías fuerzas para llevar tu vida adelan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141720" y="2766960"/>
            <a:ext cx="1430280" cy="1465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364000" y="54936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35280" y="765000"/>
            <a:ext cx="1219320" cy="1057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3878280" y="1484280"/>
            <a:ext cx="1246320" cy="1289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095480" y="2060640"/>
            <a:ext cx="1241280" cy="143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124000" y="1052640"/>
            <a:ext cx="9810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El Voceador haciendo un experimento"/>
          <p:cNvPicPr/>
          <p:nvPr/>
        </p:nvPicPr>
        <p:blipFill>
          <a:blip r:embed="rId1"/>
          <a:stretch/>
        </p:blipFill>
        <p:spPr>
          <a:xfrm>
            <a:off x="2619360" y="2924280"/>
            <a:ext cx="3905280" cy="3670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42920" y="620640"/>
            <a:ext cx="711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Yo almaceno todas las toxinas, venenos, alcohol, substancias químicas y drogas que entran en tu cuerpo. Mi función es quebrar químicamente estos venenos, de modo que puedan ser más fácilmente eliminados por los riñones y por la pi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468000" cy="7101000"/>
          </a:xfrm>
          <a:custGeom>
            <a:avLst/>
            <a:gdLst>
              <a:gd name="textAreaLeft" fmla="*/ 261360 w 9468000"/>
              <a:gd name="textAreaRight" fmla="*/ 9206640 w 9468000"/>
              <a:gd name="textAreaTop" fmla="*/ 261360 h 7101000"/>
              <a:gd name="textAreaBottom" fmla="*/ 6839640 h 7101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795" y="795"/>
                </a:moveTo>
                <a:lnTo>
                  <a:pt x="795" y="20805"/>
                </a:lnTo>
                <a:lnTo>
                  <a:pt x="28005" y="20805"/>
                </a:lnTo>
                <a:lnTo>
                  <a:pt x="28005" y="795"/>
                </a:ln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01:09:16Z</dcterms:created>
  <dc:creator>Staff Sit</dc:creator>
  <dc:description/>
  <dc:language>en-US</dc:language>
  <cp:lastModifiedBy>Amanda Céspedes</cp:lastModifiedBy>
  <dcterms:modified xsi:type="dcterms:W3CDTF">2010-02-03T19:57:44Z</dcterms:modified>
  <cp:revision>116</cp:revision>
  <dc:subject/>
  <dc:title>Presentación de PowerPoint</dc:title>
</cp:coreProperties>
</file>