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16%20amapola.wav" ContentType="audio/x-wav"/>
  <Override PartName="/ppt/media/image3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B530-0D76-4770-A964-CE1F1E157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2C85-4CEF-4927-842D-5641EFDE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7FE78-47B2-4C8E-9A50-E066E15B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4EC56B-ADD6-42AF-B3B7-434B0305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B521F8-0878-4862-96F8-5601964E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BB4C29-9639-4757-8D3D-36DF16D6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6EC3F0-7170-4147-AC27-9B64C1FE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EB1D99-4FD0-4DD8-AFC0-192A59A4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03F4B6-67F4-493C-9B95-DE0BE67C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A7E8A3-C9C1-401F-A13E-D5EAE1C77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E2D046-AC79-4E31-9ECE-891D31D86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F981-878A-439B-AEFA-AA8E5F82D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CAD9-8BEA-4E6B-98D1-9D81BA6C7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D746-824C-4121-80CD-9530353F2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56F8-E7D3-4F8B-AF9E-07767336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EF39-A101-45B8-89B0-8409C396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D794-704F-4C61-B7A7-39E6F0FD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BC4D-1F25-4030-9462-A8254D35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7332-3923-4392-A04B-22D46BE9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900F-E80D-4BB5-87F1-8239E9A4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5635-3A77-4A3D-8F0B-E4DCAF12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BF7E-1A6A-473F-8039-CF022671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0B7C-D11C-432A-8370-5A02C997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BA1D-9F16-4D2E-83AD-038A8C76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423B-3F68-4F6E-87AC-B2E407864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B67E-4007-4B7D-84BF-872A679C3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EADDE-6261-4A38-AB8B-CDEF159FB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A207E-1E1C-4271-B6FD-849C1B6C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A36E2-BBCE-4D93-9DED-6FAA8C89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E2C74-F9CD-415E-A10D-C17AC0F6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4D60D-3C98-42AF-8A49-453A2A34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A8B1-9D92-4DE2-A928-D6A3AF9E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9EBF5-D90A-4B59-862B-63674AA8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48788-172C-4E9D-948F-9A081D52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6F8C9-6B16-40A2-A145-BCCAD59C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ECDE5-4228-4DE1-8919-5AC2E9F3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1DA8F-8CEA-4A04-9BB0-7B37C1BC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147A4-55BE-48D2-81B5-35295DE42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CE1D5-8AC6-4822-AC41-8D78FBC96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B7B1A-9895-405E-B787-B7D07E4F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9228C-8CAE-4A28-A9D6-DF90EFC9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2B988-2C9A-4EB4-9F14-12E7FB3D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5C31-24C1-4530-9892-E2B1AAC3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57890-1E76-4BD9-852C-C12BE47D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4656D-46E1-4B95-A5CC-4DD1F7BD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940A9-102D-4DE5-9385-949AAE09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7F1DB-9548-41CA-9378-579F1790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293F0-029A-4E16-9C97-69BD1033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3CCCB-7DCE-475C-82E9-F234964A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4A388-D2B1-4EF1-84D7-7C3E047E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FB257-6952-438D-8F65-C356F7030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0AB94-9FB9-41B9-9F7B-2BFF379BD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23730-0F85-42B0-B5C4-716E455D1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A5AC-B7B4-4B4F-8A2A-138F4909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0E05B-8692-4AEC-92ED-584B3C87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285B3-B79C-46DF-9AA4-2ABBA87C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4BD26-DB69-4E5B-8894-DF4F6DD9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BD6FE-DAFE-4DB5-91C8-2220F245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C23A4-4FDF-4B3B-8421-6FC91390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3E93C-E215-4009-84C1-1F1DA832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2190D-8EDF-47F1-B21F-07D5A294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AE00B-D513-4AE7-AFA4-8661AA54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41F75-59A2-4036-B56F-F3D79705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98700-45FE-457C-BE86-F71492246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F817-D995-4ED9-B6AC-F28D5892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23407-4D69-4D4A-9A31-9C3168202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4AC62-C331-4DDB-A809-436410526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AEA3B-4F0E-4481-B9A1-6EFE5D3F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36E50-E4E2-48A5-80CC-2996B00F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C5ECF-E939-4140-9413-761337CD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78476-06DE-4F37-A098-C7033CA7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B3419-3F22-4941-A780-19415D7C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58112-ED59-4F09-AA8B-8731E172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51CC9-15CB-4EAD-9844-FFD81F13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D06F5-AEE8-447E-B3BD-A7DE263A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7AAE-E82D-42F8-B555-980052BD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14471-8F1A-425A-88CC-C0D5AAB5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3AE44-9255-4FCA-B0DD-DBE049614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2B5ED-7FFE-45ED-8E9D-8766898F1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62173-FC32-4985-9DE0-FC1212031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6A6B5-814F-41EA-91D1-9B5921E7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018E2-C4D8-4E34-86CE-DFD31077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84FB1-9333-4560-8A35-BB70AFBC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4FCD0-EB0E-4A33-B7CA-006C92EB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2AB52-A68A-4E8E-BC9F-591FC96F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931D1-BE4E-4B61-8D0D-29C4A4A2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8D17-F608-4876-8A23-BACCCF94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9DA8C-E7D8-4E8D-A575-574F9B98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C0395-0224-40C7-B005-F80AA8AE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E2D34-EA99-4F83-873F-CF8BE12A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AD576-8ABA-4077-8D4B-53A8AC337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48B89-D58F-4A0A-9FDF-48DD7152F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1E8C4-00DC-4CCB-A95D-72A37C213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C5D6A-51F3-4973-A825-358900FB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DB312-ADF4-4662-8D75-BB35A7A1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D3AA5-10C7-4401-81F6-01EA824A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2F4D8-A153-42ED-9A99-4929B5A8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5D12-FA03-42D3-8880-7D9F27DD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9B6E0-64DD-423E-91AE-C81418A5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1FDAA-CD3D-4D20-8857-9A0FED04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A7A2C-852D-47E0-8EF0-D9C7365E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90FF0-C9E3-4CD2-8B83-E16583E7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F6F46-5F39-4671-B7BA-F6DF6257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5B2B1-320C-449A-8B7C-B3E700F4F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6B125-B817-4C7A-BEEE-F568CF650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160D07-71D0-4B4B-BEB8-3D02FD770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DC6D28-4B22-4C8E-B338-E2F438CC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D2AB92-AC0A-4A04-B4B9-E1288159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6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6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4F7E-D337-47C2-946F-BDA2B0C6F4A9}" type="slidenum">
              <a:rPr b="0" lang="es-A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8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8 Conector recto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11 Conector recto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11 Conector recto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12 Conector recto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12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6936-8988-4281-9AAD-8B076E8BFE10}" type="slidenum">
              <a:rPr b="0" lang="es-A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6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6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8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8 Conector recto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11 Conector recto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11 Conector recto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FB68-DE33-4CA7-A89B-D66F241AAA20}" type="slidenum">
              <a:rPr b="0" lang="es-A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12 Conector recto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12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A6D48-1810-4F0F-9DA8-5F14442B14A7}" type="slidenum">
              <a:rPr b="0" lang="es-A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12 Conector recto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12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5F69-AA6D-48D2-903B-0AFCF80218AA}" type="slidenum">
              <a:rPr b="0" lang="es-A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4B88-DA05-446C-96EC-5D6F91CD643F}" type="slidenum">
              <a:rPr b="0" lang="es-A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12 Conector recto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12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0C88-8C04-4439-871E-6D7ECC9BCBF2}" type="slidenum">
              <a:rPr b="0" lang="es-A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E24E-D2D6-4478-9BCE-DC6CBC4C998B}" type="slidenum">
              <a:rPr b="0" lang="es-A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E46E-09E3-4D7B-876B-EB9B93DDE344}" type="slidenum">
              <a:rPr b="0" lang="es-A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16%20amapola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1"/>
          <p:cNvSpPr/>
          <p:nvPr/>
        </p:nvSpPr>
        <p:spPr>
          <a:xfrm>
            <a:off x="1248480" y="860040"/>
            <a:ext cx="677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Tarjeta de presentaci</a:t>
            </a:r>
            <a:r>
              <a:rPr b="1" lang="es-CR" sz="4400" spc="-1" strike="noStrike">
                <a:solidFill>
                  <a:srgbClr val="333399"/>
                </a:solidFill>
                <a:latin typeface="Calibri"/>
                <a:ea typeface="Times New Roman"/>
              </a:rPr>
              <a:t>ó</a:t>
            </a:r>
            <a:r>
              <a:rPr b="1" lang="es-CR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4 Rectángulo"/>
          <p:cNvSpPr/>
          <p:nvPr/>
        </p:nvSpPr>
        <p:spPr>
          <a:xfrm>
            <a:off x="571680" y="40006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Franklin Gothic Book"/>
              </a:rPr>
              <a:t>(</a:t>
            </a:r>
            <a:r>
              <a:rPr b="1" lang="es-CR" sz="2400" spc="-1" strike="noStrike">
                <a:solidFill>
                  <a:srgbClr val="000000"/>
                </a:solidFill>
                <a:latin typeface="Franklin Gothic Book"/>
              </a:rPr>
              <a:t>Hecho ocurrido en 1892, verdadero y parte de una biografía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1" name="5 Flecha derecha"/>
          <p:cNvSpPr/>
          <p:nvPr/>
        </p:nvSpPr>
        <p:spPr>
          <a:xfrm>
            <a:off x="7500960" y="6215040"/>
            <a:ext cx="1428840" cy="2858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80"/>
                            </p:stCondLst>
                            <p:childTnLst>
                              <p:par>
                                <p:cTn id="2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"/>
          <p:cNvSpPr/>
          <p:nvPr/>
        </p:nvSpPr>
        <p:spPr>
          <a:xfrm>
            <a:off x="0" y="115524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Un se</a:t>
            </a:r>
            <a:r>
              <a:rPr b="1" lang="es-CR" sz="2800" spc="-1" strike="noStrike">
                <a:solidFill>
                  <a:srgbClr val="333399"/>
                </a:solidFill>
                <a:latin typeface="Calibri"/>
                <a:ea typeface="Times New Roman"/>
              </a:rPr>
              <a:t>ñ</a:t>
            </a:r>
            <a:r>
              <a:rPr b="1" lang="es-CR" sz="28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or de unos 70 a</a:t>
            </a:r>
            <a:r>
              <a:rPr b="1" lang="es-CR" sz="2800" spc="-1" strike="noStrike">
                <a:solidFill>
                  <a:srgbClr val="333399"/>
                </a:solidFill>
                <a:latin typeface="Calibri"/>
                <a:ea typeface="Times New Roman"/>
              </a:rPr>
              <a:t>ñ</a:t>
            </a:r>
            <a:r>
              <a:rPr b="1" lang="es-CR" sz="28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os viajaba en el tren, teniendo a su lado a un joven universitario que le</a:t>
            </a:r>
            <a:r>
              <a:rPr b="1" lang="es-CR" sz="2800" spc="-1" strike="noStrike">
                <a:solidFill>
                  <a:srgbClr val="333399"/>
                </a:solidFill>
                <a:latin typeface="Calibri"/>
                <a:ea typeface="Times New Roman"/>
              </a:rPr>
              <a:t>í</a:t>
            </a:r>
            <a:r>
              <a:rPr b="1" lang="es-CR" sz="28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a su libro de Ciencias. El caballero, a su vez, le</a:t>
            </a:r>
            <a:r>
              <a:rPr b="1" lang="es-CR" sz="2800" spc="-1" strike="noStrike">
                <a:solidFill>
                  <a:srgbClr val="333399"/>
                </a:solidFill>
                <a:latin typeface="Calibri"/>
                <a:ea typeface="Times New Roman"/>
              </a:rPr>
              <a:t>í</a:t>
            </a:r>
            <a:r>
              <a:rPr b="1" lang="es-CR" sz="28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a un libro de portada negra. Fue cuando el joven percibi</a:t>
            </a:r>
            <a:r>
              <a:rPr b="1" lang="es-CR" sz="2800" spc="-1" strike="noStrike">
                <a:solidFill>
                  <a:srgbClr val="333399"/>
                </a:solidFill>
                <a:latin typeface="Calibri"/>
                <a:ea typeface="Times New Roman"/>
              </a:rPr>
              <a:t>ó</a:t>
            </a:r>
            <a:r>
              <a:rPr b="1" lang="es-CR" sz="28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 que se trataba de la Biblia y que estaba abierta en el Evangelio de Marcos.</a:t>
            </a:r>
            <a:r>
              <a:rPr b="0" lang="es-C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3" name="4 Flecha derecha"/>
          <p:cNvSpPr/>
          <p:nvPr/>
        </p:nvSpPr>
        <p:spPr>
          <a:xfrm>
            <a:off x="7500960" y="6215040"/>
            <a:ext cx="1428840" cy="2858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1"/>
          <p:cNvSpPr/>
          <p:nvPr/>
        </p:nvSpPr>
        <p:spPr>
          <a:xfrm>
            <a:off x="0" y="91296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 </a:t>
            </a:r>
            <a:r>
              <a:rPr b="1" lang="es-C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 </a:t>
            </a:r>
            <a:r>
              <a:rPr b="1" lang="es-C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Sin mucha ceremonia, el muchacho interrumpi</a:t>
            </a:r>
            <a:r>
              <a:rPr b="1" lang="es-CR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ó</a:t>
            </a:r>
            <a:r>
              <a:rPr b="1" lang="es-C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 la lectura del viejo y le pregunt</a:t>
            </a:r>
            <a:r>
              <a:rPr b="1" lang="es-CR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ó</a:t>
            </a:r>
            <a:r>
              <a:rPr b="1" lang="es-C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:</a:t>
            </a:r>
            <a:r>
              <a:rPr b="0" lang="es-CR" sz="2000" spc="-1" strike="noStrike">
                <a:solidFill>
                  <a:srgbClr val="010101"/>
                </a:solidFill>
                <a:latin typeface="Eurostile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 </a:t>
            </a:r>
            <a:r>
              <a:rPr b="1" lang="es-C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Se</a:t>
            </a:r>
            <a:r>
              <a:rPr b="1" lang="es-CR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ñ</a:t>
            </a:r>
            <a:r>
              <a:rPr b="1" lang="es-C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or, </a:t>
            </a:r>
            <a:r>
              <a:rPr b="1" lang="es-CR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¿</a:t>
            </a:r>
            <a:r>
              <a:rPr b="1" lang="es-C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usted todav</a:t>
            </a:r>
            <a:r>
              <a:rPr b="1" lang="es-CR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í</a:t>
            </a:r>
            <a:r>
              <a:rPr b="1" lang="es-C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a cree en ese libro lleno de f</a:t>
            </a:r>
            <a:r>
              <a:rPr b="1" lang="es-CR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á</a:t>
            </a:r>
            <a:r>
              <a:rPr b="1" lang="es-C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bulas y cuentos?</a:t>
            </a:r>
            <a:r>
              <a:rPr b="1" lang="es-CR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 </a:t>
            </a:r>
            <a:r>
              <a:rPr b="1" lang="es-C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- S</a:t>
            </a:r>
            <a:r>
              <a:rPr b="1" lang="es-CR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í</a:t>
            </a:r>
            <a:r>
              <a:rPr b="1" lang="es-CR" sz="24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, mas no es un libro de cuentos, es la Palabra de Dios. </a:t>
            </a:r>
            <a:r>
              <a:rPr b="1" lang="es-CR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¿</a:t>
            </a:r>
            <a:r>
              <a:rPr b="1" lang="es-CR" sz="24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Estoy equivocado?</a:t>
            </a:r>
            <a:r>
              <a:rPr b="1" lang="es-CR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 </a:t>
            </a:r>
            <a:r>
              <a:rPr b="1" lang="es-CR" sz="24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- Pero claro que lo est</a:t>
            </a:r>
            <a:r>
              <a:rPr b="1" lang="es-CR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á</a:t>
            </a:r>
            <a:r>
              <a:rPr b="1" lang="es-C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. Creo que usted se</a:t>
            </a:r>
            <a:r>
              <a:rPr b="1" lang="es-CR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ñ</a:t>
            </a:r>
            <a:r>
              <a:rPr b="1" lang="es-C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or deber</a:t>
            </a:r>
            <a:r>
              <a:rPr b="1" lang="es-CR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í</a:t>
            </a:r>
            <a:r>
              <a:rPr b="1" lang="es-C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a estudiar Historia Universal. Ver</a:t>
            </a:r>
            <a:r>
              <a:rPr b="1" lang="es-CR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í</a:t>
            </a:r>
            <a:r>
              <a:rPr b="1" lang="es-C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a que</a:t>
            </a:r>
            <a:r>
              <a:rPr b="1" lang="es-CR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 </a:t>
            </a:r>
            <a:r>
              <a:rPr b="1" lang="es-C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 la Revoluci</a:t>
            </a:r>
            <a:r>
              <a:rPr b="1" lang="es-CR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ó</a:t>
            </a:r>
            <a:r>
              <a:rPr b="1" lang="es-C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n Francesa, ocurrida hace m</a:t>
            </a:r>
            <a:r>
              <a:rPr b="1" lang="es-CR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á</a:t>
            </a:r>
            <a:r>
              <a:rPr b="1" lang="es-C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s de 100 a</a:t>
            </a:r>
            <a:r>
              <a:rPr b="1" lang="es-CR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ñ</a:t>
            </a:r>
            <a:r>
              <a:rPr b="1" lang="es-C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os, mostr</a:t>
            </a:r>
            <a:r>
              <a:rPr b="1" lang="es-CR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ó</a:t>
            </a:r>
            <a:r>
              <a:rPr b="1" lang="es-C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 la miop</a:t>
            </a:r>
            <a:r>
              <a:rPr b="1" lang="es-CR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í</a:t>
            </a:r>
            <a:r>
              <a:rPr b="1" lang="es-C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a de la religi</a:t>
            </a:r>
            <a:r>
              <a:rPr b="1" lang="es-CR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ó</a:t>
            </a:r>
            <a:r>
              <a:rPr b="1" lang="es-C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n.</a:t>
            </a:r>
            <a:r>
              <a:rPr b="0" lang="es-CR" sz="2000" spc="-1" strike="noStrike">
                <a:solidFill>
                  <a:srgbClr val="010101"/>
                </a:solidFill>
                <a:latin typeface="Eurostile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Solamente personas sin cultura todav</a:t>
            </a:r>
            <a:r>
              <a:rPr b="1" lang="es-CR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í</a:t>
            </a:r>
            <a:r>
              <a:rPr b="1" lang="es-C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a creen que Dios hizo el mundo en 6 d</a:t>
            </a:r>
            <a:r>
              <a:rPr b="1" lang="es-CR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í</a:t>
            </a:r>
            <a:r>
              <a:rPr b="1" lang="es-C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as.</a:t>
            </a:r>
            <a:r>
              <a:rPr b="1" lang="es-CR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 </a:t>
            </a:r>
            <a:r>
              <a:rPr b="1" lang="es-C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Usted</a:t>
            </a:r>
            <a:r>
              <a:rPr b="1" lang="es-CR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 </a:t>
            </a:r>
            <a:r>
              <a:rPr b="1" lang="es-C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se</a:t>
            </a:r>
            <a:r>
              <a:rPr b="1" lang="es-CR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ñ</a:t>
            </a:r>
            <a:r>
              <a:rPr b="1" lang="es-C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or deber</a:t>
            </a:r>
            <a:r>
              <a:rPr b="1" lang="es-CR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í</a:t>
            </a:r>
            <a:r>
              <a:rPr b="1" lang="es-C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a conocer un poco m</a:t>
            </a:r>
            <a:r>
              <a:rPr b="1" lang="es-CR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á</a:t>
            </a:r>
            <a:r>
              <a:rPr b="1" lang="es-C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s lo que nuestros Cient</a:t>
            </a:r>
            <a:r>
              <a:rPr b="1" lang="es-CR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í</a:t>
            </a:r>
            <a:r>
              <a:rPr b="1" lang="es-C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ficos dicen de todo eso.</a:t>
            </a:r>
            <a:r>
              <a:rPr b="0" lang="es-CR" sz="2000" spc="-1" strike="noStrike">
                <a:solidFill>
                  <a:srgbClr val="010101"/>
                </a:solidFill>
                <a:latin typeface="Eurostile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- Y... </a:t>
            </a:r>
            <a:r>
              <a:rPr b="1" lang="es-CR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¿</a:t>
            </a:r>
            <a:r>
              <a:rPr b="1" lang="es-CR" sz="24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es eso mismo lo que nuestros cient</a:t>
            </a:r>
            <a:r>
              <a:rPr b="1" lang="es-CR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í</a:t>
            </a:r>
            <a:r>
              <a:rPr b="1" lang="es-CR" sz="24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ficos dicen sobre la Biblia?</a:t>
            </a:r>
            <a:r>
              <a:rPr b="1" lang="es-CR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 </a:t>
            </a:r>
            <a:r>
              <a:rPr b="1" lang="es-CR" sz="24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5" name="4 Flecha derecha"/>
          <p:cNvSpPr/>
          <p:nvPr/>
        </p:nvSpPr>
        <p:spPr>
          <a:xfrm>
            <a:off x="7500960" y="6215040"/>
            <a:ext cx="1428840" cy="2858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1"/>
          <p:cNvSpPr/>
          <p:nvPr/>
        </p:nvSpPr>
        <p:spPr>
          <a:xfrm>
            <a:off x="0" y="123264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- Bien, como voy a bajar en la pr</a:t>
            </a:r>
            <a:r>
              <a:rPr b="1" lang="es-CR" sz="2800" spc="-1" strike="noStrike">
                <a:solidFill>
                  <a:srgbClr val="333399"/>
                </a:solidFill>
                <a:latin typeface="Calibri"/>
                <a:ea typeface="Times New Roman"/>
              </a:rPr>
              <a:t>ó</a:t>
            </a:r>
            <a:r>
              <a:rPr b="1" lang="es-CR" sz="28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xima estaci</a:t>
            </a:r>
            <a:r>
              <a:rPr b="1" lang="es-CR" sz="2800" spc="-1" strike="noStrike">
                <a:solidFill>
                  <a:srgbClr val="333399"/>
                </a:solidFill>
                <a:latin typeface="Calibri"/>
                <a:ea typeface="Times New Roman"/>
              </a:rPr>
              <a:t>ó</a:t>
            </a:r>
            <a:r>
              <a:rPr b="1" lang="es-CR" sz="28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n, no tengo tiempo de explicarle, pero d</a:t>
            </a:r>
            <a:r>
              <a:rPr b="1" lang="es-CR" sz="2800" spc="-1" strike="noStrike">
                <a:solidFill>
                  <a:srgbClr val="333399"/>
                </a:solidFill>
                <a:latin typeface="Calibri"/>
                <a:ea typeface="Times New Roman"/>
              </a:rPr>
              <a:t>é</a:t>
            </a:r>
            <a:r>
              <a:rPr b="1" lang="es-CR" sz="28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jeme su tarjeta con su direcci</a:t>
            </a:r>
            <a:r>
              <a:rPr b="1" lang="es-CR" sz="2800" spc="-1" strike="noStrike">
                <a:solidFill>
                  <a:srgbClr val="333399"/>
                </a:solidFill>
                <a:latin typeface="Calibri"/>
                <a:ea typeface="Times New Roman"/>
              </a:rPr>
              <a:t>ó</a:t>
            </a:r>
            <a:r>
              <a:rPr b="1" lang="es-CR" sz="28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n para mandarle material cient</a:t>
            </a:r>
            <a:r>
              <a:rPr b="1" lang="es-CR" sz="2800" spc="-1" strike="noStrike">
                <a:solidFill>
                  <a:srgbClr val="333399"/>
                </a:solidFill>
                <a:latin typeface="Calibri"/>
                <a:ea typeface="Times New Roman"/>
              </a:rPr>
              <a:t>í</a:t>
            </a:r>
            <a:r>
              <a:rPr b="1" lang="es-CR" sz="28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fico por correo con la m</a:t>
            </a:r>
            <a:r>
              <a:rPr b="1" lang="es-CR" sz="2800" spc="-1" strike="noStrike">
                <a:solidFill>
                  <a:srgbClr val="333399"/>
                </a:solidFill>
                <a:latin typeface="Calibri"/>
                <a:ea typeface="Times New Roman"/>
              </a:rPr>
              <a:t>á</a:t>
            </a:r>
            <a:r>
              <a:rPr b="1" lang="es-CR" sz="28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xima urgencia.</a:t>
            </a:r>
            <a:r>
              <a:rPr b="0" lang="es-CR" sz="2400" spc="-1" strike="noStrike">
                <a:solidFill>
                  <a:srgbClr val="010101"/>
                </a:solidFill>
                <a:latin typeface="Eurostile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El anciano entonces, con mucha paciencia, abri</a:t>
            </a:r>
            <a:r>
              <a:rPr b="1" lang="es-AR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ó</a:t>
            </a:r>
            <a:r>
              <a:rPr b="1" lang="es-AR" sz="2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 cuidadosamente el bolsillo derecho de su bolso y le dio su tarjeta al muchacho. Cuando </a:t>
            </a:r>
            <a:r>
              <a:rPr b="1" lang="es-AR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é</a:t>
            </a:r>
            <a:r>
              <a:rPr b="1" lang="es-AR" sz="2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ste ley</a:t>
            </a:r>
            <a:r>
              <a:rPr b="1" lang="es-AR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ó</a:t>
            </a:r>
            <a:r>
              <a:rPr b="1" lang="es-AR" sz="2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 lo que all</a:t>
            </a:r>
            <a:r>
              <a:rPr b="1" lang="es-AR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í</a:t>
            </a:r>
            <a:r>
              <a:rPr b="1" lang="es-AR" sz="2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 dec</a:t>
            </a:r>
            <a:r>
              <a:rPr b="1" lang="es-AR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í</a:t>
            </a:r>
            <a:r>
              <a:rPr b="1" lang="es-AR" sz="2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a, sali</a:t>
            </a:r>
            <a:r>
              <a:rPr b="1" lang="es-AR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ó</a:t>
            </a:r>
            <a:r>
              <a:rPr b="1" lang="es-AR" sz="2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 cabizbajo, sinti</a:t>
            </a:r>
            <a:r>
              <a:rPr b="1" lang="es-AR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é</a:t>
            </a:r>
            <a:r>
              <a:rPr b="1" lang="es-AR" sz="2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ndose peor que una hormiga.</a:t>
            </a:r>
            <a:r>
              <a:rPr b="1" lang="es-AR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 </a:t>
            </a:r>
            <a:r>
              <a:rPr b="1" lang="es-AR" sz="2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 En la tarjeta dec</a:t>
            </a:r>
            <a:r>
              <a:rPr b="1" lang="es-AR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í</a:t>
            </a:r>
            <a:r>
              <a:rPr b="1" lang="es-AR" sz="2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a:</a:t>
            </a:r>
            <a:r>
              <a:rPr b="0" lang="es-AR" sz="2400" spc="-1" strike="noStrike">
                <a:solidFill>
                  <a:srgbClr val="ff0000"/>
                </a:solidFill>
                <a:latin typeface="Eurostile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4 Flecha derecha"/>
          <p:cNvSpPr/>
          <p:nvPr/>
        </p:nvSpPr>
        <p:spPr>
          <a:xfrm>
            <a:off x="7500960" y="6215040"/>
            <a:ext cx="1428840" cy="2858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1"/>
          <p:cNvSpPr/>
          <p:nvPr/>
        </p:nvSpPr>
        <p:spPr>
          <a:xfrm>
            <a:off x="0" y="1585440"/>
            <a:ext cx="91440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 </a:t>
            </a:r>
            <a:r>
              <a:rPr b="1" i="1" lang="es-A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Profesor Doctor Louis Pasteur</a:t>
            </a:r>
            <a:br>
              <a:rPr sz="2400"/>
            </a:br>
            <a:r>
              <a:rPr b="1" i="1" lang="es-AR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 </a:t>
            </a:r>
            <a:r>
              <a:rPr b="1" i="1" lang="es-A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Director General del Instituto de Investigaciones Cient</a:t>
            </a:r>
            <a:r>
              <a:rPr b="1" i="1" lang="es-AR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í</a:t>
            </a:r>
            <a:r>
              <a:rPr b="1" i="1" lang="es-A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ficas</a:t>
            </a:r>
            <a:r>
              <a:rPr b="0" lang="es-AR" sz="2000" spc="-1" strike="noStrike">
                <a:solidFill>
                  <a:srgbClr val="010101"/>
                </a:solidFill>
                <a:latin typeface="Eurostile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Universidad Nacional de Francia</a:t>
            </a:r>
            <a:r>
              <a:rPr b="0" lang="es-AR" sz="2000" spc="-1" strike="noStrike">
                <a:solidFill>
                  <a:srgbClr val="010101"/>
                </a:solidFill>
                <a:latin typeface="Eurostile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10101"/>
                </a:solidFill>
                <a:latin typeface="Calibri"/>
                <a:ea typeface="Times New Roman"/>
              </a:rPr>
              <a:t> </a:t>
            </a:r>
            <a:r>
              <a:rPr b="0" lang="es-AR" sz="2000" spc="-1" strike="noStrike">
                <a:solidFill>
                  <a:srgbClr val="010101"/>
                </a:solidFill>
                <a:latin typeface="Eurostile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'Un poco de Ciencia nos aparta de Dios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Mucha, nos aproxima'.</a:t>
            </a:r>
            <a:r>
              <a:rPr b="0" lang="es-AR" sz="2000" spc="-1" strike="noStrike">
                <a:solidFill>
                  <a:srgbClr val="010101"/>
                </a:solidFill>
                <a:latin typeface="Eurostile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          </a:t>
            </a:r>
            <a:r>
              <a:rPr b="1" i="1" lang="es-A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 </a:t>
            </a:r>
            <a:r>
              <a:rPr b="1" i="1" lang="es-A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	</a:t>
            </a:r>
            <a:r>
              <a:rPr b="1" i="1" lang="es-A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	</a:t>
            </a:r>
            <a:r>
              <a:rPr b="1" i="1" lang="es-A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	</a:t>
            </a:r>
            <a:r>
              <a:rPr b="1" i="1" lang="es-A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	</a:t>
            </a:r>
            <a:r>
              <a:rPr b="1" i="1" lang="es-A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	</a:t>
            </a:r>
            <a:r>
              <a:rPr b="1" i="1" lang="es-AR" sz="24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Dr. Louis Pasteur</a:t>
            </a:r>
            <a:r>
              <a:rPr b="0" lang="es-AR" sz="2000" spc="-1" strike="noStrike">
                <a:solidFill>
                  <a:srgbClr val="010101"/>
                </a:solidFill>
                <a:latin typeface="Eurostile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10101"/>
                </a:solidFill>
                <a:latin typeface="Calibri"/>
                <a:ea typeface="Times New Roman"/>
              </a:rPr>
              <a:t> </a:t>
            </a:r>
            <a:r>
              <a:rPr b="0" lang="es-AR" sz="2000" spc="-1" strike="noStrike">
                <a:solidFill>
                  <a:srgbClr val="010101"/>
                </a:solidFill>
                <a:latin typeface="Eurostile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9" name="4 Flecha derecha"/>
          <p:cNvSpPr/>
          <p:nvPr/>
        </p:nvSpPr>
        <p:spPr>
          <a:xfrm>
            <a:off x="7500960" y="6215040"/>
            <a:ext cx="1428840" cy="2858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3 CuadroTexto"/>
          <p:cNvSpPr/>
          <p:nvPr/>
        </p:nvSpPr>
        <p:spPr>
          <a:xfrm>
            <a:off x="928800" y="4000680"/>
            <a:ext cx="6858000" cy="26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Franklin Gothic Book"/>
              </a:rPr>
              <a:t>Hoy es </a:t>
            </a:r>
            <a:fld id="{92EF8F7F-BE48-4B05-AC05-EAEFDDF916DC}" type="datetime2">
              <a:rPr b="0" lang="es-ES" sz="3200" spc="-1" strike="noStrike">
                <a:solidFill>
                  <a:srgbClr val="000000"/>
                </a:solidFill>
                <a:latin typeface="Franklin Gothic Book"/>
              </a:rPr>
              <a:t>miércoles, 29 de julio de 2026</a:t>
            </a:fld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Franklin Gothic Book"/>
              </a:rPr>
              <a:t>Son las </a:t>
            </a:r>
            <a:fld id="{90387099-A9FE-40BA-BA69-FA4466EE21EA}" type="datetime10">
              <a:rPr b="0" lang="es-ES" sz="3200" spc="-1" strike="noStrike">
                <a:solidFill>
                  <a:srgbClr val="000000"/>
                </a:solidFill>
                <a:latin typeface="Franklin Gothic Book"/>
              </a:rPr>
              <a:t>07:40</a:t>
            </a:fld>
            <a:r>
              <a:rPr b="0" lang="es-ES" sz="3200" spc="-1" strike="noStrike">
                <a:solidFill>
                  <a:srgbClr val="000000"/>
                </a:solidFill>
                <a:latin typeface="Franklin Gothic Book"/>
              </a:rPr>
              <a:t> h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Franklin Gothic Book"/>
              </a:rPr>
              <a:t>Y recuerda Dios te acompaña siempre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1" name="4 CuadroTexto"/>
          <p:cNvSpPr/>
          <p:nvPr/>
        </p:nvSpPr>
        <p:spPr>
          <a:xfrm>
            <a:off x="1214280" y="1643040"/>
            <a:ext cx="64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Franklin Gothic Book"/>
              </a:rPr>
              <a:t>Que tengas un muy buen día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5 Flecha derecha"/>
          <p:cNvSpPr/>
          <p:nvPr/>
        </p:nvSpPr>
        <p:spPr>
          <a:xfrm>
            <a:off x="7500960" y="6215040"/>
            <a:ext cx="1428840" cy="2858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80"/>
                            </p:stCondLst>
                            <p:childTnLst>
                              <p:par>
                                <p:cTn id="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720"/>
                            </p:stCondLst>
                            <p:childTnLst>
                              <p:par>
                                <p:cTn id="8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3T20:29:10Z</dcterms:created>
  <dc:creator>Ing.Genaro Geniadieff</dc:creator>
  <dc:description/>
  <dc:language>en-US</dc:language>
  <cp:lastModifiedBy>Ing.Genaro Geniadieff</cp:lastModifiedBy>
  <dcterms:modified xsi:type="dcterms:W3CDTF">2009-07-23T21:17:59Z</dcterms:modified>
  <cp:revision>6</cp:revision>
  <dc:subject/>
  <dc:title>Diapositiva 1</dc:title>
</cp:coreProperties>
</file>