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16%20amapola.wav" ContentType="audio/x-wav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865-A268-43A9-AA42-945FB3AD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D6B-8195-452A-8578-C4C38F67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C1B2D-242B-4580-84EE-42E7AAFD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2EA3-2FA9-4609-948D-12B1788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0F34B-2FE3-4E8C-BCF5-AD59A8B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C757D-9F9E-4A37-AB85-EB40F174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185CB-33CE-421C-9ECC-9F20596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A36AF-56A6-46DF-862C-9C8F369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4FB5F-4449-4FD6-AA5B-CAC104FC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C7BB-8B1F-4E7C-B594-FF30605B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C8836-5556-4617-B265-86D40735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C8C-DEA0-45F0-AB9A-E5F08DE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461-5E19-474D-9FAA-146CA929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746D-2E51-4324-B10B-836FA7D3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F30B-701C-406A-A955-F0646EB7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44AA-5015-4C28-8577-5D7D2C20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6825-D0CE-491F-BCB4-59AC1DCA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0A33-1685-4B58-8228-34F8AF5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5EAC-38CB-4EA0-A5DB-1D45E59D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DF39-D413-4BD9-903E-4989504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5FF-8F5D-4067-8A09-18613085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8D0-CC39-4952-B646-90644EBA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F75F-71C3-4175-B0F0-D5D646E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453D-024B-4AEA-8787-04AA2657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65F9-0A8A-4F1C-899B-F80B1BED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ED61-AD2D-42E5-A970-BC216C36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04B8-C28C-485C-A8E9-D88EB0AF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02F6-D723-4574-8645-D2C76BC4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94D5-D119-4327-AC14-F1AA4DF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B734-700A-42F3-89F9-3ADE2CA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2E1E-0CE7-4F86-860D-1B197CB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340-7420-48D5-8E0F-BF534098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46B4-A8B6-4BB3-B0A5-6AEE140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DE98-93FC-41BB-8917-4AC6884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CD4E-1856-48B2-8306-2F4D376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5C18-2798-4D9E-8E01-5EB4EE2F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0898-A940-466B-BF08-BFF1183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FE04-1690-4F66-B20E-25C082A3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7B23-5970-466C-BE3B-C97F76A0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0260-7BBD-4754-8D24-614760F4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E348-10EA-4C33-A2BE-CB24D15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4CAB-05F1-4AE8-A82D-E26E8C1E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5D9-D39B-4514-BF8F-D831A4DE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E905-B82C-438E-BC4E-2D860DB2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2FCF-74B9-461B-AC3A-B3C3B52E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6018-8092-47D8-B576-3C4925AA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703B-CD75-4077-BB58-2D9E843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E164-9176-43B5-AEA0-32C156DF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1BF2-D338-450A-A2E7-2F6509B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5594-7767-48A4-A90B-9961CA65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6B26-A490-4B46-8092-3C1630A6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F4E13-857C-41E0-9853-AF27E077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618C-53E0-4D71-99CC-BF838AA7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A2A-6FD0-4431-8D74-9109807F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D599-55BC-4C3F-9193-EE808CB9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1D4E-219C-4A95-B9D6-ECB749C4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9363-FF68-4D15-B284-01730014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5B7A9-78D1-443F-8DC3-1D651522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47F0-2709-4DC2-A345-545F4F91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9848-E1ED-4669-880F-5FB5980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D001C-EF9A-4760-988E-D2256887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0AFB1-B736-4E6A-B705-C2162E1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67AB9-A4A8-43D3-A5E4-3CE34FD1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F20BF-332E-4D04-BE87-86C519D4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00E-4F13-4A5B-83DF-DD5643DE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D276-5EB8-4902-8787-96D2E46C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688F3-76E8-4BA4-A132-F608BF12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CDAD-FE1B-4F57-B47B-41D9755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F544-5673-488B-8368-33F47C73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3AB1-47EF-49B2-8630-4E72DB36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BB93-6631-4537-A090-6D335690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1E0CD-8CD2-4576-8A0B-0A390571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BC37-69DF-4FDB-8739-52D88586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1A97-4DEB-4A48-AB0B-FECB72DB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B235F-D770-414D-BA91-560BDAA8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C1C-9D86-440B-A2F3-8C071503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D46E-C666-4DDD-8481-A6832770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0AFE-AE9F-4EBF-B927-CAAEC04F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63C75-6020-4BAB-9D3F-438DEC0C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1C96-1DB8-45E6-ADF0-4F605D59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8139-B4B8-471F-85A1-C61D65FE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3373-D2A9-4B4B-A7D1-BE5C90B0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724F-CA02-446F-93F0-A75EC2E6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4357-4072-4906-A1DA-316655B6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F8A34-FBF6-403B-9ED1-14E0294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606D1-5661-4212-A13D-88AE048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381-06D0-42DC-A268-CBEBE2DF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E8A60-8472-43D9-8709-1481CF93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8751-0AA0-4555-94CC-5AD3BAA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F83C4-BD7B-4C47-B4AA-1B716A47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35C9B-BAA0-46D5-B7E3-7FB413BA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E98CA-1B68-4F92-81C1-E7A5D671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B941-3D07-4883-84AD-90310E1A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CE4CA-1BDD-4B0D-869C-ECAD3659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26F8F-8F57-401C-B264-860F7C3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D0C47-AA64-4872-ADC0-33DAF15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C50C3-A1F5-453F-9770-023908E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ABF-8A00-4BE1-9E96-8C5C9AA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7865-4594-4EA4-93DA-29167CE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5F969-1505-4EE3-B9FB-EE8DD12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DE398-B6BB-4D36-8AD7-834304F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F61C1-7DF5-4EF0-B578-84B28A8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1DC5B-5D0D-4CE1-B7C2-3640EC4A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AF8A-9E8F-4A65-B889-17C11D5C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11612-5E7A-4E3B-B3A3-93AB2972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3370D-CDFB-4C70-8478-3297A1E0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EEA59-7D25-4076-9D93-52DA787C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2E5E3-2DC6-487E-8109-058DF24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6CE-C78A-453B-98B4-BB9546C6BB21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655-B9D9-4FB5-83A5-1C255FA87A7D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4081-3853-4756-9070-F02CC366CBB7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0AD-D6CA-4E5E-B978-8F3DB44170EE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3AF-12CA-4BAA-AFE8-31F0D5D485FD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C6CC-48E5-4907-A5C0-8C0F555C730A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0E37-2646-47E5-80C8-85ADB55FF630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7A9-31E4-459E-9244-07AA972A66A8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BAB4-C5C2-46F1-A873-2B176D6C91B8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6%20amapol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1248480" y="860040"/>
            <a:ext cx="67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arjeta de presentaci</a:t>
            </a:r>
            <a:r>
              <a:rPr b="1" lang="es-CR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4 Rectángulo"/>
          <p:cNvSpPr/>
          <p:nvPr/>
        </p:nvSpPr>
        <p:spPr>
          <a:xfrm>
            <a:off x="571680" y="4000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es-CR" sz="2400" spc="-1" strike="noStrike">
                <a:solidFill>
                  <a:srgbClr val="000000"/>
                </a:solidFill>
                <a:latin typeface="Franklin Gothic Book"/>
              </a:rPr>
              <a:t>Hecho ocurrido en 1892, verdadero y parte de una biografí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5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80"/>
                            </p:stCondLst>
                            <p:childTnLst>
                              <p:par>
                                <p:cTn id="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0" y="11552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n se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 de unos 70 a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s viajaba en el tren, teniendo a su lado a un joven universitario que le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su libro de Ciencias. El caballero, a su vez, le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un libro de portada negra. Fue cuando el joven percibi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que se trataba de la Biblia y que estaba abierta en el Evangelio de Marcos.</a:t>
            </a:r>
            <a:r>
              <a:rPr b="0" lang="es-C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0" y="91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in mucha ceremonia, el muchacho interrumpi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la lectura del viejo y le pregunt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:</a:t>
            </a:r>
            <a:r>
              <a:rPr b="0" lang="es-C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, 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¿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sted todav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cree en ese libro lleno de f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bulas y cuentos?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- S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, mas no es un libro de cuentos, es la Palabra de Dios. 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¿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stoy equivocado?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- Pero claro que lo est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. Creo que usted s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 debe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estudiar Historia Universal. Ve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qu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la Revoluci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 Francesa, ocurrida hace m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 de 100 a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s, most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la miop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de la religi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.</a:t>
            </a:r>
            <a:r>
              <a:rPr b="0" lang="es-C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olamente personas sin cultura todav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creen que Dios hizo el mundo en 6 d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s.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sted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 debe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conocer un poco m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 lo que nuestros Cient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ficos dicen de todo eso.</a:t>
            </a:r>
            <a:r>
              <a:rPr b="0" lang="es-C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- Y... 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¿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s eso mismo lo que nuestros cient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ficos dicen sobre la Biblia?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0" y="1232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- Bien, como voy a bajar en la pr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xima estaci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, no tengo tiempo de explicarle, pero d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é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jeme su tarjeta con su direcci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 para mandarle material cient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fico por correo con la m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xima urgencia.</a:t>
            </a:r>
            <a:r>
              <a:rPr b="0" lang="es-CR" sz="24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l anciano entonces, con mucha paciencia, abri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ó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cuidadosamente el bolsillo derecho de su bolso y le dio su tarjeta al muchacho. Cuando 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é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te ley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ó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lo que all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dec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a, sali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ó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cabizbajo, sinti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é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ndose peor que una hormiga.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En la tarjeta dec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a:</a:t>
            </a:r>
            <a:r>
              <a:rPr b="0" lang="es-AR" sz="2400" spc="-1" strike="noStrike">
                <a:solidFill>
                  <a:srgbClr val="ff0000"/>
                </a:solidFill>
                <a:latin typeface="Eurosti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0" y="1585440"/>
            <a:ext cx="9144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Profesor Doctor Louis Pasteur</a:t>
            </a:r>
            <a:br>
              <a:rPr sz="2400"/>
            </a:b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Director General del Instituto de Investigaciones Cient</a:t>
            </a: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ficas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niversidad Nacional de Francia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01"/>
                </a:solidFill>
                <a:latin typeface="Calibri"/>
                <a:ea typeface="Times New Roman"/>
              </a:rPr>
              <a:t> 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'Un poco de Ciencia nos aparta de Dios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Mucha, nos aproxima'.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         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Dr. Louis Pasteur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01"/>
                </a:solidFill>
                <a:latin typeface="Calibri"/>
                <a:ea typeface="Times New Roman"/>
              </a:rPr>
              <a:t> 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3 CuadroTexto"/>
          <p:cNvSpPr/>
          <p:nvPr/>
        </p:nvSpPr>
        <p:spPr>
          <a:xfrm>
            <a:off x="928800" y="4000680"/>
            <a:ext cx="685800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Hoy es </a:t>
            </a:r>
            <a:fld id="{BE720876-25D9-4C5A-AEE4-7E072E0451F5}" type="datetime2"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viernes, 31 de julio de 2026</a:t>
            </a:fld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Son las </a:t>
            </a:r>
            <a:fld id="{B1E02D01-E0AC-4D66-9D8E-EC779A2368BA}" type="datetime10"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17:05</a:t>
            </a:fld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 h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Y recuerda Dios te acompaña siempr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4 CuadroTexto"/>
          <p:cNvSpPr/>
          <p:nvPr/>
        </p:nvSpPr>
        <p:spPr>
          <a:xfrm>
            <a:off x="1214280" y="164304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Que tengas un muy buen dí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5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8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2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29:10Z</dcterms:created>
  <dc:creator>Ing.Genaro Geniadieff</dc:creator>
  <dc:description/>
  <dc:language>en-US</dc:language>
  <cp:lastModifiedBy>Ing.Genaro Geniadieff</cp:lastModifiedBy>
  <dcterms:modified xsi:type="dcterms:W3CDTF">2009-07-23T21:17:59Z</dcterms:modified>
  <cp:revision>6</cp:revision>
  <dc:subject/>
  <dc:title>Diapositiva 1</dc:title>
</cp:coreProperties>
</file>