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FCA-3E2D-4179-A0F1-478F87B5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AB06-77E5-413E-B5B6-84B002BF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1D9-EA45-4A62-8FB0-4B19D884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BFA-0E43-4745-85B0-65DEAAE3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0815-6B4B-4E22-A411-DA63D2C8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521-6B7E-43FF-B496-7245D938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1AD-9ABA-4D2E-82B0-A988C243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0A7B-0138-4FD5-A3FA-7757B01F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3A3-69A0-477D-B9DE-1D320B75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CF7-EDB6-4F1D-ABA9-2D57B97D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91C-D814-45E1-BCC6-705532CA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B96-EA02-4D05-8A22-3A2374AA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8366-50EE-444F-B9EA-20542DE54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rco%20Diapositiva%2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ormenta%20Eléctrica%2003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6934320" cy="5333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43000" y="16002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lacklightD"/>
                <a:ea typeface="Times New Roman"/>
              </a:rPr>
              <a:t>¿A QUIÉN LLEVARÍAS?</a:t>
            </a:r>
            <a:r>
              <a:rPr b="1" lang="en-US" sz="4400" spc="-1" strike="noStrike">
                <a:solidFill>
                  <a:srgbClr val="ffffff"/>
                </a:solidFill>
                <a:latin typeface="Blacklight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95596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ás conduciendo tu automóvil deportivo de dos plazas en una noche de tormenta terrible. Pasas por una parada de autobús donde se encuentran tres personas esperand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04800" y="4327560"/>
            <a:ext cx="6134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Una anciana enferma a punto de mor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Un viejo amigo que alguna vez te salvó l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La mujer de tus sueños, o tu hombre ide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rco%20Diapositiva%2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762120"/>
            <a:ext cx="6934320" cy="1828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errari%2001" descr=""/>
          <p:cNvPicPr/>
          <p:nvPr/>
        </p:nvPicPr>
        <p:blipFill>
          <a:blip r:embed="rId2"/>
          <a:stretch/>
        </p:blipFill>
        <p:spPr>
          <a:xfrm>
            <a:off x="1066680" y="2438280"/>
            <a:ext cx="6934320" cy="3568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01680" y="914400"/>
            <a:ext cx="658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¿A quién llevarías en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Courier New"/>
              </a:rPr>
              <a:t>tu automóvi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, habida cuenta que sólo tienes sitio para u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Courier New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sajer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981080"/>
            <a:ext cx="678168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Piensa muy bien tu respuesta antes de seguir leyendo..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Éste es un dilema ético y moral utilizado en entrevistas de trabajo. 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drías llevar a la anciana, porque va a morir y por lo tanto deberías salvarla primero; o podrías llevar al amigo, ya que él te salvó la vida y estas en deuda con él. Sin embargo, posiblemente nunca vuelvas a encontrar a la mujer de tus sueños, o tu hombre ide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Un aspirante en una entrevista fue contratado, de entre 200 concursantes, por su magnífica respuesta ¿Quier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Courier New"/>
              </a:rPr>
              <a:t> saber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qué respondió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mplemente contestó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arco%20Diapositiva%2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Atardecer%20Carretera%2001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6934320" cy="5240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838080"/>
            <a:ext cx="685800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"Le daría las llaves del coche a mi amigo, y le pediría que llevara a la anciana al hospital; mientras tanto, yo me quedaría esperando el autobús con la mujer de mis sueños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¿Te gustó la historia? Pues así es la vida, por ello deb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Courier New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tener siempre muy presente aquella trillada frase: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"Un problema planteado correctamente es un problema prácticamente resuelto"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Moraleja: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Prestemos más atención a lo que hacemos o decimos”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Espero que te haya agradado, mejor aún, que te sea de utilidad... si así lo crees y te gustó, compártelo con otras personas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06:25:24Z</dcterms:created>
  <dc:creator>Enrique Ruiz Bohórquez</dc:creator>
  <dc:description/>
  <dc:language>en-US</dc:language>
  <cp:lastModifiedBy>Enrique Ruiz Bohórquez</cp:lastModifiedBy>
  <dcterms:modified xsi:type="dcterms:W3CDTF">2004-07-05T07:11:23Z</dcterms:modified>
  <cp:revision>3</cp:revision>
  <dc:subject/>
  <dc:title>Presentación de PowerPoint</dc:title>
</cp:coreProperties>
</file>