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539-1D56-47F1-B853-0E623CDA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340-DADA-42D0-951E-8E9A8C77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319-E286-4989-920F-6EE75CA3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E4A-409A-448D-8ED3-E5347517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43D-0150-4717-9F86-153D9628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32A-EDCE-4D32-9268-36477C83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B1A-B478-4BA4-B588-D42A27C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AD6-FBC8-42B8-9F96-104DEF44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569-E47F-4129-BFE1-570C458D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D02-3763-4D15-B694-C6CF6F6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ADE-8B7A-4F45-81C5-EEAFEFA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A88-0C62-4053-BF7D-1ED25F76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C0F-0E01-4EFC-AEB3-3EB503207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co%20Diapositiva%2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ormenta%20Eléctrica%2003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33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600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lightD"/>
                <a:ea typeface="Times New Roman"/>
              </a:rPr>
              <a:t>¿A QUIÉN LLEVARÍAS?</a:t>
            </a:r>
            <a:r>
              <a:rPr b="1" lang="en-US" sz="4400" spc="-1" strike="noStrike">
                <a:solidFill>
                  <a:srgbClr val="ffffff"/>
                </a:solidFill>
                <a:latin typeface="Blacklight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9559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ás conduciendo tu automóvil deportivo de dos plazas en una noche de tormenta terrible. Pasas por una parada de autobús donde se encuentran tres personas esperan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04800" y="4327560"/>
            <a:ext cx="6134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a anciana enferma a punto de mor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viejo amigo que alguna vez te salvó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La mujer de tus sueños, o tu hombre id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co%20Diapositiva%2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762120"/>
            <a:ext cx="6934320" cy="182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errari%2001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6934320" cy="356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1680" y="914400"/>
            <a:ext cx="65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A quién llevarías en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tu automóv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, habida cuenta que sólo tienes sitio para u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sajer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981080"/>
            <a:ext cx="67816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iensa muy bien tu respuesta antes de seguir leyendo..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Éste es un dilema ético y moral utilizado en entrevistas de trabajo. 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drías llevar a la anciana, porque va a morir y por lo tanto deberías salvarla primero; o podrías llevar al amigo, ya que él te salvó la vida y estas en deuda con él. Sin embargo, posiblemente nunca vuelvas a encontrar a la mujer de tus sueños, o tu hombre id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aspirante en una entrevista fue contratado, de entre 200 concursantes, por su magnífica respuesta ¿Quie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saber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qué respondió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mente contestó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co%20Diapositiva%2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Atardecer%20Carretera%2001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24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38080"/>
            <a:ext cx="6858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Le daría las llaves del coche a mi amigo, y le pediría que llevara a la anciana al hospital; mientras tanto, yo me quedaría esperando el autobús con la mujer de mis sueños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Te gustó la historia? Pues así es la vida, por ello deb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tener siempre muy presente aquella trillada frase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Un problema planteado correctamente es un problema prácticamente resuelto"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Moraleja: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restemos más atención a lo que hacemos o decimos”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Espero que te haya agradado, mejor aún, que te sea de utilidad... si así lo crees y te gustó, compártelo con otras persona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6:25:24Z</dcterms:created>
  <dc:creator>Enrique Ruiz Bohórquez</dc:creator>
  <dc:description/>
  <dc:language>en-US</dc:language>
  <cp:lastModifiedBy>Enrique Ruiz Bohórquez</cp:lastModifiedBy>
  <dcterms:modified xsi:type="dcterms:W3CDTF">2004-07-05T07:11:23Z</dcterms:modified>
  <cp:revision>3</cp:revision>
  <dc:subject/>
  <dc:title>Presentación de PowerPoint</dc:title>
</cp:coreProperties>
</file>