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Yesterday,%20The%20Beatles.wav" ContentType="audio/x-wav"/>
  <Override PartName="/ppt/media/image1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0A2-BF3F-4965-A17F-EDE7AEFA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15E1-7694-4227-92A4-A4A6C098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F51-F786-464B-AEFC-F642F657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B1DC-CDD8-48A7-BD97-05F91BC8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227-B1EA-4DB0-A74C-C9E7B4E0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6EE-D7D3-441F-8C7F-8C91C1CE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F85-E555-4570-945F-BF6268AD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72E3-5550-415D-A7F1-A72CE1F9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1F8-85A0-4F3F-A75D-D3837323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4E7-B8BA-41FC-BAE6-4A05DF8D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909-EE63-4BD9-8E6B-2E5005C2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ABE-AE42-4551-9448-ABCD85F4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C95A-2E37-40DA-994F-07D5CD3191FC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Yesterday,%20The%20Beatl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2491200"/>
            <a:ext cx="748836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n venado visita a un gato todas las mañanas en el jardín de éste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n gato en Harrisburg, Pennsylvania, USA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iene un amigo especial que diariamente lo va a ver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 dueño del gato tomó estas fotografías después de algunas visi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plus/>
    <p:sndAc>
      <p:stSnd>
        <p:snd r:embed="rId1" name="Yesterday,%20The%20Beatl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85800" y="0"/>
            <a:ext cx="59724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2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780" t="0" r="780" b="12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799" t="0" r="0" b="12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0" r="0" b="12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287640"/>
            <a:ext cx="878544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pués de perder a sus padres, este orangután de tres años de edad estaba tan deprimido, que se rehusaba comer y no respondía nada bien a los tratamien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s veterinarios presentían que se entregaría a la muerte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 perro de edad fue encontrado perdido en las inmediaciones del par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oológico y cuando lo pusieron en la sala de tratamiento, se reunió con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angután.  Ambos se convirtieron en amigos inseparables desde ento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3139200"/>
            <a:ext cx="85694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 orangután encontró una nueva razón para vivir y se esfuerza al máximo para acompañar a su nuevo amigo en sus activ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3931200"/>
            <a:ext cx="87138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los viven en el norte de California y la natación es el deporte favorito de ambos, aunque Roscoe (el orangután) todavía tiene un poco de miedo al agu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y necesita la ayuda de su amigo para nad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9120" y="5010840"/>
            <a:ext cx="8384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san todo el tiempo juntos, podemos ver por las sonrisas, cuán felices s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920" y="5515560"/>
            <a:ext cx="8134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ntos descubrieron el lado cómico de la vida y el valor de la “Amistad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5960" y="6020640"/>
            <a:ext cx="6580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ontraron más que un hombro amigo donde apoyarse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2:54:45Z</dcterms:created>
  <dc:creator/>
  <dc:description/>
  <dc:language>en-US</dc:language>
  <cp:lastModifiedBy>Francisco</cp:lastModifiedBy>
  <dcterms:modified xsi:type="dcterms:W3CDTF">2010-05-17T01:39:12Z</dcterms:modified>
  <cp:revision>4</cp:revision>
  <dc:subject/>
  <dc:title/>
</cp:coreProperties>
</file>