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Yesterday,%20The%20Beatles.wav" ContentType="audio/x-wav"/>
  <Override PartName="/ppt/media/image1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FEC-C194-4829-917B-BBF1A837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2E5-C8C7-442F-9E3A-0FF90BBA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A9F-76DA-44C6-9B8B-B782967E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51D-3678-42CF-9F33-46372A3F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47A-C17D-4B5A-B244-4D190081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7A4-3893-4432-BD6B-0AC2A2BC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09C-B848-4641-BA01-318343F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F05-DD6E-402F-87D6-CD44EA1F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C26-8DAB-4C5A-A262-E817038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24B-EE0E-4ADC-A3F1-6C197A45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8FD-41BA-40E5-B3D3-47684BA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9C6-DB40-4ACE-BAA5-0BD8DB8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F8F2-4ABF-4B25-929D-D66B587929D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Yesterday,%20The%20Beatl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491200"/>
            <a:ext cx="74883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venado visita a un gato todas las mañanas en el jardín de éste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gato en Harrisburg, Pennsylvania, USA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ene un amigo especial que diariamente lo va a ver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dueño del gato tomó estas fotografías después de algunas visi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lus/>
    <p:sndAc>
      <p:stSnd>
        <p:snd r:embed="rId1" name="Yesterday,%20The%20Beatl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85800" y="0"/>
            <a:ext cx="5972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780" t="0" r="78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799" t="0" r="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87640"/>
            <a:ext cx="87854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pués de perder a sus padres, este orangután de tres años de edad estaba tan deprimido, que se rehusaba comer y no respondía nada bien a los tratami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 veterinarios presentían que se entregaría a la muerte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perro de edad fue encontrado perdido en las inmediaciones del pa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oológico y cuando lo pusieron en la sala de tratamiento, se reunió co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angután.  Ambos se convirtieron en amigos inseparables desde ento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3139200"/>
            <a:ext cx="856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orangután encontró una nueva razón para vivir y se esfuerza al máximo para acompañar a su nuevo amigo en su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931200"/>
            <a:ext cx="87138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los viven en el norte de California y la natación es el deporte favorito de ambos, aunque Roscoe (el orangután) todavía tiene un poco de miedo al a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y necesita la ayuda de su amigo para nad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120" y="5010840"/>
            <a:ext cx="8384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an todo el tiempo juntos, podemos ver por las sonrisas, cuán felices 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920" y="5515560"/>
            <a:ext cx="813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tos descubrieron el lado cómico de la vida y el valor de la “Amistad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960" y="6020640"/>
            <a:ext cx="6580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ntraron más que un hombro amigo donde apoyars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2:54:45Z</dcterms:created>
  <dc:creator/>
  <dc:description/>
  <dc:language>en-US</dc:language>
  <cp:lastModifiedBy>Francisco</cp:lastModifiedBy>
  <dcterms:modified xsi:type="dcterms:W3CDTF">2010-05-17T01:39:12Z</dcterms:modified>
  <cp:revision>4</cp:revision>
  <dc:subject/>
  <dc:title/>
</cp:coreProperties>
</file>