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Yesav%20haEl%20(homew.wav" ContentType="audio/x-wav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0F10-8BDC-4B2E-AAFB-D03643354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2348-C808-4356-968A-C5C55D8C5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15A4-B479-457D-A29D-9B5997BD7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6103-1D11-4EFD-9AA1-FBFCD0E55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5836-9310-4CEC-AF96-F4CDD8CB8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F656-F91D-4BD1-B767-B23063A73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017B-3190-4CCC-8C9C-CB2A371AA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4E94-A50E-4C14-8729-873D00ADC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910E-0DA7-44A8-B767-23BBFA0AD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5985-A5EB-401D-8CEA-6C8E8224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1BC1-EC1A-4E01-B3FC-6270197A4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2E72-9620-4D59-BA0A-9D5860321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9823A-3F1B-489B-AE21-BC55E2F389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Yesav%20haEl%20(homew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_x0007_001.jpg                                                        000077BF_x000c_Macintosh HD                   B9BE4824:"/>
          <p:cNvPicPr/>
          <p:nvPr/>
        </p:nvPicPr>
        <p:blipFill>
          <a:blip r:embed="rId1"/>
          <a:stretch/>
        </p:blipFill>
        <p:spPr>
          <a:xfrm>
            <a:off x="0" y="0"/>
            <a:ext cx="9360000" cy="70232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1643040" y="4214880"/>
            <a:ext cx="5884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3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</a:rPr>
              <a:t>13 de junio del 2010</a:t>
            </a:r>
            <a:endParaRPr b="0" i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357120" y="1785960"/>
            <a:ext cx="5000760" cy="149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6000" spc="-1" strike="noStrike">
                <a:solidFill>
                  <a:srgbClr val="e30000"/>
                </a:solidFill>
                <a:latin typeface="Comic Sans MS"/>
              </a:rPr>
              <a:t>Domingo XI </a:t>
            </a:r>
            <a:endParaRPr b="0" i="1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30000"/>
                </a:solidFill>
                <a:latin typeface="Comic Sans MS"/>
              </a:rPr>
              <a:t> </a:t>
            </a:r>
            <a:r>
              <a:rPr b="0" i="1" lang="en-US" sz="3200" spc="-1" strike="noStrike">
                <a:solidFill>
                  <a:srgbClr val="e30000"/>
                </a:solidFill>
                <a:latin typeface="Comic Sans MS"/>
              </a:rPr>
              <a:t>Tiempo Ordinario  -C-</a:t>
            </a: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492480" y="5791320"/>
            <a:ext cx="5452200" cy="398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mic Sans MS"/>
              </a:rPr>
              <a:t>Música: “Yesav haEl” liturgia judeoespañola</a:t>
            </a:r>
            <a:endParaRPr b="0" i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dissolve/>
    <p:sndAc>
      <p:stSnd>
        <p:snd r:embed="rId2" name="Yesav%20haEl%20(home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C:\Documents and Settings\st benet\Mis documentos\Mis imágenes\monestirsb\Gerra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2"/>
          <p:cNvSpPr/>
          <p:nvPr/>
        </p:nvSpPr>
        <p:spPr>
          <a:xfrm>
            <a:off x="228600" y="380880"/>
            <a:ext cx="8686800" cy="631188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/... </a:t>
            </a:r>
            <a:r>
              <a:rPr b="0" i="1" lang="es-E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Un acreedor tenía dos deudores: uno debía quinientos denarios y el otro cincuenta. </a:t>
            </a:r>
            <a:br>
              <a:rPr sz="2400"/>
            </a:br>
            <a:r>
              <a:rPr b="0" i="1" lang="es-E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omo no tenían para pagarle, perdonó a los dos. ¿Quién de ellos le amará más? »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espondió Simón: « Supongo que aquel a quien perdonó más. » El le dijo: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« </a:t>
            </a:r>
            <a:r>
              <a:rPr b="0" i="1" lang="es-E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Así es ».</a:t>
            </a:r>
            <a:br>
              <a:rPr sz="2400"/>
            </a:br>
            <a:r>
              <a:rPr b="0" i="1" lang="es-E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Y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volviéndose hacia la mujer, dijo a Simón: « ¿</a:t>
            </a:r>
            <a:r>
              <a:rPr b="0" i="1" lang="es-E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Ves a esta mujer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? </a:t>
            </a:r>
            <a:r>
              <a:rPr b="0" i="1" lang="es-E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Entré en tu casa y no me diste agua para los pies. Ella, en cambio, ha mojado mis pies con lágrimas, y los ha secado con sus cabellos. No me diste el beso. Ella, desde que entró, no ha dejado de besarme los pies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. </a:t>
            </a:r>
            <a:r>
              <a:rPr b="0" i="1" lang="es-E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o ungiste mi cabeza con aceite. Ella ha ungido mis pies con perfume. Por eso te digo que quedan perdonados sus muchos pecados, porque ha mostrado mucho amor. A quien poco se le perdona, poco amor muestra. »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br>
              <a:rPr sz="2400"/>
            </a:br>
            <a:endParaRPr b="0" i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dissolv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C:\Documents and Settings\st benet\Mis documentos\Mis imágenes\monestirsb\Gerra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2"/>
          <p:cNvSpPr/>
          <p:nvPr/>
        </p:nvSpPr>
        <p:spPr>
          <a:xfrm>
            <a:off x="228600" y="457200"/>
            <a:ext cx="8686800" cy="448308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/... 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Y le dijo a ella: « </a:t>
            </a:r>
            <a:r>
              <a:rPr b="1" i="1" lang="es-E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Tus pecados quedan perdonados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. »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Los comensales empezaron a decirse para sí: « ¿Quién es éste que hasta perdona los pecados? »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Pero él dijo a la mujer: « </a:t>
            </a:r>
            <a:r>
              <a:rPr b="1" i="1" lang="es-E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Tu fe te ha salvado. Vete en paz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. »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Y sucedió a continuación que iba por ciudades y pueblos, proclamando y anunciando la Buena Nueva del Reino de Dios; le acompañaban los Doce, y algunas mujeres que habían sido curadas de espíritus malignos y enfermedades: María, llamada Magdalena, de la  que habían salido siete demonios, Juana, mujer de Cusa, un administrador de Herodes, Susana y otras muchas que les servían con sus bienes. </a:t>
            </a:r>
            <a:endParaRPr b="0" i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dissolv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C:\Documents and Settings\st benet\Mis documentos\Mis imágenes\bíblics\jerusjueva\resized_tom-davi-ol2w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2"/>
          <p:cNvSpPr/>
          <p:nvPr/>
        </p:nvSpPr>
        <p:spPr>
          <a:xfrm>
            <a:off x="609480" y="914400"/>
            <a:ext cx="8001000" cy="4789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S 12,7-10.13 </a:t>
            </a:r>
            <a:br>
              <a:rPr sz="2400"/>
            </a:br>
            <a:r>
              <a:rPr b="1" i="1" lang="ca-E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</a:t>
            </a:r>
            <a:r>
              <a:rPr b="1" i="1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ijo</a:t>
            </a:r>
            <a:r>
              <a:rPr b="1" i="1" lang="ca-E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i="1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atán a David: « Tú eres ese hombre. Así dice Yahveh Dios de Israel: Yo te he ungido rey de Israel y te he librado de las manos de Saúl. </a:t>
            </a:r>
            <a:endParaRPr b="0" i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1" i="1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Te he dado la casa de tu señor y he puesto en tu seno las mujeres de tu señor; te he dado la casa de Israel y de Judá; y si es poco, te añadiré todavía otras cosas. </a:t>
            </a:r>
            <a:endParaRPr b="0" i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1" i="1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¿Por qué has menospreciado a Yahveh haciendo lo malo a sus ojos, matando a espada a Urías el hitita, tomando a su mujer por mujer tuya y matándole por la espada de los ammonitas? </a:t>
            </a:r>
            <a:endParaRPr b="0" i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1" i="1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Pues bien, nunca se apartará la espada de tu casa, ya que me has despreciado y has tomado la mujer de Urías el  hitita para mujer tuya. David dijo a Natán: « He pecado contra Yahveh. » Respondió Natán a David: « También Yahveh perdona tu pecado; no morirás. </a:t>
            </a:r>
            <a:endParaRPr b="0" i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5131440" y="228600"/>
            <a:ext cx="3897720" cy="398880"/>
          </a:xfrm>
          <a:prstGeom prst="rect">
            <a:avLst/>
          </a:prstGeom>
          <a:solidFill>
            <a:srgbClr val="ffffff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mic Sans MS"/>
              </a:rPr>
              <a:t>Tumba del rey David. Jerusalén</a:t>
            </a:r>
            <a:endParaRPr b="0" i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dissolv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C:\Documents and Settings\st benet\Mis documentos\Mis imágenes\naturalesa\vegetació\resized_hervaw.jpg"/>
          <p:cNvPicPr/>
          <p:nvPr/>
        </p:nvPicPr>
        <p:blipFill>
          <a:blip r:embed="rId1"/>
          <a:stretch/>
        </p:blipFill>
        <p:spPr>
          <a:xfrm>
            <a:off x="5410080" y="0"/>
            <a:ext cx="373392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C:\Documents and Settings\st benet\Mis documentos\Mis imágenes\naturalesa\vegetació\resized_hervaw.jpg"/>
          <p:cNvPicPr/>
          <p:nvPr/>
        </p:nvPicPr>
        <p:blipFill>
          <a:blip r:embed="rId2"/>
          <a:stretch/>
        </p:blipFill>
        <p:spPr>
          <a:xfrm>
            <a:off x="0" y="0"/>
            <a:ext cx="5715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2"/>
          <p:cNvSpPr/>
          <p:nvPr/>
        </p:nvSpPr>
        <p:spPr>
          <a:xfrm>
            <a:off x="609480" y="723960"/>
            <a:ext cx="2748240" cy="76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900"/>
                </a:solidFill>
                <a:latin typeface="Comic Sans MS"/>
              </a:rPr>
              <a:t>Salmo 31</a:t>
            </a:r>
            <a:endParaRPr b="0" i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1219320" y="1676520"/>
            <a:ext cx="5867280" cy="1312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Arial Unicode MS"/>
              </a:rPr>
              <a:t>Perdona, Señor,</a:t>
            </a:r>
            <a:br>
              <a:rPr sz="4000"/>
            </a:br>
            <a:r>
              <a:rPr b="1" i="1" lang="es-ES" sz="4000" spc="-1" strike="noStrike">
                <a:solidFill>
                  <a:srgbClr val="ffffff"/>
                </a:solidFill>
                <a:latin typeface="Arial Unicode MS"/>
              </a:rPr>
              <a:t>mi culpa y mi pecado</a:t>
            </a:r>
            <a:r>
              <a:rPr b="1" i="1" lang="es-E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i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937440" y="3581280"/>
            <a:ext cx="6692760" cy="20437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e3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Dichoso el que ve olvidada su culpa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y perdonado su pecado.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Dichoso aquel a quien el Señor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no le imputa la falta.</a:t>
            </a: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" dur="3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20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_x000b_10048B-.jpg                                                    00000013_x000c_Macintosh HD                   B9BE4824:"/>
          <p:cNvPicPr/>
          <p:nvPr/>
        </p:nvPicPr>
        <p:blipFill>
          <a:blip r:embed="rId1"/>
          <a:stretch/>
        </p:blipFill>
        <p:spPr>
          <a:xfrm>
            <a:off x="0" y="0"/>
            <a:ext cx="9360000" cy="703584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6"/>
          <p:cNvSpPr/>
          <p:nvPr/>
        </p:nvSpPr>
        <p:spPr>
          <a:xfrm>
            <a:off x="1981080" y="762120"/>
            <a:ext cx="5778720" cy="1312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Arial Unicode MS"/>
              </a:rPr>
              <a:t>Perdona, Señor,</a:t>
            </a:r>
            <a:br>
              <a:rPr sz="4000"/>
            </a:br>
            <a:r>
              <a:rPr b="1" i="1" lang="es-ES" sz="4000" spc="-1" strike="noStrike">
                <a:solidFill>
                  <a:srgbClr val="ffffff"/>
                </a:solidFill>
                <a:latin typeface="Arial Unicode MS"/>
              </a:rPr>
              <a:t>mi culpa y mi pecado.</a:t>
            </a:r>
            <a:endParaRPr b="0" i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533520" y="3000240"/>
            <a:ext cx="8458200" cy="22885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e3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Pero reconocí ante ti mi pecado,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no te encubrí mi falta; me dije: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“Confesaré al Señor mis culpas”.</a:t>
            </a:r>
            <a:endParaRPr b="0" i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Y tú perdonaste mi falta y mi pecado.</a:t>
            </a:r>
            <a:endParaRPr b="0" i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dissolv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500"/>
                            </p:stCondLst>
                            <p:childTnLst>
                              <p:par>
                                <p:cTn id="54" nodeType="afterEffect" fill="hold" presetClass="entr" presetID="16" presetSubtype="26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_x0007_004.jpg                                                        000077BF_x000c_Macintosh HD                   B9BE4824:"/>
          <p:cNvPicPr/>
          <p:nvPr/>
        </p:nvPicPr>
        <p:blipFill>
          <a:blip r:embed="rId1"/>
          <a:stretch/>
        </p:blipFill>
        <p:spPr>
          <a:xfrm>
            <a:off x="0" y="-101520"/>
            <a:ext cx="9360000" cy="70358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3"/>
          <p:cNvSpPr/>
          <p:nvPr/>
        </p:nvSpPr>
        <p:spPr>
          <a:xfrm>
            <a:off x="2590920" y="762120"/>
            <a:ext cx="6019560" cy="1312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Arial Unicode MS"/>
              </a:rPr>
              <a:t>Perdona, Señor,</a:t>
            </a:r>
            <a:br>
              <a:rPr sz="4000"/>
            </a:br>
            <a:r>
              <a:rPr b="1" i="1" lang="es-ES" sz="4000" spc="-1" strike="noStrike">
                <a:solidFill>
                  <a:srgbClr val="ffffff"/>
                </a:solidFill>
                <a:latin typeface="Arial Unicode MS"/>
              </a:rPr>
              <a:t>mi culpa y mi pecado.</a:t>
            </a:r>
            <a:r>
              <a:rPr b="1" i="1" lang="es-E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i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304920" y="3733920"/>
            <a:ext cx="8839080" cy="11300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e3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ca-E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ú eres mi refugio, me libras del peligro,</a:t>
            </a:r>
            <a:br>
              <a:rPr sz="3200"/>
            </a:br>
            <a:r>
              <a:rPr b="1" i="1" lang="ca-E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 rodeas de cantos de liberación.</a:t>
            </a: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dissolv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nodeType="afterEffect" fill="hold" presetClass="entr" presetID="16" presetSubtype="26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&#9;10051.jpg                                                      000077BF_x000c_Macintosh HD                   B9BE4824:"/>
          <p:cNvPicPr/>
          <p:nvPr/>
        </p:nvPicPr>
        <p:blipFill>
          <a:blip r:embed="rId1"/>
          <a:stretch/>
        </p:blipFill>
        <p:spPr>
          <a:xfrm>
            <a:off x="0" y="0"/>
            <a:ext cx="9360000" cy="702324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3"/>
          <p:cNvSpPr/>
          <p:nvPr/>
        </p:nvSpPr>
        <p:spPr>
          <a:xfrm>
            <a:off x="685800" y="1006560"/>
            <a:ext cx="5715000" cy="1312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Arial Unicode MS"/>
              </a:rPr>
              <a:t>Perdona, Señor,</a:t>
            </a:r>
            <a:br>
              <a:rPr sz="4000"/>
            </a:br>
            <a:r>
              <a:rPr b="1" i="1" lang="es-ES" sz="4000" spc="-1" strike="noStrike">
                <a:solidFill>
                  <a:srgbClr val="ffffff"/>
                </a:solidFill>
                <a:latin typeface="Arial Unicode MS"/>
              </a:rPr>
              <a:t>mi culpa y mi pecado.</a:t>
            </a:r>
            <a:endParaRPr b="0" i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152280" y="3962520"/>
            <a:ext cx="8839440" cy="11300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e3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ca-E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¡Alegraos, justos y exultad con el Señor,</a:t>
            </a:r>
            <a:br>
              <a:rPr sz="3200"/>
            </a:br>
            <a:r>
              <a:rPr b="1" i="1" lang="ca-E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ad gritos de júbilo los rectos de corazón!</a:t>
            </a:r>
            <a:r>
              <a:rPr b="0" i="1" lang="es-E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dissolv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500"/>
                            </p:stCondLst>
                            <p:childTnLst>
                              <p:par>
                                <p:cTn id="80" nodeType="afterEffect" fill="hold" presetClass="entr" presetID="18" presetSubtype="6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C:\Documents and Settings\st benet\Mis documentos\Mis imágenes\bíblics\tex,map,sim\resized_tora.jpg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9026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2"/>
          <p:cNvSpPr/>
          <p:nvPr/>
        </p:nvSpPr>
        <p:spPr>
          <a:xfrm>
            <a:off x="304920" y="762120"/>
            <a:ext cx="8610480" cy="52146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Ga 2,16.19-21 </a:t>
            </a:r>
            <a:endParaRPr b="0" i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ermanos: sabemos</a:t>
            </a:r>
            <a:r>
              <a:rPr b="1" i="1" lang="ca-E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i="1" lang="es-E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que el hombre no se justifica por las obras de la ley sino sólo por la fe en Jesucristo, también nosotros hemos creído en Cristo Jesús a fin de conseguir la justificación por la fe en Cristo, y no por las obras de la ley, pues por las obras de la ley nadie será justificado.</a:t>
            </a:r>
            <a:br>
              <a:rPr sz="2400"/>
            </a:br>
            <a:r>
              <a:rPr b="0" i="1" lang="es-E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En efecto, yo por la ley he muerto a la ley, a fin de vivir para Dios: con Cristo estoy crucificado: </a:t>
            </a:r>
            <a:endParaRPr b="0" i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y no vivo yo, sino que es Cristo quien vive en mí; </a:t>
            </a:r>
            <a:br>
              <a:rPr sz="2400"/>
            </a:br>
            <a:r>
              <a:rPr b="0" i="1" lang="es-E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la vida que vivo al presente en la carne, la vivo en la fe del Hijo de Dios que me amó y se entregó a sí mismo por mí. </a:t>
            </a:r>
            <a:endParaRPr b="0" i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o tengo por inútil la gracia de Dios, pues si por la ley se obtuviera la justificación, entonces hubiese muerto  Cristo en vano.</a:t>
            </a:r>
            <a:endParaRPr b="0" i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dissolv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6" descr="C:\Documents and Settings\st benet\Mis documentos\Mis imágenes\naturalesa\vegetació\verdfosc2w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609480" y="4495680"/>
            <a:ext cx="830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ca-ES" sz="32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Aleluya I Jn 4,10b     </a:t>
            </a:r>
            <a:br>
              <a:rPr sz="3200"/>
            </a:br>
            <a:r>
              <a:rPr b="1" i="1" lang="ca-ES" sz="32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Dios nos amó y nos envió a su Hijo</a:t>
            </a:r>
            <a:br>
              <a:rPr sz="3200"/>
            </a:br>
            <a:r>
              <a:rPr b="1" i="1" lang="ca-ES" sz="32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para librarnos de nuestros pecados.</a:t>
            </a: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dissolv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d5e3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C:\Documents and Settings\st benet\Mis documentos\Mis imágenes\bíblics\escenNT\en-el-jardin.jpg"/>
          <p:cNvPicPr/>
          <p:nvPr/>
        </p:nvPicPr>
        <p:blipFill>
          <a:blip r:embed="rId1"/>
          <a:stretch/>
        </p:blipFill>
        <p:spPr>
          <a:xfrm>
            <a:off x="0" y="0"/>
            <a:ext cx="456264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4"/>
          <p:cNvSpPr/>
          <p:nvPr/>
        </p:nvSpPr>
        <p:spPr>
          <a:xfrm>
            <a:off x="4038480" y="304920"/>
            <a:ext cx="5105520" cy="61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</a:t>
            </a:r>
            <a:r>
              <a:rPr b="1" i="1" lang="ca-E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c 7, 36-8,3 </a:t>
            </a:r>
            <a:br>
              <a:rPr sz="2000"/>
            </a:br>
            <a:r>
              <a:rPr b="1" i="1" lang="es-ES" sz="1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Un fariseo rogó a Jesús que comiera con él. Jesús, entrando en la casa del fariseo, se recostó a la mesa. </a:t>
            </a:r>
            <a:endParaRPr b="0" i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       </a:t>
            </a:r>
            <a:r>
              <a:rPr b="1" i="1" lang="es-ES" sz="1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Había en la ciudad una mujer pecadora pública, quien al saber que estaba comiendo en casa del fariseo, llevó un  frasco de alabastro de perfume, y poniéndose detrás, a los pies de él, comenzó a llorar, y con sus lágrimas le mojaba los pies y con los cabellos de su cabeza se los secaba; besaba sus pies y los ungía con el perfume. </a:t>
            </a:r>
            <a:endParaRPr b="0" i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      </a:t>
            </a:r>
            <a:r>
              <a:rPr b="1" i="1" lang="es-ES" sz="1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Al verlo el fariseo que le había invitado, se decía para sí: « Si éste fuera profeta, sabría quién y qué clase de mujer es la que le está tocando, pues es una pecadora. » </a:t>
            </a:r>
            <a:br>
              <a:rPr sz="1800"/>
            </a:br>
            <a:r>
              <a:rPr b="1" i="1" lang="es-ES" sz="1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40 Jesús le respondió: « Simón, tengo algo que decirte. » El dijo: « Di, maestro. »  .../...</a:t>
            </a:r>
            <a:endParaRPr b="0" i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dissolv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7" presetSubtype="4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9:10Z</dcterms:created>
  <dc:creator>JOAN RAMIREZ</dc:creator>
  <dc:description/>
  <dc:language>en-US</dc:language>
  <cp:lastModifiedBy>Usuario</cp:lastModifiedBy>
  <dcterms:modified xsi:type="dcterms:W3CDTF">2010-06-08T14:31:27Z</dcterms:modified>
  <cp:revision>16</cp:revision>
  <dc:subject/>
  <dc:title>Presentación de PowerPoint</dc:title>
</cp:coreProperties>
</file>