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Yesav%20haEl%20(homew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CFC-FEBF-4BC5-B30D-B4AE4AEB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79F-7910-4F6B-9430-EF69BE9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8F3-0959-47BF-8BF0-0F0A9997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2A3-85A5-479E-BA79-892C7ECE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314-31B5-4F7C-9C42-662EDD27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5AD-28F2-41C3-A882-DA069AEC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990-5646-47CE-8CA4-803AF980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4B7-3109-4038-88C3-85D9AA28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F3E-BFC5-4E56-A853-8C15FF85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258-F4E0-45FA-8BC5-1D1A363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DF3-8F06-45F5-B261-18442A97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105-54A1-45A1-9839-A331828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D810-7325-4171-98AE-F0D6E67BC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Yesav%20haEl%20(home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7_001.jpg                                                        000077BF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360000" cy="7023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643040" y="4214880"/>
            <a:ext cx="588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13 de junio del 2010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57120" y="1785960"/>
            <a:ext cx="500076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6000" spc="-1" strike="noStrike">
                <a:solidFill>
                  <a:srgbClr val="e30000"/>
                </a:solidFill>
                <a:latin typeface="Comic Sans MS"/>
              </a:rPr>
              <a:t>Domingo XI </a:t>
            </a:r>
            <a:endParaRPr b="0" i="1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e30000"/>
                </a:solidFill>
                <a:latin typeface="Comic Sans MS"/>
              </a:rPr>
              <a:t>Tiempo Ordinario  -C-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92480" y="5791320"/>
            <a:ext cx="54522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Música: “Yesav haEl” liturgia judeoespañola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  <p:sndAc>
      <p:stSnd>
        <p:snd r:embed="rId2" name="Yesav%20haEl%20(hom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:\Documents and Settings\st benet\Mis documentos\Mis imágenes\monestirsb\Gerr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228600" y="380880"/>
            <a:ext cx="8686800" cy="6311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...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acreedor tenía dos deudores: uno debía quinientos denarios y el otro cincuenta.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o no tenían para pagarle, perdonó a los dos. ¿Quién de ellos le amará más? »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spondió Simón: « Supongo que aquel a quien perdonó más. » El le dijo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sí es »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volviéndose hacia la mujer, dijo a Simón: « ¿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Ves a esta mujer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?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tré en tu casa y no me diste agua para los pies. Ella, en cambio, ha mojado mis pies con lágrimas, y los ha secado con sus cabellos. No me diste el beso. Ella, desde que entró, no ha dejado de besarme los pies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 ungiste mi cabeza con aceite. Ella ha ungido mis pies con perfume. Por eso te digo que quedan perdonados sus muchos pecados, porque ha mostrado mucho amor. A quien poco se le perdona, poco amor muestra. »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Documents and Settings\st benet\Mis documentos\Mis imágenes\monestirsb\Gerr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228600" y="457200"/>
            <a:ext cx="8686800" cy="4483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...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le dijo a ella: « </a:t>
            </a:r>
            <a:r>
              <a:rPr b="1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us pecados quedan perdonados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»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os comensales empezaron a decirse para sí: « ¿Quién es éste que hasta perdona los pecados? »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ero él dijo a la mujer: « </a:t>
            </a:r>
            <a:r>
              <a:rPr b="1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u fe te ha salvado. Vete en paz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»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sucedió a continuación que iba por ciudades y pueblos, proclamando y anunciando la Buena Nueva del Reino de Dios; le acompañaban los Doce, y algunas mujeres que habían sido curadas de espíritus malignos y enfermedades: María, llamada Magdalena, de la  que habían salido siete demonios, Juana, mujer de Cusa, un administrador de Herodes, Susana y otras muchas que les servían con sus bienes.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st benet\Mis documentos\Mis imágenes\bíblics\jerusjueva\resized_tom-davi-ol2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609480" y="914400"/>
            <a:ext cx="8001000" cy="478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S 12,7-10.13 </a:t>
            </a:r>
            <a:br>
              <a:rPr sz="2400"/>
            </a:br>
            <a:r>
              <a:rPr b="1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jo</a:t>
            </a:r>
            <a:r>
              <a:rPr b="1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atán a David: « Tú eres ese hombre. Así dice Yahveh Dios de Israel: Yo te he ungido rey de Israel y te he librado de las manos de Saúl.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e he dado la casa de tu señor y he puesto en tu seno las mujeres de tu señor; te he dado la casa de Israel y de Judá; y si es poco, te añadiré todavía otras cosas.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¿Por qué has menospreciado a Yahveh haciendo lo malo a sus ojos, matando a espada a Urías el hitita, tomando a su mujer por mujer tuya y matándole por la espada de los ammonitas?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ues bien, nunca se apartará la espada de tu casa, ya que me has despreciado y has tomado la mujer de Urías el  hitita para mujer tuya. David dijo a Natán: « He pecado contra Yahveh. » Respondió Natán a David: « También Yahveh perdona tu pecado; no morirás.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131440" y="228600"/>
            <a:ext cx="3897720" cy="39888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Tumba del rey David. Jerusalén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st benet\Mis documentos\Mis imágenes\naturalesa\vegetació\resized_hervaw.jpg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st benet\Mis documentos\Mis imágenes\naturalesa\vegetació\resized_hervaw.jpg"/>
          <p:cNvPicPr/>
          <p:nvPr/>
        </p:nvPicPr>
        <p:blipFill>
          <a:blip r:embed="rId2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609480" y="723960"/>
            <a:ext cx="2748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Comic Sans MS"/>
              </a:rPr>
              <a:t>Salmo 31</a:t>
            </a:r>
            <a:endParaRPr b="0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219320" y="1676520"/>
            <a:ext cx="58672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Perdona, Señor,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mi culpa y mi pecado</a:t>
            </a:r>
            <a:r>
              <a:rPr b="1" i="1" lang="es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37440" y="3581280"/>
            <a:ext cx="6692760" cy="2043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e3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ichoso el que ve olvidada su culp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 perdonado su pecado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ichoso aquel a quien el Señor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o le imputa la falta.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2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b_10048B-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360000" cy="7035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1981080" y="762120"/>
            <a:ext cx="577872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Perdona, Señor,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mi culpa y mi pecado.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3520" y="3000240"/>
            <a:ext cx="845820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e3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Pero reconocí ante ti mi pecado,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no te encubrí mi falta; me dije: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“Confesaré al Señor mis culpas”.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Y tú perdonaste mi falta y mi pecado.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_x0007_004.jpg                                                        000077BF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101520"/>
            <a:ext cx="9360000" cy="7035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590920" y="762120"/>
            <a:ext cx="601956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Perdona, Señor,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mi culpa y mi pecado.</a:t>
            </a:r>
            <a:r>
              <a:rPr b="1" i="1" lang="es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04920" y="3733920"/>
            <a:ext cx="8839080" cy="1130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e3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ú eres mi refugio, me libras del peligro,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 rodeas de cantos de liberación.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9;10051.jpg                                                      000077BF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360000" cy="7023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85800" y="1006560"/>
            <a:ext cx="5715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Perdona, Señor,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mi culpa y mi pecado.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52280" y="3962520"/>
            <a:ext cx="8839440" cy="1130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e3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¡Alegraos, justos y exultad con el Señor,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d gritos de júbilo los rectos de corazón!</a:t>
            </a:r>
            <a:r>
              <a:rPr b="0" i="1" lang="es-E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st benet\Mis documentos\Mis imágenes\bíblics\tex,map,sim\resized_tora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304920" y="762120"/>
            <a:ext cx="8610480" cy="5214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Ga 2,16.19-21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manos: sabemos</a:t>
            </a:r>
            <a:r>
              <a:rPr b="1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el hombre no se justifica por las obras de la ley sino sólo por la fe en Jesucristo, también nosotros hemos creído en Cristo Jesús a fin de conseguir la justificación por la fe en Cristo, y no por las obras de la ley, pues por las obras de la ley nadie será justificado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En efecto, yo por la ley he muerto a la ley, a fin de vivir para Dios: con Cristo estoy crucificado: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no vivo yo, sino que es Cristo quien vive en mí;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vida que vivo al presente en la carne, la vivo en la fe del Hijo de Dios que me amó y se entregó a sí mismo por mí.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 tengo por inútil la gracia de Dios, pues si por la ley se obtuviera la justificación, entonces hubiese muerto  Cristo en vano.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C:\Documents and Settings\st benet\Mis documentos\Mis imágenes\naturalesa\vegetació\verdfosc2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09480" y="44956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Aleluya I Jn 4,10b     </a:t>
            </a:r>
            <a:br>
              <a:rPr sz="3200"/>
            </a:br>
            <a:r>
              <a:rPr b="1" i="1" lang="ca-E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ios nos amó y nos envió a su Hijo</a:t>
            </a:r>
            <a:br>
              <a:rPr sz="3200"/>
            </a:br>
            <a:r>
              <a:rPr b="1" i="1" lang="ca-E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para librarnos de nuestros pecados.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e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Documents and Settings\st benet\Mis documentos\Mis imágenes\bíblics\escenNT\en-el-jardin.jpg"/>
          <p:cNvPicPr/>
          <p:nvPr/>
        </p:nvPicPr>
        <p:blipFill>
          <a:blip r:embed="rId1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4038480" y="304920"/>
            <a:ext cx="51055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1" i="1" lang="ca-E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7, 36-8,3 </a:t>
            </a:r>
            <a:br>
              <a:rPr sz="2000"/>
            </a:b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Un fariseo rogó a Jesús que comiera con él. Jesús, entrando en la casa del fariseo, se recostó a la mesa. 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     </a:t>
            </a: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abía en la ciudad una mujer pecadora pública, quien al saber que estaba comiendo en casa del fariseo, llevó un  frasco de alabastro de perfume, y poniéndose detrás, a los pies de él, comenzó a llorar, y con sus lágrimas le mojaba los pies y con los cabellos de su cabeza se los secaba; besaba sus pies y los ungía con el perfume. 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    </a:t>
            </a: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l verlo el fariseo que le había invitado, se decía para sí: « Si éste fuera profeta, sabría quién y qué clase de mujer es la que le está tocando, pues es una pecadora. » </a:t>
            </a:r>
            <a:br>
              <a:rPr sz="1800"/>
            </a:b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40 Jesús le respondió: « Simón, tengo algo que decirte. » El dijo: « Di, maestro. »  .../..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7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9:10Z</dcterms:created>
  <dc:creator>JOAN RAMIREZ</dc:creator>
  <dc:description/>
  <dc:language>en-US</dc:language>
  <cp:lastModifiedBy>Usuario</cp:lastModifiedBy>
  <dcterms:modified xsi:type="dcterms:W3CDTF">2010-06-08T14:31:27Z</dcterms:modified>
  <cp:revision>16</cp:revision>
  <dc:subject/>
  <dc:title>Presentación de PowerPoint</dc:title>
</cp:coreProperties>
</file>