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png" ContentType="image/png"/>
  <Override PartName="/ppt/media/Whitney%20Houston%20-%20I%20Will%20Always%20Love%20You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EC36-5451-4AC9-AE6B-23C52E9A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10D8-AB18-49E6-986D-44800052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79C7-1C7B-4588-A046-C2E452F41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220D-E481-4883-9F67-9F24D9EB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83EF-C84C-41BA-8290-EEFAD0F8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6D52-14BA-48B5-95C3-AC2ABC13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4A2E-6E99-4E74-A6D3-6F79D6C9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D6FA-F645-4ABE-A2DB-C671E971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928F-1DA2-4132-8098-BC778034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B1CD-5463-45A5-8967-01C705D3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FAC3-41C9-4552-95AF-61146C5C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5915-0A20-4167-9243-5106B717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9E01-7161-49C2-8EA0-02916AD21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audio" Target="../media/Whitney%20Houston%20-%20I%20Will%20Always%20Love%20You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CampanitaNueva"/>
          <p:cNvPicPr/>
          <p:nvPr/>
        </p:nvPicPr>
        <p:blipFill>
          <a:blip r:embed="rId2"/>
          <a:stretch/>
        </p:blipFill>
        <p:spPr>
          <a:xfrm>
            <a:off x="6095880" y="3809880"/>
            <a:ext cx="2724120" cy="1381320"/>
          </a:xfrm>
          <a:prstGeom prst="rect">
            <a:avLst/>
          </a:prstGeom>
          <a:ln w="0">
            <a:noFill/>
          </a:ln>
        </p:spPr>
      </p:pic>
      <p:pic>
        <p:nvPicPr>
          <p:cNvPr id="42" name="Whitney Houston - I Will Always Love You.wav" descr=""/>
          <p:cNvPicPr/>
          <p:nvPr/>
        </p:nvPicPr>
        <p:blipFill>
          <a:blip r:embed="rId3"/>
          <a:stretch/>
        </p:blipFill>
        <p:spPr>
          <a:xfrm rot="10800000">
            <a:off x="-381240" y="6858000"/>
            <a:ext cx="75960" cy="76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295280" y="838080"/>
            <a:ext cx="662940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ffcc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92c600">
                      <a:alpha val="50000"/>
                    </a:srgbClr>
                  </a:outerShdw>
                </a:effectLst>
                <a:latin typeface="Lucida Handwriting"/>
              </a:rPr>
              <a:t>Nunca es tarde...</a:t>
            </a:r>
            <a:endParaRPr b="0" lang="en-US" sz="1600" spc="1" strike="noStrike">
              <a:ln w="12600">
                <a:solidFill>
                  <a:srgbClr val="ffcc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92c600">
                    <a:alpha val="50000"/>
                  </a:srgbClr>
                </a:outerShdw>
              </a:effectLst>
              <a:latin typeface="Lucida Handwriting"/>
              <a:ea typeface="Lucida Handwritin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ffcc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92c600">
                      <a:alpha val="50000"/>
                    </a:srgbClr>
                  </a:outerShdw>
                </a:effectLst>
                <a:latin typeface="Lucida Handwriting"/>
              </a:rPr>
              <a:t>para  que  aprendas</a:t>
            </a:r>
            <a:endParaRPr b="0" lang="en-US" sz="1600" spc="1" strike="noStrike">
              <a:ln w="12600">
                <a:solidFill>
                  <a:srgbClr val="ffcc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92c600">
                    <a:alpha val="50000"/>
                  </a:srgbClr>
                </a:outerShdw>
              </a:effectLst>
              <a:latin typeface="Lucida Handwriting"/>
              <a:ea typeface="Lucida Handwritin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ffcc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92c600">
                      <a:alpha val="50000"/>
                    </a:srgbClr>
                  </a:outerShdw>
                </a:effectLst>
                <a:latin typeface="Lucida Handwriting"/>
              </a:rPr>
              <a:t>a comprender  a  la  MUJER</a:t>
            </a:r>
            <a:endParaRPr b="0" lang="en-US" sz="1600" spc="1" strike="noStrike">
              <a:ln w="12600">
                <a:solidFill>
                  <a:srgbClr val="ffcc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92c600">
                    <a:alpha val="50000"/>
                  </a:srgbClr>
                </a:outerShdw>
              </a:effectLst>
              <a:latin typeface="Lucida Handwriting"/>
              <a:ea typeface="Lucida Handwriting"/>
            </a:endParaRPr>
          </a:p>
        </p:txBody>
      </p:sp>
    </p:spTree>
  </p:cSld>
  <p:transition spd="med">
    <p:wheel spokes="8"/>
    <p:sndAc>
      <p:stSnd>
        <p:snd r:embed="rId4" name="Whitney%20Houston%20-%20I%20Will%20Always%20Love%20You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185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0" descr="CampanitaNueva"/>
          <p:cNvPicPr/>
          <p:nvPr/>
        </p:nvPicPr>
        <p:blipFill>
          <a:blip r:embed="rId2"/>
          <a:stretch/>
        </p:blipFill>
        <p:spPr>
          <a:xfrm>
            <a:off x="4648320" y="1828800"/>
            <a:ext cx="3105000" cy="1380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5"/>
          <p:cNvSpPr/>
          <p:nvPr/>
        </p:nvSpPr>
        <p:spPr>
          <a:xfrm>
            <a:off x="304920" y="4495680"/>
            <a:ext cx="883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cript MT Bold"/>
              </a:rPr>
              <a:t>La mujer quiere una mirada profunda y también una cari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cript MT Bold"/>
              </a:rPr>
              <a:t>Ella no quiere compañía pasajera, quiere pres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cript MT Bold"/>
              </a:rPr>
              <a:t>La mujer quiere, lo que es más sencillo de otorga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cript MT Bold"/>
              </a:rPr>
              <a:t>afecto, dulzura y Am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8"/>
          <p:cNvSpPr/>
          <p:nvPr/>
        </p:nvSpPr>
        <p:spPr>
          <a:xfrm>
            <a:off x="304920" y="4114800"/>
            <a:ext cx="883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busca una mano, busca tacto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No busca momentos efímeros, espera acontecimientos duraderos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busca tu risa, espera tu alegr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Ofrece lo que siempre has podido dar. 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CampanitaNueva"/>
          <p:cNvPicPr/>
          <p:nvPr/>
        </p:nvPicPr>
        <p:blipFill>
          <a:blip r:embed="rId2"/>
          <a:stretch/>
        </p:blipFill>
        <p:spPr>
          <a:xfrm>
            <a:off x="5791320" y="1981080"/>
            <a:ext cx="3105000" cy="1381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28951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desea un cuerpo, desea un abraz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No desea halagos, desea palab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desea unos labios, desea un beso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No desea ser persona, desea ser Muj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pera tu tiempo, espera tiempo conti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pera pasión, espera ro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No espera sexo, espera Am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CampanitaNueva"/>
          <p:cNvPicPr/>
          <p:nvPr/>
        </p:nvPicPr>
        <p:blipFill>
          <a:blip r:embed="rId2"/>
          <a:stretch/>
        </p:blipFill>
        <p:spPr>
          <a:xfrm>
            <a:off x="5410080" y="1600200"/>
            <a:ext cx="3105360" cy="1380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304920" y="4648320"/>
            <a:ext cx="883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pera belleza, espera que la hagan sentir b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es mujer, no la trates como a un ho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es mujer: no es física, es sentim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 cuerpo, es corazón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CampanitaNueva"/>
          <p:cNvPicPr/>
          <p:nvPr/>
        </p:nvPicPr>
        <p:blipFill>
          <a:blip r:embed="rId2"/>
          <a:stretch/>
        </p:blipFill>
        <p:spPr>
          <a:xfrm>
            <a:off x="4572000" y="1828800"/>
            <a:ext cx="3105000" cy="1380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240" y="4571640"/>
            <a:ext cx="8915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res tú, no la trates como esperas que te tra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 para poseerla, es para admirarla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 para convencerla, es para conquistar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7" descr="CampanitaNueva"/>
          <p:cNvPicPr/>
          <p:nvPr/>
        </p:nvPicPr>
        <p:blipFill>
          <a:blip r:embed="rId2"/>
          <a:stretch/>
        </p:blipFill>
        <p:spPr>
          <a:xfrm>
            <a:off x="4267080" y="2666880"/>
            <a:ext cx="3105360" cy="1381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0880" y="3352680"/>
            <a:ext cx="8763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 para conocerla superficialmente, es para entenderla en profundid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No es siempre lo que tú crees: Ella es mucho 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 un rostro, es un to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 difícil, es misteri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 tacto, es cari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Ella no es la espina, es la r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CampanitaNueva"/>
          <p:cNvPicPr/>
          <p:nvPr/>
        </p:nvPicPr>
        <p:blipFill>
          <a:blip r:embed="rId2"/>
          <a:stretch/>
        </p:blipFill>
        <p:spPr>
          <a:xfrm>
            <a:off x="1981080" y="1828800"/>
            <a:ext cx="3105360" cy="1380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560" y="731520"/>
            <a:ext cx="83818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Eso quiere. Eso busca.  Eso desea. Eso esp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¿Puedes dárselo?. Si piensas que sí te has ganado el calificativo de H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Si piensas que no, trata por lo menos de no hacerla sufrir y de no dejar pasar el momento para poder comprender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Recuerda que Ella es es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Simplemente:  </a:t>
            </a: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UNA MUJ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Handwriting"/>
              </a:rPr>
              <a:t>RESPETALA, AMALA, QUIEREL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Handwriting"/>
              </a:rPr>
              <a:t>PERO JAMAS LA OFEN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CampanitaNueva"/>
          <p:cNvPicPr/>
          <p:nvPr/>
        </p:nvPicPr>
        <p:blipFill>
          <a:blip r:embed="rId2"/>
          <a:stretch/>
        </p:blipFill>
        <p:spPr>
          <a:xfrm>
            <a:off x="4419720" y="2133720"/>
            <a:ext cx="3105000" cy="1376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609480" y="152280"/>
            <a:ext cx="838224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6" descr="CampanitaNueva"/>
          <p:cNvPicPr/>
          <p:nvPr/>
        </p:nvPicPr>
        <p:blipFill>
          <a:blip r:embed="rId2"/>
          <a:stretch/>
        </p:blipFill>
        <p:spPr>
          <a:xfrm>
            <a:off x="5334120" y="3200400"/>
            <a:ext cx="3105000" cy="137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1295280"/>
            <a:ext cx="784836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CON MUCHO CARIÑO PARA TO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LAS MUJERES DEL MUNDO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EN ESPECIAL A MIS AMIGAS.</a:t>
            </a:r>
            <a:r>
              <a:rPr b="1" lang="en-US" sz="2800" spc="-1" strike="noStrike">
                <a:solidFill>
                  <a:srgbClr val="ffff00"/>
                </a:solidFill>
                <a:latin typeface="Lucida Handwrit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Handwriting"/>
              </a:rPr>
              <a:t>POR FAVOR ENVIA ESTO A TODAS TUS AMIGA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Handwriting"/>
              </a:rPr>
              <a:t>Y A LOS HOMBRES PARA QUE COMPREND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Handwriting"/>
              </a:rPr>
              <a:t>EL SENTIR DE UNA MUJ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4:31:04Z</dcterms:created>
  <dc:creator>NELLY NECIOSUP</dc:creator>
  <dc:description/>
  <dc:language>en-US</dc:language>
  <cp:lastModifiedBy>LS</cp:lastModifiedBy>
  <dcterms:modified xsi:type="dcterms:W3CDTF">2008-09-13T11:10:10Z</dcterms:modified>
  <cp:revision>4</cp:revision>
  <dc:subject>La MUJER</dc:subject>
  <dc:title>Diapositiva 1</dc:title>
</cp:coreProperties>
</file>