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Whitney%20Houston%20-%20I%20Will%20Always%20Love%20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49C-18FE-4507-B28F-69F1FEC8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E4F-0F2C-475D-BD03-699DD77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29E-8684-4474-B311-7A722119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590-E936-4934-A5AE-2351763A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21F-8808-4622-8E24-C89E010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31C-BB0E-4F96-8CB2-A293D28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79-39E1-4B80-8FE1-93ACFD3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FF-FB5C-4F22-826B-0BC874F0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DA4-3D4F-455A-8054-465ADFE9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470-0E4F-4E63-94BB-94CF38F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6AB-6191-42FD-939D-5E9ADD0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761-831F-4B14-BF12-7716553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0AB1-840C-42B8-92B4-67F4C2BA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Whitney%20Houston%20-%20I%20Will%20Always%20Love%20You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ampanitaNueva"/>
          <p:cNvPicPr/>
          <p:nvPr/>
        </p:nvPicPr>
        <p:blipFill>
          <a:blip r:embed="rId2"/>
          <a:stretch/>
        </p:blipFill>
        <p:spPr>
          <a:xfrm>
            <a:off x="6095880" y="3809880"/>
            <a:ext cx="272412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Whitney Houston - I Will Always Love You.wav" descr=""/>
          <p:cNvPicPr/>
          <p:nvPr/>
        </p:nvPicPr>
        <p:blipFill>
          <a:blip r:embed="rId3"/>
          <a:stretch/>
        </p:blipFill>
        <p:spPr>
          <a:xfrm rot="10800000">
            <a:off x="-381240" y="68580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838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Nunca es tarde...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para  que  aprendas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a comprender  a  la  MUJER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</p:spTree>
  </p:cSld>
  <p:transition spd="med">
    <p:wheel spokes="8"/>
    <p:sndAc>
      <p:stSnd>
        <p:snd r:embed="rId4" name="Whitney%20Houston%20-%20I%20Will%20Always%20Love%20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0" descr="CampanitaNueva"/>
          <p:cNvPicPr/>
          <p:nvPr/>
        </p:nvPicPr>
        <p:blipFill>
          <a:blip r:embed="rId2"/>
          <a:stretch/>
        </p:blipFill>
        <p:spPr>
          <a:xfrm>
            <a:off x="4648320" y="1828800"/>
            <a:ext cx="3105000" cy="138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5"/>
          <p:cNvSpPr/>
          <p:nvPr/>
        </p:nvSpPr>
        <p:spPr>
          <a:xfrm>
            <a:off x="304920" y="449568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 una mirada profunda y también una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Ella no quiere compañía pasajera, quiere pres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, lo que es más sencillo de otorga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afecto, dulzura y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una mano, busca tact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busca momentos efímeros, espera acontecimientos durader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tu risa, espera tu aleg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Ofrece lo que siempre has podido dar.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ampanitaNueva"/>
          <p:cNvPicPr/>
          <p:nvPr/>
        </p:nvPicPr>
        <p:blipFill>
          <a:blip r:embed="rId2"/>
          <a:stretch/>
        </p:blipFill>
        <p:spPr>
          <a:xfrm>
            <a:off x="5791320" y="1981080"/>
            <a:ext cx="31050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 cuerpo, desea un ab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halagos, desea pal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os labios, desea un bes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ser persona, desea ser Muj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tu tiempo, espera tiempo conti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pasión, espera ro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pera sexo, espera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ampanitaNueva"/>
          <p:cNvPicPr/>
          <p:nvPr/>
        </p:nvPicPr>
        <p:blipFill>
          <a:blip r:embed="rId2"/>
          <a:stretch/>
        </p:blipFill>
        <p:spPr>
          <a:xfrm>
            <a:off x="5410080" y="16002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04920" y="46483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belleza, espera que la hagan sentir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, no la trates como a un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: no es física, es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cuerpo, es coraz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ampanitaNueva"/>
          <p:cNvPicPr/>
          <p:nvPr/>
        </p:nvPicPr>
        <p:blipFill>
          <a:blip r:embed="rId2"/>
          <a:stretch/>
        </p:blipFill>
        <p:spPr>
          <a:xfrm>
            <a:off x="4572000" y="1828800"/>
            <a:ext cx="310500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45716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res tú, no la trates como esperas que te tr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poseerla, es para admirarla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vencerla, es para conquis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CampanitaNueva"/>
          <p:cNvPicPr/>
          <p:nvPr/>
        </p:nvPicPr>
        <p:blipFill>
          <a:blip r:embed="rId2"/>
          <a:stretch/>
        </p:blipFill>
        <p:spPr>
          <a:xfrm>
            <a:off x="4267080" y="2666880"/>
            <a:ext cx="310536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0880" y="3352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ocerla superficialmente, es para entenderla en profund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 siempre lo que tú crees: Ella es mucho 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un rostro, es un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difícil, es mister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tacto, es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Ella no es la espina, es la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ampanitaNueva"/>
          <p:cNvPicPr/>
          <p:nvPr/>
        </p:nvPicPr>
        <p:blipFill>
          <a:blip r:embed="rId2"/>
          <a:stretch/>
        </p:blipFill>
        <p:spPr>
          <a:xfrm>
            <a:off x="1981080" y="18288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7315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Eso quiere. Eso busca.  Eso desea. Eso esp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¿Puedes dárselo?. Si piensas que sí te has ganado el calificativo de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 piensas que no, trata por lo menos de no hacerla sufrir y de no dejar pasar el momento para poder comprender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Recuerda que Ella es e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mplemente:  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UN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RESPETALA, AMALA, QUIERE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PERO JAMAS LA OF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CampanitaNueva"/>
          <p:cNvPicPr/>
          <p:nvPr/>
        </p:nvPicPr>
        <p:blipFill>
          <a:blip r:embed="rId2"/>
          <a:stretch/>
        </p:blipFill>
        <p:spPr>
          <a:xfrm>
            <a:off x="4419720" y="213372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152280"/>
            <a:ext cx="838224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CampanitaNueva"/>
          <p:cNvPicPr/>
          <p:nvPr/>
        </p:nvPicPr>
        <p:blipFill>
          <a:blip r:embed="rId2"/>
          <a:stretch/>
        </p:blipFill>
        <p:spPr>
          <a:xfrm>
            <a:off x="5334120" y="320040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295280"/>
            <a:ext cx="78483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CON MUCHO CARIÑO PARA TO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LAS MUJERES DEL MUN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ESPECIAL A MIS AMIGAS.</a:t>
            </a: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POR FAVOR ENVIA ESTO A TODAS TUS AMIG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Y A LOS HOMBRES PARA QUE COMPRE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EL SENTIR DE UNA MUJ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1:04Z</dcterms:created>
  <dc:creator>NELLY NECIOSUP</dc:creator>
  <dc:description/>
  <dc:language>en-US</dc:language>
  <cp:lastModifiedBy>LS</cp:lastModifiedBy>
  <dcterms:modified xsi:type="dcterms:W3CDTF">2008-09-13T11:10:10Z</dcterms:modified>
  <cp:revision>4</cp:revision>
  <dc:subject>La MUJER</dc:subject>
  <dc:title>Diapositiva 1</dc:title>
</cp:coreProperties>
</file>