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rrow.wav" ContentType="audio/x-wav"/>
  <Override PartName="/ppt/media/image2.png" ContentType="image/png"/>
  <Override PartName="/ppt/media/image3.jpeg" ContentType="image/jpeg"/>
  <Override PartName="/ppt/media/ding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A79-99F6-49C4-9EFF-4B561415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2BC5-B9C2-4A40-A06D-0537C6DA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BAE-91C6-461B-87AD-E1E0D697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9B8B-AD1C-4529-8BA6-800105C0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3B7-7A45-4541-8013-36F00860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24A0-31E5-4CD4-9E44-4C238255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067-2EBA-4779-8243-5BBFD793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11D-0028-4C39-88B4-40DCD5F9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C4EC-50ED-447B-8322-581DCFF0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D812-AD5C-4DE0-B913-D17896BC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639D-0067-41F6-A484-F15B8182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0D5-33E4-4F5D-BBD7-6E7C4EA8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5000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6016-3DA9-4487-809A-180C22E5E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ing.wav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08720" y="5952960"/>
            <a:ext cx="17272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000000"/>
              </a:solidFill>
              <a:latin typeface="Kunstler Scrip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649680" cy="3649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9800" y="981000"/>
            <a:ext cx="866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69696"/>
                </a:solidFill>
                <a:latin typeface="Edwardian Script ITC"/>
              </a:rPr>
              <a:t>Bodas de Plat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5000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6000" y="307764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En la noche del aniversario número 25 del feliz matrimonio, el esposo llega a su casa, pero arrastrándose. </a:t>
            </a:r>
            <a:br>
              <a:rPr sz="4400"/>
            </a:b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(La encontró de milagro…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5000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Cuando lo ve, su esposa muy indignada le dice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5000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2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-Pero si estás borracho!!... ¡No lo puedo creer! Ahora decime, ¿por qué en nuestra noche de aniversario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00360" y="476280"/>
            <a:ext cx="2808360" cy="26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5000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7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-Yo ¡hip! sólo obedecí tus órdenes mi amor </a:t>
            </a:r>
            <a:br>
              <a:rPr sz="4400"/>
            </a:b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¡hip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5000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2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-¿Cuáles órdenes, inútil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5000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560" y="3365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-Leí tu nota ¡hip! que me decía:</a:t>
            </a:r>
            <a:br>
              <a:rPr sz="4400"/>
            </a:b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 ¡Te espero esta noche 'embriagado', papito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5000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2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Y la esposa furiosa contesta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5000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350964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La nota decía:</a:t>
            </a:r>
            <a:br>
              <a:rPr sz="4400"/>
            </a:b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s-ES_tradnl" sz="4400" spc="-1" strike="noStrike" u="sng">
                <a:solidFill>
                  <a:srgbClr val="000000"/>
                </a:solidFill>
                <a:uFillTx/>
                <a:latin typeface="Arial"/>
              </a:rPr>
              <a:t>ENVIAGRADO </a:t>
            </a:r>
            <a:br>
              <a:rPr sz="4400"/>
            </a:b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anormal, </a:t>
            </a:r>
            <a:br>
              <a:rPr sz="4400"/>
            </a:br>
            <a:r>
              <a:rPr b="1" i="1" lang="es-ES_tradnl" sz="4400" spc="-1" strike="noStrike" u="sng">
                <a:solidFill>
                  <a:srgbClr val="000000"/>
                </a:solidFill>
                <a:uFillTx/>
                <a:latin typeface="Arial"/>
              </a:rPr>
              <a:t>¡¡¡ ENVIAGRADOOOOO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26096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1:17:37Z</dcterms:created>
  <dc:creator>Administrador</dc:creator>
  <dc:description/>
  <dc:language>en-US</dc:language>
  <cp:lastModifiedBy>Administrador</cp:lastModifiedBy>
  <dcterms:modified xsi:type="dcterms:W3CDTF">2011-09-27T11:43:16Z</dcterms:modified>
  <cp:revision>4</cp:revision>
  <dc:subject/>
  <dc:title>Bodas de plata</dc:title>
</cp:coreProperties>
</file>