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png" ContentType="image/png"/>
  <Override PartName="/ppt/media/image3.jpeg" ContentType="image/jpeg"/>
  <Override PartName="/ppt/media/din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F6F-3923-426B-B9A2-101565E5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379-E34E-43EF-900B-17B30B95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776-B31F-4F92-A143-A9898192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A03-0566-479D-A770-3A1E7196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64A-28FC-4AC9-9695-6DF228DA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F95-A851-48B4-AF34-CE27110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967-218F-4409-B45D-AC304DB9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FC6-4C79-4986-A85D-88D389EC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5C6-A136-4A51-A845-5B81696A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83A-842A-4B68-A3AF-34AE2DB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D54-EC51-4B26-9A34-03E9636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883-6FF6-433E-ADFF-7ED0D56E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BA1-A99F-4AF0-B938-3C4FF3ABC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08720" y="5952960"/>
            <a:ext cx="17272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Kunstler Scrip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649680" cy="364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9800" y="981000"/>
            <a:ext cx="866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69696"/>
                </a:solidFill>
                <a:latin typeface="Edwardian Script ITC"/>
              </a:rPr>
              <a:t>Bodas de Plat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6000" y="3077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En la noche del aniversario número 25 del feliz matrimonio, el esposo llega a su casa, pero arrastrándose. 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(La encontró de milagro…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Cuando lo ve, su esposa muy indignada le dic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2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Pero si estás borracho!!... ¡No lo puedo creer! Ahora decime, ¿por qué en nuestra noche de aniversari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2808360" cy="26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Yo ¡hip! sólo obedecí tus órdenes mi amor 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¡hip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2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¿Cuáles órdenes, inútil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336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-Leí tu nota ¡hip! que me decía: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 ¡Te espero esta noche 'embriagado', papito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2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Y la esposa furiosa contest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5000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350964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La nota decía: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ENVIAGRADO </a:t>
            </a: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anormal, </a:t>
            </a:r>
            <a:br>
              <a:rPr sz="4400"/>
            </a:br>
            <a:r>
              <a:rPr b="1" i="1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¡¡¡ ENVIAGRADOOOOO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096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1:17:37Z</dcterms:created>
  <dc:creator>Administrador</dc:creator>
  <dc:description/>
  <dc:language>en-US</dc:language>
  <cp:lastModifiedBy>Administrador</cp:lastModifiedBy>
  <dcterms:modified xsi:type="dcterms:W3CDTF">2011-09-27T11:43:16Z</dcterms:modified>
  <cp:revision>4</cp:revision>
  <dc:subject/>
  <dc:title>Bodas de plata</dc:title>
</cp:coreProperties>
</file>