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Wunderland%20Bei%20Nacht%20.wav" ContentType="audio/x-wav"/>
  <Override PartName="/ppt/media/image26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FD2-23A9-42A1-936E-1F5DDEA1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4E2-3679-4BEC-B3CA-1180E125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523-7BAE-4EF0-83DC-58B7D565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081-BB42-4E91-8A8C-7D713F05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8A9-2E63-42FA-B7F0-AA8DA5E6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A52-203A-44E1-AFB0-2C4F0585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552-D886-4D4D-A8A3-08940B38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D78-F98E-42A4-967D-2F21F3AD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A15-23E3-4511-9631-9735DB48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287-C353-417F-B414-0F95CDA1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29C-A3C4-4282-A7A9-4CF5AC51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2D2-EE2B-4F86-BB93-7B483A9D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135-9A8F-4EEB-BC15-317EEB5E09C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audio" Target="../media/Wunderland%20Bei%20Nacht%20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:\Fotos Universal\ff48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4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44" name="2 Rectángulo"/>
          <p:cNvSpPr/>
          <p:nvPr/>
        </p:nvSpPr>
        <p:spPr>
          <a:xfrm>
            <a:off x="6143760" y="200016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00000"/>
                </a:solidFill>
                <a:latin typeface="Freestyle Script"/>
              </a:rPr>
              <a:t>¡ A mis amigos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Documents and Settings\Cap Aguilar\Desktop\Sonido\tocadiscos-05.gif"/>
          <p:cNvPicPr/>
          <p:nvPr/>
        </p:nvPicPr>
        <p:blipFill>
          <a:blip r:embed="rId5"/>
          <a:stretch/>
        </p:blipFill>
        <p:spPr>
          <a:xfrm>
            <a:off x="1214280" y="5000760"/>
            <a:ext cx="1266840" cy="95220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2524320" y="6286680"/>
            <a:ext cx="37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 JULIAN"/>
              </a:rPr>
              <a:t>Wunderland Bei Nacht….Bert Kaempfert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  <p:sndAc>
      <p:stSnd>
        <p:snd r:embed="rId6" name="Wunderland%20Bei%20Nacht%20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V:\Fotos Universal\FF 37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82" name="2 Rectángulo"/>
          <p:cNvSpPr/>
          <p:nvPr/>
        </p:nvSpPr>
        <p:spPr>
          <a:xfrm>
            <a:off x="857160" y="264312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todo, él obedeció a su papá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ntuvo contacto con sus amigos y anualmente aumentaba el número de el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V:\Fotos Universal\flor 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86" name="2 Rectángulo"/>
          <p:cNvSpPr/>
          <p:nvPr/>
        </p:nvSpPr>
        <p:spPr>
          <a:xfrm>
            <a:off x="857160" y="264312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el pasar de los años, él fue comprendiendo que su padre sabía de lo que habla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V:\Fotos Universal\flor 3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1214280" y="242892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n la medida en que el tiempo y la naturaleza realizan sus designios y misterios en un homb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amigos resultaron baluartes de su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V:\Fotos Universal\flor 5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9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4" name="2 Rectángulo"/>
          <p:cNvSpPr/>
          <p:nvPr/>
        </p:nvSpPr>
        <p:spPr>
          <a:xfrm>
            <a:off x="857160" y="392904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sados los 50 años de vida, he aquí lo que aprend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V:\Fotos Universal\flor 6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9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857160" y="235728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tiempo pas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vida continú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distancia separ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niños crec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empleos van y vien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amor se debilit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V:\Fotos Universal\flor 8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02" name="2 Rectángulo"/>
          <p:cNvSpPr/>
          <p:nvPr/>
        </p:nvSpPr>
        <p:spPr>
          <a:xfrm>
            <a:off x="857160" y="221472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personas no hacen lo que deberían hacer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corazón se rompe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padres muer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colegas olvidan los favores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carreras termina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V:\Fotos Universal\Flor De Loro (1)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06" name="2 Rectángulo"/>
          <p:cNvSpPr/>
          <p:nvPr/>
        </p:nvSpPr>
        <p:spPr>
          <a:xfrm>
            <a:off x="857160" y="285768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s, los verdaderos amigos siempre están ah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importa a cuánt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 a cuantos kilómetros se encuent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V:\Fotos Universal\Four Aces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0" name="2 Rectángulo"/>
          <p:cNvSpPr/>
          <p:nvPr/>
        </p:nvSpPr>
        <p:spPr>
          <a:xfrm>
            <a:off x="857160" y="32148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n amigo nunca está más distante que el alcance de una necesid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aciendo barra por 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V:\Fotos Universal\French Quarter, New Orleans, Louisiana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1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4" name="2 Rectángulo"/>
          <p:cNvSpPr/>
          <p:nvPr/>
        </p:nvSpPr>
        <p:spPr>
          <a:xfrm>
            <a:off x="857160" y="250020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terviniendo a tu fav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perándote de brazos abi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bendiciendo tu v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V:\Fotos Universal\Imagen122.jpg"/>
          <p:cNvPicPr/>
          <p:nvPr/>
        </p:nvPicPr>
        <p:blipFill>
          <a:blip r:embed="rId2"/>
          <a:stretch/>
        </p:blipFill>
        <p:spPr>
          <a:xfrm>
            <a:off x="857160" y="785880"/>
            <a:ext cx="7429680" cy="5214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1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8" name="2 Rectángulo"/>
          <p:cNvSpPr/>
          <p:nvPr/>
        </p:nvSpPr>
        <p:spPr>
          <a:xfrm>
            <a:off x="857160" y="264312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uando iniciamos esta aventura llamada VI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sabíamos de las increíbles aleg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 tristezas que estaban del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V:\Fotos Universal\ff 1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0" name="2 Rectángulo"/>
          <p:cNvSpPr/>
          <p:nvPr/>
        </p:nvSpPr>
        <p:spPr>
          <a:xfrm>
            <a:off x="857160" y="2643120"/>
            <a:ext cx="742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ace muchísimos años, un joven recién casado estaba sentado en un sofá en un día caluroso y húme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bebiendo jugo helado durante una visita a su p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V:\Fotos Universal\Imagen171.pn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22" name="2 Rectángulo"/>
          <p:cNvSpPr/>
          <p:nvPr/>
        </p:nvSpPr>
        <p:spPr>
          <a:xfrm>
            <a:off x="857160" y="2928960"/>
            <a:ext cx="75009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sabíamos de cuanto necesitaríamos unos de otr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¡ Piensalo !…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V:\Fotos Universal\Imagen172.jpg"/>
          <p:cNvPicPr/>
          <p:nvPr/>
        </p:nvPicPr>
        <p:blipFill>
          <a:blip r:embed="rId2"/>
          <a:stretch/>
        </p:blipFill>
        <p:spPr>
          <a:xfrm>
            <a:off x="857160" y="857160"/>
            <a:ext cx="7516800" cy="521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26" name="2 Rectángulo"/>
          <p:cNvSpPr/>
          <p:nvPr/>
        </p:nvSpPr>
        <p:spPr>
          <a:xfrm>
            <a:off x="857160" y="29289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2f2f2"/>
                </a:solidFill>
                <a:latin typeface="Arial"/>
              </a:rPr>
              <a:t>Remite este texto a todos los amigos que ayudan a dar sentido a tu vida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V:\Fotos Universal\rosa negra 3.jpg"/>
          <p:cNvPicPr/>
          <p:nvPr/>
        </p:nvPicPr>
        <p:blipFill>
          <a:blip r:embed="rId2"/>
          <a:stretch/>
        </p:blipFill>
        <p:spPr>
          <a:xfrm>
            <a:off x="857160" y="857160"/>
            <a:ext cx="7419960" cy="514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30" name="2 Rectángulo"/>
          <p:cNvSpPr/>
          <p:nvPr/>
        </p:nvSpPr>
        <p:spPr>
          <a:xfrm>
            <a:off x="2428920" y="30718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¡ Yo ya lo hice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V:\Fotos Universal\ff 1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07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5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1357200" y="2357280"/>
            <a:ext cx="635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ientras conversaba sobre la vida, el matrimonio, las responsabilidades y las obligaciones de las personas adult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V:\Fotos Universal\ff 2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5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857160" y="2714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padre revolvía pensativamente los cubos de hielo de su vaso y lanzó una mirada clara y sobria hacia su hijo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V:\Fotos Universal\ff 24.jp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62" name="2 Rectángulo"/>
          <p:cNvSpPr/>
          <p:nvPr/>
        </p:nvSpPr>
        <p:spPr>
          <a:xfrm>
            <a:off x="928800" y="278604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Nunca olvides a tus amigos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¡ aconsejó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Serán más importantes en la medida en que envejezcas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V:\Fotos Universal\ff 27.jpg"/>
          <p:cNvPicPr/>
          <p:nvPr/>
        </p:nvPicPr>
        <p:blipFill>
          <a:blip r:embed="rId2"/>
          <a:stretch/>
        </p:blipFill>
        <p:spPr>
          <a:xfrm>
            <a:off x="928800" y="857160"/>
            <a:ext cx="735804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66" name="2 Rectángulo"/>
          <p:cNvSpPr/>
          <p:nvPr/>
        </p:nvSpPr>
        <p:spPr>
          <a:xfrm>
            <a:off x="1143000" y="26431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Independientemente de cuanto ames a tu familia y los hijos que por ventura vayas a ten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u siempre necesitarás de amig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V:\Fotos Universal\ff 31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0" name="2 Rectángulo"/>
          <p:cNvSpPr/>
          <p:nvPr/>
        </p:nvSpPr>
        <p:spPr>
          <a:xfrm>
            <a:off x="857160" y="2714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cuerda ocasionalmente salir con ellos, realiza actividades con ellos, telefonéalos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V:\Fotos Universal\FF 38.jp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7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4" name="2 Rectángulo"/>
          <p:cNvSpPr/>
          <p:nvPr/>
        </p:nvSpPr>
        <p:spPr>
          <a:xfrm>
            <a:off x="857160" y="307188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¡Que extraño consej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nsó el jov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V:\Fotos Universal\FF 40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7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8" name="2 Rectángulo"/>
          <p:cNvSpPr/>
          <p:nvPr/>
        </p:nvSpPr>
        <p:spPr>
          <a:xfrm>
            <a:off x="857160" y="214308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Acabo de ingresar al mundo de los casad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oy adulto y con seguridad mi esposa y la familia que inicia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¡serán todo lo que necesito para dar sentido a mi vid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1:38:10Z</dcterms:created>
  <dc:creator>Emilio M. Aguilar</dc:creator>
  <dc:description/>
  <dc:language>en-US</dc:language>
  <cp:lastModifiedBy>Emilio M. Aguilar</cp:lastModifiedBy>
  <dcterms:modified xsi:type="dcterms:W3CDTF">2009-09-07T19:59:28Z</dcterms:modified>
  <cp:revision>16</cp:revision>
  <dc:subject/>
  <dc:title>Diapositiva 1</dc:title>
</cp:coreProperties>
</file>