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O%20Bellagio%208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4E9-F9B8-4AAC-BEBC-3362236A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B46-7D4A-45C8-94E9-1D09521F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817-FAEB-4455-BFC6-E523E306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4CD-375E-4CAE-A3BF-93944378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5B3E4-E4F9-40D3-91B3-583F0D70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00FA3-7666-49EE-96B1-16C19DD3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55FD2-9CE4-49DC-AC40-2350BB3A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39B8C-8A7C-4946-8440-29298BB1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0CC17-A710-41D0-9D8F-DF039570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0924B-D967-408D-A54A-C7F1B8C2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D3F0B-DE2E-4E67-B048-A9C52B16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D12-4348-417A-B5D4-2144B6E7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5994E-3EB7-44BF-A2AD-F5978569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AB2A5-F660-4830-BAAF-A5686C45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F0164-68BA-4D2F-B0D2-2A963DF5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6ECBF-EA36-4858-BD0B-5515316B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3B163-AE09-4089-92D8-A7DB3A6D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B375-0E21-4422-8C37-D3967B2E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4B3-988A-449F-8EB2-64560785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AAB4-4B6B-49DB-9940-66875873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FFCA-59DA-4D51-8A30-86600FE7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9CFE-F3C9-4022-95FE-F75048DC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E84-F2A5-4A7E-A135-9EEDFD0B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8AE-7A13-4347-BD93-93C19854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55D4-33CD-4CF8-9425-D4B5845C03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B595-AFD1-43EC-BC72-FC71AEE3F76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%20Bellagio%208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3" descr="CUANDO NECESITAMOS A DIOS"/>
          <p:cNvPicPr/>
          <p:nvPr/>
        </p:nvPicPr>
        <p:blipFill>
          <a:blip r:embed="rId1"/>
          <a:stretch/>
        </p:blipFill>
        <p:spPr>
          <a:xfrm>
            <a:off x="2484360" y="3357720"/>
            <a:ext cx="4103640" cy="2420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457200" y="123840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33cccc"/>
                </a:solidFill>
                <a:latin typeface="Tahoma"/>
              </a:rPr>
              <a:t>Bolitas Roja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5148360" y="4005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4572000" y="4005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7"/>
          <p:cNvSpPr/>
          <p:nvPr/>
        </p:nvSpPr>
        <p:spPr>
          <a:xfrm>
            <a:off x="4859280" y="364500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2" name="O%20Bellagio%208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595440" y="704880"/>
            <a:ext cx="778644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Los ojos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cafes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llenos de lágrimas de la Sra.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Carmen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, los siguió uno por uno, mientras cada uno tocaba con su mano cálida, la mano fría dentro del ataú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Cada uno se retiró de la funeraria limpiándose los oj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57200" y="404640"/>
            <a:ext cx="82296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Llegó nuestro turno y al acercarme a la Sra. d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e Oliveri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le dije quién era y le recordé lo que me había contado años atrás sobre las boli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Con los ojos brillando, me tomó de la mano y me condujo al ataú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Esos tres jóvenes que se acaban de ir son los tres chicos de los cuales te hablé. Me acaban de decir cuanto agradecían los «trueques» de Jua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0" y="404640"/>
            <a:ext cx="91440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Ahora que Juancho no podía cambiar de parecer sobre el tamaño o color de las bolitas, vinieron a pagar su deud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Nunca hemos tenido riqueza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-me confió- «pero ahora Juan se consideraría el hombre más rico del mundo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Con una ternura amorosa levantó los dedos sin vida de su espos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Debajo de ellos había tres bolitas rojas exquisitamente brillant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57200" y="2357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33cccc"/>
                </a:solidFill>
                <a:latin typeface="Tahoma"/>
              </a:rPr>
              <a:t>Moraleja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0" y="404640"/>
            <a:ext cx="914400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33cccc"/>
                </a:solidFill>
                <a:latin typeface="Tahoma"/>
              </a:rPr>
              <a:t>No seremos recordados por nuestras palabras , sino por nuestras accion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33cccc"/>
                </a:solidFill>
                <a:latin typeface="Tahoma"/>
              </a:rPr>
              <a:t>La vida no se mide por cada aliento que tomamos</a:t>
            </a:r>
            <a:r>
              <a:rPr b="0" lang="es-MX" sz="4400" spc="-1" strike="noStrike">
                <a:solidFill>
                  <a:srgbClr val="33cccc"/>
                </a:solidFill>
                <a:latin typeface="Tahoma"/>
              </a:rPr>
              <a:t>,</a:t>
            </a:r>
            <a:r>
              <a:rPr b="0" lang="es-ES" sz="4400" spc="-1" strike="noStrike">
                <a:solidFill>
                  <a:srgbClr val="33cccc"/>
                </a:solidFill>
                <a:latin typeface="Tahoma"/>
              </a:rPr>
              <a:t> sino por las cosas que nos quitan el aliento.</a:t>
            </a:r>
            <a:r>
              <a:rPr b="0" lang="es-ES" sz="54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0" y="638280"/>
            <a:ext cx="914400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Hoy te deseo un día de milagros comunes, como una cafetera de café fresco que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tu compañero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te preparó, una llamada inesperada de un viejo amigo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,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semáforos verdes camino al trabajo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, una sonrisa de alguien que atendiste o la sonrisa de tus hijos al llegar a casa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Te deseo un día de cosas pequeñas de las cuales estarás agradecido: la fila más rápida en el supermercado, una canción favorita en la radio, encontrar tus llaves justo donde buscas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, el tierno abrazo de tu niño solo por ser su papá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457200" y="649440"/>
            <a:ext cx="8229600" cy="52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Te deseo un día de felicidad y perfección; pequeños trozos de perfección que te hagan sentir que Dios te está sonriendo, sosteniéndote tan tiernamente porque eres alguien especial y únic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Te deseo un día de paz, felicidad y dich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Dicen que toma un minuto encontrar a una persona especial, una hora para apreciarla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,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un día para amarla, pero una vida entera para olvidarl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457200" y="333360"/>
            <a:ext cx="822960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Mandalo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a personas que nunca olvidarás.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 A tus padres e hijos, a tu pareja, a tus amigos o a tus conoc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Es un mensaje breve para dejarlos saber que nunca los olvidará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Si no se lo envías a nadie, es porque estás tan apurado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en tu desgracia, en tu desdicha, en lamentarte de tu sufrimiento,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que probablemente ya has olvidado a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los que verdaderamente te aman y a tus verdaderos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amigos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Esos que se miden por el corazón, no por el din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18"/>
          <p:cNvSpPr/>
          <p:nvPr/>
        </p:nvSpPr>
        <p:spPr>
          <a:xfrm>
            <a:off x="1042920" y="260280"/>
            <a:ext cx="7345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cccc"/>
                </a:solidFill>
                <a:latin typeface="Tahoma"/>
              </a:rPr>
              <a:t>Durante los duros años que nos tocaron vivir, en un pueblo pequeño de Córdoba, </a:t>
            </a:r>
            <a:r>
              <a:rPr b="0" lang="es-MX" sz="3600" spc="-1" strike="noStrike">
                <a:solidFill>
                  <a:srgbClr val="33cccc"/>
                </a:solidFill>
                <a:latin typeface="Tahoma"/>
              </a:rPr>
              <a:t>Argentina</a:t>
            </a:r>
            <a:r>
              <a:rPr b="0" lang="es-ES" sz="3600" spc="-1" strike="noStrike">
                <a:solidFill>
                  <a:srgbClr val="33cccc"/>
                </a:solidFill>
                <a:latin typeface="Tahoma"/>
              </a:rPr>
              <a:t>, solía parar en el almacén del Sr. Oliveri para comprar productos fresc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cccc"/>
                </a:solidFill>
                <a:latin typeface="Tahoma"/>
              </a:rPr>
              <a:t>La comida y el dinero faltaba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cccc"/>
                </a:solidFill>
                <a:latin typeface="Tahoma"/>
              </a:rPr>
              <a:t>y el trueque se usaba mucho.</a:t>
            </a:r>
            <a:r>
              <a:rPr b="0" lang="es-ES" sz="4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Un día en particular, el Sr. Oliveri me estaba entregando unas pap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De repente me fijé en un niño pequeño, delicado de cuerpo y aspecto, con ropa roída pero limpia que miraba atentamente un cajón de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peras de Rio Negro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frescas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y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maravillos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Pagué mis papas pero también me sentí atraído por el aspecto de las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peras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¡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Me encanta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el dulce de pera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y las papas frescas! Admirando las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peras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, no pude evitar escuchar la conversación entre el Sr. Oliveri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y el niñ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755640" y="857160"/>
            <a:ext cx="7643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cccc"/>
                </a:solidFill>
                <a:latin typeface="Monotype Corsiva"/>
              </a:rPr>
              <a:t>«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Hola Mauro,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¿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c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óm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o estás hoy?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Hola Sr. Oliveri  Estoy bien, gracias.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....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s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olo admiraba las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peras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... se ven muy bien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Sí, son muy buenas. ¿Cómo está tu mamá?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Bien. Cada vez más fuerte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Bien. ¿Hay algo en que te pueda ayudar?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No Señor. Sólo admiraba las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peras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¿Te gustaría llevar algunas a casa?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No Señor. No tengo con que pagarlas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457200" y="174600"/>
            <a:ext cx="836280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Bueno, qué tienes para cambiar por ella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Lo único que tengo es esto, mi bolita más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va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liosa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¿De veras? ¿Me la dejas ver?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Acá está. ¡Es una joya!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Ya lo veo.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E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l único problema es que esta es azu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y a mí me gustan las roj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¿Tienes alguna como esta, pero roja, en casa?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No exactamente, pero casi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Hagamos una cosa. Llévate esta bolsa de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peras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a casa y la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próxima vez que vengas muéstrame la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 bolita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roja que tienes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¡Claro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!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.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 Muchas g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racias 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611280" y="692280"/>
            <a:ext cx="80755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La Sra.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de Oliveri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se me acercó a atenderme y con una sonrisa me dijo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Hay dos niños más como él en nuestra comunidad, todos en situación muy pob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A Juan le encanta hacer trueque con ellos por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peras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, manzanas, tomates, o lo que sea. Cuando vuelven con las bolitas rojas, y siempre lo hacen, él decide que en realidad no le gusta tanto el rojo, y los manda a casa con otra bolsa de mercadería y la promesa de traer una de  color naranja o verde tal vez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457200" y="333360"/>
            <a:ext cx="822960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Me fui del negocio sonriendo e impresion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con este homb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Un tiempo después me mudé a Rosario pero nunca me olvidé de él, los niños y los trueques entre ell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Pasaron varios años, cada uno más rápidamente que el anterior. Recientemente tuve la oportunidad de visitar unos amigos en esa comunidad en Córdob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Mientras estuve allí, me enteré que el Sr. Oliveri había muer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Esa noche sería su velorio y sabiendo que mis amigos querían ir, acepté acompañarl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0" y="219240"/>
            <a:ext cx="9144000" cy="58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Al llegar a la funeraria, nos pusim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en fila para conocer a los parien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del difunto y ofrecer nuestro pés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Delante de nosotros, en la fila, había tres hombres jóve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Uno tenía puesto un uniforme militar y los otros dos unos lindos trajes oscuros con camisas blan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Parecían profesiona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457200" y="404640"/>
            <a:ext cx="82915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Se acercaron a la Sra.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Carmen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quien se encontraba al l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de su difunto esposo, tranqui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y sonrien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Cada uno de los hombres la abrazó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la besó, conversó brevemente con el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y luego se acercaron al ataú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6:34:44Z</dcterms:created>
  <dc:creator>Andrew the magic</dc:creator>
  <dc:description/>
  <dc:language>en-US</dc:language>
  <cp:lastModifiedBy>HUSSAY</cp:lastModifiedBy>
  <dcterms:modified xsi:type="dcterms:W3CDTF">2011-08-19T13:03:36Z</dcterms:modified>
  <cp:revision>39</cp:revision>
  <dc:subject/>
  <dc:title>abbraccio</dc:title>
</cp:coreProperties>
</file>