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O%20Bellagio%208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9F7-6B58-4671-9E76-DCF8D00B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5F8-22DE-4D7D-AA63-C0A4CF0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191-EB3F-44E9-8BB3-FA396D51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B64-0A91-4A20-B60F-DED4405C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179C-640B-4E9D-81BF-3C6A93E8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DBEA4-C679-476E-83A3-EC07649E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FEBDE-1F46-4035-B7D3-6741A9A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3BEFD-F2CC-4752-A115-01DCA5E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F7B0E-0B66-4334-8E79-AE4B196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A80F4-D9BC-47CA-B049-762AD676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A324E-E350-4648-82DD-17C0294B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3AA-1650-49D8-9F71-58C38559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1274D-8BA9-460F-B86E-59408661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627A3-44F2-415B-8DF8-13C96A6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CF1A9-10E3-4C8D-8CBC-67D7A0E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327E3-98BD-4121-87BD-405B32E8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6CB1B-B732-461C-918D-E30A8D5F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DCF-F529-4D48-896D-B2FCC611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826-0217-437D-82E4-851AFE8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576-1ECB-4E6E-84B4-16B36B7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B85-8D5B-4375-8DD0-6CA6D46B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AEB-EA9B-41BF-9714-F601AB5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3FA-BC99-4192-9B9E-7231F882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735-FFDF-419A-B267-DD5FA643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952-166F-4A96-B56D-43970089FB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AF2E-66ED-48B1-9CDC-9647FC8007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%20Bellagio%208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CUANDO NECESITAMOS A DIOS"/>
          <p:cNvPicPr/>
          <p:nvPr/>
        </p:nvPicPr>
        <p:blipFill>
          <a:blip r:embed="rId1"/>
          <a:stretch/>
        </p:blipFill>
        <p:spPr>
          <a:xfrm>
            <a:off x="2484360" y="3357720"/>
            <a:ext cx="4103640" cy="2420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457200" y="123840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33cccc"/>
                </a:solidFill>
                <a:latin typeface="Tahoma"/>
              </a:rPr>
              <a:t>Bolitas Roj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5148360" y="40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4572000" y="40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4859280" y="364500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O%20Bellagio%208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595440" y="704880"/>
            <a:ext cx="778644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os ojo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cafe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llenos de lágrimas de la Sra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Carmen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los siguió uno por uno, mientras cada uno tocaba con su mano cálida, la mano fría dentro del ataú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ada uno se retiró de la funeraria limpiándose los oj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57200" y="40464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legó nuestro turno y al acercarme a la Sra. d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 Oliveri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e dije quién era y le recordé lo que me había contado años atrás sobre las boli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on los ojos brillando, me tomó de la mano y me condujo al ataú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Esos tres jóvenes que se acaban de ir son los tres chicos de los cuales te hablé. Me acaban de decir cuanto agradecían los «trueques» de Jua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404640"/>
            <a:ext cx="9144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hora que Juancho no podía cambiar de parecer sobre el tamaño o color de las bolitas, vinieron a pagar su deu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unca hemos tenido riqueza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-me confió- «pero ahora Juan se consideraría el hombre más rico del mundo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on una ternura amorosa levantó los dedos sin vida de su espos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bajo de ellos había tres bolitas rojas exquisitamente brillan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3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cccc"/>
                </a:solidFill>
                <a:latin typeface="Tahoma"/>
              </a:rPr>
              <a:t>Moraleja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404640"/>
            <a:ext cx="91440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No seremos recordados por nuestras palabras , sino por nuestras accion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La vida no se mide por cada aliento que tomamos</a:t>
            </a:r>
            <a:r>
              <a:rPr b="0" lang="es-MX" sz="4400" spc="-1" strike="noStrike">
                <a:solidFill>
                  <a:srgbClr val="33cccc"/>
                </a:solidFill>
                <a:latin typeface="Tahoma"/>
              </a:rPr>
              <a:t>,</a:t>
            </a:r>
            <a:r>
              <a:rPr b="0" lang="es-ES" sz="4400" spc="-1" strike="noStrike">
                <a:solidFill>
                  <a:srgbClr val="33cccc"/>
                </a:solidFill>
                <a:latin typeface="Tahoma"/>
              </a:rPr>
              <a:t> sino por las cosas que nos quitan el aliento.</a:t>
            </a:r>
            <a:r>
              <a:rPr b="0" lang="es-ES" sz="54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638280"/>
            <a:ext cx="91440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Hoy te deseo un día de milagros comunes, como una cafetera de café fresco que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tu compañero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te preparó, una llamada inesperada de un viejo amigo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semáforos verdes camino al trabajo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 una sonrisa de alguien que atendiste o la sonrisa de tus hijos al llegar a cas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Te deseo un día de cosas pequeñas de las cuales estarás agradecido: la fila más rápida en el supermercado, una canción favorita en la radio, encontrar tus llaves justo donde buscas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 el tierno abrazo de tu niño solo por ser su papá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57200" y="649440"/>
            <a:ext cx="822960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Te deseo un día de felicidad y perfección; pequeños trozos de perfección que te hagan sentir que Dios te está sonriendo, sosteniéndote tan tiernamente porque eres alguien especial y únic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Te deseo un día de paz, felicidad y dich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icen que toma un minuto encontrar a una persona especial, una hora para apreciarla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,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un día para amarla, pero una vida entera para olvidar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457200" y="333360"/>
            <a:ext cx="82296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Mandalo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a personas que nunca olvidarás.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A tus padres e hijos, a tu pareja, a tus amigos o a tus conoc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Es un mensaje breve para dejarlos saber que nunca los olvidar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Si no se lo envías a nadie, es porque estás tan apurado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n tu desgracia, en tu desdicha, en lamentarte de tu sufrimiento,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que probablemente ya has olvidado a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los que verdaderamente te aman y a tus verdaderos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migos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sos que se miden por el corazón, no por el din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18"/>
          <p:cNvSpPr/>
          <p:nvPr/>
        </p:nvSpPr>
        <p:spPr>
          <a:xfrm>
            <a:off x="1042920" y="260280"/>
            <a:ext cx="734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Durante los duros años que nos tocaron vivir, en un pueblo pequeño de Córdoba, </a:t>
            </a:r>
            <a:r>
              <a:rPr b="0" lang="es-MX" sz="3600" spc="-1" strike="noStrike">
                <a:solidFill>
                  <a:srgbClr val="33cccc"/>
                </a:solidFill>
                <a:latin typeface="Tahoma"/>
              </a:rPr>
              <a:t>Argentina</a:t>
            </a: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, solía parar en el almacén del Sr. Oliveri para comprar productos fresc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La comida y el dinero faltab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cccc"/>
                </a:solidFill>
                <a:latin typeface="Tahoma"/>
              </a:rPr>
              <a:t>y el trueque se usaba mucho.</a:t>
            </a:r>
            <a:r>
              <a:rPr b="0" lang="es-ES" sz="4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Un día en particular, el Sr. Oliveri me estaba entregando unas pap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 repente me fijé en un niño pequeño, delicado de cuerpo y aspecto, con ropa roída pero limpia que miraba atentamente un cajón de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 de Rio Negro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fresc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y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aravillo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agué mis papas pero también me sentí atraído por el aspecto de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¡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e encanta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l dulce de per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y las papas frescas! Admirando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no pude evitar escuchar la conversación entre el Sr. Oliveri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el niñ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755640" y="857160"/>
            <a:ext cx="764388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Monotype Corsiva"/>
              </a:rPr>
              <a:t>«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Hola Mauro,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¿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óm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o estás hoy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Hola Sr. Oliveri  Estoy bien, gracias.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....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olo admiraba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.. se ven muy bien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Sí, son muy buenas. ¿Cómo está tu mamá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Bien. Cada vez más fuerte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Bien. ¿Hay algo en que te pueda ayudar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o Señor. Sólo admiraba la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¿Te gustaría llevar algunas a casa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o Señor. No tengo con que pagarlas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457200" y="174600"/>
            <a:ext cx="83628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Bueno, qué tienes para cambiar por ella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Lo único que tengo es esto, mi bolita más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v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iosa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¿De veras? ¿Me la dejas ver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Acá está. ¡Es una joya!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Ya lo veo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 único problema es que esta es az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a mí me gustan las roj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¿Tienes alguna como esta, pero roja, en casa?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No exactamente, pero casi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Hagamos una cosa. Llévate esta bolsa de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a casa y la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róxima vez que vengas muéstrame la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bolita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roja que tienes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¡Claro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!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.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 Muchas g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racias 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11280" y="692280"/>
            <a:ext cx="8075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a Sra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e Oliveri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se me acercó a atenderme y con una sonrisa me dij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«Hay dos niños más como él en nuestra comunidad, todos en situación muy pob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 Juan le encanta hacer trueque con ellos por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eras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manzanas, tomates, o lo que sea. Cuando vuelven con las bolitas rojas, y siempre lo hacen, él decide que en realidad no le gusta tanto el rojo, y los manda a casa con otra bolsa de mercadería y la promesa de traer una de  color naranja o verde tal vez.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e fui del negocio sonriendo e impresion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on este homb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Un tiempo después me mudé a Rosario pero nunca me olvidé de él, los niños y los trueques entre ell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asaron varios años, cada uno más rápidamente que el anterior. Recientemente tuve la oportunidad de visitar unos amigos en esa comunidad en Córdo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Mientras estuve allí, me enteré que el Sr. Oliveri había muer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Esa noche sería su velorio y sabiendo que mis amigos querían ir, acepté acompañarl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219240"/>
            <a:ext cx="914400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Al llegar a la funeraria, nos pusim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en fila para conocer a los parien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l difunto y ofrecer nuestro pés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lante de nosotros, en la fila, había tres hombres jóve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Uno tenía puesto un uniforme militar y los otros dos unos lindos trajes oscuros con camisas blan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Parecían profesion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457200" y="404640"/>
            <a:ext cx="82915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Se acercaron a la Sra. 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Carmen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quien se encontraba al l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de su difunto esposo, tranqui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son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Cada uno de los hombres la abraz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la besó, conversó brevemente con e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33cccc"/>
                </a:solidFill>
                <a:latin typeface="Tahoma"/>
              </a:rPr>
              <a:t>y luego se acercaron al ataú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6:34:44Z</dcterms:created>
  <dc:creator>Andrew the magic</dc:creator>
  <dc:description/>
  <dc:language>en-US</dc:language>
  <cp:lastModifiedBy>HUSSAY</cp:lastModifiedBy>
  <dcterms:modified xsi:type="dcterms:W3CDTF">2011-08-19T13:03:36Z</dcterms:modified>
  <cp:revision>39</cp:revision>
  <dc:subject/>
  <dc:title>abbraccio</dc:title>
</cp:coreProperties>
</file>