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austo%20Papetti%20-%20Petite%20Fleur%20(sax)%20%203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D8C-ABBF-48A7-A042-77FC2572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259-91A8-4A87-9672-E26ADB80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050-FE9A-416A-BB52-EEDD77A5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DE3-4909-4B42-A56D-1D0787F0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253-AAB0-4A2F-B55F-0EBFD2FE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CED-4BAF-4DD0-A302-BAB66B79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B98-594F-4A5B-A2AE-20BDA61C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973-22C7-4A4B-947B-3F292C75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5F0-CB95-4909-8A7E-5BA2069C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2D0-230E-4E6D-AA4C-EEF723BA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B80-1941-41C1-BCF8-B32599C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EB0-8F28-4250-BAF3-AB5D8B9B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Criação Ria Sl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F87F-A4A6-4447-9639-207774872C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austo%20Papetti%20-%20Petite%20Fleur%20(sax)%20%20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304920"/>
            <a:ext cx="556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Los discípulos de un rabi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famoso por su erudición y finu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preguntáronle por qué                                                                       acostumbraba esclare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la verdad                                                         contando una histori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8954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Él respondi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3809880"/>
            <a:ext cx="396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Esto se los puedo explicar       contando una parábola                 sobre la propia                         Parábol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1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6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3640" y="6788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93960" y="228600"/>
            <a:ext cx="6350040" cy="4965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541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"Un día, la Verdad andaba visitando a los hombres, sin ropas y sin adornos,                tan desnuda como su nomb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Y todos los que la veían le daban la espald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de miedo o de vergüenza, y ninguno le daba la bienven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3000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3429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350040" cy="4965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266688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Así, la Verdad recorría                                       los confines de la Tier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rechazada y despecha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962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1752480"/>
            <a:ext cx="441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Una tarde, muy desconsolada                y triste, la Verdad encontró               a la Parábola, que paseaba alegremente, en un traje                           muy bello y color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51055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Verdad..., por qué estás tan abatida?         - preguntó la Paráb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1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30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0" y="342900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62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350040" cy="496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1800" y="121932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Porque soy tan vieja y f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que los hombres me evi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replicó 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962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Qué disparate – se rió la Paráb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No es por eso que los hombres te evit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Toma, vístete con una de mis ropas y verás lo que aconte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4000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1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600"/>
                            </p:stCondLst>
                            <p:childTnLst>
                              <p:par>
                                <p:cTn id="95" nodeType="afterEffect" fill="hold" presetClass="entr" presetID="17" presetSubtype="8">
                                  <p:stCondLst>
                                    <p:cond delay="1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9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noFill/>
          <a:ln w="63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819520"/>
            <a:ext cx="4343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Entonces, la Verdad se pu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uno de los lindos ves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de la Parábola y, de repen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por todas partes donde pasab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era bienvenida.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6400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3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62520" y="685800"/>
            <a:ext cx="51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El rabino sonrió y concluy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- Pues la verdad es que a los hombres             no les gusta encarar a la Verdad desnuda..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743200"/>
            <a:ext cx="441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  <a:ea typeface="Tahoma"/>
              </a:rPr>
              <a:t>Ellos la prefieren disfra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4941720"/>
            <a:ext cx="2665440" cy="115956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ahoma"/>
                <a:ea typeface="Tahoma"/>
              </a:rPr>
              <a:t>Autor do Texto: Desconheço</a:t>
            </a:r>
            <a:r>
              <a:rPr b="0" lang="pt-BR" sz="1400" spc="-1" strike="noStrike">
                <a:solidFill>
                  <a:srgbClr val="ffffcc"/>
                </a:solidFill>
                <a:latin typeface="Tahoma"/>
                <a:ea typeface="Tahoma"/>
              </a:rPr>
              <a:t> </a:t>
            </a:r>
            <a:r>
              <a:rPr b="0" lang="pt-BR" sz="1400" spc="-1" strike="noStrike">
                <a:solidFill>
                  <a:srgbClr val="ffffcc"/>
                </a:solidFill>
                <a:latin typeface="Tahoma"/>
                <a:ea typeface="Tahoma"/>
              </a:rPr>
              <a:t>                                                                                                Música: Fausto Papet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Tahoma"/>
                <a:ea typeface="Tahoma"/>
              </a:rPr>
              <a:t>Petite Fl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01:29:43Z</dcterms:created>
  <dc:creator>Ria Ellwanger    riaellw@globo.com</dc:creator>
  <dc:description/>
  <dc:language>en-US</dc:language>
  <cp:lastModifiedBy>pc</cp:lastModifiedBy>
  <dcterms:modified xsi:type="dcterms:W3CDTF">2008-09-27T20:20:10Z</dcterms:modified>
  <cp:revision>19</cp:revision>
  <dc:subject>Categoria: Reflexão</dc:subject>
  <dc:title>A Parábola e a Verdade</dc:title>
</cp:coreProperties>
</file>