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12.png" ContentType="image/png"/>
  <Override PartName="/ppt/media/WindSpiritByBillMiller.wav" ContentType="audio/x-wav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21.jpeg" ContentType="image/jpeg"/>
  <Override PartName="/ppt/media/image16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9.png" ContentType="image/png"/>
  <Override PartName="/ppt/media/image13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DD9FA-A95E-439A-8978-32DE107B224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312A-20BE-4218-A78D-C96634CB8C8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DEBCE-0908-4830-BBFD-F1402D2A75E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458CC-6593-410A-8236-B2E59539142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9A985-3203-4B8C-A586-A85E7B10127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DE716-353F-4683-8DE8-158A159A593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1DF39-C8C9-4B92-A1EB-638723EAB6B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FA999-E4EA-4E48-ABE8-D41ADB0D5BA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0273-3E04-45CB-9686-05FB05CC8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13AF-EC4F-4D0A-A149-A6A4DDBF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5A8D-ECFD-449A-9C5E-8DBE6BDFD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BEFE-1A0E-442E-B924-080803185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5DF1C-D342-4DF1-879D-E3564813E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03062-BBA8-4A41-B2B5-F2D302406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869AA-1FE4-41CD-83DE-EE73850F0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FEEE2-C15A-4691-A3F6-C49D6BEAF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58E92-597D-411D-8AE3-12C070112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A1C5D-E23F-446C-BF76-36438B883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8DF5A-6494-4D16-80F4-7BAEC5FC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5BA9-F1CD-46F5-B3EC-EF8D9E959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CD426-38E9-44A0-8DD4-4AA1FECD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F91DA-49D5-42A6-9EB3-8F05648D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A7D65-AB93-4082-8583-3E69A79A5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66B68-1BBF-4518-9DA7-272E5AEF0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5B35C-BB40-4CED-A152-02FFA2B6B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38CD-C4DF-4A66-8CBA-E83057FCA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4870-ED80-442D-99DA-F2A5D5D7D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9FB8-F7B9-4D0A-BE81-FFAEB6768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E576-51E9-476F-B545-A29E4D1C3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9C6B-D1B2-4A6C-A427-B3F64DDE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ABED-0EE6-4ABB-A6E0-45FA5C41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29E0-AE2C-4934-B490-58750F19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A70F0-1619-4593-9C66-843CA22D33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3C481-4A7F-4D25-8EB4-34B9E5C7F96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Group 7"/>
          <p:cNvGrpSpPr/>
          <p:nvPr/>
        </p:nvGrpSpPr>
        <p:grpSpPr>
          <a:xfrm>
            <a:off x="0" y="0"/>
            <a:ext cx="704880" cy="6885000"/>
            <a:chOff x="0" y="0"/>
            <a:chExt cx="704880" cy="6885000"/>
          </a:xfrm>
        </p:grpSpPr>
        <p:grpSp>
          <p:nvGrpSpPr>
            <p:cNvPr id="47" name="Group 8"/>
            <p:cNvGrpSpPr/>
            <p:nvPr/>
          </p:nvGrpSpPr>
          <p:grpSpPr>
            <a:xfrm>
              <a:off x="0" y="4149720"/>
              <a:ext cx="684360" cy="2735280"/>
              <a:chOff x="0" y="4149720"/>
              <a:chExt cx="684360" cy="2735280"/>
            </a:xfrm>
          </p:grpSpPr>
          <p:pic>
            <p:nvPicPr>
              <p:cNvPr id="48" name="Picture 9" descr="fondohojasennegro"/>
              <p:cNvPicPr/>
              <p:nvPr/>
            </p:nvPicPr>
            <p:blipFill>
              <a:blip r:embed="rId2"/>
              <a:srcRect l="0" t="0" r="85737" b="0"/>
              <a:stretch/>
            </p:blipFill>
            <p:spPr>
              <a:xfrm>
                <a:off x="0" y="5513400"/>
                <a:ext cx="684360" cy="137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" name="Picture 10" descr="fondohojasennegro"/>
              <p:cNvPicPr/>
              <p:nvPr/>
            </p:nvPicPr>
            <p:blipFill>
              <a:blip r:embed="rId3"/>
              <a:srcRect l="0" t="0" r="85737" b="0"/>
              <a:stretch/>
            </p:blipFill>
            <p:spPr>
              <a:xfrm>
                <a:off x="0" y="4149720"/>
                <a:ext cx="684360" cy="1371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0" name="Group 11"/>
            <p:cNvGrpSpPr/>
            <p:nvPr/>
          </p:nvGrpSpPr>
          <p:grpSpPr>
            <a:xfrm>
              <a:off x="0" y="1414440"/>
              <a:ext cx="684360" cy="2735280"/>
              <a:chOff x="0" y="1414440"/>
              <a:chExt cx="684360" cy="2735280"/>
            </a:xfrm>
          </p:grpSpPr>
          <p:pic>
            <p:nvPicPr>
              <p:cNvPr id="51" name="Picture 12" descr="fondohojasennegro"/>
              <p:cNvPicPr/>
              <p:nvPr/>
            </p:nvPicPr>
            <p:blipFill>
              <a:blip r:embed="rId4"/>
              <a:srcRect l="0" t="0" r="85737" b="0"/>
              <a:stretch/>
            </p:blipFill>
            <p:spPr>
              <a:xfrm>
                <a:off x="0" y="2778120"/>
                <a:ext cx="684360" cy="137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Picture 13" descr="fondohojasennegro"/>
              <p:cNvPicPr/>
              <p:nvPr/>
            </p:nvPicPr>
            <p:blipFill>
              <a:blip r:embed="rId5"/>
              <a:srcRect l="0" t="0" r="85737" b="0"/>
              <a:stretch/>
            </p:blipFill>
            <p:spPr>
              <a:xfrm>
                <a:off x="0" y="1414440"/>
                <a:ext cx="684360" cy="13716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3" name="Picture 14" descr="fondohojasennegro"/>
            <p:cNvPicPr/>
            <p:nvPr/>
          </p:nvPicPr>
          <p:blipFill>
            <a:blip r:embed="rId6"/>
            <a:srcRect l="0" t="0" r="85737" b="0"/>
            <a:stretch/>
          </p:blipFill>
          <p:spPr>
            <a:xfrm>
              <a:off x="0" y="0"/>
              <a:ext cx="704880" cy="14130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duiops.net/seresvivos/galeria/aguilas/63611311kc8.jpg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upload.wikimedia.org/wikipedia/commons/f/fc/Flag_of_Mexico.svg" TargetMode="External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duiops.net/seresvivos/galeria/aguilas/eagle.jpg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upload.wikimedia.org/wikipedia/commons/f/fc/Flag_of_Mexico.svg" TargetMode="External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duiops.net/seresvivos/galeria/aguilas/eagle.jpg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upload.wikimedia.org/wikipedia/commons/f/fc/Flag_of_Mexico.svg" TargetMode="External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duiops.net/seresvivos/galeria/aguilas/Cabeza-Aguila.jpg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upload.wikimedia.org/wikipedia/commons/f/fc/Flag_of_Mexico.svg" TargetMode="External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duiops.net/seresvivos/galeria/aguilas/Cabeza-Aguila.jpg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upload.wikimedia.org/wikipedia/commons/f/fc/Flag_of_Mexico.svg" TargetMode="External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duiops.net/seresvivos/galeria/aguilas/Bald%20Eagle2.jpg" TargetMode="External"/><Relationship Id="rId2" Type="http://schemas.openxmlformats.org/officeDocument/2006/relationships/image" Target="../media/image21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audio" Target="../media/WindSpiritByBillMiller.wav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hyperlink" Target="http://upload.wikimedia.org/wikipedia/commons/7/7b/Teotihuacan_Auch_1.jp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s.wikipedia.org/wiki/Archivo:Flag_of_Mexico.svg" TargetMode="External"/><Relationship Id="rId2" Type="http://schemas.openxmlformats.org/officeDocument/2006/relationships/image" Target="../media/image7.png"/><Relationship Id="rId3" Type="http://schemas.openxmlformats.org/officeDocument/2006/relationships/hyperlink" Target="http://es.wikipedia.org/wiki/Archivo:Flag_of_Mexico_(1934-1968).png" TargetMode="External"/><Relationship Id="rId4" Type="http://schemas.openxmlformats.org/officeDocument/2006/relationships/image" Target="../media/image8.png"/><Relationship Id="rId5" Type="http://schemas.openxmlformats.org/officeDocument/2006/relationships/hyperlink" Target="http://es.wikipedia.org/wiki/Archivo:Flag_of_Mexico_(1917-1934).png" TargetMode="External"/><Relationship Id="rId6" Type="http://schemas.openxmlformats.org/officeDocument/2006/relationships/image" Target="../media/image9.png"/><Relationship Id="rId7" Type="http://schemas.openxmlformats.org/officeDocument/2006/relationships/hyperlink" Target="http://es.wikipedia.org/wiki/Archivo:Flag_of_Mexico_(1881).png" TargetMode="External"/><Relationship Id="rId8" Type="http://schemas.openxmlformats.org/officeDocument/2006/relationships/image" Target="../media/image10.png"/><Relationship Id="rId9" Type="http://schemas.openxmlformats.org/officeDocument/2006/relationships/hyperlink" Target="http://es.wikipedia.org/wiki/Archivo:Bandera_del_II_Imperio_Mexicano.png" TargetMode="External"/><Relationship Id="rId10" Type="http://schemas.openxmlformats.org/officeDocument/2006/relationships/image" Target="../media/image11.png"/><Relationship Id="rId11" Type="http://schemas.openxmlformats.org/officeDocument/2006/relationships/hyperlink" Target="http://es.wikipedia.org/wiki/Archivo:Bandera_de_Iturbide.png" TargetMode="External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upload.wikimedia.org/wikipedia/commons/f/fc/Flag_of_Mexico.svg" TargetMode="Externa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upload.wikimedia.org/wikipedia/commons/f/fc/Flag_of_Mexico.svg" TargetMode="Externa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upload.wikimedia.org/wikipedia/commons/f/fc/Flag_of_Mexico.svg" TargetMode="External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upload.wikimedia.org/wikipedia/commons/f/fc/Flag_of_Mexico.svg" TargetMode="External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duiops.net/seresvivos/galeria/aguilas/63611311kc8.jpg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upload.wikimedia.org/wikipedia/commons/f/fc/Flag_of_Mexico.svg" TargetMode="External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2"/>
          <p:cNvSpPr/>
          <p:nvPr/>
        </p:nvSpPr>
        <p:spPr>
          <a:xfrm>
            <a:off x="571680" y="3100320"/>
            <a:ext cx="857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00"/>
                </a:solidFill>
                <a:latin typeface="Franklin Gothic Medium"/>
                <a:ea typeface="Arial"/>
              </a:rPr>
              <a:t>Deja correr libremente la presen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9"/>
          <p:cNvGrpSpPr/>
          <p:nvPr/>
        </p:nvGrpSpPr>
        <p:grpSpPr>
          <a:xfrm>
            <a:off x="0" y="0"/>
            <a:ext cx="3276720" cy="2565360"/>
            <a:chOff x="0" y="0"/>
            <a:chExt cx="3276720" cy="2565360"/>
          </a:xfrm>
        </p:grpSpPr>
        <p:pic>
          <p:nvPicPr>
            <p:cNvPr id="175" name="Picture 7" descr="63611311kc8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276720" cy="256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8" descr="Archivo:Flag of Mexico.svg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71640" cy="53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4 Rectángulo"/>
          <p:cNvSpPr/>
          <p:nvPr/>
        </p:nvSpPr>
        <p:spPr>
          <a:xfrm>
            <a:off x="3214800" y="714240"/>
            <a:ext cx="592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¡Estoy hasta la mad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 que te sientas orgullos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 tu PEME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5 Rectángulo"/>
          <p:cNvSpPr/>
          <p:nvPr/>
        </p:nvSpPr>
        <p:spPr>
          <a:xfrm>
            <a:off x="0" y="29559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Que solo te ha empobreci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aciéndote creer que el petróleo es tuy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6 Rectángulo"/>
          <p:cNvSpPr/>
          <p:nvPr/>
        </p:nvSpPr>
        <p:spPr>
          <a:xfrm>
            <a:off x="0" y="38955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¡Si la gasolina la traes del extranjer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7 Rectángulo"/>
          <p:cNvSpPr/>
          <p:nvPr/>
        </p:nvSpPr>
        <p:spPr>
          <a:xfrm>
            <a:off x="0" y="45021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toy realmente cansado de ver com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e haces la victima para todo 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8 Rectángulo"/>
          <p:cNvSpPr/>
          <p:nvPr/>
        </p:nvSpPr>
        <p:spPr>
          <a:xfrm>
            <a:off x="0" y="55148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ntre mas jodido esté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n vez de pelear para salir del hoy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s te haces la víctima, ¡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El ofendid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620"/>
                            </p:stCondLst>
                            <p:childTnLst>
                              <p:par>
                                <p:cTn id="316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6440"/>
                            </p:stCondLst>
                            <p:childTnLst>
                              <p:par>
                                <p:cTn id="322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7940"/>
                            </p:stCondLst>
                            <p:childTnLst>
                              <p:par>
                                <p:cTn id="328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1720"/>
                            </p:stCondLst>
                            <p:childTnLst>
                              <p:par>
                                <p:cTn id="334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0" y="3968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i los pendejos incompetentes del PA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6" descr="eagl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3564000" cy="28036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7"/>
          <p:cNvSpPr/>
          <p:nvPr/>
        </p:nvSpPr>
        <p:spPr>
          <a:xfrm>
            <a:off x="3492360" y="250920"/>
            <a:ext cx="56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tra cosita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8" descr="Archivo:Flag of Mexico.sv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971640" cy="5382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7"/>
          <p:cNvSpPr/>
          <p:nvPr/>
        </p:nvSpPr>
        <p:spPr>
          <a:xfrm>
            <a:off x="3500280" y="871560"/>
            <a:ext cx="56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¿En serio crees que la situación y futuro del País esta en manos de quien lo gobiern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3500280" y="2143080"/>
            <a:ext cx="56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¡Me lleva la chingad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r es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N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avanzamo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0" y="3027240"/>
            <a:ext cx="915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¡MÉXICO ÉRES TÚ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0" y="3467160"/>
            <a:ext cx="915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¡No el gobiern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0" y="4468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i los mentirosos arrastra-masas populistas del PR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0" y="4968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Y mucho menos los rateros y mentirosos del PRI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0" y="567036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¡Harán que tu vida sea mejor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6000">
    <p:fade thruBlk="true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48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63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8840"/>
                            </p:stCondLst>
                            <p:childTnLst>
                              <p:par>
                                <p:cTn id="367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440"/>
                            </p:stCondLst>
                            <p:childTnLst>
                              <p:par>
                                <p:cTn id="373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2040"/>
                            </p:stCondLst>
                            <p:childTnLst>
                              <p:par>
                                <p:cTn id="379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3040"/>
                            </p:stCondLst>
                            <p:childTnLst>
                              <p:par>
                                <p:cTn id="385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5400"/>
                            </p:stCondLst>
                            <p:childTnLst>
                              <p:par>
                                <p:cTn id="391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8280"/>
                            </p:stCondLst>
                            <p:childTnLst>
                              <p:par>
                                <p:cTn id="397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20880"/>
                            </p:stCondLst>
                            <p:childTnLst>
                              <p:par>
                                <p:cTn id="40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77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6" dur="770" fill="hold"/>
                                        <p:tgtEl>
                                          <p:spTgt spid="1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8" dur="77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0" dur="77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6" descr="eagl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3564000" cy="28036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8" descr="Archivo:Flag of Mexico.sv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971640" cy="53820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2"/>
          <p:cNvSpPr/>
          <p:nvPr/>
        </p:nvSpPr>
        <p:spPr>
          <a:xfrm>
            <a:off x="3571920" y="792360"/>
            <a:ext cx="55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inguno de estos políticos será un buen gobierno para nuestro País, quienes mejor pueden sacarlo adelante son ustedes Raza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0" y="3074040"/>
            <a:ext cx="907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iudadanos normales pero con los pantalones suficien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ara pelear por los sueños del pueblo Mexican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0" y="4039560"/>
            <a:ext cx="907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e das lástima cuando dices que la riqueza en Méxic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0" y="4611240"/>
            <a:ext cx="907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¡No se distribuye bi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0" y="5144760"/>
            <a:ext cx="907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¡La riqueza no se distribuye cabrón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0" y="5716080"/>
            <a:ext cx="907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¨ Se gana con trabajo e inteligencia 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0" y="6216120"/>
            <a:ext cx="907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¿O qué, No pued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8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4740"/>
                            </p:stCondLst>
                            <p:childTnLst>
                              <p:par>
                                <p:cTn id="422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9840"/>
                            </p:stCondLst>
                            <p:childTnLst>
                              <p:par>
                                <p:cTn id="428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0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1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3140"/>
                            </p:stCondLst>
                            <p:childTnLst>
                              <p:par>
                                <p:cTn id="4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4140"/>
                            </p:stCondLst>
                            <p:childTnLst>
                              <p:par>
                                <p:cTn id="440" nodeType="after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77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3" dur="770" fill="hold"/>
                                        <p:tgtEl>
                                          <p:spTgt spid="1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5" dur="77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7" dur="77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6640"/>
                            </p:stCondLst>
                            <p:childTnLst>
                              <p:par>
                                <p:cTn id="450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2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9420"/>
                            </p:stCondLst>
                            <p:childTnLst>
                              <p:par>
                                <p:cTn id="456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0" y="43869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s Chinos van para arriba como potencia no por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an muchos, sino porqu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ESTUDIA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3672000" y="299880"/>
            <a:ext cx="54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rabaja con entusiasmo,                            deja de hacer las cosas a media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ero sobre tod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13"/>
          <p:cNvGrpSpPr/>
          <p:nvPr/>
        </p:nvGrpSpPr>
        <p:grpSpPr>
          <a:xfrm>
            <a:off x="0" y="0"/>
            <a:ext cx="3635280" cy="2727360"/>
            <a:chOff x="0" y="0"/>
            <a:chExt cx="3635280" cy="2727360"/>
          </a:xfrm>
        </p:grpSpPr>
        <p:pic>
          <p:nvPicPr>
            <p:cNvPr id="205" name="Picture 11" descr="Cabeza-Aguila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635280" cy="27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Rectangle 12"/>
            <p:cNvSpPr/>
            <p:nvPr/>
          </p:nvSpPr>
          <p:spPr>
            <a:xfrm>
              <a:off x="0" y="0"/>
              <a:ext cx="183528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7" name="Picture 14" descr="Archivo:Flag of Mexico.sv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971640" cy="5382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6"/>
          <p:cNvSpPr/>
          <p:nvPr/>
        </p:nvSpPr>
        <p:spPr>
          <a:xfrm>
            <a:off x="5072040" y="175248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¡ESTUDIA !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0" y="3110040"/>
            <a:ext cx="91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 te quedes con el contenido digerido que te dan e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6600960" y="1752480"/>
            <a:ext cx="13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¡LEE!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2786040" y="353844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a televisió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4386240" y="353844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¡Investig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0" y="55029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8 de cada 10 profesionistas son Ingenieros                            que desarrollarán tecnolog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3643200" y="2324160"/>
            <a:ext cx="55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¡PREPÁRATE!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5000">
    <p:fade thruBlk="true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000"/>
                            </p:stCondLst>
                            <p:childTnLst>
                              <p:par>
                                <p:cTn id="471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4520"/>
                            </p:stCondLst>
                            <p:childTnLst>
                              <p:par>
                                <p:cTn id="4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520"/>
                            </p:stCondLst>
                            <p:childTnLst>
                              <p:par>
                                <p:cTn id="483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7020"/>
                            </p:stCondLst>
                            <p:childTnLst>
                              <p:par>
                                <p:cTn id="489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8520"/>
                            </p:stCondLst>
                            <p:childTnLst>
                              <p:par>
                                <p:cTn id="495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7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8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9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1780"/>
                            </p:stCondLst>
                            <p:childTnLst>
                              <p:par>
                                <p:cTn id="5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3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5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2340"/>
                            </p:stCondLst>
                            <p:childTnLst>
                              <p:par>
                                <p:cTn id="507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3840"/>
                            </p:stCondLst>
                            <p:childTnLst>
                              <p:par>
                                <p:cTn id="513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6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7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8260"/>
                            </p:stCondLst>
                            <p:childTnLst>
                              <p:par>
                                <p:cTn id="519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1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13"/>
          <p:cNvGrpSpPr/>
          <p:nvPr/>
        </p:nvGrpSpPr>
        <p:grpSpPr>
          <a:xfrm>
            <a:off x="0" y="0"/>
            <a:ext cx="3635280" cy="2727360"/>
            <a:chOff x="0" y="0"/>
            <a:chExt cx="3635280" cy="2727360"/>
          </a:xfrm>
        </p:grpSpPr>
        <p:pic>
          <p:nvPicPr>
            <p:cNvPr id="216" name="Picture 11" descr="Cabeza-Aguila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635280" cy="27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Rectangle 12"/>
            <p:cNvSpPr/>
            <p:nvPr/>
          </p:nvSpPr>
          <p:spPr>
            <a:xfrm>
              <a:off x="0" y="0"/>
              <a:ext cx="183528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8" name="Picture 14" descr="Archivo:Flag of Mexico.sv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971640" cy="53820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2"/>
          <p:cNvSpPr/>
          <p:nvPr/>
        </p:nvSpPr>
        <p:spPr>
          <a:xfrm>
            <a:off x="3643200" y="430920"/>
            <a:ext cx="542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s Japoneses no tienen petróle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i recursos natural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"/>
          <p:cNvSpPr/>
          <p:nvPr/>
        </p:nvSpPr>
        <p:spPr>
          <a:xfrm>
            <a:off x="3643200" y="1386720"/>
            <a:ext cx="542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olo cultivos de arroz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erezas y mucho ma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3643200" y="2144160"/>
            <a:ext cx="542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menos que Méxi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0" y="3090600"/>
            <a:ext cx="907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ero están años más avanzados que nosotros porque importan materias primas que transforman en:                       Teléfonos celulares, autos, computadoras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9 Rectángulo"/>
          <p:cNvSpPr/>
          <p:nvPr/>
        </p:nvSpPr>
        <p:spPr>
          <a:xfrm>
            <a:off x="0" y="4443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rque a pesar de estar geográficament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10 Rectángulo"/>
          <p:cNvSpPr/>
          <p:nvPr/>
        </p:nvSpPr>
        <p:spPr>
          <a:xfrm>
            <a:off x="0" y="5181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¡En medio de la nada!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11 Rectángulo"/>
          <p:cNvSpPr/>
          <p:nvPr/>
        </p:nvSpPr>
        <p:spPr>
          <a:xfrm>
            <a:off x="0" y="58579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¡Están sumamente preparados!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1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2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2460"/>
                            </p:stCondLst>
                            <p:childTnLst>
                              <p:par>
                                <p:cTn id="534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4980"/>
                            </p:stCondLst>
                            <p:childTnLst>
                              <p:par>
                                <p:cTn id="540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2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3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4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6660"/>
                            </p:stCondLst>
                            <p:childTnLst>
                              <p:par>
                                <p:cTn id="546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8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9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0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3120"/>
                            </p:stCondLst>
                            <p:childTnLst>
                              <p:par>
                                <p:cTn id="552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4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5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6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5560"/>
                            </p:stCondLst>
                            <p:childTnLst>
                              <p:par>
                                <p:cTn id="558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7060"/>
                            </p:stCondLst>
                            <p:childTnLst>
                              <p:par>
                                <p:cTn id="564" nodeType="after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77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7" dur="770" fill="hold"/>
                                        <p:tgtEl>
                                          <p:spTgt spid="2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9" dur="77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1" dur="77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2428920" y="4018320"/>
            <a:ext cx="3143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Empieza a cambi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3357720" y="501480"/>
            <a:ext cx="578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"Cada pueblo tiene el gobiern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que se merece"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9"/>
          <p:cNvGrpSpPr/>
          <p:nvPr/>
        </p:nvGrpSpPr>
        <p:grpSpPr>
          <a:xfrm>
            <a:off x="0" y="0"/>
            <a:ext cx="3382920" cy="2743200"/>
            <a:chOff x="0" y="0"/>
            <a:chExt cx="3382920" cy="2743200"/>
          </a:xfrm>
        </p:grpSpPr>
        <p:pic>
          <p:nvPicPr>
            <p:cNvPr id="229" name="Picture 5" descr="Bald%20Eagle2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348000" cy="27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7" descr="Archivo:Flag of Mexico.svg"/>
            <p:cNvPicPr/>
            <p:nvPr/>
          </p:nvPicPr>
          <p:blipFill>
            <a:blip r:embed="rId3"/>
            <a:stretch/>
          </p:blipFill>
          <p:spPr>
            <a:xfrm>
              <a:off x="2411280" y="2205000"/>
              <a:ext cx="971640" cy="53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Text Box 6"/>
          <p:cNvSpPr/>
          <p:nvPr/>
        </p:nvSpPr>
        <p:spPr>
          <a:xfrm>
            <a:off x="3357720" y="1571760"/>
            <a:ext cx="578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Piénsalo pero no dos veces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que no es tan difícil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0" y="294480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¡Gente ‘chingona’ hace gobiernos ‘chingones’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0" y="33559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¡No al revés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4929120" y="4005720"/>
            <a:ext cx="1785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a Méx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5857920" y="4001040"/>
            <a:ext cx="1643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¡Hoy!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-71280" y="450108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Apaga tu telenovela o el mediocre fútbol y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2"/>
          <p:cNvSpPr/>
          <p:nvPr/>
        </p:nvSpPr>
        <p:spPr>
          <a:xfrm>
            <a:off x="-71280" y="492948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¡Lee un libro!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"/>
          <p:cNvSpPr/>
          <p:nvPr/>
        </p:nvSpPr>
        <p:spPr>
          <a:xfrm>
            <a:off x="-71280" y="535824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¿te da huev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"/>
          <p:cNvSpPr/>
          <p:nvPr/>
        </p:nvSpPr>
        <p:spPr>
          <a:xfrm>
            <a:off x="-71280" y="578664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entonces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"/>
          <p:cNvSpPr/>
          <p:nvPr/>
        </p:nvSpPr>
        <p:spPr>
          <a:xfrm>
            <a:off x="-71280" y="615456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¡No te quejes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7000">
    <p:fade thruBlk="true"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0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500"/>
                            </p:stCondLst>
                            <p:childTnLst>
                              <p:par>
                                <p:cTn id="583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5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6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7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4100"/>
                            </p:stCondLst>
                            <p:childTnLst>
                              <p:par>
                                <p:cTn id="589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1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2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3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6780"/>
                            </p:stCondLst>
                            <p:childTnLst>
                              <p:par>
                                <p:cTn id="595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7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8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9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9460"/>
                            </p:stCondLst>
                            <p:childTnLst>
                              <p:par>
                                <p:cTn id="6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10460"/>
                            </p:stCondLst>
                            <p:childTnLst>
                              <p:par>
                                <p:cTn id="607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9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0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1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2600"/>
                            </p:stCondLst>
                            <p:childTnLst>
                              <p:par>
                                <p:cTn id="613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4100"/>
                            </p:stCondLst>
                            <p:childTnLst>
                              <p:par>
                                <p:cTn id="6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5100"/>
                            </p:stCondLst>
                            <p:childTnLst>
                              <p:par>
                                <p:cTn id="625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7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8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9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7580"/>
                            </p:stCondLst>
                            <p:childTnLst>
                              <p:par>
                                <p:cTn id="631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3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4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5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9220"/>
                            </p:stCondLst>
                            <p:childTnLst>
                              <p:par>
                                <p:cTn id="637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9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0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1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20700"/>
                            </p:stCondLst>
                            <p:childTnLst>
                              <p:par>
                                <p:cTn id="643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5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6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7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22100"/>
                            </p:stCondLst>
                            <p:childTnLst>
                              <p:par>
                                <p:cTn id="649" nodeType="after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77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2" dur="770" fill="hold"/>
                                        <p:tgtEl>
                                          <p:spTgt spid="2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4" dur="77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6" dur="77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3357720" y="574200"/>
            <a:ext cx="578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Ayuda a quien tengas al lad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en lugar de meterle el pie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8"/>
          <p:cNvSpPr/>
          <p:nvPr/>
        </p:nvSpPr>
        <p:spPr>
          <a:xfrm>
            <a:off x="0" y="49291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Atentament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9"/>
          <p:cNvGrpSpPr/>
          <p:nvPr/>
        </p:nvGrpSpPr>
        <p:grpSpPr>
          <a:xfrm>
            <a:off x="0" y="0"/>
            <a:ext cx="3382920" cy="2743200"/>
            <a:chOff x="0" y="0"/>
            <a:chExt cx="3382920" cy="2743200"/>
          </a:xfrm>
        </p:grpSpPr>
        <p:pic>
          <p:nvPicPr>
            <p:cNvPr id="244" name="Picture 5" descr="Bald%20Eagle2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348000" cy="27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7" descr="Archivo:Flag of Mexico.svg"/>
            <p:cNvPicPr/>
            <p:nvPr/>
          </p:nvPicPr>
          <p:blipFill>
            <a:blip r:embed="rId2"/>
            <a:stretch/>
          </p:blipFill>
          <p:spPr>
            <a:xfrm>
              <a:off x="2411280" y="2205000"/>
              <a:ext cx="971640" cy="53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6" name="Rectangle 2"/>
          <p:cNvSpPr/>
          <p:nvPr/>
        </p:nvSpPr>
        <p:spPr>
          <a:xfrm>
            <a:off x="3357720" y="1717200"/>
            <a:ext cx="578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Fíjate primero en tus propios act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antes que en los de los demás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2"/>
          <p:cNvSpPr/>
          <p:nvPr/>
        </p:nvSpPr>
        <p:spPr>
          <a:xfrm>
            <a:off x="0" y="321516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Y ahora ya me voy volando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"/>
          <p:cNvSpPr/>
          <p:nvPr/>
        </p:nvSpPr>
        <p:spPr>
          <a:xfrm>
            <a:off x="0" y="378504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porque dicen que hay que dar el grito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0" y="41436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(¿Qué en México no lo damos desesperados todos los días?)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2357280" y="5572080"/>
            <a:ext cx="2000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9900"/>
                </a:solidFill>
                <a:latin typeface="Arial"/>
                <a:ea typeface="Times New Roman"/>
              </a:rPr>
              <a:t>El Águila</a:t>
            </a:r>
            <a:r>
              <a:rPr b="1" i="1" lang="en-US" sz="30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8"/>
          <p:cNvSpPr/>
          <p:nvPr/>
        </p:nvSpPr>
        <p:spPr>
          <a:xfrm>
            <a:off x="0" y="55720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de tu </a:t>
            </a:r>
            <a:r>
              <a:rPr b="1" i="1" lang="en-US" sz="30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2143080" y="5572080"/>
            <a:ext cx="457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Arial"/>
                <a:ea typeface="Times New Roman"/>
              </a:rPr>
              <a:t>Bander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0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4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5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6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2340"/>
                            </p:stCondLst>
                            <p:childTnLst>
                              <p:par>
                                <p:cTn id="668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0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1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2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5540"/>
                            </p:stCondLst>
                            <p:childTnLst>
                              <p:par>
                                <p:cTn id="674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6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7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8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7420"/>
                            </p:stCondLst>
                            <p:childTnLst>
                              <p:par>
                                <p:cTn id="680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2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3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4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9660"/>
                            </p:stCondLst>
                            <p:childTnLst>
                              <p:par>
                                <p:cTn id="686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8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9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0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2620"/>
                            </p:stCondLst>
                            <p:childTnLst>
                              <p:par>
                                <p:cTn id="692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4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5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6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14640"/>
                            </p:stCondLst>
                            <p:childTnLst>
                              <p:par>
                                <p:cTn id="698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16140"/>
                            </p:stCondLst>
                            <p:childTnLst>
                              <p:par>
                                <p:cTn id="704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7640"/>
                            </p:stCondLst>
                            <p:childTnLst>
                              <p:par>
                                <p:cTn id="710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11"/>
          <p:cNvGrpSpPr/>
          <p:nvPr/>
        </p:nvGrpSpPr>
        <p:grpSpPr>
          <a:xfrm>
            <a:off x="214200" y="-500040"/>
            <a:ext cx="8929440" cy="7071840"/>
            <a:chOff x="214200" y="-500040"/>
            <a:chExt cx="8929440" cy="7071840"/>
          </a:xfrm>
        </p:grpSpPr>
        <p:pic>
          <p:nvPicPr>
            <p:cNvPr id="254" name="Picture 4" descr="Aguila-Y-Luna"/>
            <p:cNvPicPr/>
            <p:nvPr/>
          </p:nvPicPr>
          <p:blipFill>
            <a:blip r:embed="rId1"/>
            <a:stretch/>
          </p:blipFill>
          <p:spPr>
            <a:xfrm>
              <a:off x="438840" y="-191880"/>
              <a:ext cx="8704800" cy="655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Rectangle 7"/>
            <p:cNvSpPr/>
            <p:nvPr/>
          </p:nvSpPr>
          <p:spPr>
            <a:xfrm>
              <a:off x="214200" y="-500040"/>
              <a:ext cx="2489760" cy="77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9"/>
            <p:cNvSpPr/>
            <p:nvPr/>
          </p:nvSpPr>
          <p:spPr>
            <a:xfrm>
              <a:off x="293400" y="6087960"/>
              <a:ext cx="1445400" cy="48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Text Box 8"/>
          <p:cNvSpPr/>
          <p:nvPr/>
        </p:nvSpPr>
        <p:spPr>
          <a:xfrm>
            <a:off x="0" y="521496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9900"/>
                </a:solidFill>
                <a:latin typeface="Franklin Gothic Medium"/>
              </a:rPr>
              <a:t>Deja de soñar con poseer la Luna y ponte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2"/>
          <p:cNvSpPr/>
          <p:nvPr/>
        </p:nvSpPr>
        <p:spPr>
          <a:xfrm>
            <a:off x="0" y="23004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009900"/>
                </a:solidFill>
                <a:latin typeface="Franklin Gothic Medium"/>
              </a:rPr>
              <a:t>¡ME</a:t>
            </a:r>
            <a:r>
              <a:rPr b="1" i="1" lang="en-US" sz="9600" spc="-1" strike="noStrike">
                <a:solidFill>
                  <a:srgbClr val="ffffff"/>
                </a:solidFill>
                <a:latin typeface="Franklin Gothic Medium"/>
              </a:rPr>
              <a:t>XICA</a:t>
            </a:r>
            <a:r>
              <a:rPr b="1" i="1" lang="en-US" sz="9600" spc="-1" strike="noStrike">
                <a:solidFill>
                  <a:srgbClr val="ff0000"/>
                </a:solidFill>
                <a:latin typeface="Franklin Gothic Medium"/>
              </a:rPr>
              <a:t>NO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0" y="578484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Franklin Gothic Medium"/>
              </a:rPr>
              <a:t>a estudiar y a trabajar</a:t>
            </a:r>
            <a:r>
              <a:rPr b="1" i="1" lang="en-US" sz="2200" spc="-1" strike="noStrike">
                <a:solidFill>
                  <a:srgbClr val="ff0000"/>
                </a:solidFill>
                <a:latin typeface="Franklin Gothic Medium"/>
              </a:rPr>
              <a:t> </a:t>
            </a:r>
            <a:r>
              <a:rPr b="1" i="1" lang="en-US" sz="2200" spc="-1" strike="noStrike">
                <a:solidFill>
                  <a:srgbClr val="ffffff"/>
                </a:solidFill>
                <a:latin typeface="Franklin Gothic Medium"/>
              </a:rPr>
              <a:t>para devolvernos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8"/>
          <p:cNvSpPr/>
          <p:nvPr/>
        </p:nvSpPr>
        <p:spPr>
          <a:xfrm>
            <a:off x="0" y="635652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Franklin Gothic Medium"/>
              </a:rPr>
              <a:t>¡El Esplendor de nuestra Época Gloriosa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fade thruBlk="true"/>
  </p:transition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after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77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2" dur="770" fill="hold"/>
                                        <p:tgtEl>
                                          <p:spTgt spid="2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4" dur="77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6" dur="77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2500"/>
                            </p:stCondLst>
                            <p:childTnLst>
                              <p:par>
                                <p:cTn id="729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1" dur="8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2" dur="8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3" dur="8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5000"/>
                            </p:stCondLst>
                            <p:childTnLst>
                              <p:par>
                                <p:cTn id="740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2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3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4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7440"/>
                            </p:stCondLst>
                            <p:childTnLst>
                              <p:par>
                                <p:cTn id="746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8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9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0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7"/>
          <p:cNvGrpSpPr/>
          <p:nvPr/>
        </p:nvGrpSpPr>
        <p:grpSpPr>
          <a:xfrm>
            <a:off x="614520" y="928800"/>
            <a:ext cx="8315280" cy="4286160"/>
            <a:chOff x="614520" y="928800"/>
            <a:chExt cx="8315280" cy="4286160"/>
          </a:xfrm>
        </p:grpSpPr>
        <p:pic>
          <p:nvPicPr>
            <p:cNvPr id="99" name="Picture 8" descr="ei_teotihuacan"/>
            <p:cNvPicPr/>
            <p:nvPr/>
          </p:nvPicPr>
          <p:blipFill>
            <a:blip r:embed="rId1"/>
            <a:stretch/>
          </p:blipFill>
          <p:spPr>
            <a:xfrm>
              <a:off x="614520" y="928800"/>
              <a:ext cx="8315280" cy="166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10" descr="Quetzalcoatl_1"/>
            <p:cNvPicPr/>
            <p:nvPr/>
          </p:nvPicPr>
          <p:blipFill>
            <a:blip r:embed="rId2"/>
            <a:stretch/>
          </p:blipFill>
          <p:spPr>
            <a:xfrm>
              <a:off x="714600" y="2714760"/>
              <a:ext cx="1736640" cy="250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Text Box 11"/>
          <p:cNvSpPr/>
          <p:nvPr/>
        </p:nvSpPr>
        <p:spPr>
          <a:xfrm>
            <a:off x="2674080" y="3614760"/>
            <a:ext cx="625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Franklin Gothic Medium"/>
                <a:ea typeface="Arial"/>
              </a:rPr>
              <a:t>¿SABÍAS QUE MÉXICO TUVO DÍAS DE GLOR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576440" y="5603760"/>
            <a:ext cx="74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00"/>
                </a:solidFill>
                <a:latin typeface="Franklin Gothic Medium"/>
                <a:ea typeface="Arial"/>
              </a:rPr>
              <a:t>FUE ANTES DE QUE HUBIERA MEXICANOS COMO LOS DE AHORA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1692360" y="266760"/>
            <a:ext cx="64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3EA7-C416-4381-ACD3-DC7433D75F73}" type="datetime3">
              <a:rPr b="1" lang="es-MX" sz="1400" spc="-1" strike="noStrike">
                <a:solidFill>
                  <a:srgbClr val="ffcc00"/>
                </a:solidFill>
                <a:latin typeface="Arial"/>
                <a:ea typeface="Arial"/>
              </a:rPr>
              <a:t>29 de julio de 2026</a:t>
            </a:fld>
            <a:r>
              <a:rPr b="1" lang="es-MX" sz="1400" spc="-1" strike="noStrike">
                <a:solidFill>
                  <a:srgbClr val="ffcc00"/>
                </a:solidFill>
                <a:latin typeface="Arial"/>
                <a:ea typeface="Arial"/>
              </a:rPr>
              <a:t> … BICENTENARIO… </a:t>
            </a:r>
            <a:r>
              <a:rPr b="1" lang="es-MX" sz="1800" spc="-1" strike="noStrike">
                <a:solidFill>
                  <a:srgbClr val="ffcc00"/>
                </a:solidFill>
                <a:latin typeface="Arial"/>
                <a:ea typeface="Arial"/>
              </a:rPr>
              <a:t>¡Óral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140"/>
                            </p:stCondLst>
                            <p:childTnLst>
                              <p:par>
                                <p:cTn id="20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640"/>
                            </p:stCondLst>
                            <p:childTnLst>
                              <p:par>
                                <p:cTn id="26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500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craneo teotihuacan"/>
          <p:cNvPicPr/>
          <p:nvPr/>
        </p:nvPicPr>
        <p:blipFill>
          <a:blip r:embed="rId1"/>
          <a:stretch/>
        </p:blipFill>
        <p:spPr>
          <a:xfrm>
            <a:off x="4879800" y="260280"/>
            <a:ext cx="4264200" cy="5157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15_teotihuacan_museo_4"/>
          <p:cNvPicPr/>
          <p:nvPr/>
        </p:nvPicPr>
        <p:blipFill>
          <a:blip r:embed="rId2"/>
          <a:stretch/>
        </p:blipFill>
        <p:spPr>
          <a:xfrm>
            <a:off x="250920" y="333360"/>
            <a:ext cx="4535280" cy="3114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Image:Teotihuacan Auch 1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4000" y="3645000"/>
            <a:ext cx="2808000" cy="3213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2873520" y="5516640"/>
            <a:ext cx="65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Franklin Gothic Medium"/>
                <a:ea typeface="Arial"/>
              </a:rPr>
              <a:t>EL MUNDO ENVIDIABA NUESTRA CULTURA Y NUESTRA RIQUE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500"/>
                            </p:stCondLst>
                            <p:childTnLst>
                              <p:par>
                                <p:cTn id="59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22"/>
          <p:cNvGrpSpPr/>
          <p:nvPr/>
        </p:nvGrpSpPr>
        <p:grpSpPr>
          <a:xfrm>
            <a:off x="6806520" y="5013360"/>
            <a:ext cx="2236680" cy="1519920"/>
            <a:chOff x="6806520" y="5013360"/>
            <a:chExt cx="2236680" cy="1519920"/>
          </a:xfrm>
        </p:grpSpPr>
        <p:pic>
          <p:nvPicPr>
            <p:cNvPr id="109" name="Picture 4" descr="200px-Flag_of_Mexico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877080" y="5013360"/>
              <a:ext cx="2016000" cy="114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Rectangle 5"/>
            <p:cNvSpPr/>
            <p:nvPr/>
          </p:nvSpPr>
          <p:spPr>
            <a:xfrm>
              <a:off x="6806520" y="6165000"/>
              <a:ext cx="22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ctual desde 1968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21"/>
          <p:cNvGrpSpPr/>
          <p:nvPr/>
        </p:nvGrpSpPr>
        <p:grpSpPr>
          <a:xfrm>
            <a:off x="4716360" y="4941720"/>
            <a:ext cx="1905120" cy="1663200"/>
            <a:chOff x="4716360" y="4941720"/>
            <a:chExt cx="1905120" cy="1663200"/>
          </a:xfrm>
        </p:grpSpPr>
        <p:pic>
          <p:nvPicPr>
            <p:cNvPr id="112" name="Picture 6" descr="200px-Flag_of_Mexico_%281934-1968%29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4716360" y="4941720"/>
              <a:ext cx="1905120" cy="12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Rectangle 7"/>
            <p:cNvSpPr/>
            <p:nvPr/>
          </p:nvSpPr>
          <p:spPr>
            <a:xfrm>
              <a:off x="4719960" y="6236640"/>
              <a:ext cx="180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e 1934 a 196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20"/>
          <p:cNvGrpSpPr/>
          <p:nvPr/>
        </p:nvGrpSpPr>
        <p:grpSpPr>
          <a:xfrm>
            <a:off x="2556000" y="4941720"/>
            <a:ext cx="1904760" cy="1663200"/>
            <a:chOff x="2556000" y="4941720"/>
            <a:chExt cx="1904760" cy="1663200"/>
          </a:xfrm>
        </p:grpSpPr>
        <p:pic>
          <p:nvPicPr>
            <p:cNvPr id="115" name="Picture 8" descr="200px-Flag_of_Mexico_%281917-1934%29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2556000" y="4941720"/>
              <a:ext cx="1904760" cy="12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Rectangle 9"/>
            <p:cNvSpPr/>
            <p:nvPr/>
          </p:nvSpPr>
          <p:spPr>
            <a:xfrm>
              <a:off x="2559600" y="6236640"/>
              <a:ext cx="180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e 1917 a 193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19"/>
          <p:cNvGrpSpPr/>
          <p:nvPr/>
        </p:nvGrpSpPr>
        <p:grpSpPr>
          <a:xfrm>
            <a:off x="324000" y="4941720"/>
            <a:ext cx="1904760" cy="1663200"/>
            <a:chOff x="324000" y="4941720"/>
            <a:chExt cx="1904760" cy="1663200"/>
          </a:xfrm>
        </p:grpSpPr>
        <p:pic>
          <p:nvPicPr>
            <p:cNvPr id="118" name="Picture 10" descr="200px-Flag_of_Mexico_%281881%29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324000" y="4941720"/>
              <a:ext cx="1904760" cy="12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11"/>
            <p:cNvSpPr/>
            <p:nvPr/>
          </p:nvSpPr>
          <p:spPr>
            <a:xfrm>
              <a:off x="327600" y="6236640"/>
              <a:ext cx="180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e 1881 a 189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17"/>
          <p:cNvGrpSpPr/>
          <p:nvPr/>
        </p:nvGrpSpPr>
        <p:grpSpPr>
          <a:xfrm>
            <a:off x="1980720" y="2924280"/>
            <a:ext cx="5680800" cy="1880280"/>
            <a:chOff x="1980720" y="2924280"/>
            <a:chExt cx="5680800" cy="1880280"/>
          </a:xfrm>
        </p:grpSpPr>
        <p:pic>
          <p:nvPicPr>
            <p:cNvPr id="121" name="Picture 12" descr="200px-Bandera_del_II_Imperio_Mexicano">
              <a:hlinkClick r:id="rId9"/>
            </p:cNvPr>
            <p:cNvPicPr/>
            <p:nvPr/>
          </p:nvPicPr>
          <p:blipFill>
            <a:blip r:embed="rId10"/>
            <a:stretch/>
          </p:blipFill>
          <p:spPr>
            <a:xfrm>
              <a:off x="3348000" y="2924280"/>
              <a:ext cx="2808360" cy="14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Rectangle 13"/>
            <p:cNvSpPr/>
            <p:nvPr/>
          </p:nvSpPr>
          <p:spPr>
            <a:xfrm>
              <a:off x="1980720" y="4436280"/>
              <a:ext cx="568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e 1864 a 1867 durante el Imperio de Maximiliano 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18"/>
          <p:cNvGrpSpPr/>
          <p:nvPr/>
        </p:nvGrpSpPr>
        <p:grpSpPr>
          <a:xfrm>
            <a:off x="1476360" y="765000"/>
            <a:ext cx="6393960" cy="2023560"/>
            <a:chOff x="1476360" y="765000"/>
            <a:chExt cx="6393960" cy="2023560"/>
          </a:xfrm>
        </p:grpSpPr>
        <p:pic>
          <p:nvPicPr>
            <p:cNvPr id="124" name="Picture 14" descr="200px-Bandera_de_Iturbide">
              <a:hlinkClick r:id="rId11"/>
            </p:cNvPr>
            <p:cNvPicPr/>
            <p:nvPr/>
          </p:nvPicPr>
          <p:blipFill>
            <a:blip r:embed="rId12"/>
            <a:stretch/>
          </p:blipFill>
          <p:spPr>
            <a:xfrm>
              <a:off x="3492360" y="765000"/>
              <a:ext cx="2519640" cy="167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Rectangle 15"/>
            <p:cNvSpPr/>
            <p:nvPr/>
          </p:nvSpPr>
          <p:spPr>
            <a:xfrm>
              <a:off x="1476360" y="2420280"/>
              <a:ext cx="639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De 1821 a 1823 durante el Imperio de Agustín de Iturbid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 Box 16"/>
          <p:cNvSpPr/>
          <p:nvPr/>
        </p:nvSpPr>
        <p:spPr>
          <a:xfrm>
            <a:off x="1345320" y="357120"/>
            <a:ext cx="635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Yo con el tiempo y por una serie de caprichos, fui cambiando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fade thruBlk="true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69" dur="5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500"/>
                            </p:stCondLst>
                            <p:childTnLst>
                              <p:par>
                                <p:cTn id="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7500"/>
                            </p:stCondLst>
                            <p:childTnLst>
                              <p:par>
                                <p:cTn id="7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2500"/>
                            </p:stCondLst>
                            <p:childTnLst>
                              <p:par>
                                <p:cTn id="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450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65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85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7"/>
          <p:cNvSpPr/>
          <p:nvPr/>
        </p:nvSpPr>
        <p:spPr>
          <a:xfrm>
            <a:off x="3296160" y="0"/>
            <a:ext cx="502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Franklin Gothic Medium"/>
                <a:ea typeface="Times New Roman"/>
              </a:rPr>
              <a:t>MEXICANO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11"/>
          <p:cNvGrpSpPr/>
          <p:nvPr/>
        </p:nvGrpSpPr>
        <p:grpSpPr>
          <a:xfrm>
            <a:off x="0" y="0"/>
            <a:ext cx="2462040" cy="2995560"/>
            <a:chOff x="0" y="0"/>
            <a:chExt cx="2462040" cy="2995560"/>
          </a:xfrm>
        </p:grpSpPr>
        <p:pic>
          <p:nvPicPr>
            <p:cNvPr id="129" name="Picture 6" descr="aguila"/>
            <p:cNvPicPr/>
            <p:nvPr/>
          </p:nvPicPr>
          <p:blipFill>
            <a:blip r:embed="rId1"/>
            <a:stretch/>
          </p:blipFill>
          <p:spPr>
            <a:xfrm>
              <a:off x="0" y="260280"/>
              <a:ext cx="2462040" cy="273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10" descr="Archivo:Flag of Mexico.sv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187280" cy="677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" name="Text Box 7"/>
          <p:cNvSpPr/>
          <p:nvPr/>
        </p:nvSpPr>
        <p:spPr>
          <a:xfrm>
            <a:off x="2848680" y="1585800"/>
            <a:ext cx="5972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oy quiero decirte qu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¡Estoy hasta la mad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 escuchar tus mismas quejas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loriqueos desde hace doscientos añ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0" y="3571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Que si los Españoles nos conquistar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0" y="41432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Que si los ‘gringos’ nos invadier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0" y="4786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Que si Porfirio Díaz fué un dictador 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0" y="54291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alinas un ladr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fade thruBlk="true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500"/>
                            </p:stCondLst>
                            <p:childTnLst>
                              <p:par>
                                <p:cTn id="115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8360"/>
                            </p:stCondLst>
                            <p:childTnLst>
                              <p:par>
                                <p:cTn id="121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140"/>
                            </p:stCondLst>
                            <p:childTnLst>
                              <p:par>
                                <p:cTn id="127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1960"/>
                            </p:stCondLst>
                            <p:childTnLst>
                              <p:par>
                                <p:cTn id="133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11"/>
          <p:cNvGrpSpPr/>
          <p:nvPr/>
        </p:nvGrpSpPr>
        <p:grpSpPr>
          <a:xfrm>
            <a:off x="0" y="0"/>
            <a:ext cx="2462040" cy="2995560"/>
            <a:chOff x="0" y="0"/>
            <a:chExt cx="2462040" cy="2995560"/>
          </a:xfrm>
        </p:grpSpPr>
        <p:pic>
          <p:nvPicPr>
            <p:cNvPr id="137" name="Picture 6" descr="aguila"/>
            <p:cNvPicPr/>
            <p:nvPr/>
          </p:nvPicPr>
          <p:blipFill>
            <a:blip r:embed="rId1"/>
            <a:stretch/>
          </p:blipFill>
          <p:spPr>
            <a:xfrm>
              <a:off x="0" y="260280"/>
              <a:ext cx="2462040" cy="273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10" descr="Archivo:Flag of Mexico.sv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187280" cy="677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Rectangle 3"/>
          <p:cNvSpPr/>
          <p:nvPr/>
        </p:nvSpPr>
        <p:spPr>
          <a:xfrm>
            <a:off x="2428920" y="661680"/>
            <a:ext cx="678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Quiero decirte que… ¡Estoy hasta la madre! de tus inútiles manifestaciones donde no logras nada y solo perjudicas a  los demá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2500200" y="1750680"/>
            <a:ext cx="66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¡Que estoy hasta la madre!                                     de que siempre quieres vivir del Gobierno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y que éste te mantenga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0" y="32882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e baje precios, te dé luz, agua y tierr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odo lo quieres en la boc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0" y="4254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¡Ah!, pero eso sí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-142920" y="4754160"/>
            <a:ext cx="942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e encanta colgarte de la luz con tu "diablito" para no pagarl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0" y="5254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e encanta robarte el cable de tu vecino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0" y="57542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arle mordidas a los policías para no pagar la multa 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0" y="6254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e encanta evadir impue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780"/>
                            </p:stCondLst>
                            <p:childTnLst>
                              <p:par>
                                <p:cTn id="148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8860"/>
                            </p:stCondLst>
                            <p:childTnLst>
                              <p:par>
                                <p:cTn id="154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2140"/>
                            </p:stCondLst>
                            <p:childTnLst>
                              <p:par>
                                <p:cTn id="160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3780"/>
                            </p:stCondLst>
                            <p:childTnLst>
                              <p:par>
                                <p:cTn id="166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7440"/>
                            </p:stCondLst>
                            <p:childTnLst>
                              <p:par>
                                <p:cTn id="172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9340"/>
                            </p:stCondLst>
                            <p:childTnLst>
                              <p:par>
                                <p:cTn id="178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1680"/>
                            </p:stCondLst>
                            <p:childTnLst>
                              <p:par>
                                <p:cTn id="184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6"/>
          <p:cNvSpPr/>
          <p:nvPr/>
        </p:nvSpPr>
        <p:spPr>
          <a:xfrm>
            <a:off x="3357720" y="0"/>
            <a:ext cx="578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¡Estoy hasta la madre!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 tu fraseci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9"/>
          <p:cNvGrpSpPr/>
          <p:nvPr/>
        </p:nvGrpSpPr>
        <p:grpSpPr>
          <a:xfrm>
            <a:off x="0" y="0"/>
            <a:ext cx="3419640" cy="3213000"/>
            <a:chOff x="0" y="0"/>
            <a:chExt cx="3419640" cy="3213000"/>
          </a:xfrm>
        </p:grpSpPr>
        <p:pic>
          <p:nvPicPr>
            <p:cNvPr id="149" name="Picture 2" descr="C:\Documents and Settings\Ren\My Documents\My Photos\June Whaun\Cool Pictures 30\image.3530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419640" cy="32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8" descr="Archivo:Flag of Mexico.sv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2195640" y="2492280"/>
              <a:ext cx="1224000" cy="677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Text Box 6"/>
          <p:cNvSpPr/>
          <p:nvPr/>
        </p:nvSpPr>
        <p:spPr>
          <a:xfrm>
            <a:off x="3429000" y="1357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a tierra es de quien la trabaja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3429000" y="257184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¿Para qué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0" y="38577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 todas formas acabas emigrando al otro la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onde la tierra no es de quien la trabaj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0" y="48578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lá la tierra le pertenece a quien tie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l capital para trabajarla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0" y="5857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ero eso es algo que tu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¡En tu ignorancia nunca vas a entend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fade thruBlk="true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980"/>
                            </p:stCondLst>
                            <p:childTnLst>
                              <p:par>
                                <p:cTn id="199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140"/>
                            </p:stCondLst>
                            <p:childTnLst>
                              <p:par>
                                <p:cTn id="205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6140"/>
                            </p:stCondLst>
                            <p:childTnLst>
                              <p:par>
                                <p:cTn id="211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60"/>
                            </p:stCondLst>
                            <p:childTnLst>
                              <p:par>
                                <p:cTn id="217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3420"/>
                            </p:stCondLst>
                            <p:childTnLst>
                              <p:par>
                                <p:cTn id="223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9"/>
          <p:cNvGrpSpPr/>
          <p:nvPr/>
        </p:nvGrpSpPr>
        <p:grpSpPr>
          <a:xfrm>
            <a:off x="0" y="0"/>
            <a:ext cx="3419640" cy="3213000"/>
            <a:chOff x="0" y="0"/>
            <a:chExt cx="3419640" cy="3213000"/>
          </a:xfrm>
        </p:grpSpPr>
        <p:pic>
          <p:nvPicPr>
            <p:cNvPr id="157" name="Picture 2" descr="C:\Documents and Settings\Ren\My Documents\My Photos\June Whaun\Cool Pictures 30\image.3530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419640" cy="32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8" descr="Archivo:Flag of Mexico.sv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2195640" y="2492280"/>
              <a:ext cx="1224000" cy="677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Rectangle 2"/>
          <p:cNvSpPr/>
          <p:nvPr/>
        </p:nvSpPr>
        <p:spPr>
          <a:xfrm>
            <a:off x="3357720" y="998640"/>
            <a:ext cx="569268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Gente como los judíos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los Argentinos y los Españole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vienen de afuera igual d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jodidos que tú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0" y="3422520"/>
            <a:ext cx="90504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Pero se ponen a trabajar juntos, no pisándose unos a otros, vienen a hacer negocios, no a humillarse ellos mismos haciendo el trabajo sucio que tú no quisieras hace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0" y="4703400"/>
            <a:ext cx="9050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Dices que los Mexicanos somos ‘chingones’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porque les hacemos el trabajo pesado a los gringos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0" y="5626800"/>
            <a:ext cx="90504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Y que ellos son ‘huevones’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0" y="6198480"/>
            <a:ext cx="90504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¡Yo creo más bien que son demasiado listos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3700"/>
                            </p:stCondLst>
                            <p:childTnLst>
                              <p:par>
                                <p:cTn id="238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260"/>
                            </p:stCondLst>
                            <p:childTnLst>
                              <p:par>
                                <p:cTn id="244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4460"/>
                            </p:stCondLst>
                            <p:childTnLst>
                              <p:par>
                                <p:cTn id="250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6420"/>
                            </p:stCondLst>
                            <p:childTnLst>
                              <p:par>
                                <p:cTn id="256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0" y="41727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¿Te valoras tan poco que no crees ser capa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 tener un empleo de otro nivel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3235320" y="357120"/>
            <a:ext cx="588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¿Cuántos Mexicanos han llegado a s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mpresarios en Estados Unido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9"/>
          <p:cNvGrpSpPr/>
          <p:nvPr/>
        </p:nvGrpSpPr>
        <p:grpSpPr>
          <a:xfrm>
            <a:off x="0" y="0"/>
            <a:ext cx="3276720" cy="2565360"/>
            <a:chOff x="0" y="0"/>
            <a:chExt cx="3276720" cy="2565360"/>
          </a:xfrm>
        </p:grpSpPr>
        <p:pic>
          <p:nvPicPr>
            <p:cNvPr id="167" name="Picture 7" descr="63611311kc8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276720" cy="256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8" descr="Archivo:Flag of Mexico.svg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71640" cy="53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9" name="Text Box 6"/>
          <p:cNvSpPr/>
          <p:nvPr/>
        </p:nvSpPr>
        <p:spPr>
          <a:xfrm>
            <a:off x="3322080" y="1371600"/>
            <a:ext cx="568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¿Por qué la gente de otros paí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iene fama de comerciant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 empresarios o hasta de usurero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0" y="2681280"/>
            <a:ext cx="91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¿Y nosotro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0" y="3241800"/>
            <a:ext cx="91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enemos fama de: Albañiles, carpinteros, plomero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jardineros, personal de limpiez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0" y="5101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s Árabes y Asiáticos llegan a ese Paí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uchas veces igual que tú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0" y="6003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in hablar el idioma ni conocer a nadie y termin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r lo menos siendo dueños de sus propios negoc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8000">
    <p:fade thruBlk="true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860"/>
                            </p:stCondLst>
                            <p:childTnLst>
                              <p:par>
                                <p:cTn id="271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640"/>
                            </p:stCondLst>
                            <p:childTnLst>
                              <p:par>
                                <p:cTn id="277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9140"/>
                            </p:stCondLst>
                            <p:childTnLst>
                              <p:par>
                                <p:cTn id="283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3180"/>
                            </p:stCondLst>
                            <p:childTnLst>
                              <p:par>
                                <p:cTn id="289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6700"/>
                            </p:stCondLst>
                            <p:childTnLst>
                              <p:par>
                                <p:cTn id="295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9940"/>
                            </p:stCondLst>
                            <p:childTnLst>
                              <p:par>
                                <p:cTn id="301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16:48:15Z</dcterms:created>
  <dc:creator>Carlos Pamplona</dc:creator>
  <dc:description/>
  <dc:language>en-US</dc:language>
  <cp:lastModifiedBy>fhr017</cp:lastModifiedBy>
  <dcterms:modified xsi:type="dcterms:W3CDTF">2010-02-02T16:55:18Z</dcterms:modified>
  <cp:revision>64</cp:revision>
  <dc:subject/>
  <dc:title>Diapositiva 1</dc:title>
</cp:coreProperties>
</file>