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D2B-BEE8-41B3-BF44-323CE0C2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98D-47EE-469B-B008-8A60B049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C93-7CDE-49A5-8673-9B11CE56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284-8450-49F0-BC0D-5A7CDFC6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573-3E72-4E68-81AB-916A30C0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9D5-B6F0-470F-A42C-9642485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209-C01E-4779-99B9-4948AD6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F28D-EC71-4418-9A2A-17E63D6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A355-5145-4329-BE2B-FB2D2DAC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9685-9268-42E7-9535-396CF6F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5EC9-D48F-47E9-902A-AE0C8FA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A2A-F0F9-4D66-A237-BA76EC47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F5B-B8B4-44B8-9A0D-5BF1695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DFE1-0092-432A-8059-DDA339D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C0F-CCE8-4BC3-B458-D55C94A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25F4-47E8-4433-B9DD-6FF61BE9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0E6-E483-4F97-9E77-85AB2ADF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615-9018-490A-932E-255484E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D74-1430-4294-98A4-5392BE6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068-70FF-4AA7-BAFB-B9791C3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8B0-CE27-4F33-A44B-3C0D6F59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2D8-5AC1-4A74-BAB5-AAD5AA3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0F3-CA8B-4891-98A1-38344FC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C36-23B1-4A55-B4AF-ED08B6D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CB78-AF61-490E-908B-305F02817770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cologiaycampo.com/blog/wp-content/uploads/2011/11/marcaperu.jpg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0F5-8887-4749-8C60-6B52F3F4BB29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898989"/>
                </a:solidFill>
                <a:latin typeface="Calibri"/>
              </a:rPr>
              <a:t>Contribuyamos un poco a hacer un PERÚ me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581200" cy="1361880"/>
          </a:xfrm>
          <a:prstGeom prst="rect">
            <a:avLst/>
          </a:prstGeom>
          <a:ln w="0">
            <a:noFill/>
          </a:ln>
        </p:spPr>
      </p:pic>
      <p:pic>
        <p:nvPicPr>
          <p:cNvPr id="85" name="Ese arar en el mar.mp3" descr=""/>
          <p:cNvPicPr/>
          <p:nvPr/>
        </p:nvPicPr>
        <p:blipFill>
          <a:blip r:embed="rId2"/>
          <a:stretch/>
        </p:blipFill>
        <p:spPr>
          <a:xfrm>
            <a:off x="12589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Consideras alarmante el índice de criminalidad en nuestro paí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3" name="3 Rectángulo"/>
          <p:cNvSpPr/>
          <p:nvPr/>
        </p:nvSpPr>
        <p:spPr>
          <a:xfrm>
            <a:off x="611280" y="414972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 eres Empresario, paga sueldos justos; si eres trabajador, trabaja con afán. Pero ambos ¡¡¡PAGUEN SUS IMPUESTOS!!!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 ello se dará educación adecuada a los hijos, evitando la formación de delincuentes. ¡Cada delincuente sale de una famili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terrible el problema de la drogadic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6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amente cuida y atiende bien a tus hijos y nietos e interésate por ellos. Así ni siquiera tendrás que vigil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54936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I CONSIDERAS QUE NINGUNA DE LAS COSAS ANTERIORES MEJORARÍA EL PAÍS, ENTONCES  ERES PARTE DEL PROBLEMA Y NO DE LA SOL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Y si no participas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8 Rectángulo" descr=""/>
          <p:cNvPicPr/>
          <p:nvPr/>
        </p:nvPicPr>
        <p:blipFill>
          <a:blip r:embed="rId1"/>
          <a:stretch/>
        </p:blipFill>
        <p:spPr>
          <a:xfrm>
            <a:off x="1444680" y="4705200"/>
            <a:ext cx="6284880" cy="11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684360" y="8017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tamos pasando por una etapa de falta de valores cívicos, educación y de patriotismo. Necesitamos cambiar nuestro comportamiento para que podamos vivir en un país donde tengamos el orgullo de deci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2 Rectángulo" descr=""/>
          <p:cNvPicPr/>
          <p:nvPr/>
        </p:nvPicPr>
        <p:blipFill>
          <a:blip r:embed="rId1"/>
          <a:stretch/>
        </p:blipFill>
        <p:spPr>
          <a:xfrm>
            <a:off x="1359000" y="4743360"/>
            <a:ext cx="64198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Rectángulo"/>
          <p:cNvSpPr/>
          <p:nvPr/>
        </p:nvSpPr>
        <p:spPr>
          <a:xfrm>
            <a:off x="755640" y="1125360"/>
            <a:ext cx="75614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 solución a nuestros problemas no se encuentra en un PRESIDENTE o en un CONGRESIST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Mucho menos en un partido político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 mediocridad o grandeza de un país reside en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SOTRO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us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CIUDADAN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www.colegioeltriunfo.edu.pe/documentos/imagenes/E6F_viva_el_peru.gif"/>
          <p:cNvPicPr/>
          <p:nvPr/>
        </p:nvPicPr>
        <p:blipFill>
          <a:blip r:embed="rId1"/>
          <a:srcRect l="0" t="0" r="0" b="5455"/>
          <a:stretch/>
        </p:blipFill>
        <p:spPr>
          <a:xfrm>
            <a:off x="3059280" y="1484280"/>
            <a:ext cx="2914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 Rectángulo" descr=""/>
          <p:cNvPicPr/>
          <p:nvPr/>
        </p:nvPicPr>
        <p:blipFill>
          <a:blip r:embed="rId1"/>
          <a:stretch/>
        </p:blipFill>
        <p:spPr>
          <a:xfrm>
            <a:off x="1054080" y="371520"/>
            <a:ext cx="684072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5 CuadroTexto"/>
          <p:cNvSpPr/>
          <p:nvPr/>
        </p:nvSpPr>
        <p:spPr>
          <a:xfrm>
            <a:off x="1403280" y="2060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¡¡¡Cámbialo tu mismo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 CuadroTexto"/>
          <p:cNvSpPr/>
          <p:nvPr/>
        </p:nvSpPr>
        <p:spPr>
          <a:xfrm>
            <a:off x="1403280" y="3645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Y si no participa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8 Rectángulo" descr=""/>
          <p:cNvPicPr/>
          <p:nvPr/>
        </p:nvPicPr>
        <p:blipFill>
          <a:blip r:embed="rId2"/>
          <a:stretch/>
        </p:blipFill>
        <p:spPr>
          <a:xfrm>
            <a:off x="1444680" y="4780080"/>
            <a:ext cx="6284880" cy="11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Rectángulo"/>
          <p:cNvSpPr/>
          <p:nvPr/>
        </p:nvSpPr>
        <p:spPr>
          <a:xfrm>
            <a:off x="1042920" y="76500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Encuentras absurdo el robo de camiones de carga, a veces hasta con asesinatos de los camioner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2" name="3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compres nada sin Factura. ¡¡¡Exige la Factura en cada compra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Te disgusta el desorden causado por los vendedores ambulan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5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compres nada a ellos. Generalmente venden artículos robados, defectuosos, falsificados, pirateados o contrabande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1042920" y="76500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Te parece mal tanta cantidad de mendigos en los semáforos, en las calles,  y en cada esquin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8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nca les des NADA. Canaliza tu ayuda solidaria directamente a las instituciones de confianz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Te produce repulsión tener que coimear al Policía que te sorprende en una infrac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nca les des NADA, pero mejor no cometas ningún tipo de infracción. Cumple con las Regl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No puedes entender como tanta basura inunda la ciu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3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amente tira papelitos y basura, EN LOS LUGARES para tal fin, barre tu vere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2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injusto que hayan revendedores de entradas en los espectácul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3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7" name="4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les compres, aunque eso signifique que pierdas el ev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1042920" y="765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caótico el tránsito en la ciu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0" name="3 Rectángulo"/>
          <p:cNvSpPr/>
          <p:nvPr/>
        </p:nvSpPr>
        <p:spPr>
          <a:xfrm>
            <a:off x="1042920" y="4149720"/>
            <a:ext cx="69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o respeta todas las Reglas de tránsito, como por ejemplo, no estaciones en lugares no permitidos, o no te pases una luz roj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0:01Z</dcterms:created>
  <dc:creator>Pablo Tabini</dc:creator>
  <dc:description/>
  <dc:language>en-US</dc:language>
  <cp:lastModifiedBy>Pablo Tabini</cp:lastModifiedBy>
  <dcterms:modified xsi:type="dcterms:W3CDTF">2012-02-03T00:22:19Z</dcterms:modified>
  <cp:revision>43</cp:revision>
  <dc:subject/>
  <dc:title>PERÚ</dc:title>
</cp:coreProperties>
</file>