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4.jpeg" ContentType="image/jpeg"/>
  <Override PartName="/ppt/media/image2.jpeg" ContentType="image/jpeg"/>
  <Override PartName="/ppt/media/image3.jpeg" ContentType="image/jpeg"/>
  <Override PartName="/ppt/media/Herbert-Von-Karajan-Brahms-Simfonia-n1-3-Allegro-Grazioso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82E-029C-4D20-9DF5-171A5383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DE7-E628-41AC-8EB1-F6B3051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115-1B34-4799-B32F-3644E146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0B0-D989-4916-A0B9-E0BBD5F4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469-1670-4B7F-A538-F0A98A11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352-8551-412F-A29A-1580AE6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6BB-96E3-4426-A110-CB85EDC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A52-7520-4153-966E-2E34B7FB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32D-E60C-4798-B497-DE61124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397-1BFF-45E6-9973-12B825B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B0F-32C8-4E51-8D22-DFE0D3A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F88-4A98-4CE0-8971-1AFAFFB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F8B5-6ABE-45E9-9BB3-046BB8D9DA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rbert-Von-Karajan-Brahms-Simfonia-n1-3-Allegro-Grazioso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50000">
              <a:srgbClr val="ffffff"/>
            </a:gs>
            <a:gs pos="100000">
              <a:srgbClr val="33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508720" y="1052640"/>
            <a:ext cx="3456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eteni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e las Bodeg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ád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 advTm="6000">
    <p:fade thruBlk="true"/>
    <p:sndAc>
      <p:stSnd>
        <p:snd r:embed="rId2" name="Herbert-Von-Karajan-Brahms-Simfonia-n1-3-Allegro-Graz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031" t="2025" r="4123" b="6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11280" y="5589720"/>
            <a:ext cx="542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60280"/>
            <a:ext cx="33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Comic Sans MS"/>
              </a:rPr>
              <a:t>Setenil de las Bodegas es una localidad de la provincia de Cádiz, Andalucía.  Se encuentra situada a una altitud de 640 metros y a 157 km de la capital de provincia, Cádiz.  Se ubica en la ruta de los pueblos blan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Comic Sans MS"/>
              </a:rPr>
              <a:t>Sobre sus orígenes primitivos se han encontrado importantes yacimientos arqueológicos que nos retrotraen al período ne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858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125360"/>
            <a:ext cx="287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curioso de estas casas es que no están excavadas en la roca, sino que la piedra no se ha tocado. Las construcciones están realizadas aprovechando las rocas y la geografía del lug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7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5315" r="0" b="886"/>
          <a:stretch/>
        </p:blipFill>
        <p:spPr>
          <a:xfrm>
            <a:off x="0" y="0"/>
            <a:ext cx="5487840" cy="686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24360" y="162864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tenil es algo así como una pesadilla arquitectónica o un literal sobresalto geológico, uno de esos pueblos cuyos orígenes resultan un enig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26828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uevas de techos negruzcos nos retrotraen a la prehistoria, cuando nuestros primitivos congéneres posiblemente las usaron como refugi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0:18:01Z</dcterms:created>
  <dc:creator>norma</dc:creator>
  <dc:description/>
  <dc:language>en-US</dc:language>
  <cp:lastModifiedBy>norma</cp:lastModifiedBy>
  <dcterms:modified xsi:type="dcterms:W3CDTF">2009-04-04T22:30:59Z</dcterms:modified>
  <cp:revision>10</cp:revision>
  <dc:subject/>
  <dc:title>Diapositiva 1</dc:title>
</cp:coreProperties>
</file>