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4.jpeg" ContentType="image/jpeg"/>
  <Override PartName="/ppt/media/image2.jpeg" ContentType="image/jpeg"/>
  <Override PartName="/ppt/media/image3.jpeg" ContentType="image/jpeg"/>
  <Override PartName="/ppt/media/Herbert-Von-Karajan-Brahms-Simfonia-n1-3-Allegro-Grazioso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2DD-2FFE-4E7F-8362-F64325B5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9D-53A1-428C-A975-F3042DC8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6FD-B917-4A61-B684-4A472B0B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1D5-59A4-4634-8815-3B0893EA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4CD-AC0D-4681-9920-556663B5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332-43C0-4643-BD8E-380ABBC8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965-EE81-41E7-B6AD-BEB3726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6E0-C215-4760-862E-03AB216F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6FB-CB35-4B53-B4FE-F781394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979-07C2-4551-B4E7-4EBDC52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6D8-C0AF-4E45-807B-B48770A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221-8BDC-44A2-BAB0-E2CBBA9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371-66E1-45B6-8EA5-22EB1901A8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rbert-Von-Karajan-Brahms-Simfonia-n1-3-Allegro-Grazioso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50000">
              <a:srgbClr val="ffffff"/>
            </a:gs>
            <a:gs pos="100000">
              <a:srgbClr val="33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508720" y="1052640"/>
            <a:ext cx="3456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eteni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e las Bodeg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ád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 advTm="6000">
    <p:fade thruBlk="true"/>
    <p:sndAc>
      <p:stSnd>
        <p:snd r:embed="rId2" name="Herbert-Von-Karajan-Brahms-Simfonia-n1-3-Allegro-Graz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031" t="2025" r="4123" b="6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11280" y="5589720"/>
            <a:ext cx="542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60280"/>
            <a:ext cx="33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Comic Sans MS"/>
              </a:rPr>
              <a:t>Setenil de las Bodegas es una localidad de la provincia de Cádiz, Andalucía.  Se encuentra situada a una altitud de 640 metros y a 157 km de la capital de provincia, Cádiz.  Se ubica en la ruta de los pueblos blan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Comic Sans MS"/>
              </a:rPr>
              <a:t>Sobre sus orígenes primitivos se han encontrado importantes yacimientos arqueológicos que nos retrotraen al período ne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858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125360"/>
            <a:ext cx="287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curioso de estas casas es que no están excavadas en la roca, sino que la piedra no se ha tocado. Las construcciones están realizadas aprovechando las rocas y la geografía del lug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7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5315" r="0" b="886"/>
          <a:stretch/>
        </p:blipFill>
        <p:spPr>
          <a:xfrm>
            <a:off x="0" y="0"/>
            <a:ext cx="5487840" cy="686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24360" y="162864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tenil es algo así como una pesadilla arquitectónica o un literal sobresalto geológico, uno de esos pueblos cuyos orígenes resultan un enig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26828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uevas de techos negruzcos nos retrotraen a la prehistoria, cuando nuestros primitivos congéneres posiblemente las usaron como refugi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0:18:01Z</dcterms:created>
  <dc:creator>norma</dc:creator>
  <dc:description/>
  <dc:language>en-US</dc:language>
  <cp:lastModifiedBy>norma</cp:lastModifiedBy>
  <dcterms:modified xsi:type="dcterms:W3CDTF">2009-04-04T22:30:59Z</dcterms:modified>
  <cp:revision>10</cp:revision>
  <dc:subject/>
  <dc:title>Diapositiva 1</dc:title>
</cp:coreProperties>
</file>