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C90-6F1B-471D-BC9F-E0A73556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043-ACD1-4C4B-BC42-F7CEF511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4C4-D228-442E-8F8D-89509688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D79-478A-4F98-A6EB-6AE88170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4D3-C86A-42AB-864B-9FA105FD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EF2-B1B1-40C1-ABF7-1E9604B0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CC5-C78C-40C6-BB09-FCD37BD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D23-B089-4910-991E-6FB225D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3EE-A456-4B47-9772-D109B242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E75-448D-4578-9512-CFB2DD8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971-F2C9-4B74-BF17-5B2823E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2FF-DE6B-47D0-8E62-6D4760D0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88D-F5B4-4FD7-931B-A3D4E997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fobae.com/temas/costa-concordia-a2073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9040" y="623736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Un coloso del mar vuelve a levant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8480" y="546588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capacitado trabaja en las operaciones para enderezar el cruc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a Concordia, que encalló hace 20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28840" y="5753160"/>
            <a:ext cx="80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encalló hace 20 meses, pero la agencia nacional de Protección Ci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Italia esperó hasta que se contara con las condiciones meteorológic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ítimas favorables antes de dar su consenti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7040" y="5537160"/>
            <a:ext cx="82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ncordia chocó con un arrecife cerca de la costa de la isla Giglio la no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 13 de enero de 2012 y se inundó por un corte de 70 metros (230 pies)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co de la nave. Murieron 32 de los 4.200 pasajeros y tripul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16840" y="57531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cadáveres de dos pasajeros nunca fueron hallados y se supone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rían estar debajo de los restos del naufra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4680" y="5465880"/>
            <a:ext cx="80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primera vez que la ingeniería se enfrenta a un reto de estas magnit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ido al gran tonelaje del crucero y a su posi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960" y="53211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primera fase prevé que una especie de gatos tensen por una part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s de acero unidos a la parte superior de los cajones y de las plata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ados, mientras que otros cables, conectados a las 13 torretas constru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stribor, se utilizarán para dar equilibro al b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6120" y="5321160"/>
            <a:ext cx="86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operación, realizada por la sociedad estadounidense Titan Salvage y la itali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operi, cuesta 600 millones de euros a la naviera Costa Cruceros y cerca de 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s trabajarán para devolver al barco a la posición vert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445000"/>
            <a:ext cx="88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expectativas por la operación convocaron a más de 500 periodistas proce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do el mundo, para seguir en directo cómo la mole de 44.600 toneladas de pes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0 metros de leslora y cerca 70 metros de altura volverá a ser reflo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5960" y="5465880"/>
            <a:ext cx="824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o de los responsables del proyecto, Sergio Girotto, informó de que todo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ionando perfectamente, que se comenzó a tirar con una fuerza de 7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eladas y que se prevé que la operación dure cerca de 12 ho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5120" y="1125360"/>
            <a:ext cx="736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itánica operación de reflotamiento del crucero de luj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sta Concordi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iciada este lunes frente a las costas de la isla italiana del Giglio, donde encalló hace 20 meses, concluyó a las 04:00 del martes 17 de septiembre 2013(02:00 GMT), anunciaron las autoridades itali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La operación d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rbuckl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(rotación) ha concluido. El barco ha terminado su ruta tal como estaba previsto y alcanzó la vertical", anunció en conferencia de prensa Franco Gabrielli, jefe de la Protección Civil ital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mpleja operación para enderezar el buque de 17 pisos de altura y 290 metros de eslora y 114.000 toneladas -más largo y casi el doble de pesado que el Titanic- había empezado a las 09:00 GMT del lu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nave tenía 65 grados de inclinación cuando estaba recostada sobre los arrecif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8120" y="5392800"/>
            <a:ext cx="78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 esta operación surgieron algunas dudas sobre el posible impac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oambiental que tendrá el reflote debido a todos los residuos y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se acumulan aún en su interior y que podrían ser vertidos al m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080" y="5445000"/>
            <a:ext cx="88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expectativas por la operación convocaron a más de 500 periodistas proce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todo el mundo, para seguir en directo cómo la mole de 44.600 toneladas de pes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0 metros de eslora y cerca 70 metros de altura volverá a ser reflot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4520" y="5805360"/>
            <a:ext cx="69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tení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 grados de inclin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uando estaba recost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 los arrecif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4920" y="5373720"/>
            <a:ext cx="85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e ingenieros de varias nacionalidades, coordinados por el sudafric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k Sloane, dirigían desde una sofisticada plataforma flotante la arriesg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ción, que "hasta ahora" nunca había sido real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4400" y="5321160"/>
            <a:ext cx="881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la plataforma, llamada Pollux, los ingenieros, expertos en varias disciplin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aban una serie de datos a través de computadoras conectadas a cin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rófonos y ocho pantallas que proyectaban las imágenes de va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cámaras y robots submarinos que transmitían en directo mov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ves de la n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5960" y="546588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 primera fase prevé que una especie de gatos tensen por una part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s de acero unidos a la parte superior de los cajones y de las plata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alados, mientras que otros cables, conectados a las 13 torretas constru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estribor, se utilizarán para dar equilibro al b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18760" y="5465880"/>
            <a:ext cx="85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ingeniería naval italiana se jugaba su prestigio ante el mundo despu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 grave naufragio causado por un error del capitán del crucero, France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ettino, único acusado del a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8920" y="553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22480" y="5445000"/>
            <a:ext cx="67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musgo oscuro marca claramente la parte del Costa Concor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permaneció bajo el a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8964720" cy="504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51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tareas de rescate del Costa Concordia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ron con éxi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a las cuatro de la mañana local en la isla de Giglio, I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53760" y="55166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roa del Costa Concordia, cubierta de mus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49000" y="5805360"/>
            <a:ext cx="831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anda de estribor del Costa Concordia muestra los estragos del agua sal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5760" y="546588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s 20 meses bajo el agua, la parte sumergida del casco del Costa Concor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estra los estragos del agua salada y el peso del buque contra las ro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41960" y="5608800"/>
            <a:ext cx="74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sta Concordia ya está vertical, pero su casco permanece hun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la foto se ven los balcones de los camarotes de la banda de estri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8120" y="5465880"/>
            <a:ext cx="79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el toque de las sirenas se anunció que la operación había sido un éxi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esar de que duró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 horas, algunas má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de lo previs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560" y="5753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7200" y="5321160"/>
            <a:ext cx="8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114.000 toneladas del Costa Concordia deformaron la banda de estrib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ergida 20 meses en el agua de 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56320" y="5661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otografía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formaciones: A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rtinezarjona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400" y="56610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jefe de la Protección Civil sostuvo que la faena se hi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o estaba prevista 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nave alcanzó la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360" y="517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920" y="5681520"/>
            <a:ext cx="78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mpleja operación para enderezar el buque de 17 pisos de altura y 2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ros de eslora y 114.000 toneladas -más largo y casi el doble de pes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 el "Titanic"-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bía empezado a las 09:00 GMT del lu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5744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 siguiente etapa, el Costa Concordia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á estabilizado con unos cajones enormes later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fijados a la parte superior del casco, los cuales se llenarán de a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5760" y="5824440"/>
            <a:ext cx="79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cia el mediodía del lunes 16 de septiembre 2013 (10:00 GMT), el cruc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había despegado de los arrecif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, en los que había encallado el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enero del 2012 con 4.200 pasajeros a bor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6680" y="5465880"/>
            <a:ext cx="736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rimera fase de la operación es considerada por los expertos com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ás delic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ya que el buque (alto como un edificio de 10 pis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ace sobre un lecho roco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0:33:00Z</dcterms:created>
  <dc:creator>ALFREDO MARTINEZ A.</dc:creator>
  <dc:description/>
  <dc:language>en-US</dc:language>
  <cp:lastModifiedBy>ALFREDO</cp:lastModifiedBy>
  <dcterms:modified xsi:type="dcterms:W3CDTF">2013-09-18T03:16:18Z</dcterms:modified>
  <cp:revision>58</cp:revision>
  <dc:subject/>
  <dc:title>COSTA CONCORDIA</dc:title>
</cp:coreProperties>
</file>