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EC8C-11F9-476F-8BAE-D5FA08790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501E-054E-4F9B-B512-614DC23F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2400-C883-4354-A9FC-E73268977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1617-9487-4CE6-855D-0A00B348F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9939-3217-4860-A8E3-03E40FB7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4462-42DB-4B8F-A609-F2502DF9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3843-3C72-4D11-97F0-06AB955E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4BD9-53C4-4E9C-A100-364907BD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E482-6DA5-4255-BA37-2B9A20EB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13D9-77F9-4FCB-9367-FFD0D53F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8147-7A67-4F48-8DD5-A86E02A6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EAE8-2651-4A0B-95A2-C7DBCC13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6C2B-67EF-41EA-B8BA-C8A012A6F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nfobae.com/temas/costa-concordia-a2073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142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129040" y="6237360"/>
            <a:ext cx="40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Un coloso del mar vuelve a levant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28480" y="5465880"/>
            <a:ext cx="772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sonal capacitado trabaja en las operaciones para enderezar el cruce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sta Concordia, que encalló hace 20 me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28840" y="5753160"/>
            <a:ext cx="800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nave encalló hace 20 meses, pero la agencia nacional de Protección Civ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 Italia esperó hasta que se contara con las condiciones meteorológicas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ítimas favorables antes de dar su consentimien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27040" y="5537160"/>
            <a:ext cx="825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Concordia chocó con un arrecife cerca de la costa de la isla Giglio la no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 13 de enero de 2012 y se inundó por un corte de 70 metros (230 pies) en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sco de la nave. Murieron 32 de los 4.200 pasajeros y tripula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16840" y="5753160"/>
            <a:ext cx="757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s cadáveres de dos pasajeros nunca fueron hallados y se supone 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drían estar debajo de los restos del naufrag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54680" y="5465880"/>
            <a:ext cx="809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 la primera vez que la ingeniería se enfrenta a un reto de estas magnitu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bido al gran tonelaje del crucero y a su posició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25960" y="5321160"/>
            <a:ext cx="823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a primera fase prevé que una especie de gatos tensen por una parte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bles de acero unidos a la parte superior de los cajones y de las plataform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talados, mientras que otros cables, conectados a las 13 torretas construi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estribor, se utilizarán para dar equilibro al bar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56120" y="5321160"/>
            <a:ext cx="865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operación, realizada por la sociedad estadounidense Titan Salvage y la italia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operi, cuesta 600 millones de euros a la naviera Costa Cruceros y cerca de 5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sonas trabajarán para devolver al barco a la posición vert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5445000"/>
            <a:ext cx="884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s expectativas por la operación convocaron a más de 500 periodistas proced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 todo el mundo, para seguir en directo cómo la mole de 44.600 toneladas de pes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90 metros de leslora y cerca 70 metros de altura volverá a ser reflota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25960" y="5465880"/>
            <a:ext cx="824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o de los responsables del proyecto, Sergio Girotto, informó de que todo est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cionando perfectamente, que se comenzó a tirar con una fuerza de 7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neladas y que se prevé que la operación dure cerca de 12 hor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35120" y="1125360"/>
            <a:ext cx="7365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titánica operación de reflotamiento del crucero de lujo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sta Concordi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iciada este lunes frente a las costas de la isla italiana del Giglio, donde encalló hace 20 meses, concluyó a las 04:00 del martes 17 de septiembre 2013(02:00 GMT), anunciaron las autoridades italia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"La operación de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arbuckling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(rotación) ha concluido. El barco ha terminado su ruta tal como estaba previsto y alcanzó la vertical", anunció en conferencia de prensa Franco Gabrielli, jefe de la Protección Civil itali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compleja operación para enderezar el buque de 17 pisos de altura y 290 metros de eslora y 114.000 toneladas -más largo y casi el doble de pesado que el Titanic- había empezado a las 09:00 GMT del lu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nave tenía 65 grados de inclinación cuando estaba recostada sobre los arrecif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28120" y="5392800"/>
            <a:ext cx="78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s esta operación surgieron algunas dudas sobre el posible impac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dioambiental que tendrá el reflote debido a todos los residuos y líqui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 se acumulan aún en su interior y que podrían ser vertidos al m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07080" y="5445000"/>
            <a:ext cx="882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s expectativas por la operación convocaron a más de 500 periodistas proced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 todo el mundo, para seguir en directo cómo la mole de 44.600 toneladas de pes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90 metros de eslora y cerca 70 metros de altura volverá a ser reflotad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974520" y="5805360"/>
            <a:ext cx="69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nave tenía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5 grados de inclinació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uando estaba recosta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bre los arrecif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4920" y="5373720"/>
            <a:ext cx="854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ce ingenieros de varias nacionalidades, coordinados por el sudafric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ick Sloane, dirigían desde una sofisticada plataforma flotante la arriesga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eración, que "hasta ahora" nunca había sido realiz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74400" y="5321160"/>
            <a:ext cx="881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 la plataforma, llamada Pollux, los ingenieros, expertos en varias disciplina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rolaban una serie de datos a través de computadoras conectadas a cin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crófonos y ocho pantallas que proyectaban las imágenes de var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lecámaras y robots submarinos que transmitían en directo movimien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aves de la na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25960" y="5465880"/>
            <a:ext cx="823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a primera fase prevé que una especie de gatos tensen por una parte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bles de acero unidos a la parte superior de los cajones y de las plataform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talados, mientras que otros cables, conectados a las 13 torretas construi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estribor, se utilizarán para dar equilibro al bar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18760" y="5465880"/>
            <a:ext cx="854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ingeniería naval italiana se jugaba su prestigio ante el mundo despu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l grave naufragio causado por un error del capitán del crucero, Frances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hettino, único acusado del accid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48920" y="55371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143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122480" y="5445000"/>
            <a:ext cx="67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musgo oscuro marca claramente la parte del Costa Concord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 permaneció bajo el agu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8964720" cy="5041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11280" y="55166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s tareas de rescate del Costa Concordia 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minaron con éxit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a las cuatro de la mañana local en la isla de Giglio, Ital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553760" y="5516640"/>
            <a:ext cx="515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proa del Costa Concordia, cubierta de mus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34776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49000" y="5805360"/>
            <a:ext cx="831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banda de estribor del Costa Concordia muestra los estragos del agua sala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8568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55760" y="5465880"/>
            <a:ext cx="823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s 20 meses bajo el agua, la parte sumergida del casco del Costa Concord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estra los estragos del agua salada y el peso del buque contra las roc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41960" y="5608800"/>
            <a:ext cx="748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Costa Concordia ya está vertical, pero su casco permanece hundi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 la foto se ven los balcones de los camarotes de la banda de estrib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28120" y="5465880"/>
            <a:ext cx="796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 el toque de las sirenas se anunció que la operación había sido un éxit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pesar de que duró 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 horas, algunas má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de lo previs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141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20560" y="57531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57200" y="5321160"/>
            <a:ext cx="805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s 114.000 toneladas del Costa Concordia deformaron la banda de estribo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mergida 20 meses en el agua de m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656320" y="5661000"/>
            <a:ext cx="314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fotografías: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informaciones: A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martinezarjona@hot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25400" y="5661000"/>
            <a:ext cx="602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jefe de la Protección Civil sostuvo que la faena se hiz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o estaba prevista 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nave alcanzó la ver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6360" y="51768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01920" y="5681520"/>
            <a:ext cx="788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compleja operación para enderezar el buque de 17 pisos de altura y 29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ros de eslora y 114.000 toneladas -más largo y casi el doble de pes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 el "Titanic"- 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bía empezado a las 09:00 GMT del lun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574488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 la siguiente etapa, el Costa Concordia 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á estabilizado con unos cajones enormes latera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fijados a la parte superior del casco, los cuales se llenarán de agu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15760" y="5824440"/>
            <a:ext cx="79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cia el mediodía del lunes 16 de septiembre 2013 (10:00 GMT), el cruce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 había despegado de los arrecif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", en los que había encallado el 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 enero del 2012 con 4.200 pasajeros a bor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26680" y="5465880"/>
            <a:ext cx="736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primera fase de la operación es considerada por los expertos com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más delicad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ya que el buque (alto como un edificio de 10 piso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ace sobre un lecho roco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8T00:33:00Z</dcterms:created>
  <dc:creator>ALFREDO MARTINEZ A.</dc:creator>
  <dc:description/>
  <dc:language>en-US</dc:language>
  <cp:lastModifiedBy>ALFREDO</cp:lastModifiedBy>
  <dcterms:modified xsi:type="dcterms:W3CDTF">2013-09-18T03:16:18Z</dcterms:modified>
  <cp:revision>58</cp:revision>
  <dc:subject/>
  <dc:title>COSTA CONCORDIA</dc:title>
</cp:coreProperties>
</file>