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7D3-769B-488A-9112-746D2788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9CD-ADE3-4617-9C5E-35D94D1C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51C-5A01-4B89-B238-118BB448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F97-C069-4FB0-ADB8-AC9FD177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11A-D15F-47A3-8BD2-06657FBB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B74-5CEB-4963-8F34-FA552553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F84-8180-4B68-BBE0-59B570DC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D2D-2198-480E-8A12-F221CE47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EF5-B03D-45C8-A968-FC692C3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951-E9EE-4691-AC78-B41F272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8A7-34C2-4CAE-90C4-CCCDD52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64E-C05A-4B28-8AEB-BDF7AFF9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58E9-7E15-4584-84ED-88AC3DC38F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2:36:18Z</dcterms:created>
  <dc:creator>08225791</dc:creator>
  <dc:description/>
  <dc:language>en-US</dc:language>
  <cp:lastModifiedBy>08225791</cp:lastModifiedBy>
  <dcterms:modified xsi:type="dcterms:W3CDTF">2011-09-22T12:36:27Z</dcterms:modified>
  <cp:revision>1</cp:revision>
  <dc:subject/>
  <dc:title>Diapositiva 1</dc:title>
</cp:coreProperties>
</file>