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CDA-8D22-4E1A-9E69-67F77056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3E4-BF9F-42F9-9C8D-EA06596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22C-5EA8-4D49-A5CE-03C03185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957-C6B7-4EB3-AB0A-F6178E9F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3F7-8A67-4A63-A959-DA3DD92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F05-45F8-41BD-9650-C54BB29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965-9C86-427B-82F1-C646821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9A1-EDB4-4017-ADE5-8C68A830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21A-7CB9-4C9E-B249-5A78419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A9D-FB2A-4ADD-BE8F-2BE7797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6A0-094E-411A-8141-B000A1E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861-567D-4849-83F7-5D50100F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3D3E-2F18-4DA1-B737-3DA2C3AE79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36:18Z</dcterms:created>
  <dc:creator>08225791</dc:creator>
  <dc:description/>
  <dc:language>en-US</dc:language>
  <cp:lastModifiedBy>08225791</cp:lastModifiedBy>
  <dcterms:modified xsi:type="dcterms:W3CDTF">2011-09-22T12:36:27Z</dcterms:modified>
  <cp:revision>1</cp:revision>
  <dc:subject/>
  <dc:title>Diapositiva 1</dc:title>
</cp:coreProperties>
</file>