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Halevaihalevai%5B1%5D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30A-F9FE-40E5-AB84-2C5B4244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FD9-6F1D-4E7D-BBB9-03A9821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FEC-A14C-493D-9642-597825F8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7C0-24DF-40D3-A524-988401BA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5D8-1414-491B-ABAF-BCDC94F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408-F327-41F0-942F-DEA95EEE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FF5-D32E-4597-ACBE-FEAB533B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19B-DBB6-4A31-84D3-11CCAD8C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C5E-EB14-4229-9C33-1D00417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B69-190B-477F-BB41-F026801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1AE-4918-4DEA-9B1E-C609201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D7F-B758-4204-A530-4E6D077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BAD0-15A1-411B-A1E3-4617E1ACCD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Halevaihalevai%5B1%5D.wav" TargetMode="External"/><Relationship Id="rId3" Type="http://schemas.microsoft.com/office/2007/relationships/media" Target="file:///tmp/home/.config/libreoffice/4/user/gallery/Halevaihalevai%5B1%5D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Halevaihalevai%5B1%5D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17080" cy="4943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EL V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30864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rm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33336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Halevaihalevai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16360" y="1720800"/>
            <a:ext cx="4248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¿Hay algo, pregunto y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ás noble que una bo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 vino bien conver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tre dos almas gemela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308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4437000"/>
            <a:ext cx="684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sta es la bodega, la noble bodeg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e guarda en sus fondos los vinos añe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almante que todos los males sosie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ocuaz dictadora de sanos consej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rciso Alonso Cortés (1875-19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483080" cy="614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76720" y="1484280"/>
            <a:ext cx="37800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¡Oh bo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isterio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Di en mi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sa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prodig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ventu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alabrita que te pi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François Rabe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1495-155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116240" cy="568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35640" y="1197000"/>
            <a:ext cx="325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128916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1844640"/>
            <a:ext cx="4716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tiene un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e admira y que desconci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ransmuta la nieve en 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 al fuego lo vuelve piedr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4941720"/>
            <a:ext cx="813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i los amantes del vino y del amor van al infierno… vacío debe estar el paraí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mar Khayyan (1048-11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357336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triunfo de Baco. Diego de Silva y Velázquez                (1599-16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048360" cy="436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7040" cy="500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94172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frenda a Baco.       Michel-Ange Houasse (1680-1730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373720"/>
            <a:ext cx="727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vamos para beber,                                                    porque para beber vivi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guel de Cervantes (1547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0720" cy="462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76360" y="5157720"/>
            <a:ext cx="6500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va el buen vino,                                                     que es el gran camarada para el cam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ío Baroja (1872-19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4653000"/>
            <a:ext cx="8085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a comida es la parte material de la alimentación, pero el vino es la parte espiritual                                          de nuestro aliment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ejandro Dumas (1802-18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379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30440" cy="5905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1628640"/>
            <a:ext cx="4427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es todo, es el mar, las botas de veinte leguas,    la alfombra mágica, el Sol,   el loro de siete lengu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59320" y="326088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5832720" cy="460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84640"/>
            <a:ext cx="748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Vino, enséñame el arte de ver mi propia historia, como si ésta ya fuera ceniza en la memor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orge Luis Borges (1899-19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76892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76720" y="1700280"/>
            <a:ext cx="4067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ciego                                         con una copa ve chispas  y ve cent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el cojo de 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e pone a bailar la cue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40360" y="1844640"/>
            <a:ext cx="5003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mueve la primavera,           crece como una planta la alegría.    Caen muros, peñascos,                          se cierran los abismos,                       nace el cant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blo Neruda (1904-197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" y="620640"/>
            <a:ext cx="39308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78008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1916280"/>
            <a:ext cx="3403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calor del vino ejerce sobre el alma igual efecto                          que el fuego                   sobre el incien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utarco (46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B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ichelangelo Merisi, 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Caravaggio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73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81560" cy="554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35640" y="1197000"/>
            <a:ext cx="331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es una cosa maravillosamente apropiada para el hombre si, tanto en la salud como en la enfermedad,            se administra con tino y justa medi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pócrates (460-377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03920"/>
            <a:ext cx="489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Baco enfermo.                                 Michelangelo Merisi,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 Caravaggio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73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4221000"/>
            <a:ext cx="72374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no de viñas viejas,                                                         que bien te tomo y que mal me dej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i Dios hubiera querido prohibir el vino,                    las viñas serían amarg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376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26400" cy="391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4437000"/>
            <a:ext cx="63374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rojo encierra una gran rosa,        un demente clavel enardecido,                  un palpitar de ensueños y de olvido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 la púrpura entraña silenciosa.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afael Morales Casas (1919-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268280"/>
            <a:ext cx="4105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                es sumamente benéfico, pues da salud a los enfermos,                                      alegría a los tristes                             y valor y atrevimiento                 a los que están bie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nta Brígida (1303-137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37040" cy="576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59500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vendim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916080" cy="590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1844640"/>
            <a:ext cx="367164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primer vaso de vino abre al segundo                         el cam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n vaso de vino añejo da alegría, fuerza          y buen cons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4005360"/>
            <a:ext cx="806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arne de hoy, pan de ayer,                                                      vino de ant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 vivirás sa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buen vino añejo, hace hombre al niño                         y remoza al viejo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70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5229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Fiesta de campesinos.           David Teniers (1610-16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80536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5734080"/>
            <a:ext cx="59770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esta sin vino, no vale un comino.”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4221000"/>
            <a:ext cx="66960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lo nuevo y vino añejo                                      hacen mozo al hombre vi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agua para los bueyes                                                  y el vino para los rey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92720" y="1773360"/>
            <a:ext cx="309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 lo personal creo que el vino             es la bebida habitual                           de los pueblos                  con señorío,                   que no se sienten superiores,        pero que lo s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osé Fuentes Mares    (1919- 19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2721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76920" cy="407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508640"/>
            <a:ext cx="561672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n la viña de los años idos                        me festejo a mí mismo                                    y el canto de las vendimias brota,         alegre, de mi gargan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dre Ady (1877-19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08560" y="3429000"/>
            <a:ext cx="29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bebe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442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4653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as bodas de Canán.      Paolo Caliari, 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El Veroné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28-158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084640"/>
            <a:ext cx="757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Las gentes del Mediterráneo                                     empezaron a emerger de la barbarie                          cuando aprendieron a cultivar el olivo y la vid.”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ucídides (460-396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098960" cy="532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427640" y="1557360"/>
            <a:ext cx="471636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ebe vino y come queso         y sabrás qué es e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agua la vida acorta,            el vino la alegra y confor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50040" cy="495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6120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alegra el ojo, limpia el diente     y sana el vient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536256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55840" y="5969160"/>
            <a:ext cx="635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4200" y="373680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437000"/>
            <a:ext cx="29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merienda.            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6088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i quieres vivir mucho,                                        guarda un poco de vino añejo y un amigo vi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4508640"/>
            <a:ext cx="69138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vino, la más amable de las bebidas,       sea que se deba a Noé que plantó la viña,                o a Baco que exprimió el jugo de la uva,            data de la infancia del mun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ean-Anthelme Brillat Savarin (1775-182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328000" cy="42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2288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92720" y="2205000"/>
            <a:ext cx="352908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        puede considerarse, con razón,                          como la más saludable e higiénica de las bebid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uis Pasteur (1822-18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350040" cy="4165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486900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481640"/>
            <a:ext cx="712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vino es otro fuego arrancado por el hombre de la mano de los dioses.                                         Fuego líquido que ha extendido por el mundo sus placenteros bienes…”</a:t>
            </a: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duardo Lizalde (1929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5480" y="189000"/>
            <a:ext cx="461808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1628640"/>
            <a:ext cx="3995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ien no ama el vino,       las mujeres y el canto será un imbécil                          para el rest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tín Lutero (1483-154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6165720"/>
            <a:ext cx="45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ja de juerguistas.                         Judith Leyster (1609-16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56000" y="1484280"/>
            <a:ext cx="4788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”Los árboles dijeron a la vid:           Ven tú a reinar                                       sobre nosotr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”Les respondió la vid:                    ¿Voy a renunciar a mi mosto,              que alegra a los dioses              y a los hombres,                                   para ir a vagar                                      por encima de los árboles?”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eces,9, 12-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7836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2424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1504800"/>
            <a:ext cx="374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Quien no sabe         emplear cualquiera              de los sentidos y quien no encuentra palabras para describir un vino será siempre un analfabeto cultural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Raúl Castellani (contemporán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62400" cy="53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59280" y="1700280"/>
            <a:ext cx="4033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hombre que no be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u copa sanguinol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 puede ser, creo y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ristiano de buena cep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4560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4797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última cena.    Anónimo veneciano (1570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157720"/>
            <a:ext cx="72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a savia que circula por el fruto de la vid        es el líquido vital que el Salvador derrama voluntariamente para redimir al hombre.”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rnesto de la Peña (1927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5200" cy="636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198900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FI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DE LA PRESENTACI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76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rmendo@cablevision.net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93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úsica: Haleva ha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87840" y="1360440"/>
            <a:ext cx="30448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da brillantez                      a las campiñas, exalta los corazones, enciende las pupilas                        y enseña a los pies la danz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osé Ortega y Gasset    (1883-195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880" y="260280"/>
            <a:ext cx="467532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486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5084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a bacanal.    Michel-Ange Houasse (1680-173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516640"/>
            <a:ext cx="7867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os malos hombres viven para comer y beber,      pero los buenos comen y beben para viv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ócrates (470-399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192720" cy="411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4724280"/>
            <a:ext cx="73659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eja madera para arder, viejo vino para beber, viejos amigos en quien confiar                                            y viejos autores para le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 Bacon (1561-162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48360" y="1125360"/>
            <a:ext cx="331128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mer sin pan                        y sin vino                                     es locura                                 o desat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ien vino bebe, despacio enveje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491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4437000"/>
            <a:ext cx="7056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…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ás vale el agua, mucho más que 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¡Llenadme de agua el vaso cristali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as soy modesto, humilde es mi dest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nsalzo el agua, pero bebo v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rique Augusto Hoffman (1798-187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79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6:10:57Z</dcterms:created>
  <dc:creator>SERGIO</dc:creator>
  <dc:description/>
  <dc:language>en-US</dc:language>
  <cp:lastModifiedBy>usuario final</cp:lastModifiedBy>
  <dcterms:modified xsi:type="dcterms:W3CDTF">2009-07-13T23:20:05Z</dcterms:modified>
  <cp:revision>263</cp:revision>
  <dc:subject/>
  <dc:title>El vino</dc:title>
</cp:coreProperties>
</file>