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L%20DIVO%20Je%20crois%20en%20toi%20avec%20C.Dion.wav" ContentType="audio/x-wav"/>
  <Override PartName="/ppt/media/image18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8DA-978F-4D8F-B207-F52F94A6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F62-253A-4CFA-90BD-DF84E4D2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FDC-DE5B-45B1-890E-223C2042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E44-9D77-4E16-A558-5B027521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6562-2A15-4487-86F6-14B00EFF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7338-C9F3-4AE5-AE46-2932966B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B7A0-A20A-4A34-9826-D9D6D436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13FD-4E61-4CDC-AACE-DA08F9CC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C77B-7FB4-48A2-9450-C4B99AA0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4560-DD78-4B9B-A9A7-151736BC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034A-87B1-4234-AF6B-1AA7DED9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308-2C96-4447-9ECE-A2B1AEFA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4381-EE83-4AAA-9697-6773BBBB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17AF-1D50-4542-BE8B-EB12E328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3789-7ADC-4DC7-8F98-FB95CB85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2068-5DB9-43FB-8695-4BEEF515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3688-0536-4EF2-ADAA-2B191442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4AA-07CB-470F-898D-F8A01C75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FB5F5-F55F-41C4-9B06-9A522ED8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51C01-7260-45A7-8C50-43B9AD77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D9EF6-5050-4192-930E-66D87273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9D5-7394-4A17-8E72-E6C301D2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644D-AAF1-401D-9CF9-23FBE743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83A4-8110-45EC-BA2E-769AAF16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A8D79-60BA-4116-9C38-CDA07A1C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E60C8-6EAE-4DAF-A902-7CF83B79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9EA7-62AE-4C72-884B-B4E41621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FA24F-3EF8-42A0-B7B4-4F0D585D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A85BD-C6D2-46F6-9CC1-C85B6ACE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4960E-2AF3-4EC0-8F8D-8F721D57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A7176-A7DB-465C-8188-FEC98B7A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0B0C5-036D-48E5-A5FC-82834650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445-4AFB-48E9-81D8-BAA65C1E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E730A-510C-43D2-A49D-AFF496F0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5730F-3F3E-49D6-89D1-253E5C0D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39034-102E-40A4-8210-9B19CAD4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C0FAB-D447-4880-B33D-B4154B7A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05FA1-0A69-427E-A162-7A50D2FF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90481-DF9E-48FF-81C9-F598DBB7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76C91-DF6F-4F2D-8D10-F49F5FD1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29A65-113E-4C5B-9D09-99E9815F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C381F-7D76-4503-8741-096278B3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4A9A0-E8A8-4355-B17D-F7631EE8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2ADE-3944-493B-8A37-23FE8404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04790-539E-4CDC-A25F-1EA3A4FA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683-1CA0-40F8-8265-1F66E340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4E1-4892-459F-A898-C52AF304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F502-BE9A-48B8-8995-4C4754A1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E6EC-EDB7-4FF7-A264-76E12E5F549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D370-78CE-4E11-A245-EBA6D37A98F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72E7-92C5-4244-B7B4-2C5335D68E3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0638-A6F3-4A36-8607-011019112A8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IL%20DIVO%20Je%20crois%20en%20toi%20avec%20C.Dion.wav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rcRect l="0" t="0" r="0" b="10506"/>
          <a:stretch/>
        </p:blipFill>
        <p:spPr>
          <a:xfrm>
            <a:off x="250920" y="187200"/>
            <a:ext cx="8642160" cy="6481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-2031120" y="476280"/>
            <a:ext cx="1362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Freestyle Script"/>
              </a:rPr>
              <a:t>¿Por qué se acaba el amor entre las parej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692360" y="436356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se tienen tantas carencias afectivas, que se cree que al llegar la media naranja, ésta las va a suplir; cuando la verdad es que cada uno tiene la responsabilidad de llenar su vida de am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443640" y="563760"/>
            <a:ext cx="270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Porque los seres humanos están convencidos que es normal que con los años las relaciones de pareja se deterioren, cuando es todo lo contrario; con el tiempo si se toman sabias acciones, el amor crece, y al hacer el amor, este se hace con más conciencia y plenitu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716360" y="3786840"/>
            <a:ext cx="338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se daña la comunicación y cada vez que se expresa algo, es para ofender y hacer sentir culpable al o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l infidelidad es una de las mayores quejas entre hombres y mujeres; cuando se llega a este punto es porque la comunicación se dañó hace muuuuuucho r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las parejas se vuelven irrespetuosas con las palabras y con los a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las parejas se vuelven tan posesivas que retiran las amistades y hasta familiares del otro, para absorber de manera dañina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56000" y="328464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2349360"/>
            <a:ext cx="5329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Georgia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4797360"/>
            <a:ext cx="5472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Georgia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48360" y="137160"/>
            <a:ext cx="21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orque la pareja se convierte en una proveedora de bienes y servicios ante un techo y unos hijos, y dejan en un segundo plano lo verdaderamente importante, “el amor que los unió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9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me_aging_chocol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508720" y="5118120"/>
            <a:ext cx="36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orque las parejas pierden sensualidad, al descubrir sus cuerpos desnudos en la cotidianidad, al hacer actos ordinarios y de mala educación, al dejar de coquetear como se hacía en el noviaz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64656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Porque la mujer comienza a sentir apatía para hacer el amor, y el hombre se siente rechazado, y ninguno de los dos habla sobre el t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4360" y="2563920"/>
            <a:ext cx="3311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En algunas ocasiones la mujer comienza a sentir esta apatía porque físicamente esta inconforme con su cuerpo y no es capaz de expresárselo al hombre, o porque éste la incentiva tan poquito, y cuando él quiere la acción a ella la toma por sorpresa, haciéndola sentir como un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680"/>
                            </p:stCondLst>
                            <p:childTnLst>
                              <p:par>
                                <p:cTn id="25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84360" y="692280"/>
            <a:ext cx="239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que se da rienda suelta a la cólera, y se dicen palabras que hieren, dejando una huella imborrable en el corazón del o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780000" y="2014200"/>
            <a:ext cx="223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Porque la pareja asume que los problemas son síntomas de que la relación va mal, cuando las desavenencias son las mejores oportunidades para saber qué se puede mejorar, y volver la relación más fue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8000" y="3200400"/>
            <a:ext cx="1173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588000" y="1640520"/>
            <a:ext cx="255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Porque las parejas no expresan lo que les molesta y esperan que se llene la taza para reventar, ocasionando a veces hasta daños irreparables, como violencia verbal y violencia fís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525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24000" y="544320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se comenten errores, como pensar que una vez la relación ha     adquirido cierta solidez o cierto tiempo, ya se es dueño de la otra persona, o vice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08720" y="69228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50920" y="-18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las parejas le invierten dinero a una casa, un carro, la ropa, pero rara vez invierte dinero a talleres de superación personal, talleres de pareja, visitar a un terapeuta; porque se creen capaces de arreglar el problema so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me_aging_vi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708360" y="260280"/>
            <a:ext cx="412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s tiempo de recuperar el amor en la pareja, con detalles, con actos de honestidad, de respeto, solidaridad, comprensión y apo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916360" y="3429000"/>
            <a:ext cx="324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Porque las parejas se duermen en la pasividad, buscando afuera, cuando deben solucionar el problema adentro; ya que las relaciones se construyen con el dialogo, el respeto y la consta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300" spc="-1" strike="noStrike">
              <a:solidFill>
                <a:srgbClr val="800080"/>
              </a:solidFill>
              <a:latin typeface="Verdana"/>
              <a:ea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84360" y="5373720"/>
            <a:ext cx="808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Muchas parejas rompen su relación, cuando los problemas que tenían solamente eran de forma; y buscan nuevas parejas, para descubrir que la primera era mucho mejor.  Por eso hay que intentar revivir el amor, el respeto y la confianza, antes que terminar en una sepa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356544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 Narrow"/>
              </a:rPr>
              <a:t>Porque  la  mujer  se  descuida  en  su apariencia  física  creyendo que ya pescó a su hombre y que no necesita conquistarlo más, qué así la acep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 Narrow"/>
              </a:rPr>
              <a:t>Porque el hombre también se descuida en su apariencia física y presume que ella lo adora aún con esos kilos de má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 Narrow"/>
              </a:rPr>
              <a:t>Conquistar es fácil, lo difícil es conservar la conquista,                              ahí esta el verdadero mer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9280" y="260280"/>
            <a:ext cx="345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Llegar a la vejez con una buena pareja, no es cuestión de suerte, es cuestión de elegir  a alguien con quien nos agrade conversar, ser más observadores en las reacciones del otro y ponerle un poco de razón y otro poco de corazón a la etapa del enamoramiento, para cuando ésta termine, quede el verdadero amor, el re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765000"/>
            <a:ext cx="398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Narrow"/>
              </a:rPr>
              <a:t>Espero que estas láminas y sus mensajes te hayan gustado, porque las hice con mucho cariño para todos mis amigos contactos y mi adorada famil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59160" y="2081160"/>
            <a:ext cx="709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00"/>
                </a:solidFill>
                <a:latin typeface="Freestyle Script"/>
              </a:rPr>
              <a:t>Con cariño: Angela Ma.Giraldo Agu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4080" y="3840120"/>
            <a:ext cx="336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reestyle Script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reestyle Script"/>
              </a:rPr>
              <a:t>Que Dios los bend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75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6696000" cy="4894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el hombre se aburre de la mujer cuando ésta comienza a volverse cantaletosa y la vida en el hogar se convierte en un infierno. Ahí ya se ha roto la comunic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la mujer se aburre del hombre cuando éste la mira como el reemplazo de su madre, la niñera de sus hijos, la cocinera, la lavandera y el ama de llaves; y para completar la quiere dispuesta en la cama y entrando dinero al hogar igual que é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-252360" y="189000"/>
            <a:ext cx="51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al conocerse se muestran falsos comportamientos, como tolerancias excesivas y verdades a med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48000" y="353772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cuando hay problemas generalmente   ninguno quiere dar el brazo a tor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332000" y="3315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que al principio de la relación nos preocupamos por mostrarnos bellos, interesantes y adecuados, escondiendo los aspectos no tan agradables de noso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18560" cy="5619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rque a las parejas les da miedo desinhibirse en la intimidad, expresar lo que les gusta, por temor a lo que piense el otro; y prefieren cumplir fantasías sexuales con terceras perso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rque no se respetan los espacios, ni se respeta la individualidad profesional y personal del o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rque las parejas se apegan y en su inseguridad sufren y hacen sufrir al otro con sus ce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rque se dejan de expresar las cosas que gustan del otro asumiendo que ya lo sa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3733920" y="0"/>
            <a:ext cx="1287792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780000" y="5373720"/>
            <a:ext cx="5364000" cy="106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27828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Porque se cree que la otra persona viene a nuestra vida a hacernos felices y que todo será un jardín de rosas; cuando lo cierto es que en toda relación hay desavenencias y disgu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492360" y="-26640"/>
            <a:ext cx="27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</a:rPr>
              <a:t>Porque se asume que la pareja tiene que actuar, sentir y pensar como el otro, robándole su propia person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491000"/>
            <a:ext cx="17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39640" y="4028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Porque uno le da poder al otro para dañarlo, cuando decide dejar que le afecten las decisiones, actos y palabras de ese ser que tanto 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4486320"/>
            <a:ext cx="1439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uE</cp:lastModifiedBy>
  <dcterms:modified xsi:type="dcterms:W3CDTF">2009-09-03T18:56:30Z</dcterms:modified>
  <cp:revision>91</cp:revision>
  <dc:subject/>
  <dc:title>PowerPoint Presentation</dc:title>
</cp:coreProperties>
</file>