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L%20DIVO%20Je%20crois%20en%20toi%20avec%20C.Dion.wav" ContentType="audio/x-wav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126-B9C0-48E6-A8F4-5B0342AE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B8E-38AC-4388-9779-E5C590F0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AF5-5B91-487B-B1F7-F338A1E0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1CC-3764-40A9-BFFC-7520CEFF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4382-6912-4032-A73A-08169060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35A1-CB91-4904-A810-F7705515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4998-6081-4B8E-B136-E8A6E741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3B4A-EE5E-4800-874F-5057DECF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1581-0B33-473F-9D66-FE43E237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0FC7-AD8F-44B9-B416-187631C3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FDF8-1CB3-4AB5-8623-D69C348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842-DD6F-4F96-9972-EEF35013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BBCC-4BC7-467F-A5FA-715A066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0EDE-335D-44FD-9452-516CA96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4045-0325-4270-8244-FD7B98E8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52CB-8024-4B6B-9E45-30C9D54A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58F7-6677-4262-AE03-B889E0B8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A77-2F39-49F7-9268-92FA1B69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53DA-3F6A-4F9A-9CF4-685CAF9F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C513-96EF-445E-9A00-3418130A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4FAB-DC11-4DD8-8248-5F32E64B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18A-3B98-47E1-95ED-7178B571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3C4D-25F1-449D-97D2-C870528F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E459-0E50-410D-8C85-4C5875BF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3475-63F1-418C-8C46-4E846BF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7612-C915-4392-A2B7-675F0820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13E3-706F-4833-9852-DC6201A3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C402-0B3D-4931-B398-CAE09436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28C2-99D5-47C8-8E84-3A58E1C1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81D3-1494-4185-BC2A-841EE286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1C2D-4103-4BCE-9A39-B1FE8C24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F61A-4C10-4ECC-AEBD-617BF520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0F3-D289-4F21-B87A-EDCEA5B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D9A0-206F-4638-BC08-EA3DD57C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F52F-1BD2-428B-A17D-435B016B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EDC6-952E-4986-A1AF-3D304996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360D0-981E-40EC-B771-6DE958A8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F715-B162-4200-A223-85A79E5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23C1-5946-48B3-BE21-51A1DC7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9AB2A-BDB3-4CFF-AD55-5AE1508B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1781-72D1-44D6-B3AB-0E7DE1D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5AAA-4618-4D76-84F7-B572108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6926-714B-44F2-9286-51712550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EA5-40EC-4A52-97DA-B7B55310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D6B2-06A3-4B17-9553-AACFEE39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E2C-3C4A-4631-A766-0FEF39F2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C09-EA26-4062-BB1C-FCB7081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27D-1661-42DF-876D-8BB79DE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CBFD-085B-4EBF-A588-EF3F143B40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B8D-11FC-4D98-B495-282A453E22E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6828-139F-4E39-B1A4-F279EE23ED1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CEB0-C566-4483-A984-6B44B67FF09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L%20DIVO%20Je%20crois%20en%20toi%20avec%20C.Dion.wav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0" t="0" r="0" b="10506"/>
          <a:stretch/>
        </p:blipFill>
        <p:spPr>
          <a:xfrm>
            <a:off x="250920" y="187200"/>
            <a:ext cx="8642160" cy="6481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-2031120" y="476280"/>
            <a:ext cx="136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Freestyle Script"/>
              </a:rPr>
              <a:t>¿Por qué se acaba el amor entre las parej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692360" y="43635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se tienen tantas carencias afectivas, que se cree que al llegar la media naranja, ésta las va a suplir; cuando la verdad es que cada uno tiene la responsabilidad de llenar su vida de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443640" y="563760"/>
            <a:ext cx="270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Porque los seres humanos están convencidos que es normal que con los años las relaciones de pareja se deterioren, cuando es todo lo contrario; con el tiempo si se toman sabias acciones, el amor crece, y al hacer el amor, este se hace con más conciencia y plenitu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716360" y="3786840"/>
            <a:ext cx="338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se daña la comunicación y cada vez que se expresa algo, es para ofender y hacer sentir culpable a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l infidelidad es una de las mayores quejas entre hombres y mujeres; cuando se llega a este punto es porque la comunicación se dañó hace muuuuuucho r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las parejas se vuelven irrespetuosas con las palabras y con los 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las parejas se vuelven tan posesivas que retiran las amistades y hasta familiares del otro, para absorber de manera dañina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328464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349360"/>
            <a:ext cx="5329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Georgia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797360"/>
            <a:ext cx="5472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Georgia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137160"/>
            <a:ext cx="21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orque la pareja se convierte en una proveedora de bienes y servicios ante un techo y unos hijos, y dejan en un segundo plano lo verdaderamente importante, “el amor que los unió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9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me_aging_choco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08720" y="5118120"/>
            <a:ext cx="36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orque las parejas pierden sensualidad, al descubrir sus cuerpos desnudos en la cotidianidad, al hacer actos ordinarios y de mala educación, al dejar de coquetear como se hacía en el noviaz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6465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Porque la mujer comienza a sentir apatía para hacer el amor, y el hombre se siente rechazado, y ninguno de los dos habla sobre el t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2563920"/>
            <a:ext cx="331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En algunas ocasiones la mujer comienza a sentir esta apatía porque físicamente esta inconforme con su cuerpo y no es capaz de expresárselo al hombre, o porque éste la incentiva tan poquito, y cuando él quiere la acción a ella la toma por sorpresa, haciéndola sentir como un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680"/>
                            </p:stCondLst>
                            <p:childTnLst>
                              <p:par>
                                <p:cTn id="25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4360" y="692280"/>
            <a:ext cx="239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que se da rienda suelta a la cólera, y se dicen palabras que hieren, dejando una huella imborrable en el corazón de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780000" y="2014200"/>
            <a:ext cx="22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Porque la pareja asume que los problemas son síntomas de que la relación va mal, cuando las desavenencias son las mejores oportunidades para saber qué se puede mejorar, y volver la relación más fue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3200400"/>
            <a:ext cx="117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588000" y="1640520"/>
            <a:ext cx="25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Porque las parejas no expresan lo que les molesta y esperan que se llene la taza para reventar, ocasionando a veces hasta daños irreparables, como violencia verbal y violencia fí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25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24000" y="54432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se comenten errores, como pensar que una vez la relación ha     adquirido cierta solidez o cierto tiempo, ya se es dueño de la otra persona, o vice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692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50920" y="-18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las parejas le invierten dinero a una casa, un carro, la ropa, pero rara vez invierte dinero a talleres de superación personal, talleres de pareja, visitar a un terapeuta; porque se creen capaces de arreglar el problema so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me_aging_vi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08360" y="260280"/>
            <a:ext cx="412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s tiempo de recuperar el amor en la pareja, con detalles, con actos de honestidad, de respeto, solidaridad, comprensión y apo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916360" y="342900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Porque las parejas se duermen en la pasividad, buscando afuera, cuando deben solucionar el problema adentro; ya que las relaciones se construyen con el dialogo, el respeto y la con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300" spc="-1" strike="noStrike">
              <a:solidFill>
                <a:srgbClr val="800080"/>
              </a:solidFill>
              <a:latin typeface="Verdana"/>
              <a:ea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84360" y="5373720"/>
            <a:ext cx="808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Muchas parejas rompen su relación, cuando los problemas que tenían solamente eran de forma; y buscan nuevas parejas, para descubrir que la primera era mucho mejor.  Por eso hay que intentar revivir el amor, el respeto y la confianza, antes que terminar en una sepa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356544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Narrow"/>
              </a:rPr>
              <a:t>Porque  la  mujer  se  descuida  en  su apariencia  física  creyendo que ya pescó a su hombre y que no necesita conquistarlo más, qué así la acep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Narrow"/>
              </a:rPr>
              <a:t>Porque el hombre también se descuida en su apariencia física y presume que ella lo adora aún con esos kilos de m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Narrow"/>
              </a:rPr>
              <a:t>Conquistar es fácil, lo difícil es conservar la conquista,                              ahí esta el verdadero me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9280" y="260280"/>
            <a:ext cx="345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Llegar a la vejez con una buena pareja, no es cuestión de suerte, es cuestión de elegir  a alguien con quien nos agrade conversar, ser más observadores en las reacciones del otro y ponerle un poco de razón y otro poco de corazón a la etapa del enamoramiento, para cuando ésta termine, quede el verdadero amor, el r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765000"/>
            <a:ext cx="39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Narrow"/>
              </a:rPr>
              <a:t>Espero que estas láminas y sus mensajes te hayan gustado, porque las hice con mucho cariño para todos mis amigos contactos y mi adorada famil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59160" y="2081160"/>
            <a:ext cx="709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00"/>
                </a:solidFill>
                <a:latin typeface="Freestyle Script"/>
              </a:rPr>
              <a:t>Con cariño: Angela Ma.Giraldo Agu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4080" y="3840120"/>
            <a:ext cx="33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reestyle Script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reestyle Script"/>
              </a:rPr>
              <a:t>Que Dios los bend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75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6696000" cy="4894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el hombre se aburre de la mujer cuando ésta comienza a volverse cantaletosa y la vida en el hogar se convierte en un infierno. Ahí ya se ha roto la comunic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la mujer se aburre del hombre cuando éste la mira como el reemplazo de su madre, la niñera de sus hijos, la cocinera, la lavandera y el ama de llaves; y para completar la quiere dispuesta en la cama y entrando dinero al hogar igual que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-252360" y="189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al conocerse se muestran falsos comportamientos, como tolerancias excesivas y verdades a med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353772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cuando hay problemas generalmente   ninguno quiere dar el brazo a tor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332000" y="3315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que al principio de la relación nos preocupamos por mostrarnos bellos, interesantes y adecuados, escondiendo los aspectos no tan agradables de nos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18560" cy="5619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que a las parejas les da miedo desinhibirse en la intimidad, expresar lo que les gusta, por temor a lo que piense el otro; y prefieren cumplir fantasías sexuales con terceras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que no se respetan los espacios, ni se respeta la individualidad profesional y personal de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que las parejas se apegan y en su inseguridad sufren y hacen sufrir al otro con sus c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que se dejan de expresar las cosas que gustan del otro asumiendo que ya lo sa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3733920" y="0"/>
            <a:ext cx="1287792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780000" y="5373720"/>
            <a:ext cx="536400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278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Porque se cree que la otra persona viene a nuestra vida a hacernos felices y que todo será un jardín de rosas; cuando lo cierto es que en toda relación hay desavenencias y disgu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492360" y="-2664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Porque se asume que la pareja tiene que actuar, sentir y pensar como el otro, robándole su propia person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491000"/>
            <a:ext cx="17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39640" y="4028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uno le da poder al otro para dañarlo, cuando decide dejar que le afecten las decisiones, actos y palabras de ese ser que tanto 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4486320"/>
            <a:ext cx="143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uE</cp:lastModifiedBy>
  <dcterms:modified xsi:type="dcterms:W3CDTF">2009-09-03T18:56:30Z</dcterms:modified>
  <cp:revision>91</cp:revision>
  <dc:subject/>
  <dc:title>PowerPoint Presentation</dc:title>
</cp:coreProperties>
</file>