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FDB-7A62-4481-90B9-12F38784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729-86AB-4893-BABC-286C3A5E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670-58A1-4A3B-9623-520D916C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9A84-E261-4EDC-89BF-D4C59911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8CF-48B3-4EAC-B018-E7D75620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243-A055-4840-A102-FD757477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0680-9640-4C71-BFDA-9D3D9378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6FB-2A46-470E-A1C2-B49AEADD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D953-3AEF-41C2-938D-E1AD0B49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9186-9125-4A10-87C5-FFDDA328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1385-B824-481B-AC49-7CD34315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BA7-1964-4F7E-821D-CCF8C66C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AC93-136A-4CBC-B72D-9BC79C63E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779400"/>
            <a:ext cx="8353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una conferencia sobre Aceites Esenciales, se comentó cómo las plantas de los pies pueden absorber aceites. Su ejemplo consistió en colocar ajo en la planta de los pies y a los 20 minutos, ya se podría percibir su sabor en la bo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gunos hemos usado el Vick Vaporub durante muchos años como remedio para muchas cosas, nariz tapada, labios cuarteados, zonas inflamadas o espinillas, entre muchas cosas. Pero nunca había escuchado sobre es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ciona el 100% de las veces, aunque los científicos que lo descubrie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lmente no están seguros cómo suce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detener la tos nocturna en un niño (o de un adulto, quien fue que nos 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entó personalmente), esparza Vick Vaporub generosamente sobre las plantas de los pies y luego cubra con med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ún la tos más persistente, fuerte y profunda se detendrá en el término de unos 5 minutos y se detendrá para dar muchas horas de alivio. Funciona el 100% de las veces que se hace y es más efectivo en los niños que  las más fuertes medicinas prescritas por los médicos. Además, es extremadamente calmante y reconfortante, mientras duermen profund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baba de sintonizar  la radio en AM cuando escuché a un señor hablando sobre por qué las medicinas para la tos en los niños podrían causar más daño que mejoría. Y es debido a la composición química de sus fuertes componentes. Así que decidí escucharl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36000" y="260280"/>
            <a:ext cx="54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CION UTIL SOBRE EL VICK VAPOR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04000" y="5140440"/>
            <a:ext cx="1638360" cy="1638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2064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 muy sorprendente saber que el Vick V resulta más efectivo que los medicamentos prescritos para la tos, al mismo tiempo que estimula un sueño profundo y plác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 esposa lo comprobó ella misma en una ocasión en que tuvo una tos profunda, constante y persistente durante semanas. Hizo lo indicado anteriormente y le funcionó en un 100%. Expresó que se sentía como si una cobija tibia la envolviera. Paró la tos en unos minutos y créanme, ésta era una tos profunda (increíblemente desesperante) que no se calmaba ni por segundos. Esa noche durmió sin tos por muchas horas y así las noch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gui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usted tiene hijos o nietos, distribuya este mensaje. Y si usted se llegase a encontrar enfermo, compruébelo usted mismo y se maravillará totalmente de ver y sentir cómo funcio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lmente los jarabes para la tos no sirven sino después de muchas semanas de tomarl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da pierdes con ensayar cuando lo necesites, sobre todo con niños peque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27080" y="5229360"/>
            <a:ext cx="14572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11:32:12Z</dcterms:created>
  <dc:creator>Hector.Davila</dc:creator>
  <dc:description/>
  <dc:language>en-US</dc:language>
  <cp:lastModifiedBy>Hector.Davila</cp:lastModifiedBy>
  <dcterms:modified xsi:type="dcterms:W3CDTF">2008-06-26T11:41:44Z</dcterms:modified>
  <cp:revision>2</cp:revision>
  <dc:subject/>
  <dc:title>Diapositiva 1</dc:title>
</cp:coreProperties>
</file>