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C40-AC25-4A41-8521-0F8EB5B9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4CB-D76F-4995-B60A-57C2D215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E6F-378A-465A-8577-B0B56E74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68C-8CEC-4377-815B-F6B3A7A1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8C7-4BFE-48D5-8B40-88704FE8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2B6-392F-40F1-802B-7567BF2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7F1-0767-4E60-988A-56C201EA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AC8-8F7C-41F6-8703-695B44C8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D91-0596-41FF-BF1B-3BFF352D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80C-9BDD-4D6C-AA4C-2F5074B9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89D-0B89-4DCF-9B32-6E9CCCF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12A-669E-4E32-80E7-5C1EB13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604D-3FA3-4B4A-8F1D-802320257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779400"/>
            <a:ext cx="835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una conferencia sobre Aceites Esenciales, se comentó cómo las plantas de los pies pueden absorber aceites. Su ejemplo consistió en colocar ajo en la planta de los pies y a los 20 minutos, ya se podría percibir su sabor en la bo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hemos usado el Vick Vaporub durante muchos años como remedio para muchas cosas, nariz tapada, labios cuarteados, zonas inflamadas o espinillas, entre muchas cosas. Pero nunca había escuchado sobre e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l 100% de las veces, aunque los científicos que lo descubrie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mente no están seguros cómo suce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ner la tos nocturna en un niño (o de un adulto, quien fue que nos 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ó personalmente), esparza Vick Vaporub generosamente sobre las plantas de los pies y luego cubra con me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ún la tos más persistente, fuerte y profunda se detendrá en el término de unos 5 minutos y se detendrá para dar muchas horas de alivio. Funciona el 100% de las veces que se hace y es más efectivo en los niños que  las más fuertes medicinas prescritas por los médicos. Además, es extremadamente calmante y reconfortante, mientras duermen profund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baba de sintonizar  la radio en AM cuando escuché a un señor hablando sobre por qué las medicinas para la tos en los niños podrían causar más daño que mejoría. Y es debido a la composición química de sus fuertes componentes. Así que decidí escuchar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6000" y="26028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ON UTIL SOBRE EL VICK VAPOR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514044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2064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 muy sorprendente saber que el Vick V resulta más efectivo que los medicamentos prescritos para la tos, al mismo tiempo que estimula un sueño profundo y plác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 esposa lo comprobó ella misma en una ocasión en que tuvo una tos profunda, constante y persistente durante semanas. Hizo lo indicado anteriormente y le funcionó en un 100%. Expresó que se sentía como si una cobija tibia la envolviera. Paró la tos en unos minutos y créanme, ésta era una tos profunda (increíblemente desesperante) que no se calmaba ni por segundos. Esa noche durmió sin tos por muchas horas y así las no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sted tiene hijos o nietos, distribuya este mensaje. Y si usted se llegase a encontrar enfermo, compruébelo usted mismo y se maravillará totalmente de ver y sentir cómo funci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 los jarabes para la tos no sirven sino después de muchas semanas de tomar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da pierdes con ensayar cuando lo necesites, sobre todo con niños pequ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27080" y="5229360"/>
            <a:ext cx="1457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1:32:12Z</dcterms:created>
  <dc:creator>Hector.Davila</dc:creator>
  <dc:description/>
  <dc:language>en-US</dc:language>
  <cp:lastModifiedBy>Hector.Davila</cp:lastModifiedBy>
  <dcterms:modified xsi:type="dcterms:W3CDTF">2008-06-26T11:41:44Z</dcterms:modified>
  <cp:revision>2</cp:revision>
  <dc:subject/>
  <dc:title>Diapositiva 1</dc:title>
</cp:coreProperties>
</file>