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4628-8C40-4859-9851-21D7BB6A9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11D29-6C56-4C7B-A49B-F84A9B3B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05ABA1-04DC-48BD-BDA2-22A12351C7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757F7-58F6-4CAE-8A91-324DB947B9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179A6-0605-4FE1-BF82-D0443A3F91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00C76-B14F-45CF-B99A-7FBEFAB61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8C03C7-ED10-45BE-82AF-73287812E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29B59-EA7E-4721-96F6-EEC9D5198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029745-B53C-40F8-96F8-3CC19DBCCA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E03DC-EE13-40F3-B483-0837BCE060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E195C3-8BDB-40CA-9307-65F34BB42D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AA2CCD-50DD-4859-8DEE-3BA7C385A9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FCB8C-9BD3-428B-95A6-BD0C581F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B33F9E-56B7-4A70-B9CC-7AE52D751D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CE3077-47CC-4E3F-AD70-15E9B17B09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C30041-D9D8-4AFF-98F3-BD3799121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F7CA51-23EA-4765-9186-7358D3A073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B7805C-A6D7-4379-A99D-D330F393DD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339946-1FC0-4768-9E2F-D73485A7D5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477221-0981-4116-9691-1DBCA785A0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EC0349-1873-4EE2-B3F7-116FAA91A7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E1A833-BC6F-4CF8-A646-DDB2545766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9C1406-BC52-4B8E-AF05-07A2DA4869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D924C-A768-432A-B1A0-37EB2231A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965D2A-ED54-4F7F-8BBE-802E1FA20F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464A33-678F-426B-AB07-96D0176D5E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54C0B4-8E0B-4CB1-B5A7-572497554E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20B844-618B-4773-837D-990885223C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D10DCE-2482-490A-BB58-B7F7BA7FAF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DC9C8C-B42F-4D4C-8763-229FFBB8AF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3EA976-D941-43A2-BEAE-22AD3F19DB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52ECC2-0C7D-4FC6-A40F-75BA45A9FD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4576EB-0D22-4339-9B36-D9A3731EB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8ABF9D-0815-477B-8629-3CDCF510A8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E056E-11D7-4C21-8A0C-78BE49C9B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B586FE-856F-43C4-BE70-36A1B80F82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EBD50E-1994-4084-AA41-2BFB0F1AD4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506EF8-DE6F-4B39-B9FE-4E92EFB61F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5F1413-7A80-41C4-A364-B925F7CFB2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87E795-9F1A-488E-A201-B25CB1767A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F5B8FD-6E81-432F-8FC2-25F1404985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A364E6-4B8F-4719-A130-44FEE8A2AB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8BE4B2-A3E6-4E4C-9398-B5629009EC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E42470-DBC1-4834-8ABF-8794ECE7C0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678D17-D445-4BB3-814C-A83C0AE56B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E99AE-9386-4601-8053-ACFE5A25A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247CCB-E77A-4AF1-9BD7-644010968E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5B3DC9-7817-471A-9A74-B1A8331F47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1C1623-6DEC-4394-8203-C4CD8E070A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8DA5C0-1EA7-40FC-B2AC-FFCDD0DB09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C1F95F-7430-43F8-A663-5AC5BD40B0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ED2F9-6C24-4B02-8322-F48ECAA05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4C373-EF42-466D-8BE6-1B7725125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AD758-B206-475F-9E6B-A8C865ADD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EDE4F-4A41-4DA3-809E-678324837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5F8AD-9355-441E-B4F6-892E53557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136BC-73EC-4C2E-B66E-46CB3F2DB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D25BA-450D-4ADC-BC26-072BD86F2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9CFC3-41EB-473B-BC8E-496BEB4A8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15FD8-C49F-46B4-8A0F-B37C3F5D0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81B62-C5ED-498F-8F11-3B7DDD901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65BD1-EF59-48AE-AD12-D299A5203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AC7A84-50D0-48B8-980F-E51826C84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FE0EC-9332-4B3F-AC33-EB4CFE150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954EF-8CCD-4C60-B496-F8A7703F5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8D63F-374F-4535-9BD1-33B8AAADD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503B1-724E-4E5A-B498-6EFAECBAD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ACB4-CD12-4111-B1EA-8C1E062A1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3ACE0-C6C3-46FE-BA9E-A081F2782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E1C1B-B665-4BAD-BA09-9BD10FCE1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BAE2D-395D-4E1F-9E8D-E52DF0725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47A12-29A3-4840-916E-15C22D237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113116-544D-490A-BF7A-EF1321117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9BEC2-DFD1-4928-9696-892E643356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925654-2F6E-470A-97A8-CAE1625892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1B5FAC-EFB7-4029-9D0A-8201CE82D7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336C3-C222-4E5C-B685-8A30E4938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4F963-4409-4D0F-8927-01E625E8C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4E58-B65B-4578-B18E-30D1A23F8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78EA3F-D42F-4473-AB27-6FD80B137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A781E-5187-41B2-A94C-201B086E4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A2553-AEC6-432A-824A-B06DE0A20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EE5B2-B883-4C9E-A240-7A19BC799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953FF-A48E-47F1-8DE1-6AB92D32D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EC806-7FF3-463A-8433-744C87BA8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6024D-7F83-41C0-AF6E-DDBBA2615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8F6120-17AD-41CB-B3F5-F03540F56A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D1798-0D06-42E5-9BD5-E1C1A02BAD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D9B3F0-6AA6-4BF1-A27E-4FB6F1A696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71A9A-6630-421A-9F85-D4B704D0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B28E0-0F7C-4E8D-A286-809429045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A5CFC-E50A-4B43-AA5C-6B966ACE3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CD499-5BDA-454C-9654-984584B56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1991AA-058D-465A-994E-C80CC2329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A895F-B088-4921-8C8F-CA4103267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66E1A-2463-4FDB-AB38-0A9DCFC5A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B89E4-41B5-43B1-90A1-1DA8B0E0E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8B451-2F8B-4EAA-BD8D-F84DE3E1E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CD8EFD-C604-495B-B887-84E3DBA14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792CE1-C206-4A63-ACCD-6B1155F810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E6410-C38F-473A-835D-82721D4D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79CBD-C466-419D-858C-86CD975B99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C4441A-CD47-495B-8CC9-3B8090F65E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0EA9AF-2419-4594-9B87-DD886BC05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A0AC1-33AB-4D6C-9399-70CFB0D59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BBFDC-27E7-487D-844E-D9327E220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B42CF-CA68-45BC-8BDE-E236D065A9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5F0DA-912C-4526-A15D-956456A2E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4DBE2-D275-47B7-945B-F16F68F14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A1507-418F-40D5-AEB2-646829F18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74C49D-1E17-4DBA-9EBC-C11B51009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7A25E-4964-46C5-B420-6502EB9ED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C0208-141C-45B7-9547-4916A2770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06A7D1-DA3A-4DDA-BCFA-27BD64C6A8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EFDD3-2C47-4005-91D1-2DFD3E783B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8F187D-925E-4424-9CB5-0666CF7961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82A871-995B-4785-985D-6BE975C3B3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EC253-128B-4514-8EE0-E5985AB13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BA076-FD9C-425C-81EC-083B60502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8BC642-2BFC-4450-AABA-F4F96C1D80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66645-7691-4E51-A045-68A4CEE0B3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03D930-4545-4D3F-ADC8-58CBADA5F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15EA-17CC-4BBC-BA6D-D0FB5505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E18F0-CC3C-4CF7-9EAE-768AD4B84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A2114-BB1D-4171-9026-13FFE5015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DBFBC7-D908-42B4-ADBB-3A28160326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CE6FCC-F07F-4B40-81C4-20C0EC700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34FAA3-8433-4571-B559-3AFFCB7BE9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2EA069-F6B8-4D5F-92B0-1A4C0CB8C7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1C86B-E0E8-4322-8565-B7E17DFBA1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8CE85F-9862-4E0B-ADBE-9B237D08E8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559AE-F645-4F21-A64E-FE5291427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250E4F-18BC-42EA-88FF-E73254E73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06426-2CD5-43CD-AE51-0606BC0A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A9364A-B773-4299-A98D-F90948C52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43297-7213-44B5-A7FA-9CB3170ED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D4765-D7FA-4A3E-BB4C-1D1F530586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72F04-4489-4D56-900B-4914926F3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86FB0A-CC08-4BBC-998C-FB404F4BC9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BA3930-54CE-4A83-B33F-D59BA92D99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C7CF40-6555-47D7-918E-5BB0038B14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6C09D6-E3B8-4F41-866B-1D6C5BE03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CEDE4F-8B02-4996-BB0D-0DD7F8F3D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6C117-1C10-47D1-8718-F7CE025544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B282-7E92-4EC4-9884-F3E7E6505F9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3035-F019-497F-AE63-CAD1323126A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9777-C722-4B23-BCEE-6D462AF1CE3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55BA-8C3F-44EA-80AB-DD68685FC160}"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3959-4C0F-4AAA-B7E6-A9E9AB4427C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02CF-DA36-47DA-A12F-36129E5AC5F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4B05-D438-42E4-98CE-10D59B1AF552}"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99E5-C301-453D-89E1-6EF03F72899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0D0D-EA20-4A0A-B27F-97F3216AB9D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95A4-D11F-4707-9BCA-D80512AEFCD9}"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69E2-C5DA-4F18-A118-2B3276CC5EA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B1A7-47B5-4C34-9768-0AE55E9BA9A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42720" y="25905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NashvilleSerial"/>
              </a:rPr>
              <a:t>MONTAJE DE LA TORRE EIFFEL</a:t>
            </a:r>
            <a:endParaRPr b="0" lang="en-US" sz="4800" spc="-1" strike="noStrike">
              <a:solidFill>
                <a:srgbClr val="000000"/>
              </a:solidFill>
              <a:latin typeface="Times New Roman"/>
            </a:endParaRPr>
          </a:p>
        </p:txBody>
      </p:sp>
      <p:sp>
        <p:nvSpPr>
          <p:cNvPr id="493" name="PlaceHolder 2"/>
          <p:cNvSpPr>
            <a:spLocks noGrp="1"/>
          </p:cNvSpPr>
          <p:nvPr>
            <p:ph type="subTitle"/>
          </p:nvPr>
        </p:nvSpPr>
        <p:spPr>
          <a:xfrm>
            <a:off x="2743200" y="5486040"/>
            <a:ext cx="4038480" cy="685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Jean-Bernard</a:t>
            </a:r>
            <a:endParaRPr b="0" lang="en-US" sz="2400" spc="-1" strike="noStrike">
              <a:solidFill>
                <a:srgbClr val="000000"/>
              </a:solidFill>
              <a:latin typeface="Times New Roman"/>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1181160"/>
            <a:ext cx="807696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El montaje de los pilares comenzó el 1 de Julio de 1887, terminándose la obra 21 meses más tarde. Todos los elementos fueron preparados en la fábrica de Levallois-Perret, al lado de París, sede de la empresa Eiffel.</a:t>
            </a:r>
            <a:br>
              <a:rPr sz="2400"/>
            </a:br>
            <a:r>
              <a:rPr b="0" lang="fr-FR" sz="2400" spc="-1" strike="noStrike">
                <a:solidFill>
                  <a:srgbClr val="000000"/>
                </a:solidFill>
                <a:latin typeface="Times New Roman"/>
              </a:rPr>
              <a:t>Cada una de las 18.000 piezas de la torre fue diseñada y calculada a la décima de milímetro antes de ser fabricada y ensamblada, en elementos de aproximadamente 5 metros.</a:t>
            </a:r>
            <a:br>
              <a:rPr sz="2400"/>
            </a:br>
            <a:r>
              <a:rPr b="0" lang="fr-FR" sz="2400" spc="-1" strike="noStrike">
                <a:solidFill>
                  <a:srgbClr val="000000"/>
                </a:solidFill>
                <a:latin typeface="Times New Roman"/>
              </a:rPr>
              <a:t>Sobre el terreno, entre 150 y 300 obreros dirigidos por un equipo de veteranos en grandes viaductos metálicos, se ocuparon del montaje de este gigantesco mecano.</a:t>
            </a:r>
            <a:endParaRPr b="0" lang="en-US" sz="2400" spc="-1" strike="noStrike">
              <a:solidFill>
                <a:srgbClr val="000000"/>
              </a:solidFill>
              <a:latin typeface="Times New Roman"/>
            </a:endParaRPr>
          </a:p>
        </p:txBody>
      </p:sp>
    </p:spTree>
  </p:cSld>
  <p:transition spd="slow">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3" descr="C:\Documents and Settings\JEAN-BERNARD\Mes documents\Mes images\PHOTOS COMPRESSEES\montages des poutres mars 1888.jpg"/>
          <p:cNvPicPr/>
          <p:nvPr/>
        </p:nvPicPr>
        <p:blipFill>
          <a:blip r:embed="rId1"/>
          <a:stretch/>
        </p:blipFill>
        <p:spPr>
          <a:xfrm>
            <a:off x="825480" y="414360"/>
            <a:ext cx="7491600" cy="6029280"/>
          </a:xfrm>
          <a:prstGeom prst="rect">
            <a:avLst/>
          </a:prstGeom>
          <a:ln w="0">
            <a:noFill/>
          </a:ln>
        </p:spPr>
      </p:pic>
      <p:sp>
        <p:nvSpPr>
          <p:cNvPr id="508" name="Comment 4"/>
          <p:cNvSpPr/>
          <p:nvPr/>
        </p:nvSpPr>
        <p:spPr>
          <a:xfrm>
            <a:off x="380880" y="990720"/>
            <a:ext cx="160020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 la 1ª plataforma. Marzo de 1888</a:t>
            </a:r>
            <a:endParaRPr b="0" lang="en-US" sz="1400" spc="-1" strike="noStrike">
              <a:solidFill>
                <a:srgbClr val="000000"/>
              </a:solidFill>
              <a:latin typeface="Times New Roman"/>
            </a:endParaRPr>
          </a:p>
        </p:txBody>
      </p:sp>
    </p:spTree>
  </p:cSld>
  <p:transition spd="slow">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C:\Documents and Settings\JEAN-BERNARD\Mes documents\Mes images\PHOTOS COMPRESSEES\1er plate forme.jpg"/>
          <p:cNvPicPr/>
          <p:nvPr/>
        </p:nvPicPr>
        <p:blipFill>
          <a:blip r:embed="rId1"/>
          <a:stretch/>
        </p:blipFill>
        <p:spPr>
          <a:xfrm>
            <a:off x="1989000" y="0"/>
            <a:ext cx="5166000" cy="6858000"/>
          </a:xfrm>
          <a:prstGeom prst="rect">
            <a:avLst/>
          </a:prstGeom>
          <a:ln w="0">
            <a:noFill/>
          </a:ln>
        </p:spPr>
      </p:pic>
    </p:spTree>
  </p:cSld>
  <p:transition spd="slow">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C:\Documents and Settings\JEAN-BERNARD\Mes documents\Mes images\PHOTOS COMPRESSEES\1316-2.jpg"/>
          <p:cNvPicPr/>
          <p:nvPr/>
        </p:nvPicPr>
        <p:blipFill>
          <a:blip r:embed="rId1"/>
          <a:stretch/>
        </p:blipFill>
        <p:spPr>
          <a:xfrm>
            <a:off x="457200" y="484200"/>
            <a:ext cx="8229600" cy="5889600"/>
          </a:xfrm>
          <a:prstGeom prst="rect">
            <a:avLst/>
          </a:prstGeom>
          <a:ln w="0">
            <a:noFill/>
          </a:ln>
        </p:spPr>
      </p:pic>
      <p:sp>
        <p:nvSpPr>
          <p:cNvPr id="511" name="Comment 3"/>
          <p:cNvSpPr/>
          <p:nvPr/>
        </p:nvSpPr>
        <p:spPr>
          <a:xfrm>
            <a:off x="4076640" y="380880"/>
            <a:ext cx="99072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ayo de 1888</a:t>
            </a:r>
            <a:endParaRPr b="0" lang="en-US" sz="1400" spc="-1" strike="noStrike">
              <a:solidFill>
                <a:srgbClr val="000000"/>
              </a:solidFill>
              <a:latin typeface="Times New Roman"/>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C:\Documents and Settings\JEAN-BERNARD\Mes documents\Mes images\PHOTOS COMPRESSEES\montage piliers au dessus 1 etage mai 1888.jpg"/>
          <p:cNvPicPr/>
          <p:nvPr/>
        </p:nvPicPr>
        <p:blipFill>
          <a:blip r:embed="rId1"/>
          <a:stretch/>
        </p:blipFill>
        <p:spPr>
          <a:xfrm>
            <a:off x="457200" y="120600"/>
            <a:ext cx="8229600" cy="6615000"/>
          </a:xfrm>
          <a:prstGeom prst="rect">
            <a:avLst/>
          </a:prstGeom>
          <a:ln w="0">
            <a:noFill/>
          </a:ln>
        </p:spPr>
      </p:pic>
      <p:sp>
        <p:nvSpPr>
          <p:cNvPr id="513" name="Comment 3"/>
          <p:cNvSpPr/>
          <p:nvPr/>
        </p:nvSpPr>
        <p:spPr>
          <a:xfrm>
            <a:off x="228600" y="838080"/>
            <a:ext cx="173664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l 2º tramo de pilares. Mayo de 1888</a:t>
            </a:r>
            <a:endParaRPr b="0" lang="en-US" sz="1400" spc="-1" strike="noStrike">
              <a:solidFill>
                <a:srgbClr val="000000"/>
              </a:solidFill>
              <a:latin typeface="Times New Roman"/>
            </a:endParaRPr>
          </a:p>
        </p:txBody>
      </p:sp>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C:\Documents and Settings\JEAN-BERNARD\Mes documents\Mes images\PHOTOS COMPRESSEES\36e1922e69906218-grand-durandelle-edouard-actif.jpg"/>
          <p:cNvPicPr/>
          <p:nvPr/>
        </p:nvPicPr>
        <p:blipFill>
          <a:blip r:embed="rId1"/>
          <a:stretch/>
        </p:blipFill>
        <p:spPr>
          <a:xfrm>
            <a:off x="2400480" y="571680"/>
            <a:ext cx="4343400" cy="5715000"/>
          </a:xfrm>
          <a:prstGeom prst="rect">
            <a:avLst/>
          </a:prstGeom>
          <a:ln w="0">
            <a:noFill/>
          </a:ln>
        </p:spPr>
      </p:pic>
      <p:sp>
        <p:nvSpPr>
          <p:cNvPr id="515" name="Comment 3"/>
          <p:cNvSpPr/>
          <p:nvPr/>
        </p:nvSpPr>
        <p:spPr>
          <a:xfrm>
            <a:off x="228600" y="1981080"/>
            <a:ext cx="19652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Andamios para la plataforma</a:t>
            </a:r>
            <a:endParaRPr b="0" lang="en-US" sz="1400" spc="-1" strike="noStrike">
              <a:solidFill>
                <a:srgbClr val="000000"/>
              </a:solidFill>
              <a:latin typeface="Times New Roman"/>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C:\Documents and Settings\JEAN-BERNARD\Mes documents\Mes images\PHOTOS COMPRESSEES\1er plate forme 1.jpg"/>
          <p:cNvPicPr/>
          <p:nvPr/>
        </p:nvPicPr>
        <p:blipFill>
          <a:blip r:embed="rId1"/>
          <a:stretch/>
        </p:blipFill>
        <p:spPr>
          <a:xfrm>
            <a:off x="1892160" y="0"/>
            <a:ext cx="5359680" cy="6858000"/>
          </a:xfrm>
          <a:prstGeom prst="rect">
            <a:avLst/>
          </a:prstGeom>
          <a:ln w="0">
            <a:noFill/>
          </a:ln>
        </p:spPr>
      </p:pic>
      <p:sp>
        <p:nvSpPr>
          <p:cNvPr id="517" name="Comment 3"/>
          <p:cNvSpPr/>
          <p:nvPr/>
        </p:nvSpPr>
        <p:spPr>
          <a:xfrm>
            <a:off x="152280" y="457200"/>
            <a:ext cx="158436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 la 2ª plataforma. Junio de 1888</a:t>
            </a:r>
            <a:endParaRPr b="0" lang="en-US" sz="1400" spc="-1" strike="noStrike">
              <a:solidFill>
                <a:srgbClr val="000000"/>
              </a:solidFill>
              <a:latin typeface="Times New Roman"/>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C:\Documents and Settings\JEAN-BERNARD\Mes documents\Mes images\PHOTOS COMPRESSEES\septembre 1888.jpg"/>
          <p:cNvPicPr/>
          <p:nvPr/>
        </p:nvPicPr>
        <p:blipFill>
          <a:blip r:embed="rId1"/>
          <a:stretch/>
        </p:blipFill>
        <p:spPr>
          <a:xfrm>
            <a:off x="1925640" y="0"/>
            <a:ext cx="5292720" cy="6858000"/>
          </a:xfrm>
          <a:prstGeom prst="rect">
            <a:avLst/>
          </a:prstGeom>
          <a:ln w="0">
            <a:noFill/>
          </a:ln>
        </p:spPr>
      </p:pic>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3" descr="C:\Documents and Settings\JEAN-BERNARD\Mes documents\Mes images\PHOTOS COMPRESSEES\pause dejeuner.jpg"/>
          <p:cNvPicPr/>
          <p:nvPr/>
        </p:nvPicPr>
        <p:blipFill>
          <a:blip r:embed="rId1"/>
          <a:stretch/>
        </p:blipFill>
        <p:spPr>
          <a:xfrm>
            <a:off x="615960" y="380880"/>
            <a:ext cx="7912080" cy="6096240"/>
          </a:xfrm>
          <a:prstGeom prst="rect">
            <a:avLst/>
          </a:prstGeom>
          <a:ln w="0">
            <a:noFill/>
          </a:ln>
        </p:spPr>
      </p:pic>
      <p:sp>
        <p:nvSpPr>
          <p:cNvPr id="520" name="Comment 4"/>
          <p:cNvSpPr/>
          <p:nvPr/>
        </p:nvSpPr>
        <p:spPr>
          <a:xfrm>
            <a:off x="3855960" y="228600"/>
            <a:ext cx="143208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Pausa para el almuerzo</a:t>
            </a:r>
            <a:endParaRPr b="0" lang="en-US" sz="14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C:\Documents and Settings\JEAN-BERNARD\Mes documents\Mes images\PHOTOS COMPRESSEES\sept 1888.jpg"/>
          <p:cNvPicPr/>
          <p:nvPr/>
        </p:nvPicPr>
        <p:blipFill>
          <a:blip r:embed="rId1"/>
          <a:stretch/>
        </p:blipFill>
        <p:spPr>
          <a:xfrm>
            <a:off x="2162160" y="285840"/>
            <a:ext cx="4819680" cy="6286320"/>
          </a:xfrm>
          <a:prstGeom prst="rect">
            <a:avLst/>
          </a:prstGeom>
          <a:ln w="0">
            <a:noFill/>
          </a:ln>
        </p:spPr>
      </p:pic>
      <p:sp>
        <p:nvSpPr>
          <p:cNvPr id="522" name="Comment 3"/>
          <p:cNvSpPr/>
          <p:nvPr/>
        </p:nvSpPr>
        <p:spPr>
          <a:xfrm>
            <a:off x="304920" y="1219320"/>
            <a:ext cx="15080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Septiembre  de 1888</a:t>
            </a:r>
            <a:endParaRPr b="0" lang="en-US" sz="1400" spc="-1" strike="noStrike">
              <a:solidFill>
                <a:srgbClr val="000000"/>
              </a:solidFill>
              <a:latin typeface="Times New Roman"/>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562040"/>
            <a:ext cx="7925040" cy="373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Sus pies reposan sobre cimientos de hormigón,  construidos a algunos metros bajo el nivel del suelo sobre un lecho de grava compacta.</a:t>
            </a:r>
            <a:br>
              <a:rPr sz="2400"/>
            </a:br>
            <a:r>
              <a:rPr b="0" lang="fr-FR" sz="2400" spc="-1" strike="noStrike">
                <a:solidFill>
                  <a:srgbClr val="000000"/>
                </a:solidFill>
                <a:latin typeface="Times New Roman"/>
              </a:rPr>
              <a:t>Cada extremo metálico dispone de su propia zapata, unida a las demás por paredes, sobre la cual ejerce una presión de 3 a 4 Kg por centímetro cuadrado.</a:t>
            </a:r>
            <a:br>
              <a:rPr sz="2400"/>
            </a:br>
            <a:r>
              <a:rPr b="0" lang="fr-FR" sz="2400" spc="-1" strike="noStrike">
                <a:solidFill>
                  <a:srgbClr val="000000"/>
                </a:solidFill>
                <a:latin typeface="Times New Roman"/>
              </a:rPr>
              <a:t>En el lado del Sena se utilizaron cajones metálicos estancos, en los que la inyección de aire comprimido permitió a los obreros trabajar bajo el nivel del agua.</a:t>
            </a:r>
            <a:endParaRPr b="0" lang="en-US" sz="2400" spc="-1" strike="noStrike">
              <a:solidFill>
                <a:srgbClr val="000000"/>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C:\Documents and Settings\JEAN-BERNARD\Mes documents\Mes images\PHOTOS COMPRESSEES\14-oct-88.jpg"/>
          <p:cNvPicPr/>
          <p:nvPr/>
        </p:nvPicPr>
        <p:blipFill>
          <a:blip r:embed="rId1"/>
          <a:stretch/>
        </p:blipFill>
        <p:spPr>
          <a:xfrm>
            <a:off x="285840" y="371520"/>
            <a:ext cx="8572320" cy="6114960"/>
          </a:xfrm>
          <a:prstGeom prst="rect">
            <a:avLst/>
          </a:prstGeom>
          <a:ln w="0">
            <a:noFill/>
          </a:ln>
        </p:spPr>
      </p:pic>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3" descr="C:\Documents and Settings\JEAN-BERNARD\Mes documents\Mes images\PHOTOS COMPRESSEES\1383.jpg"/>
          <p:cNvPicPr/>
          <p:nvPr/>
        </p:nvPicPr>
        <p:blipFill>
          <a:blip r:embed="rId1"/>
          <a:stretch/>
        </p:blipFill>
        <p:spPr>
          <a:xfrm>
            <a:off x="571680" y="784080"/>
            <a:ext cx="8001000" cy="5289840"/>
          </a:xfrm>
          <a:prstGeom prst="rect">
            <a:avLst/>
          </a:prstGeom>
          <a:ln w="0">
            <a:noFill/>
          </a:ln>
        </p:spPr>
      </p:pic>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C:\Documents and Settings\JEAN-BERNARD\Mes documents\Mes images\PHOTOS COMPRESSEES\machinerie.jpg"/>
          <p:cNvPicPr/>
          <p:nvPr/>
        </p:nvPicPr>
        <p:blipFill>
          <a:blip r:embed="rId1"/>
          <a:stretch/>
        </p:blipFill>
        <p:spPr>
          <a:xfrm>
            <a:off x="514440" y="380880"/>
            <a:ext cx="8115120" cy="6096240"/>
          </a:xfrm>
          <a:prstGeom prst="rect">
            <a:avLst/>
          </a:prstGeom>
          <a:ln w="0">
            <a:noFill/>
          </a:ln>
        </p:spPr>
      </p:pic>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C:\Documents and Settings\JEAN-BERNARD\Mes documents\Mes images\PHOTOS COMPRESSEES\montage 3 etage décembre 1888.jpg"/>
          <p:cNvPicPr/>
          <p:nvPr/>
        </p:nvPicPr>
        <p:blipFill>
          <a:blip r:embed="rId1"/>
          <a:stretch/>
        </p:blipFill>
        <p:spPr>
          <a:xfrm>
            <a:off x="1774800" y="0"/>
            <a:ext cx="5594400" cy="6858000"/>
          </a:xfrm>
          <a:prstGeom prst="rect">
            <a:avLst/>
          </a:prstGeom>
          <a:ln w="0">
            <a:noFill/>
          </a:ln>
        </p:spPr>
      </p:pic>
      <p:sp>
        <p:nvSpPr>
          <p:cNvPr id="527" name="Comment 3"/>
          <p:cNvSpPr/>
          <p:nvPr/>
        </p:nvSpPr>
        <p:spPr>
          <a:xfrm>
            <a:off x="533520" y="914400"/>
            <a:ext cx="173664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Montaje del piso 3º Diciembre de 1888</a:t>
            </a:r>
            <a:endParaRPr b="0" lang="en-US" sz="1400" spc="-1" strike="noStrike">
              <a:solidFill>
                <a:srgbClr val="000000"/>
              </a:solidFill>
              <a:latin typeface="Times New Roman"/>
            </a:endParaRPr>
          </a:p>
        </p:txBody>
      </p:sp>
    </p:spTree>
  </p:cSld>
  <p:transition spd="slow">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1320" y="137160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Todas las piezas metálicas de la torre están unidas con remaches, modo de construcción propio de la época en que se levantó la torre. </a:t>
            </a:r>
            <a:br>
              <a:rPr sz="2400"/>
            </a:br>
            <a:r>
              <a:rPr b="0" lang="fr-FR" sz="2400" spc="-1" strike="noStrike">
                <a:solidFill>
                  <a:srgbClr val="000000"/>
                </a:solidFill>
                <a:latin typeface="Times New Roman"/>
              </a:rPr>
              <a:t> Las uniones fueron fijadas provisionalmente en su lugar con ayuda de bulones, reemplazados posteriormente por 2.500.000 remaches puestos en caliente. Al enfriarse, los remaches se contraen, asegurando el apretado entre las piezas.</a:t>
            </a:r>
            <a:endParaRPr b="0" lang="en-US" sz="2400" spc="-1" strike="noStrike">
              <a:solidFill>
                <a:srgbClr val="000000"/>
              </a:solidFill>
              <a:latin typeface="Times New Roman"/>
            </a:endParaRPr>
          </a:p>
        </p:txBody>
      </p:sp>
    </p:spTree>
  </p:cSld>
  <p:transition spd="slow">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C:\Documents and Settings\JEAN-BERNARD\Mes documents\Mes images\PHOTOS COMPRESSEES\1339.jpg"/>
          <p:cNvPicPr/>
          <p:nvPr/>
        </p:nvPicPr>
        <p:blipFill>
          <a:blip r:embed="rId1"/>
          <a:stretch/>
        </p:blipFill>
        <p:spPr>
          <a:xfrm>
            <a:off x="1143000" y="1155600"/>
            <a:ext cx="6858000" cy="4546800"/>
          </a:xfrm>
          <a:prstGeom prst="rect">
            <a:avLst/>
          </a:prstGeom>
          <a:ln w="0">
            <a:noFill/>
          </a:ln>
        </p:spPr>
      </p:pic>
    </p:spTree>
  </p:cSld>
  <p:transition spd="slow">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2" descr="C:\Documents and Settings\JEAN-BERNARD\Mes documents\Mes images\PHOTOS COMPRESSEES\Tour_Eiffel_Ascenseur_Roux%2C_Combaluzier_et_Lepape.jpg"/>
          <p:cNvPicPr/>
          <p:nvPr/>
        </p:nvPicPr>
        <p:blipFill>
          <a:blip r:embed="rId1"/>
          <a:stretch/>
        </p:blipFill>
        <p:spPr>
          <a:xfrm>
            <a:off x="762120" y="533520"/>
            <a:ext cx="7619760" cy="6159240"/>
          </a:xfrm>
          <a:prstGeom prst="rect">
            <a:avLst/>
          </a:prstGeom>
          <a:ln w="0">
            <a:noFill/>
          </a:ln>
        </p:spPr>
      </p:pic>
      <p:sp>
        <p:nvSpPr>
          <p:cNvPr id="531" name="Comment 3"/>
          <p:cNvSpPr/>
          <p:nvPr/>
        </p:nvSpPr>
        <p:spPr>
          <a:xfrm>
            <a:off x="3657600" y="228600"/>
            <a:ext cx="15080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Instalación del ascensor</a:t>
            </a:r>
            <a:endParaRPr b="0" lang="en-US" sz="1400" spc="-1" strike="noStrike">
              <a:solidFill>
                <a:srgbClr val="000000"/>
              </a:solidFill>
              <a:latin typeface="Times New Roman"/>
            </a:endParaRPr>
          </a:p>
        </p:txBody>
      </p:sp>
    </p:spTree>
  </p:cSld>
  <p:transition spd="slow">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C:\Documents and Settings\JEAN-BERNARD\Mes documents\Mes images\PHOTOS COMPRESSEES\btv1b6913298g.jpg"/>
          <p:cNvPicPr/>
          <p:nvPr/>
        </p:nvPicPr>
        <p:blipFill>
          <a:blip r:embed="rId1"/>
          <a:stretch/>
        </p:blipFill>
        <p:spPr>
          <a:xfrm>
            <a:off x="2182680" y="152280"/>
            <a:ext cx="4778640" cy="6553440"/>
          </a:xfrm>
          <a:prstGeom prst="rect">
            <a:avLst/>
          </a:prstGeom>
          <a:ln w="0">
            <a:noFill/>
          </a:ln>
        </p:spPr>
      </p:pic>
      <p:sp>
        <p:nvSpPr>
          <p:cNvPr id="533" name="Comment 3"/>
          <p:cNvSpPr/>
          <p:nvPr/>
        </p:nvSpPr>
        <p:spPr>
          <a:xfrm>
            <a:off x="304920" y="1752480"/>
            <a:ext cx="1584360" cy="30708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Pintor en acción</a:t>
            </a:r>
            <a:endParaRPr b="0" lang="en-US" sz="1400" spc="-1" strike="noStrike">
              <a:solidFill>
                <a:srgbClr val="000000"/>
              </a:solidFill>
              <a:latin typeface="Times New Roman"/>
            </a:endParaRPr>
          </a:p>
        </p:txBody>
      </p:sp>
    </p:spTree>
  </p:cSld>
  <p:transition spd="slow">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C:\Documents and Settings\JEAN-BERNARD\Mes documents\Mes images\PHOTOS COMPRESSEES\1889.jpg"/>
          <p:cNvPicPr/>
          <p:nvPr/>
        </p:nvPicPr>
        <p:blipFill>
          <a:blip r:embed="rId1"/>
          <a:stretch/>
        </p:blipFill>
        <p:spPr>
          <a:xfrm>
            <a:off x="507960" y="914400"/>
            <a:ext cx="8128080" cy="5499000"/>
          </a:xfrm>
          <a:prstGeom prst="rect">
            <a:avLst/>
          </a:prstGeom>
          <a:ln w="0">
            <a:noFill/>
          </a:ln>
        </p:spPr>
      </p:pic>
      <p:sp>
        <p:nvSpPr>
          <p:cNvPr id="535" name="Comment 3"/>
          <p:cNvSpPr/>
          <p:nvPr/>
        </p:nvSpPr>
        <p:spPr>
          <a:xfrm>
            <a:off x="3627360" y="304920"/>
            <a:ext cx="188928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Los ingenieros del equipo Eiffel en 1889</a:t>
            </a:r>
            <a:endParaRPr b="0" lang="en-US" sz="1400" spc="-1" strike="noStrike">
              <a:solidFill>
                <a:srgbClr val="000000"/>
              </a:solidFill>
              <a:latin typeface="Times New Roman"/>
            </a:endParaRPr>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C:\Documents and Settings\JEAN-BERNARD\Mes documents\Mes images\PHOTOS COMPRESSEES\gustave eiffel et son équipe d'ingenieurs 1889.jpg"/>
          <p:cNvPicPr/>
          <p:nvPr/>
        </p:nvPicPr>
        <p:blipFill>
          <a:blip r:embed="rId1"/>
          <a:stretch/>
        </p:blipFill>
        <p:spPr>
          <a:xfrm>
            <a:off x="507960" y="571680"/>
            <a:ext cx="8128080" cy="5715000"/>
          </a:xfrm>
          <a:prstGeom prst="rect">
            <a:avLst/>
          </a:prstGeom>
          <a:ln w="0">
            <a:noFill/>
          </a:ln>
        </p:spPr>
      </p:pic>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C:\Documents and Settings\JEAN-BERNARD\Mes documents\Mes images\PHOTOS COMPRESSEES\85f7050f859509b0-grand-durandelle-edouard-actif.jpg"/>
          <p:cNvPicPr/>
          <p:nvPr/>
        </p:nvPicPr>
        <p:blipFill>
          <a:blip r:embed="rId1"/>
          <a:stretch/>
        </p:blipFill>
        <p:spPr>
          <a:xfrm>
            <a:off x="507960" y="412920"/>
            <a:ext cx="8128080" cy="6032160"/>
          </a:xfrm>
          <a:prstGeom prst="rect">
            <a:avLst/>
          </a:prstGeom>
          <a:ln w="0">
            <a:noFill/>
          </a:ln>
        </p:spPr>
      </p:pic>
      <p:sp>
        <p:nvSpPr>
          <p:cNvPr id="496" name="Comment 3"/>
          <p:cNvSpPr/>
          <p:nvPr/>
        </p:nvSpPr>
        <p:spPr>
          <a:xfrm>
            <a:off x="3780000" y="228600"/>
            <a:ext cx="158400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Construcción de los cimientos para los pilares</a:t>
            </a:r>
            <a:endParaRPr b="0" lang="en-US" sz="1400" spc="-1" strike="noStrike">
              <a:solidFill>
                <a:srgbClr val="000000"/>
              </a:solidFill>
              <a:latin typeface="Times New Roman"/>
            </a:endParaRPr>
          </a:p>
        </p:txBody>
      </p:sp>
    </p:spTree>
  </p:cSld>
  <p:transition spd="slow">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2" descr="C:\Documents and Settings\JEAN-BERNARD\Mes documents\Mes images\PHOTOS COMPRESSEES\terminée.jpg"/>
          <p:cNvPicPr/>
          <p:nvPr/>
        </p:nvPicPr>
        <p:blipFill>
          <a:blip r:embed="rId1"/>
          <a:stretch/>
        </p:blipFill>
        <p:spPr>
          <a:xfrm>
            <a:off x="2303640" y="0"/>
            <a:ext cx="4536720" cy="6858000"/>
          </a:xfrm>
          <a:prstGeom prst="rect">
            <a:avLst/>
          </a:prstGeom>
          <a:ln w="0">
            <a:noFill/>
          </a:ln>
        </p:spPr>
      </p:pic>
      <p:sp>
        <p:nvSpPr>
          <p:cNvPr id="538" name="Comment 3"/>
          <p:cNvSpPr/>
          <p:nvPr/>
        </p:nvSpPr>
        <p:spPr>
          <a:xfrm>
            <a:off x="380880" y="914400"/>
            <a:ext cx="150840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Torre finalizada el 23 de Marzo de 1889</a:t>
            </a:r>
            <a:endParaRPr b="0" lang="en-US" sz="1400" spc="-1" strike="noStrike">
              <a:solidFill>
                <a:srgbClr val="000000"/>
              </a:solidFill>
              <a:latin typeface="Times New Roman"/>
            </a:endParaRPr>
          </a:p>
        </p:txBody>
      </p:sp>
    </p:spTree>
  </p:cSld>
  <p:transition spd="slow">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C:\Documents and Settings\JEAN-BERNARD\Mes documents\Mes images\PHOTOS COMPRESSEES\groupe_eiffel_126ko.jpg"/>
          <p:cNvPicPr/>
          <p:nvPr/>
        </p:nvPicPr>
        <p:blipFill>
          <a:blip r:embed="rId1"/>
          <a:stretch/>
        </p:blipFill>
        <p:spPr>
          <a:xfrm>
            <a:off x="571680" y="685800"/>
            <a:ext cx="8001000" cy="6000840"/>
          </a:xfrm>
          <a:prstGeom prst="rect">
            <a:avLst/>
          </a:prstGeom>
          <a:ln w="0">
            <a:noFill/>
          </a:ln>
        </p:spPr>
      </p:pic>
      <p:sp>
        <p:nvSpPr>
          <p:cNvPr id="540" name="Comment 3"/>
          <p:cNvSpPr/>
          <p:nvPr/>
        </p:nvSpPr>
        <p:spPr>
          <a:xfrm>
            <a:off x="3703680" y="228600"/>
            <a:ext cx="173664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Inauguración en  1889</a:t>
            </a:r>
            <a:endParaRPr b="0" lang="en-US" sz="1400" spc="-1" strike="noStrike">
              <a:solidFill>
                <a:srgbClr val="000000"/>
              </a:solidFill>
              <a:latin typeface="Times New Roman"/>
            </a:endParaRPr>
          </a:p>
        </p:txBody>
      </p:sp>
    </p:spTree>
  </p:cSld>
  <p:transition spd="slow">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2" descr="C:\Documents and Settings\JEAN-BERNARD\Mes documents\Mes images\PHOTOS COMPRESSEES\1900 1er étage.jpg"/>
          <p:cNvPicPr/>
          <p:nvPr/>
        </p:nvPicPr>
        <p:blipFill>
          <a:blip r:embed="rId1"/>
          <a:stretch/>
        </p:blipFill>
        <p:spPr>
          <a:xfrm>
            <a:off x="500040" y="1066680"/>
            <a:ext cx="8143920" cy="5168880"/>
          </a:xfrm>
          <a:prstGeom prst="rect">
            <a:avLst/>
          </a:prstGeom>
          <a:ln w="0">
            <a:noFill/>
          </a:ln>
        </p:spPr>
      </p:pic>
      <p:sp>
        <p:nvSpPr>
          <p:cNvPr id="542" name="Comment 3"/>
          <p:cNvSpPr/>
          <p:nvPr/>
        </p:nvSpPr>
        <p:spPr>
          <a:xfrm>
            <a:off x="3780000" y="333360"/>
            <a:ext cx="1820880" cy="73332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Decoración del primer piso en 1900.</a:t>
            </a:r>
            <a:endParaRPr b="0" lang="en-US" sz="1400" spc="-1" strike="noStrike">
              <a:solidFill>
                <a:srgbClr val="000000"/>
              </a:solidFill>
              <a:latin typeface="Times New Roman"/>
            </a:endParaRPr>
          </a:p>
        </p:txBody>
      </p:sp>
    </p:spTree>
  </p:cSld>
  <p:transition spd="slow">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C:\Documents and Settings\JEAN-BERNARD\Mes documents\Mes images\PHOTOS COMPRESSEES\teifresto.jpg"/>
          <p:cNvPicPr/>
          <p:nvPr/>
        </p:nvPicPr>
        <p:blipFill>
          <a:blip r:embed="rId1"/>
          <a:stretch/>
        </p:blipFill>
        <p:spPr>
          <a:xfrm>
            <a:off x="762120" y="907920"/>
            <a:ext cx="7619760" cy="5042160"/>
          </a:xfrm>
          <a:prstGeom prst="rect">
            <a:avLst/>
          </a:prstGeom>
          <a:ln w="0">
            <a:noFill/>
          </a:ln>
        </p:spPr>
      </p:pic>
      <p:sp>
        <p:nvSpPr>
          <p:cNvPr id="544" name="2 CuadroTexto"/>
          <p:cNvSpPr/>
          <p:nvPr/>
        </p:nvSpPr>
        <p:spPr>
          <a:xfrm>
            <a:off x="3851280" y="549360"/>
            <a:ext cx="1152360" cy="65736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 </a:t>
            </a:r>
            <a:r>
              <a:rPr b="0" lang="es-ES" sz="1400" spc="-1" strike="noStrike">
                <a:solidFill>
                  <a:srgbClr val="000000"/>
                </a:solidFill>
                <a:latin typeface="NashvilleSerial"/>
              </a:rPr>
              <a:t>Restaurante</a:t>
            </a:r>
            <a:endParaRPr b="0" lang="en-US" sz="1400" spc="-1" strike="noStrike">
              <a:solidFill>
                <a:srgbClr val="000000"/>
              </a:solidFill>
              <a:latin typeface="Times New Roman"/>
            </a:endParaRPr>
          </a:p>
        </p:txBody>
      </p:sp>
    </p:spTree>
  </p:cSld>
  <p:transition spd="slow">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C:\Documents and Settings\JEAN-BERNARD\Mes documents\Mes images\PHOTOS COMPRESSEES\teifcan.jpg"/>
          <p:cNvPicPr/>
          <p:nvPr/>
        </p:nvPicPr>
        <p:blipFill>
          <a:blip r:embed="rId1"/>
          <a:stretch/>
        </p:blipFill>
        <p:spPr>
          <a:xfrm>
            <a:off x="380880" y="704880"/>
            <a:ext cx="8382240" cy="5448240"/>
          </a:xfrm>
          <a:prstGeom prst="rect">
            <a:avLst/>
          </a:prstGeom>
          <a:ln w="0">
            <a:noFill/>
          </a:ln>
        </p:spPr>
      </p:pic>
      <p:sp>
        <p:nvSpPr>
          <p:cNvPr id="546" name="2 CuadroTexto"/>
          <p:cNvSpPr/>
          <p:nvPr/>
        </p:nvSpPr>
        <p:spPr>
          <a:xfrm>
            <a:off x="3348000" y="189000"/>
            <a:ext cx="2160720" cy="7333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NashvilleSerial"/>
              </a:rPr>
              <a:t>El cañón de la  Torre Eiffel anunciando el mediodía</a:t>
            </a:r>
            <a:endParaRPr b="0" lang="en-US" sz="1400" spc="-1" strike="noStrike">
              <a:solidFill>
                <a:srgbClr val="000000"/>
              </a:solidFill>
              <a:latin typeface="Times New Roman"/>
            </a:endParaRPr>
          </a:p>
        </p:txBody>
      </p:sp>
    </p:spTree>
  </p:cSld>
  <p:transition spd="slow">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C:\Documents and Settings\JEAN-BERNARD\Mes documents\Mes images\PHOTOS COMPRESSEES\exo_1889_bal1.jpg"/>
          <p:cNvPicPr/>
          <p:nvPr/>
        </p:nvPicPr>
        <p:blipFill>
          <a:blip r:embed="rId1"/>
          <a:stretch/>
        </p:blipFill>
        <p:spPr>
          <a:xfrm>
            <a:off x="285840" y="914400"/>
            <a:ext cx="8572320" cy="5295960"/>
          </a:xfrm>
          <a:prstGeom prst="rect">
            <a:avLst/>
          </a:prstGeom>
          <a:ln w="0">
            <a:noFill/>
          </a:ln>
        </p:spPr>
      </p:pic>
      <p:sp>
        <p:nvSpPr>
          <p:cNvPr id="548" name="Comment 3"/>
          <p:cNvSpPr/>
          <p:nvPr/>
        </p:nvSpPr>
        <p:spPr>
          <a:xfrm>
            <a:off x="3780000" y="228600"/>
            <a:ext cx="1800000" cy="52020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Exposición Universal  1889</a:t>
            </a:r>
            <a:endParaRPr b="0" lang="en-US" sz="1400" spc="-1" strike="noStrike">
              <a:solidFill>
                <a:srgbClr val="000000"/>
              </a:solidFill>
              <a:latin typeface="Times New Roman"/>
            </a:endParaRPr>
          </a:p>
        </p:txBody>
      </p:sp>
    </p:spTree>
  </p:cSld>
  <p:transition spd="slow">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C:\Documents and Settings\JEAN-BERNARD\Mes documents\Mes images\PHOTOS COMPRESSEES\expo89_cp04.jpg"/>
          <p:cNvPicPr/>
          <p:nvPr/>
        </p:nvPicPr>
        <p:blipFill>
          <a:blip r:embed="rId1"/>
          <a:stretch/>
        </p:blipFill>
        <p:spPr>
          <a:xfrm>
            <a:off x="495360" y="600120"/>
            <a:ext cx="8153280" cy="5656320"/>
          </a:xfrm>
          <a:prstGeom prst="rect">
            <a:avLst/>
          </a:prstGeom>
          <a:ln w="0">
            <a:noFill/>
          </a:ln>
        </p:spPr>
      </p:pic>
    </p:spTree>
  </p:cSld>
  <p:transition spd="slow">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C:\Documents and Settings\JEAN-BERNARD\Mes documents\Mes images\PHOTOS COMPRESSEES\teiasc.jpg"/>
          <p:cNvPicPr/>
          <p:nvPr/>
        </p:nvPicPr>
        <p:blipFill>
          <a:blip r:embed="rId1"/>
          <a:stretch/>
        </p:blipFill>
        <p:spPr>
          <a:xfrm>
            <a:off x="380880" y="693720"/>
            <a:ext cx="8382240" cy="5469120"/>
          </a:xfrm>
          <a:prstGeom prst="rect">
            <a:avLst/>
          </a:prstGeom>
          <a:ln w="0">
            <a:noFill/>
          </a:ln>
        </p:spPr>
      </p:pic>
    </p:spTree>
  </p:cSld>
  <p:transition spd="slow">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2" descr="C:\Documents and Settings\JEAN-BERNARD\Mes documents\Mes images\PHOTOS COMPRESSEES\teifcdmn2.jpg"/>
          <p:cNvPicPr/>
          <p:nvPr/>
        </p:nvPicPr>
        <p:blipFill>
          <a:blip r:embed="rId1"/>
          <a:stretch/>
        </p:blipFill>
        <p:spPr>
          <a:xfrm>
            <a:off x="380880" y="782640"/>
            <a:ext cx="8382240" cy="5291280"/>
          </a:xfrm>
          <a:prstGeom prst="rect">
            <a:avLst/>
          </a:prstGeom>
          <a:ln w="0">
            <a:noFill/>
          </a:ln>
        </p:spPr>
      </p:pic>
    </p:spTree>
  </p:cSld>
  <p:transition spd="slow">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C:\Documents and Settings\JEAN-BERNARD\Mes documents\Mes images\PHOTOS COMPRESSEES\teiftroc3.jpg"/>
          <p:cNvPicPr/>
          <p:nvPr/>
        </p:nvPicPr>
        <p:blipFill>
          <a:blip r:embed="rId1"/>
          <a:stretch/>
        </p:blipFill>
        <p:spPr>
          <a:xfrm>
            <a:off x="380880" y="793800"/>
            <a:ext cx="8382240" cy="5270400"/>
          </a:xfrm>
          <a:prstGeom prst="rect">
            <a:avLst/>
          </a:prstGeom>
          <a:ln w="0">
            <a:noFill/>
          </a:ln>
        </p:spPr>
      </p:pic>
    </p:spTree>
  </p:cSld>
  <p:transition spd="slow">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C:\Documents and Settings\JEAN-BERNARD\Mes documents\Mes images\PHOTOS COMPRESSEES\5f65ef7e332a5b33-grand-durandelle-edouard-actif.jpg"/>
          <p:cNvPicPr/>
          <p:nvPr/>
        </p:nvPicPr>
        <p:blipFill>
          <a:blip r:embed="rId1"/>
          <a:stretch/>
        </p:blipFill>
        <p:spPr>
          <a:xfrm>
            <a:off x="507960" y="851040"/>
            <a:ext cx="8128080" cy="5155920"/>
          </a:xfrm>
          <a:prstGeom prst="rect">
            <a:avLst/>
          </a:prstGeom>
          <a:ln w="0">
            <a:noFill/>
          </a:ln>
        </p:spPr>
      </p:pic>
    </p:spTree>
  </p:cSld>
  <p:transition spd="slow">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C:\Documents and Settings\JEAN-BERNARD\Mes documents\Mes images\PHOTOS COMPRESSEES\toureiffel1900.jpg"/>
          <p:cNvPicPr/>
          <p:nvPr/>
        </p:nvPicPr>
        <p:blipFill>
          <a:blip r:embed="rId1"/>
          <a:stretch/>
        </p:blipFill>
        <p:spPr>
          <a:xfrm>
            <a:off x="762120" y="380880"/>
            <a:ext cx="7619760" cy="6096240"/>
          </a:xfrm>
          <a:prstGeom prst="rect">
            <a:avLst/>
          </a:prstGeom>
          <a:ln w="0">
            <a:noFill/>
          </a:ln>
        </p:spPr>
      </p:pic>
    </p:spTree>
  </p:cSld>
  <p:transition spd="slow">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71320" y="137160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rPr>
              <a:t>Sólo se necesitaron 5 meses para construir los cimientos y 21 para realizar el montaje de la parte metálica de la torre. Es una rapidez record si se tienen en cuenta los rudimentarios medios de la época. </a:t>
            </a:r>
            <a:br>
              <a:rPr sz="2400"/>
            </a:br>
            <a:r>
              <a:rPr b="0" lang="fr-FR" sz="2400" spc="-1" strike="noStrike">
                <a:solidFill>
                  <a:srgbClr val="000000"/>
                </a:solidFill>
                <a:latin typeface="Times New Roman"/>
              </a:rPr>
              <a:t>El montaje de la torre fue una maravilla de precisión, como reconocieron todos los cronistas de la época.</a:t>
            </a:r>
            <a:br>
              <a:rPr sz="2400"/>
            </a:br>
            <a:r>
              <a:rPr b="0" lang="fr-FR" sz="2400" spc="-1" strike="noStrike">
                <a:solidFill>
                  <a:srgbClr val="000000"/>
                </a:solidFill>
                <a:latin typeface="Times New Roman"/>
              </a:rPr>
              <a:t>Comenzada en Enero de 1887, la obra se terminó el 31 de Marzo de 1889.</a:t>
            </a:r>
            <a:br>
              <a:rPr sz="2400"/>
            </a:br>
            <a:r>
              <a:rPr b="0" lang="fr-FR" sz="2400" spc="-1" strike="noStrike">
                <a:solidFill>
                  <a:srgbClr val="000000"/>
                </a:solidFill>
                <a:latin typeface="Times New Roman"/>
              </a:rPr>
              <a:t>Gustave Eiffel fue galardonado con la Legión de Honor en la estrecha plataforma de la cumbre.</a:t>
            </a:r>
            <a:br>
              <a:rPr sz="2400"/>
            </a:br>
            <a:endParaRPr b="0" lang="en-US" sz="2400" spc="-1" strike="noStrike">
              <a:solidFill>
                <a:srgbClr val="000000"/>
              </a:solidFill>
              <a:latin typeface="Times New Roman"/>
            </a:endParaRPr>
          </a:p>
        </p:txBody>
      </p:sp>
    </p:spTree>
  </p:cSld>
  <p:transition spd="slow">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C:\Documents and Settings\JEAN-BERNARD\Mes documents\Mes images\PHOTOS COMPRESSEES\tour-HD_278ko.jpg"/>
          <p:cNvPicPr/>
          <p:nvPr/>
        </p:nvPicPr>
        <p:blipFill>
          <a:blip r:embed="rId1"/>
          <a:stretch/>
        </p:blipFill>
        <p:spPr>
          <a:xfrm>
            <a:off x="2895480" y="0"/>
            <a:ext cx="3721320" cy="6886440"/>
          </a:xfrm>
          <a:prstGeom prst="rect">
            <a:avLst/>
          </a:prstGeom>
          <a:ln w="0">
            <a:noFill/>
          </a:ln>
        </p:spPr>
      </p:pic>
    </p:spTree>
  </p:cSld>
  <p:transition spd="slow">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C:\Users\jullou\Desktop\GUARDAR\Mis Documentos\UK 2011\106_2294.JPG"/>
          <p:cNvPicPr/>
          <p:nvPr/>
        </p:nvPicPr>
        <p:blipFill>
          <a:blip r:embed="rId1"/>
          <a:stretch/>
        </p:blipFill>
        <p:spPr>
          <a:xfrm>
            <a:off x="142920" y="108000"/>
            <a:ext cx="8858160" cy="6640560"/>
          </a:xfrm>
          <a:prstGeom prst="rect">
            <a:avLst/>
          </a:prstGeom>
          <a:ln w="0">
            <a:noFill/>
          </a:ln>
        </p:spPr>
      </p:pic>
    </p:spTree>
  </p:cSld>
  <p:transition spd="slow">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Picture 2" descr="C:\Documents and Settings\JEAN-BERNARD\Mes documents\Mes images\PHOTOS COMPRESSEES\teifpalex3.jpg"/>
          <p:cNvPicPr/>
          <p:nvPr/>
        </p:nvPicPr>
        <p:blipFill>
          <a:blip r:embed="rId1"/>
          <a:stretch/>
        </p:blipFill>
        <p:spPr>
          <a:xfrm>
            <a:off x="0" y="246240"/>
            <a:ext cx="9144000" cy="6365520"/>
          </a:xfrm>
          <a:prstGeom prst="rect">
            <a:avLst/>
          </a:prstGeom>
          <a:ln w="0">
            <a:noFill/>
          </a:ln>
        </p:spPr>
      </p:pic>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2" descr="C:\Documents and Settings\JEAN-BERNARD\Mes documents\Mes images\PHOTOS COMPRESSEES\piliers 4 1887.jpg"/>
          <p:cNvPicPr/>
          <p:nvPr/>
        </p:nvPicPr>
        <p:blipFill>
          <a:blip r:embed="rId1"/>
          <a:stretch/>
        </p:blipFill>
        <p:spPr>
          <a:xfrm>
            <a:off x="507960" y="590400"/>
            <a:ext cx="8128080" cy="5677200"/>
          </a:xfrm>
          <a:prstGeom prst="rect">
            <a:avLst/>
          </a:prstGeom>
          <a:ln w="0">
            <a:noFill/>
          </a:ln>
        </p:spPr>
      </p:pic>
    </p:spTree>
  </p:cSld>
  <p:transition spd="slow">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C:\Documents and Settings\JEAN-BERNARD\Mes documents\Mes images\PHOTOS COMPRESSEES\bde9dc970cbb0ba7-grand-durandelle-edouard-actif.jpg"/>
          <p:cNvPicPr/>
          <p:nvPr/>
        </p:nvPicPr>
        <p:blipFill>
          <a:blip r:embed="rId1"/>
          <a:stretch/>
        </p:blipFill>
        <p:spPr>
          <a:xfrm>
            <a:off x="507960" y="971640"/>
            <a:ext cx="8128080" cy="4914720"/>
          </a:xfrm>
          <a:prstGeom prst="rect">
            <a:avLst/>
          </a:prstGeom>
          <a:ln w="0">
            <a:noFill/>
          </a:ln>
        </p:spPr>
      </p:pic>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C:\Documents and Settings\JEAN-BERNARD\Mes documents\Mes images\PHOTOS COMPRESSEES\visite de chantier 1887.jpg"/>
          <p:cNvPicPr/>
          <p:nvPr/>
        </p:nvPicPr>
        <p:blipFill>
          <a:blip r:embed="rId1"/>
          <a:stretch/>
        </p:blipFill>
        <p:spPr>
          <a:xfrm>
            <a:off x="507960" y="1295280"/>
            <a:ext cx="8128080" cy="4940280"/>
          </a:xfrm>
          <a:prstGeom prst="rect">
            <a:avLst/>
          </a:prstGeom>
          <a:ln w="0">
            <a:noFill/>
          </a:ln>
        </p:spPr>
      </p:pic>
      <p:sp>
        <p:nvSpPr>
          <p:cNvPr id="501" name="Comment 3"/>
          <p:cNvSpPr/>
          <p:nvPr/>
        </p:nvSpPr>
        <p:spPr>
          <a:xfrm>
            <a:off x="3817800" y="609480"/>
            <a:ext cx="1508400" cy="30708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Vista de la obra</a:t>
            </a:r>
            <a:endParaRPr b="0" lang="en-US" sz="14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2" descr="C:\Documents and Settings\JEAN-BERNARD\Mes documents\Mes images\PHOTOS COMPRESSEES\Construction_tour_eiffel juillet 1887.jpg"/>
          <p:cNvPicPr/>
          <p:nvPr/>
        </p:nvPicPr>
        <p:blipFill>
          <a:blip r:embed="rId1"/>
          <a:stretch/>
        </p:blipFill>
        <p:spPr>
          <a:xfrm>
            <a:off x="833400" y="388800"/>
            <a:ext cx="7477200" cy="6078600"/>
          </a:xfrm>
          <a:prstGeom prst="rect">
            <a:avLst/>
          </a:prstGeom>
          <a:ln w="0">
            <a:noFill/>
          </a:ln>
        </p:spPr>
      </p:pic>
      <p:sp>
        <p:nvSpPr>
          <p:cNvPr id="503" name="Comment 3"/>
          <p:cNvSpPr/>
          <p:nvPr/>
        </p:nvSpPr>
        <p:spPr>
          <a:xfrm>
            <a:off x="3703680" y="228600"/>
            <a:ext cx="1736640" cy="94644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El primer pilar surge de su cimiento. Julio de 1887</a:t>
            </a:r>
            <a:endParaRPr b="0" lang="en-US" sz="1400" spc="-1" strike="noStrike">
              <a:solidFill>
                <a:srgbClr val="000000"/>
              </a:solidFill>
              <a:latin typeface="Times New Roman"/>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C:\Documents and Settings\JEAN-BERNARD\Mes documents\Mes images\PHOTOS COMPRESSEES\decembre 1887.jpg"/>
          <p:cNvPicPr/>
          <p:nvPr/>
        </p:nvPicPr>
        <p:blipFill>
          <a:blip r:embed="rId1"/>
          <a:stretch/>
        </p:blipFill>
        <p:spPr>
          <a:xfrm>
            <a:off x="849240" y="426960"/>
            <a:ext cx="7443720" cy="6004080"/>
          </a:xfrm>
          <a:prstGeom prst="rect">
            <a:avLst/>
          </a:prstGeom>
          <a:ln w="0">
            <a:noFill/>
          </a:ln>
        </p:spPr>
      </p:pic>
      <p:sp>
        <p:nvSpPr>
          <p:cNvPr id="505" name="Comment 3"/>
          <p:cNvSpPr/>
          <p:nvPr/>
        </p:nvSpPr>
        <p:spPr>
          <a:xfrm>
            <a:off x="3780000" y="304920"/>
            <a:ext cx="1944360" cy="307080"/>
          </a:xfrm>
          <a:prstGeom prst="rect">
            <a:avLst/>
          </a:prstGeom>
          <a:solidFill>
            <a:srgbClr val="ff99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NashvilleSerial"/>
              </a:rPr>
              <a:t>Diciembre  de 1887</a:t>
            </a:r>
            <a:endParaRPr b="0" lang="en-US" sz="14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5:03:49Z</dcterms:created>
  <dc:creator>JEAN-BERNARD</dc:creator>
  <dc:description/>
  <dc:language>en-US</dc:language>
  <cp:lastModifiedBy>jullou</cp:lastModifiedBy>
  <dcterms:modified xsi:type="dcterms:W3CDTF">2012-06-15T10:27:33Z</dcterms:modified>
  <cp:revision>16</cp:revision>
  <dc:subject/>
  <dc:title>MONTAGE DE LA TOUR EIFFEL</dc:title>
</cp:coreProperties>
</file>