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Baden%20Powel%20-%20Se%20todos%20fossem%20iguais%20a%20voc%C3%A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420-9051-49F4-91FC-7AB9A0BE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A84-B6BC-45C2-9E7D-E320D31A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0F6-8146-4E9C-98E8-AC518E2A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FBA-1E06-48F0-BC7F-8D3EDE4A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BBE-9A63-4DB9-8FAE-8F09F442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63D-5C01-462D-BEC1-EAC3297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58B-E494-45C6-8F8A-C05018B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C38-4B14-47E6-AC15-EC13F4B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939-7F80-4035-8830-2B29D300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9DA-A074-4311-9445-5223188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769-06D3-4BA2-BCFD-DFD9838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A98-249A-4F68-AB20-CA7A2AC1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0FE2-B992-455F-8BFD-6F1DC976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aden%20Powel%20-%20Se%20todos%20fossem%20iguais%20a%20voc&#234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mailto:peque_semillitas-subscribe@gruposyahoo.com.ar" TargetMode="External"/><Relationship Id="rId4" Type="http://schemas.openxmlformats.org/officeDocument/2006/relationships/hyperlink" Target="http://peque-semillitas.blogspot.com/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peque-semillitas.blogspo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40000" y="1484280"/>
            <a:ext cx="474336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3399"/>
                </a:solidFill>
                <a:latin typeface="Impact"/>
              </a:rPr>
              <a:t>AMIGOS SON CAMINOS</a:t>
            </a:r>
            <a:endParaRPr b="0" lang="en-US" sz="4400" spc="1" strike="noStrike">
              <a:ln w="9360">
                <a:solidFill>
                  <a:srgbClr val="ffff99"/>
                </a:solidFill>
                <a:miter/>
              </a:ln>
              <a:solidFill>
                <a:srgbClr val="ff3399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82560" y="6553080"/>
            <a:ext cx="798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S UN BELLO MENSAJE y OBSERVA QUÉ HERMOSO TRABAJO HECHO CON LAS MA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Baden%20Powel%20-%20Se%20todos%20fossem%20iguais%20a%20voc%C3%A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Y siempre en momentos de dificultades,       es exactamente en esos momentos en que aparecen los verdaderos amigos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l tiempo que pasamos con amigos no es tiempo perdido, sino ga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56536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Amistad,</a:t>
            </a:r>
            <a:r>
              <a:rPr b="1" lang="pt-BR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am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4000" y="563400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y compañí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ff66"/>
                </a:solidFill>
                <a:latin typeface="Arial"/>
              </a:rPr>
              <a:t>respeto,</a:t>
            </a:r>
            <a:r>
              <a:rPr b="0" lang="pt-BR" sz="32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75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75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350028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Sin un amigo, perdemos mu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¡Nunca confundas un amigo con un conoci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53680" y="5373720"/>
            <a:ext cx="46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Verdana"/>
              </a:rPr>
              <a:t>¡Hay una gran difer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3800" y="1051200"/>
            <a:ext cx="7916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"Pequeñas Semillit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Boletín diario sobre temas de interés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y de reflexión personal con orientación crist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1) Puedes recibirlas diariamente en tu correo suscribiéndote gratis 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r.groups.yahoo.com/group/peque_semillitas/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que_semillitas-subscribe@gruposyahoo.com.ar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2) Puedes leerlas actualizadas diariamente en el blog de intern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eque-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llitas.blogspot.com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15772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iertos amigos son indispensables,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mo aquel caminito de tierra de los pueblos pequeñ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on transparentes y conf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189000"/>
            <a:ext cx="707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tros, acaban de llegar, son como caminos que sólo conocemos por el guía, y nos vamos aventurando, siempre vale la pena ca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45021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1413000"/>
            <a:ext cx="251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Hay amigos que nos recuerdan a aquellos caminos vecinales, que poco usamos, pero sabemos que están allá, siempre están en nuestra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0"/>
            <a:ext cx="772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ambién existen amigos que, infelizmente, nos recuerdan aquellos caminos maravillosos pero que engañan al conductor, pues están llenos de curvas de pelig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Y existen amigos que son aquellos caminos que desaparecieron, no existen más. Se fueron, pero quedaron impregnados en nuestra al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Arial"/>
              </a:rPr>
              <a:t>En un viaje de la vida, que puede ser larga o corta, Amigos son más que caminos, a veces son nuestro propio cam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20" y="0"/>
            <a:ext cx="46227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272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3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Deja a tus viejos amigos saber que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unca los olvidaste, y dile a los nuevos que nunca los olvidará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000" spc="-1" strike="noStrike">
                <a:solidFill>
                  <a:srgbClr val="ff33cc"/>
                </a:solidFill>
                <a:latin typeface="Arial"/>
              </a:rPr>
              <a:t>Recuerda, todos necesitamos de amigos. Hay momentos en nuestra vida en que nos sentiremos solos, pero si tienes amigos verdaderos nunca estarás s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4:54:09Z</dcterms:created>
  <dc:creator>Luisa</dc:creator>
  <dc:description/>
  <dc:language>en-US</dc:language>
  <cp:lastModifiedBy>Windows</cp:lastModifiedBy>
  <dcterms:modified xsi:type="dcterms:W3CDTF">2009-07-26T15:17:44Z</dcterms:modified>
  <cp:revision>16</cp:revision>
  <dc:subject/>
  <dc:title>Slide 1</dc:title>
</cp:coreProperties>
</file>