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Baden%20Powel%20-%20Se%20todos%20fossem%20iguais%20a%20voc%C3%A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9FB6-8848-4E7C-8E84-4137C50B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205E-AA01-4FC0-9504-439B78B4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AC3-7EC0-45A2-9980-B1371B52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56F-08B6-4AD2-9C5A-CA8ED465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BCD-AFBE-4184-A55F-57C55EF4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563-E704-4966-BB24-F2F95E2A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41B-297D-468A-863C-FF8D1BA5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12E-05A2-473E-8E88-96A1DD86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57D-319B-4A93-AE28-6B0CDCA5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E6E4-9068-4DA1-AB88-5BF0E469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9D5-E91B-4100-B401-BB09C887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643-6472-4E39-A9ED-3AAE500B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7D61-18EB-49AB-91E6-8FCB31282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aden%20Powel%20-%20Se%20todos%20fossem%20iguais%20a%20voc&#234;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ar.groups.yahoo.com/group/peque_semillitas/" TargetMode="External"/><Relationship Id="rId3" Type="http://schemas.openxmlformats.org/officeDocument/2006/relationships/hyperlink" Target="mailto:peque_semillitas-subscribe@gruposyahoo.com.ar" TargetMode="External"/><Relationship Id="rId4" Type="http://schemas.openxmlformats.org/officeDocument/2006/relationships/hyperlink" Target="http://peque-semillitas.blogspot.com/" TargetMode="External"/><Relationship Id="rId5" Type="http://schemas.openxmlformats.org/officeDocument/2006/relationships/hyperlink" Target="http://peque-semillitas.blogspot.com/" TargetMode="External"/><Relationship Id="rId6" Type="http://schemas.openxmlformats.org/officeDocument/2006/relationships/hyperlink" Target="http://peque-semillitas.blogspot.co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340000" y="1484280"/>
            <a:ext cx="474336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3399"/>
                </a:solidFill>
                <a:latin typeface="Impact"/>
              </a:rPr>
              <a:t>AMIGOS SON CAMINOS</a:t>
            </a:r>
            <a:endParaRPr b="0" lang="en-US" sz="4400" spc="1" strike="noStrike">
              <a:ln w="9360">
                <a:solidFill>
                  <a:srgbClr val="ffff99"/>
                </a:solidFill>
                <a:miter/>
              </a:ln>
              <a:solidFill>
                <a:srgbClr val="ff3399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682560" y="6553080"/>
            <a:ext cx="798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S UN BELLO MENSAJE y OBSERVA QUÉ HERMOSO TRABAJO HECHO CON LAS MA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Baden%20Powel%20-%20Se%20todos%20fossem%20iguais%20a%20voc%C3%A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08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Y siempre en momentos de dificultades,       es exactamente en esos momentos en que aparecen los verdaderos amigos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El tiempo que pasamos con amigos no es tiempo perdido, sino ga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256536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ff66"/>
                </a:solidFill>
                <a:latin typeface="Arial"/>
              </a:rPr>
              <a:t>Amistad,</a:t>
            </a:r>
            <a:r>
              <a:rPr b="1" lang="pt-BR" sz="32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386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am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4000" y="5634000"/>
            <a:ext cx="24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ff66"/>
                </a:solidFill>
                <a:latin typeface="Arial"/>
              </a:rPr>
              <a:t>y compañí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084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ff66"/>
                </a:solidFill>
                <a:latin typeface="Arial"/>
              </a:rPr>
              <a:t>respeto,</a:t>
            </a:r>
            <a:r>
              <a:rPr b="0" lang="pt-BR" sz="32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75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75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3500280"/>
            <a:ext cx="87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Sin un amigo, perdemos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¡Nunca confundas un amigo con un conoci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53680" y="5373720"/>
            <a:ext cx="46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Verdana"/>
              </a:rPr>
              <a:t>¡Hay una gran diferenc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3800" y="1051200"/>
            <a:ext cx="7916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"Pequeñas Semillita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Boletín diario sobre temas de interés gen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y de reflexión personal con orientación cristi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00"/>
                </a:solidFill>
                <a:latin typeface="Arial"/>
              </a:rPr>
              <a:t>1) Puedes recibirlas diariamente en tu correo suscribiéndote gratis 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r.groups.yahoo.com/group/peque_semillitas/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eque_semillitas-subscribe@gruposyahoo.com.ar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00"/>
                </a:solidFill>
                <a:latin typeface="Arial"/>
              </a:rPr>
              <a:t>2) Puedes leerlas actualizadas diariamente en el blog de interne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peque-</a:t>
            </a:r>
            <a:r>
              <a:rPr b="0" lang="es-VE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emillitas.blogspot.com</a:t>
            </a:r>
            <a:r>
              <a:rPr b="0" lang="es-VE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1" lang="es-VE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7640" y="515772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Ciertos amigos son indispensables,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como aquel caminito de tierra de los pueblos pequeñ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son transparentes y conf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08000" y="189000"/>
            <a:ext cx="707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tros, acaban de llegar, son como caminos que sólo conocemos por el guía, y nos vamos aventurando, siempre vale la pena camin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450216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76720" y="1413000"/>
            <a:ext cx="2519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Hay amigos que nos recuerdan a aquellos caminos vecinales, que poco usamos, pero sabemos que están allá, siempre están en nuestra memo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55640" y="0"/>
            <a:ext cx="772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ambién existen amigos que, infelizmente, nos recuerdan aquellos caminos maravillosos pero que engañan al conductor, pues están llenos de curvas de pelig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8900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Y existen amigos que son aquellos caminos que desaparecieron, no existen más. Se fueron, pero quedaron impregnados en nuestra al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8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00"/>
                </a:solidFill>
                <a:latin typeface="Arial"/>
              </a:rPr>
              <a:t>En un viaje de la vida, que puede ser larga o corta, Amigos son más que caminos, a veces son nuestro propio cam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20" y="0"/>
            <a:ext cx="462276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92720" y="465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73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Deja a tus viejos amigos saber que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nunca los olvidaste, y dile a los nuevos que nunca los olvidarás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t-BR" sz="2000" spc="-1" strike="noStrike">
                <a:solidFill>
                  <a:srgbClr val="ff33cc"/>
                </a:solidFill>
                <a:latin typeface="Arial"/>
              </a:rPr>
              <a:t>Recuerda, todos necesitamos de amigos. Hay momentos en nuestra vida en que nos sentiremos solos, pero si tienes amigos verdaderos nunca estarás so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4:54:09Z</dcterms:created>
  <dc:creator>Luisa</dc:creator>
  <dc:description/>
  <dc:language>en-US</dc:language>
  <cp:lastModifiedBy>Windows</cp:lastModifiedBy>
  <dcterms:modified xsi:type="dcterms:W3CDTF">2009-07-26T15:17:44Z</dcterms:modified>
  <cp:revision>16</cp:revision>
  <dc:subject/>
  <dc:title>Slide 1</dc:title>
</cp:coreProperties>
</file>