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layderman-Reveri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431EB-5AB3-4C84-8B33-770CBD8A9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74FF-DFED-441F-8039-63387AE81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496CD-8C0F-445B-B010-DAA57DE0C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4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5BAF3-0F8D-493A-A80A-825029310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E0F06-8EAD-4D9C-BDE9-C316A02F9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CAEA0-F1F5-4094-87A3-D2E9DFABD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949E0-6EAC-4C9C-ABD7-460E3F572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98528-642E-4746-BB7A-858B2176F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AEE75-EED3-4B5E-966E-902B3D9A2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87666-06E9-408C-9073-DE0787569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33862-1F3D-43F3-AB88-BE0E5BD40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A2BA5-195D-4848-A568-14AD4A66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5EB72-18EC-423F-9E9D-FFF42EF2D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0119F-3E65-40A3-9B78-C76D89664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AF358-DB61-4A3E-B7EB-7A3589008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BAC1B-191B-4256-9011-0AC3A0689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9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B65A9-6DB4-481F-92E2-9EB34EC3A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78F9-DC83-48C8-89BB-DED54F18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3819D-FD4B-41DE-9063-DB24C25FF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016B-AAFA-44EE-99B9-7F08AFB3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5900-EFEE-48E2-82D8-EFC8CE32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4DED-872D-4B02-A084-FF1B0C74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76FD-57DD-47E5-B5BD-629A747F5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6FF7-ED10-4C39-BB81-B24AFB41B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C205-CF3B-46BF-A7C9-99DC0DDD1B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90A6-7928-4E7D-8ABA-0B5A0B391A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layderman-Reveries.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fundacionsalud.org.ar/"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t>
            </a:r>
            <a:r>
              <a:rPr b="1" i="1" lang="en-US" sz="4800" spc="-1" strike="noStrike" u="sng">
                <a:solidFill>
                  <a:srgbClr val="ff0000"/>
                </a:solidFill>
                <a:uFillTx/>
                <a:latin typeface="Times New Roman"/>
              </a:rPr>
              <a:t>Hay emociones que pueden matarte</a:t>
            </a:r>
            <a:r>
              <a:rPr b="1" lang="en-US" sz="4800" spc="-1" strike="noStrike" u="sng">
                <a:solidFill>
                  <a:srgbClr val="ff0000"/>
                </a:solidFill>
                <a:uFillTx/>
                <a:latin typeface="Times New Roman"/>
              </a:rPr>
              <a:t>"</a:t>
            </a:r>
            <a:r>
              <a:rPr b="0" lang="en-US" sz="4800" spc="-1" strike="noStrike">
                <a:solidFill>
                  <a:srgbClr val="330033"/>
                </a:solidFill>
                <a:latin typeface="Times New Roman"/>
              </a:rPr>
              <a:t>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ntrevista a: Stella Maris Maruso, terapeuta que aplica la psiconeuroendocrinoinmunologí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De un día para otro? </a:t>
            </a:r>
            <a:br>
              <a:rPr sz="2800"/>
            </a:br>
            <a:r>
              <a:rPr b="1" lang="en-US" sz="2800" spc="-1" strike="noStrike">
                <a:solidFill>
                  <a:srgbClr val="000000"/>
                </a:solidFill>
                <a:latin typeface="Arial"/>
              </a:rPr>
              <a:t>La salud no es un estado: es un proceso, y muy dinámico. ¡Por tanto, siempre puedes reforzar tu salud si trabajas tus emociones!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3760"/>
            <a:ext cx="77724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115" name="PlaceHolder 2"/>
          <p:cNvSpPr>
            <a:spLocks noGrp="1"/>
          </p:cNvSpPr>
          <p:nvPr>
            <p:ph/>
          </p:nvPr>
        </p:nvSpPr>
        <p:spPr>
          <a:xfrm>
            <a:off x="914400" y="404640"/>
            <a:ext cx="7772400" cy="572616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as trabaja usted con sus pacientes? </a:t>
            </a:r>
            <a:br>
              <a:rPr sz="2800"/>
            </a:br>
            <a:r>
              <a:rPr b="1" lang="en-US" sz="2800" spc="-1" strike="noStrike">
                <a:solidFill>
                  <a:srgbClr val="0066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í. Hay pacientes ordinarios, sumisos a creencias establecidas, y pacientes extraordinarios, que generan creencias sanadoras.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reer que puedes curarte... ¿puede curarte? </a:t>
            </a:r>
            <a:br>
              <a:rPr sz="2400"/>
            </a:br>
            <a:r>
              <a:rPr b="1" lang="en-US" sz="2400" spc="-1" strike="noStrike">
                <a:solidFill>
                  <a:srgbClr val="000000"/>
                </a:solidFill>
                <a:latin typeface="Arial"/>
              </a:rPr>
              <a:t>Hay un viejo experimento famoso: a cuarenta mujeres con cáncer de mama, el médico les contó que la quimioterapia las dejaría calvas. Luego, sólo suministró quimioterapia a veinte mujeres y dejó que las otra veinte creyesen recibirla... </a:t>
            </a:r>
            <a:br>
              <a:rPr sz="2400"/>
            </a:b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Arial"/>
              </a:rPr>
              <a:t>Y no me diga que... </a:t>
            </a:r>
            <a:br>
              <a:rPr sz="2800"/>
            </a:br>
            <a:r>
              <a:rPr b="1" lang="es-CL" sz="2800" spc="-1" strike="noStrike">
                <a:solidFill>
                  <a:srgbClr val="0066ff"/>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í, sí: el 60% de las segundas quedaron tan calvas como las tratadas con quimioterapia. ¿Qué modificó la bioquímica interna de esas mujeres? ¡Sus propias creencias! </a:t>
            </a:r>
            <a:br>
              <a:rPr sz="2800"/>
            </a:br>
            <a:br>
              <a:rPr sz="2800"/>
            </a:br>
            <a:r>
              <a:rPr b="1"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ducidas por el médico. </a:t>
            </a:r>
            <a:br>
              <a:rPr sz="2800"/>
            </a:br>
            <a:r>
              <a:rPr b="1" lang="en-US" sz="2800" spc="-1" strike="noStrike">
                <a:solidFill>
                  <a:srgbClr val="000000"/>
                </a:solidFill>
                <a:latin typeface="Arial"/>
              </a:rPr>
              <a:t>Lo que demuestra el enorme poder del médico. ¡El médico puede estimular con su actitud la capacidad autocurativa del paciente! Un hijo mío es médico: a él y a todos los médicos les ruego que jamás le digan a un paciente que su condición biológica es irreversible. Ese es el único pecado médico.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s hay diagnósticos que desahucian.</a:t>
            </a:r>
            <a:br>
              <a:rPr sz="2800"/>
            </a:br>
            <a:r>
              <a:rPr b="1" lang="en-US" sz="2800" spc="-1" strike="noStrike">
                <a:solidFill>
                  <a:srgbClr val="000000"/>
                </a:solidFill>
                <a:latin typeface="Arial"/>
              </a:rPr>
              <a:t>Son condenas: matan más que el tumor. Acepta el diagnóstico que sea, ¡pero jamás aceptes un pronóstico! Jamás: si abandonas la esperanza de mejorar, de luchar por tu propia salud..., activas el suicidio endógeno.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Pero sembrar falsas esperanzas... </a:t>
            </a:r>
            <a:br>
              <a:rPr sz="2800"/>
            </a:br>
            <a:r>
              <a:rPr b="1" lang="en-US" sz="2800" spc="-1" strike="noStrike">
                <a:solidFill>
                  <a:srgbClr val="000000"/>
                </a:solidFill>
                <a:latin typeface="Arial"/>
              </a:rPr>
              <a:t>¿Falsas? A mi padre le pronosticó el médico tres meses de vida por un diagnóstico de cáncer de próstata diseminado al hígado. Trabajamos juntos con amor, relajación, meditación, nutrición... y al año no tenía células cancerosas. Vivió 18 años más.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Qué dijo su médico? </a:t>
            </a:r>
            <a:br>
              <a:rPr sz="2800"/>
            </a:br>
            <a:r>
              <a:rPr b="1" lang="en-US" sz="2800" spc="-1" strike="noStrike">
                <a:solidFill>
                  <a:srgbClr val="000000"/>
                </a:solidFill>
                <a:latin typeface="Arial"/>
              </a:rPr>
              <a:t>"Milagro", dijo. Remisión espontánea. Desde ese día cerré mi empresa y me volqué a ayudar a otros como a mi padre. Y yo hoy vivo en la frontera del milagro: la remisión es un efecto colateral en enfermos que han abrazado las fuerzas de la salud, la vida.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ómo han dado ese abrazo? </a:t>
            </a:r>
            <a:br>
              <a:rPr sz="2800"/>
            </a:br>
            <a:r>
              <a:rPr b="1" lang="en-US" sz="2800" spc="-1" strike="noStrike">
                <a:solidFill>
                  <a:srgbClr val="000000"/>
                </a:solidFill>
                <a:latin typeface="Arial"/>
              </a:rPr>
              <a:t>Sintiendo que la enfermedad enriquece su vida y que morir no es un castigo, ampliando el círculo de lo que les importa y poniéndose al servicio con amor por la vida que nos traspasa, escapando de su cabeza y empezando a sentir: a reír, a llorar... Se han permitido asombrarse y han experimentado estados de trascendenci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Qué entiende por trascendencia? </a:t>
            </a:r>
            <a:br>
              <a:rPr sz="2800"/>
            </a:br>
            <a:r>
              <a:rPr b="1" lang="en-US" sz="2800" spc="-1" strike="noStrike">
                <a:solidFill>
                  <a:srgbClr val="000000"/>
                </a:solidFill>
                <a:latin typeface="Arial"/>
              </a:rPr>
              <a:t>Liberarte de tu historia pasada y del temor por la futura. La meditación ayuda mucho. Y eso cambia tu bioquímica: estás sano, ¡vives! Por el tiempo que sea, estás viv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100720" y="-3302280"/>
            <a:ext cx="576360" cy="77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914400" y="620640"/>
            <a:ext cx="7772400" cy="551016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El cáncer de su padre le enseñó cómo ayudar a miles de pacientes desde su Fundación Salud (</a:t>
            </a:r>
            <a:r>
              <a:rPr b="0" lang="es-CL" sz="2400" spc="-1" strike="noStrike" u="sng">
                <a:solidFill>
                  <a:srgbClr val="990033"/>
                </a:solidFill>
                <a:uFillTx/>
                <a:latin typeface="Arial"/>
                <a:hlinkClick r:id="rId1"/>
              </a:rPr>
              <a:t>www.fundacionsalud.org.ar</a:t>
            </a:r>
            <a:r>
              <a:rPr b="1" i="1" lang="es-CL" sz="2400" spc="-1" strike="noStrike">
                <a:solidFill>
                  <a:srgbClr val="000000"/>
                </a:solidFill>
                <a:latin typeface="Arial"/>
              </a:rPr>
              <a:t>), en Argentina, avalada por científicos de primera fila que la invitan a la facultad de Medicina de la Universidad de Harvard a participar en seminarios de curación espiritual (sic): por aquí aún no nos suena, pero ella me asegura que será el nuevo paradigma médico, en el que el paciente dejará de ser visto como una máquina estropeada que tenga que ser reparada o desahuciada. Esta señora entusiasta me enseña que todo lo que como, pienso y siento va tejiendo mi salud, y que puedo aprender a tejer.</a:t>
            </a:r>
            <a:r>
              <a:rPr b="1" lang="es-CL" sz="2400" spc="-1" strike="noStrike">
                <a:solidFill>
                  <a:srgbClr val="000000"/>
                </a:solidFill>
                <a:latin typeface="Arial"/>
              </a:rPr>
              <a:t> Si este mensaje puede servir a otros, por favor compárte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uchas gracias. Qué disfrutes de este día!!!</a:t>
            </a:r>
            <a:br>
              <a:rPr sz="2400"/>
            </a:br>
            <a:r>
              <a:rPr b="1"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620640"/>
            <a:ext cx="7772400" cy="5510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Arial"/>
              </a:rPr>
              <a:t>Entrevista a: Stella Maris Maruso, terapeuta que aplica la psiconeuroendocrinoinmunologí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Tengo 55 años. Nací en Buenos Aires, donde vivo. Educo a personas que atraviesan crisis severas. Estoy casada y he criado cuatro hijos. ¿Política? Ayudar a los demás a vivir hasta el último instante. ¿Dios? No soy religiosa, soy espiritual: experimentar la trascendencia me s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33"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66ff"/>
                </a:solidFill>
                <a:latin typeface="Imprint MT Shadow"/>
              </a:rPr>
              <a:t>"Con los ojos abiertos, ves.</a:t>
            </a:r>
            <a:r>
              <a:rPr b="1" lang="es-CL" sz="2800" spc="-1" strike="noStrike">
                <a:solidFill>
                  <a:srgbClr val="0066ff"/>
                </a:solidFill>
                <a:latin typeface="Imprint MT Shadow"/>
              </a:rPr>
              <a:t>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Imprint MT Shadow"/>
              </a:rPr>
              <a:t>C</a:t>
            </a:r>
            <a:r>
              <a:rPr b="1" i="1" lang="es-CL" sz="2800" spc="-1" strike="noStrike">
                <a:solidFill>
                  <a:srgbClr val="0066ff"/>
                </a:solidFill>
                <a:latin typeface="Imprint MT Shadow"/>
              </a:rPr>
              <a:t>on los ojos cerrados, sabé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Imprint MT Shadow"/>
              </a:rPr>
              <a:t> </a:t>
            </a: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66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uántos pacientes?</a:t>
            </a:r>
            <a:r>
              <a:rPr b="1" lang="en-US" sz="2800" spc="-1" strike="noStrike">
                <a:solidFill>
                  <a:srgbClr val="000000"/>
                </a:solidFill>
                <a:latin typeface="Arial"/>
              </a:rPr>
              <a:t> </a:t>
            </a:r>
            <a:br>
              <a:rPr sz="2800"/>
            </a:br>
            <a:r>
              <a:rPr b="1" lang="en-US" sz="2800" spc="-1" strike="noStrike">
                <a:solidFill>
                  <a:srgbClr val="000000"/>
                </a:solidFill>
                <a:latin typeface="Arial"/>
              </a:rPr>
              <a:t>Casi 30.000 en los últimos 30 años, con enfermedades de todo tipo, cánceres... </a:t>
            </a:r>
            <a:br>
              <a:rPr sz="2800"/>
            </a:br>
            <a:br>
              <a:rPr sz="2800"/>
            </a:br>
            <a:r>
              <a:rPr b="1" lang="en-US" sz="2800" spc="-1" strike="noStrike">
                <a:solidFill>
                  <a:srgbClr val="0066ff"/>
                </a:solidFill>
                <a:latin typeface="Arial"/>
              </a:rPr>
              <a:t>¿Cómo los ayuda? </a:t>
            </a:r>
            <a:br>
              <a:rPr sz="2800"/>
            </a:br>
            <a:r>
              <a:rPr b="1" lang="en-US" sz="2800" spc="-1" strike="noStrike">
                <a:solidFill>
                  <a:srgbClr val="000000"/>
                </a:solidFill>
                <a:latin typeface="Arial"/>
              </a:rPr>
              <a:t>No tratando de no morir, sino de vivir hasta morir. De morir bi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Qué es morir bien? </a:t>
            </a:r>
            <a:br>
              <a:rPr sz="2800"/>
            </a:br>
            <a:r>
              <a:rPr b="1" lang="en-US" sz="2800" spc="-1" strike="noStrike">
                <a:solidFill>
                  <a:srgbClr val="000000"/>
                </a:solidFill>
                <a:latin typeface="Arial"/>
              </a:rPr>
              <a:t>Vivir hasta el último instante con plenitud, intensamente. Vivir más no es más tiempo, sino sentirte alegre por estar aquí y ahora. </a:t>
            </a:r>
            <a:br>
              <a:rPr sz="2800"/>
            </a:br>
            <a:br>
              <a:rPr sz="2800"/>
            </a:br>
            <a:r>
              <a:rPr b="1" lang="en-US" sz="2800" spc="-1" strike="noStrike">
                <a:solidFill>
                  <a:srgbClr val="0066ff"/>
                </a:solidFill>
                <a:latin typeface="Arial"/>
              </a:rPr>
              <a:t>¿Acaso no vivían antes de enfermarse? </a:t>
            </a:r>
            <a:br>
              <a:rPr sz="2800"/>
            </a:br>
            <a:r>
              <a:rPr b="1" lang="en-US" sz="2800" spc="-1" strike="noStrike">
                <a:solidFill>
                  <a:srgbClr val="000000"/>
                </a:solidFill>
                <a:latin typeface="Arial"/>
              </a:rPr>
              <a:t>¡Muchos agradecen que su cáncer les haya enseñado a ser felices, a vivir! La enfermedad es una oportunidad de enriquecers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jor que no llegue. </a:t>
            </a:r>
            <a:br>
              <a:rPr sz="2400"/>
            </a:br>
            <a:r>
              <a:rPr b="1" lang="en-US" sz="2400" spc="-1" strike="noStrike">
                <a:solidFill>
                  <a:srgbClr val="000000"/>
                </a:solidFill>
                <a:latin typeface="Arial"/>
              </a:rPr>
              <a:t>¡Pero llega! El dolor entra en todas las casas. ¡Y esto hay que saberlo! Deberíamos aprender desde niños que morir es parte de la vida, y a fortalecernos en cada contrariedad. </a:t>
            </a:r>
            <a:br>
              <a:rPr sz="2400"/>
            </a:br>
            <a:br>
              <a:rPr sz="2400"/>
            </a:br>
            <a:r>
              <a:rPr b="1" lang="en-US" sz="2400" spc="-1" strike="noStrike">
                <a:solidFill>
                  <a:srgbClr val="0066ff"/>
                </a:solidFill>
                <a:latin typeface="Arial"/>
              </a:rPr>
              <a:t>No nos lo enseñan, es verdad. </a:t>
            </a:r>
            <a:br>
              <a:rPr sz="2400"/>
            </a:br>
            <a:r>
              <a:rPr b="1" lang="en-US" sz="2400" spc="-1" strike="noStrike">
                <a:solidFill>
                  <a:srgbClr val="000000"/>
                </a:solidFill>
                <a:latin typeface="Arial"/>
              </a:rPr>
              <a:t>Al no aprender a dominar la mente, vivimos arrastrados por ella. Eso es malvivir. ¡La mente es demasiado loca para confiarle tu vida! Confíale tus negocios, ¡pero no tu vid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400" y="691920"/>
            <a:ext cx="7772400" cy="54385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r qué no? </a:t>
            </a:r>
            <a:br>
              <a:rPr sz="2400"/>
            </a:br>
            <a:r>
              <a:rPr b="1" lang="en-US" sz="2400" spc="-1" strike="noStrike">
                <a:solidFill>
                  <a:srgbClr val="0066ff"/>
                </a:solidFill>
                <a:latin typeface="Arial"/>
              </a:rPr>
              <a: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ente va de excitación en excitación, te impide gozar la vida. Los médicos dicen que padecemos "síndrome de déficit de deleite": ¡no sabemos gozar de lo que nos da la vida!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Yo lo procuro. </a:t>
            </a:r>
            <a:br>
              <a:rPr sz="2400"/>
            </a:br>
            <a:r>
              <a:rPr b="1" lang="en-US" sz="2400" spc="-1" strike="noStrike">
                <a:solidFill>
                  <a:srgbClr val="000000"/>
                </a:solidFill>
                <a:latin typeface="Arial"/>
              </a:rPr>
              <a:t>Un 10% es lo que te pasa y un 90% es lo que haces con lo que te pasa. </a:t>
            </a:r>
            <a:br>
              <a:rPr sz="2400"/>
            </a:br>
            <a:r>
              <a:rPr b="1" lang="en-US" sz="2400" spc="-1" strike="noStrike">
                <a:solidFill>
                  <a:srgbClr val="000000"/>
                </a:solidFill>
                <a:latin typeface="Arial"/>
              </a:rPr>
              <a:t>Cuestión de actitud. ¿Cuál es la mejor?</a:t>
            </a:r>
            <a:br>
              <a:rPr sz="2400"/>
            </a:br>
            <a:r>
              <a:rPr b="1" lang="en-US" sz="2400" spc="-1" strike="noStrike">
                <a:solidFill>
                  <a:srgbClr val="000000"/>
                </a:solidFill>
                <a:latin typeface="Arial"/>
              </a:rPr>
              <a:t>Sentir pasión ante la incertidumbre de la vida, ante lo que sea que vaya a traert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400" y="691920"/>
            <a:ext cx="7772400" cy="5438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Arial"/>
              </a:rPr>
              <a:t>¿Sea lo que sea? </a:t>
            </a:r>
            <a:br>
              <a:rPr sz="2400"/>
            </a:br>
            <a:r>
              <a:rPr b="1" lang="es-CL" sz="2400" spc="-1" strike="noStrike">
                <a:solidFill>
                  <a:srgbClr val="000000"/>
                </a:solidFill>
                <a:latin typeface="Arial"/>
              </a:rPr>
              <a:t>Sí. Los psiquiatras detectan que hoy padecemos de neurosis noógena: falta de responsabilidad y sentido de la propia existencia. </a:t>
            </a:r>
            <a:br>
              <a:rPr sz="2400"/>
            </a:br>
            <a:br>
              <a:rPr sz="2400"/>
            </a:br>
            <a:r>
              <a:rPr b="1" lang="es-CL" sz="2400" spc="-1" strike="noStrike">
                <a:solidFill>
                  <a:srgbClr val="0066ff"/>
                </a:solidFill>
                <a:latin typeface="Arial"/>
              </a:rPr>
              <a:t>Pues sí que andamos mal. </a:t>
            </a:r>
            <a:br>
              <a:rPr sz="2400"/>
            </a:br>
            <a:r>
              <a:rPr b="1" lang="es-CL" sz="2400" spc="-1" strike="noStrike">
                <a:solidFill>
                  <a:srgbClr val="000000"/>
                </a:solidFill>
                <a:latin typeface="Arial"/>
              </a:rPr>
              <a:t>Sí, pero la ciencia vanguardista trae buenas noticias: acudiendo a tu interior puedes obtener todo lo que necesites, producir endógenamente todas las drogas analgésicas, euforizantes... ¡Puedes aprender a sanarte! </a:t>
            </a:r>
            <a:br>
              <a:rPr sz="2400"/>
            </a:br>
            <a:br>
              <a:rPr sz="2000"/>
            </a:br>
            <a:r>
              <a:rPr b="1"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Arial"/>
              </a:rPr>
              <a:t>¿Y prescindir de la medicina? </a:t>
            </a:r>
            <a:br>
              <a:rPr sz="2400"/>
            </a:br>
            <a:r>
              <a:rPr b="1" lang="es-CL" sz="2400" spc="-1" strike="noStrike">
                <a:solidFill>
                  <a:srgbClr val="000000"/>
                </a:solidFill>
                <a:latin typeface="Arial"/>
              </a:rPr>
              <a:t>Hablo de la tercera revolución de la medicina: después de la cirugía y los antibióticos, llega la psiconeuroendocrinoinmunología. </a:t>
            </a:r>
            <a:br>
              <a:rPr sz="2400"/>
            </a:br>
            <a:br>
              <a:rPr sz="2400"/>
            </a:br>
            <a:r>
              <a:rPr b="1" lang="es-CL" sz="2400" spc="-1" strike="noStrike">
                <a:solidFill>
                  <a:srgbClr val="0066ff"/>
                </a:solidFill>
                <a:latin typeface="Arial"/>
              </a:rPr>
              <a:t>A ver si me cabe la palabra en una línea.</a:t>
            </a:r>
            <a:br>
              <a:rPr sz="2400"/>
            </a:br>
            <a:r>
              <a:rPr b="1" lang="es-CL" sz="2400" spc="-1" strike="noStrike">
                <a:solidFill>
                  <a:srgbClr val="000000"/>
                </a:solidFill>
                <a:latin typeface="Arial"/>
              </a:rPr>
              <a:t>Es la disciplina que integra psiquismo y biología, tras treinta años de investigaciones de sabios como Carl Simonson, Robert Ader, Stanley Krippner...</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ué postulan? </a:t>
            </a:r>
            <a:br>
              <a:rPr sz="2400"/>
            </a:br>
            <a:r>
              <a:rPr b="1" lang="en-US" sz="2400" spc="-1" strike="noStrike">
                <a:solidFill>
                  <a:srgbClr val="000000"/>
                </a:solidFill>
                <a:latin typeface="Arial"/>
              </a:rPr>
              <a:t>La interconexión del sistema nervioso central, el nervioso periférico, el endocrino y el inmunológico. Te lo resumo: ¡las emociones modifican tu capacidad inmunológica! </a:t>
            </a:r>
            <a:br>
              <a:rPr sz="2400"/>
            </a:br>
            <a:br>
              <a:rPr sz="2400"/>
            </a:br>
            <a:r>
              <a:rPr b="1" lang="en-US" sz="2400" spc="-1" strike="noStrike">
                <a:solidFill>
                  <a:srgbClr val="0066ff"/>
                </a:solidFill>
                <a:latin typeface="Arial"/>
              </a:rPr>
              <a:t>¿O sea que una emoción puede enfermarme?</a:t>
            </a:r>
            <a:br>
              <a:rPr sz="2400"/>
            </a:br>
            <a:r>
              <a:rPr b="1" lang="en-US" sz="2400" spc="-1" strike="noStrike">
                <a:solidFill>
                  <a:srgbClr val="000000"/>
                </a:solidFill>
                <a:latin typeface="Arial"/>
              </a:rPr>
              <a:t>La angustia ante lo incierto, el miedo, la desesperanza, el remordimiento, la rabia... ¡Cada una tiene su bioquímica! Y es venenosa, es depresora del sistema inmunológico.</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2:27:26Z</dcterms:created>
  <dc:creator>Carmen</dc:creator>
  <dc:description/>
  <dc:language>en-US</dc:language>
  <cp:lastModifiedBy>Carmen</cp:lastModifiedBy>
  <dcterms:modified xsi:type="dcterms:W3CDTF">2011-05-31T22:54:35Z</dcterms:modified>
  <cp:revision>3</cp:revision>
  <dc:subject/>
  <dc:title>"Hay emociones que pueden matarte" </dc:title>
</cp:coreProperties>
</file>