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7.jpeg" ContentType="image/jpeg"/>
  <Override PartName="/ppt/media/image3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43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01%20Maitechu%20Mia%20-%20Mocedades%20y%20Placido%20Domingo.wav" ContentType="audio/x-wav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9A3C-41D3-4E1E-92A9-F1757544C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2987-D2C1-4B6E-8652-F5163E5DE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A7F2-15FB-4020-A207-1848FDE71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94F4-836F-4A44-AEEE-8380983F7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9D42-6C15-4E7F-8C70-990CC7244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E353-D8B5-4714-93EA-78E12C38F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85BC-1857-4552-BC0D-AF621EF25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9BAB-D386-40B3-82CC-A681D9DE8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6594-983D-4ABD-8357-9C3CF3ED3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A986-253C-44F4-B7B9-A374A263A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90A3-E427-493D-A8A1-D25217B9E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83CC-86FC-4DF8-BB6E-17EE6693C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863EA76-6BF0-4DD8-805E-134B0AE13311}" type="slidenum">
              <a:rPr b="0" lang="en-GB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01%20Maitechu%20Mia%20-%20Mocedades%20y%20Placido%20Domingo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84360" y="1989000"/>
            <a:ext cx="7704000" cy="184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ecff"/>
                    </a:gs>
                    <a:gs pos="100000">
                      <a:srgbClr val="336699"/>
                    </a:gs>
                  </a:gsLst>
                  <a:lin ang="5400000"/>
                </a:gradFill>
                <a:latin typeface="Snap ITC"/>
              </a:rPr>
              <a:t>CANTÁBRICO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ecff"/>
                  </a:gs>
                  <a:gs pos="100000">
                    <a:srgbClr val="336699"/>
                  </a:gs>
                </a:gsLst>
                <a:lin ang="5400000"/>
              </a:gradFill>
              <a:latin typeface="Snap ITC"/>
              <a:ea typeface="Snap ITC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547640" y="-1179360"/>
            <a:ext cx="504036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8000" spc="1" strike="noStrike">
                <a:ln w="12600">
                  <a:solidFill>
                    <a:srgbClr val="3333cc"/>
                  </a:solidFill>
                  <a:miter/>
                </a:ln>
                <a:gradFill rotWithShape="0">
                  <a:gsLst>
                    <a:gs pos="0">
                      <a:srgbClr val="66ccff"/>
                    </a:gs>
                    <a:gs pos="100000">
                      <a:srgbClr val="ccec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Snap ITC"/>
              </a:rPr>
              <a:t>TEMPORAL EN EL</a:t>
            </a:r>
            <a:endParaRPr b="1" lang="en-US" sz="8000" spc="1" strike="noStrike">
              <a:ln w="12600">
                <a:solidFill>
                  <a:srgbClr val="3333cc"/>
                </a:solidFill>
                <a:miter/>
              </a:ln>
              <a:gradFill rotWithShape="0">
                <a:gsLst>
                  <a:gs pos="0">
                    <a:srgbClr val="66ccff"/>
                  </a:gs>
                  <a:gs pos="100000">
                    <a:srgbClr val="ccecff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Snap ITC"/>
              <a:ea typeface="Snap ITC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3492360" y="5373720"/>
            <a:ext cx="1962360" cy="3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ecff"/>
                    </a:gs>
                    <a:gs pos="100000">
                      <a:srgbClr val="336699"/>
                    </a:gs>
                  </a:gsLst>
                  <a:lin ang="5400000"/>
                </a:gradFill>
                <a:latin typeface="Snap ITC"/>
              </a:rPr>
              <a:t>NO CLIQUES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ecff"/>
                  </a:gs>
                  <a:gs pos="100000">
                    <a:srgbClr val="336699"/>
                  </a:gs>
                </a:gsLst>
                <a:lin ang="5400000"/>
              </a:gradFill>
              <a:latin typeface="Snap ITC"/>
              <a:ea typeface="Snap ITC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79280" y="6165720"/>
            <a:ext cx="4019760" cy="5526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ecff"/>
                    </a:gs>
                    <a:gs pos="100000">
                      <a:srgbClr val="336699"/>
                    </a:gs>
                  </a:gsLst>
                  <a:lin ang="5400000"/>
                </a:gradFill>
                <a:latin typeface="Comic Sans MS"/>
              </a:rPr>
              <a:t>MÚSICA: Plácido DOMINGO &amp; Mocedades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ecff"/>
                  </a:gs>
                  <a:gs pos="100000">
                    <a:srgbClr val="336699"/>
                  </a:gs>
                </a:gsLst>
                <a:lin ang="5400000"/>
              </a:gradFill>
              <a:latin typeface="Comic Sans MS"/>
              <a:ea typeface="Comic Sans MS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ecff"/>
                    </a:gs>
                    <a:gs pos="100000">
                      <a:srgbClr val="336699"/>
                    </a:gs>
                  </a:gsLst>
                  <a:lin ang="5400000"/>
                </a:gradFill>
                <a:latin typeface="Comic Sans MS"/>
              </a:rPr>
              <a:t>Maitetxu mía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ecff"/>
                  </a:gs>
                  <a:gs pos="100000">
                    <a:srgbClr val="336699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path" presetID="5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256 0.14814 C -0.02343 0.17222 0.03421 0.19328 0.10695 0.19421 C 0.16459 0.19629 0.21181 0.18472 0.21285 0.17014 C 0.21285 0.15578 0.1665 0.14236 0.10799 0.14166 C 0.07848 0.14166 0.05209 0.14328 0.03334 0.14814 C 0.00591 0.15486 -0.01024 0.16551 -0.01024 0.17801 C -0.01024 0.18472 -0.00555 0.19143 0.00313 0.19722 C 0.02275 0.20972 0.06164 0.21828 0.10591 0.21921 C 0.15799 0.22129 0.20053 0.21064 0.20053 0.19814 C 0.20139 0.18472 0.15886 0.17314 0.10695 0.17129 C 0.08056 0.17129 0.05695 0.17314 0.03889 0.17708 C 0.01528 0.18379 0.00018 0.19421 0.00018 0.20486 C 0.00018 0.21064 0.00487 0.21643 0.01233 0.22222 C 0.03039 0.23264 0.06441 0.24143 0.10504 0.24213 C 0.15244 0.24328 0.19011 0.23379 0.19011 0.22222 C 0.19115 0.21064 0.15313 0.2 0.10591 0.19907 C 0.0823 0.19814 0.06059 0.2 0.04462 0.20393 C 0.02275 0.20972 0.01059 0.21828 0.01059 0.22893 C 0.01059 0.23379 0.01441 0.23935 0.02101 0.24421 C 0.03698 0.25393 0.06823 0.26157 0.10417 0.26226 C 0.14671 0.26226 0.18056 0.25463 0.18056 0.24421 C 0.18056 0.23379 0.14757 0.22407 0.10504 0.22314 C 0.08421 0.22314 0.06441 0.225 0.05035 0.22777 C 0.03039 0.23264 0.01893 0.24143 0.01823 0.25 C 0.01823 0.25463 0.02275 0.25949 0.02848 0.26342 C 0.04254 0.27314 0.07101 0.27963 0.10313 0.27963 C 0.14098 0.28078 0.17223 0.27407 0.17223 0.26435 C 0.17309 0.25463 0.14184 0.24629 0.10417 0.24514 C 0.08525 0.24514 0.06719 0.24629 0.05487 0.25 C 0.03698 0.25393 0.02674 0.26157 0.02674 0.26921 C 0.02674 0.27407 0.02952 0.27777 0.03507 0.28171 C 0.04827 0.29027 0.07292 0.29606 0.10209 0.29699 C 0.13716 0.29699 0.16459 0.2912 0.16459 0.28264 C 0.16546 0.27407 0.13803 0.2662 0.10313 0.26527 C 0.08612 0.26527 0.07101 0.2662 0.05973 0.26921 C 0.04358 0.27314 0.03421 0.27963 0.03421 0.28726 C 0.03421 0.2912 0.03698 0.29421 0.04184 0.29791 C 0.05313 0.30578 0.0757 0.31041 0.10209 0.31134 C 0.13334 0.31226 0.15799 0.30648 0.15799 0.29791 C 0.15799 0.2912 0.13438 0.28356 0.10313 0.28356 C 0.08716 0.28264 0.07292 0.28449 0.0625 0.28634 C 0.04827 0.29027 0.03976 0.29606 0.03976 0.30277 C 0.03976 0.30648 0.04254 0.30949 0.0474 0.31226 C 0.05782 0.31898 0.07848 0.32384 0.10139 0.32476 C 0.12952 0.32592 0.15244 0.32014 0.15244 0.31342 C 0.15244 0.30578 0.12952 0.29953 0.10209 0.29884 C 0.08907 0.29884 0.0757 0.29953 0.06615 0.30277 C 0.05313 0.30578 0.04549 0.31041 0.04549 0.31713 C 0.04549 0.32014 0.04827 0.32291 0.05209 0.32592 C 0.06164 0.33148 0.07952 0.33634 0.10139 0.33634 C 0.12587 0.33726 0.14671 0.3324 0.14671 0.32592 C 0.14671 0.32014 0.12674 0.31412 0.10139 0.31412 C 0.08994 0.31342 0.07778 0.31412 0.06928 0.3162 C 0.05782 0.32014 0.05122 0.32476 0.05122 0.32963 C 0.05122 0.3324 0.05313 0.33541 0.05695 0.33726 C 0.06546 0.34305 0.08143 0.34676 0.10139 0.34791 C 0.12396 0.34791 0.14184 0.34305 0.14184 0.33819 C 0.14184 0.3324 0.12396 0.32662 0.10139 0.32662 C 0.08994 0.32662 0.07952 0.32754 0.07292 0.32963 C 0.06164 0.33148 0.05591 0.33634 0.05591 0.3412 C 0.05591 0.34305 0.05782 0.34606 0.06059 0.34791 C 0.06823 0.3537 0.08334 0.35648 0.10035 0.35764 C 0.12119 0.35764 0.13716 0.3537 0.13716 0.34884 C 0.13716 0.34305 0.12119 0.33912 0.10139 0.33819 C 0.0908 0.33819 0.08143 0.33912 0.07483 0.3412 C 0.06546 0.34305 0.05973 0.34676 0.05973 0.35162 C 0.05973 0.3537 0.06164 0.35555 0.06441 0.35764 E">
                                      <p:cBhvr>
                                        <p:cTn id="6" dur="2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3000"/>
                            </p:stCondLst>
                            <p:childTnLst>
                              <p:par>
                                <p:cTn id="14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43275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0" y="5013360"/>
            <a:ext cx="91440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cc"/>
                </a:solidFill>
                <a:latin typeface="Snap ITC"/>
              </a:rPr>
              <a:t>San Sebastiá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185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0" y="6237360"/>
            <a:ext cx="24480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800" spc="-1" strike="noStrike">
                <a:solidFill>
                  <a:srgbClr val="ffffcc"/>
                </a:solidFill>
                <a:latin typeface="Snap ITC"/>
              </a:rPr>
              <a:t>San Sebastiá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836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79280" y="6021360"/>
            <a:ext cx="25923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cc"/>
                </a:solidFill>
                <a:latin typeface="Snap ITC"/>
              </a:rPr>
              <a:t>San Sebastiá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0" y="6381720"/>
            <a:ext cx="25923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cc"/>
                </a:solidFill>
                <a:latin typeface="Snap ITC"/>
              </a:rPr>
              <a:t>San Sebastiá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24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08000" y="189000"/>
            <a:ext cx="20890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cc"/>
                </a:solidFill>
                <a:latin typeface="Snap ITC"/>
              </a:rPr>
              <a:t>San Sebastiá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411280" y="0"/>
            <a:ext cx="456264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2411280" y="0"/>
            <a:ext cx="44643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cc"/>
                </a:solidFill>
                <a:latin typeface="Snap ITC"/>
              </a:rPr>
              <a:t>Isla de Mouro - Santand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897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5543640" y="5013360"/>
            <a:ext cx="36003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cc"/>
                </a:solidFill>
                <a:latin typeface="Snap ITC"/>
              </a:rPr>
              <a:t>Isla de Mouro-Santan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042920" y="5950080"/>
            <a:ext cx="24480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cc"/>
                </a:solidFill>
                <a:latin typeface="Snap ITC"/>
              </a:rPr>
              <a:t>San Sebastiá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268360" y="0"/>
            <a:ext cx="457704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68360" y="0"/>
            <a:ext cx="324036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cc"/>
                </a:solidFill>
                <a:latin typeface="Snap ITC"/>
              </a:rPr>
              <a:t>Isla de Mou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cc"/>
                </a:solidFill>
                <a:latin typeface="Snap ITC"/>
              </a:rPr>
              <a:t>Santand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0" y="0"/>
            <a:ext cx="38512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cc"/>
                </a:solidFill>
                <a:latin typeface="Snap ITC"/>
              </a:rPr>
              <a:t>Isla de Mouro-Santan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90680" y="6381720"/>
            <a:ext cx="41004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800" spc="-1" strike="noStrike">
                <a:solidFill>
                  <a:srgbClr val="ffffcc"/>
                </a:solidFill>
                <a:latin typeface="Snap ITC"/>
              </a:rPr>
              <a:t>Buque Maro en Pasajes-Guipúzco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883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5543640" y="4653000"/>
            <a:ext cx="36003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cc"/>
                </a:solidFill>
                <a:latin typeface="Snap ITC"/>
              </a:rPr>
              <a:t>Isla de Mouro-Santan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0" y="0"/>
            <a:ext cx="37101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cc"/>
                </a:solidFill>
                <a:latin typeface="Snap ITC"/>
              </a:rPr>
              <a:t>Isla de Mouro, Santand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250920" y="189000"/>
            <a:ext cx="35290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cc"/>
                </a:solidFill>
                <a:latin typeface="Snap ITC"/>
              </a:rPr>
              <a:t>Isla de Mouro-Santan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822240" y="30168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5291280" y="549360"/>
            <a:ext cx="38527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cc"/>
                </a:solidFill>
                <a:latin typeface="Snap ITC"/>
              </a:rPr>
              <a:t>Santander-La Magdale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5148360" y="115920"/>
            <a:ext cx="39956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cc"/>
                </a:solidFill>
                <a:latin typeface="Snap ITC"/>
              </a:rPr>
              <a:t>Santander-La Magdale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1120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0" y="6021360"/>
            <a:ext cx="91440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cc"/>
                </a:solidFill>
                <a:latin typeface="Snap ITC"/>
              </a:rPr>
              <a:t>Santander-La Magdale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5651640" y="6510240"/>
            <a:ext cx="37098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cc"/>
                </a:solidFill>
                <a:latin typeface="Snap ITC"/>
              </a:rPr>
              <a:t>Santander-La Magdale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5796000" y="333360"/>
            <a:ext cx="33480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cc"/>
                </a:solidFill>
                <a:latin typeface="Snap ITC"/>
              </a:rPr>
              <a:t>Santander-El Sardin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219640" y="189000"/>
            <a:ext cx="39243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cc"/>
                </a:solidFill>
                <a:latin typeface="Snap ITC"/>
              </a:rPr>
              <a:t>Santander-El Sardin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209680" y="3260880"/>
            <a:ext cx="48769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0" y="5877000"/>
            <a:ext cx="91440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cc"/>
                </a:solidFill>
                <a:latin typeface="Snap ITC"/>
              </a:rPr>
              <a:t>Gijón-Astur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554000" y="4976640"/>
            <a:ext cx="9792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zumay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4000" y="115920"/>
            <a:ext cx="26636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Snap ITC"/>
              </a:rPr>
              <a:t>Zumaya-Guipúzco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458640"/>
            <a:ext cx="9144000" cy="59230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0" y="5950080"/>
            <a:ext cx="91440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cc"/>
                </a:solidFill>
                <a:latin typeface="Snap ITC"/>
              </a:rPr>
              <a:t>Gijón-Astur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6840360" y="6510240"/>
            <a:ext cx="23036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cc"/>
                </a:solidFill>
                <a:latin typeface="Snap ITC"/>
              </a:rPr>
              <a:t>Gijón-Astur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0" y="6381720"/>
            <a:ext cx="23050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cc"/>
                </a:solidFill>
                <a:latin typeface="Snap ITC"/>
              </a:rPr>
              <a:t>Gijón-Asturi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79280" y="5734080"/>
            <a:ext cx="22528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cc"/>
                </a:solidFill>
                <a:latin typeface="Snap ITC"/>
              </a:rPr>
              <a:t>Avilés-Astur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5840" y="6465960"/>
            <a:ext cx="24685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cc"/>
                </a:solidFill>
                <a:latin typeface="Snap ITC"/>
              </a:rPr>
              <a:t>Luarca-Astur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79280" y="189000"/>
            <a:ext cx="18003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cc"/>
                </a:solidFill>
                <a:latin typeface="Snap ITC"/>
              </a:rPr>
              <a:t>La Coruñ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1768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6985080" y="6093000"/>
            <a:ext cx="21589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cc"/>
                </a:solidFill>
                <a:latin typeface="Snap ITC"/>
              </a:rPr>
              <a:t>La Coruñ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115920"/>
            <a:ext cx="9144000" cy="66247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7093080" y="6381720"/>
            <a:ext cx="20509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cc"/>
                </a:solidFill>
                <a:latin typeface="Snap ITC"/>
              </a:rPr>
              <a:t>La Coruñ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4767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7020000" y="6237360"/>
            <a:ext cx="20365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cc"/>
                </a:solidFill>
                <a:latin typeface="Snap ITC"/>
              </a:rPr>
              <a:t>La Coruñ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8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6877080" y="189000"/>
            <a:ext cx="21081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cc"/>
                </a:solidFill>
                <a:latin typeface="Snap ITC"/>
              </a:rPr>
              <a:t>La Coruñ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493884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124000" y="6510240"/>
            <a:ext cx="49323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800" spc="-1" strike="noStrike">
                <a:solidFill>
                  <a:srgbClr val="6699ff"/>
                </a:solidFill>
                <a:latin typeface="Snap ITC"/>
              </a:rPr>
              <a:t>Zumaya - Guipúzco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780000" y="6308640"/>
            <a:ext cx="21081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cc"/>
                </a:solidFill>
                <a:latin typeface="Snap ITC"/>
              </a:rPr>
              <a:t>La Coruñ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60721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979640" y="6237360"/>
            <a:ext cx="15843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cc"/>
                </a:solidFill>
                <a:latin typeface="Snap ITC"/>
              </a:rPr>
              <a:t>La Coruñ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340000" y="0"/>
            <a:ext cx="45687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6060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3251520" y="6165720"/>
            <a:ext cx="47696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07C4280-5DC4-4C28-B59B-E139FF4CE11B}" type="datetime2">
              <a:rPr b="1" lang="es-UY" sz="2800" spc="-1" strike="noStrike">
                <a:solidFill>
                  <a:srgbClr val="ff0066"/>
                </a:solidFill>
                <a:latin typeface="Arial"/>
              </a:rPr>
              <a:t>viernes, 31 de julio de 2026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050920" y="0"/>
            <a:ext cx="487692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266560" y="6510240"/>
            <a:ext cx="27136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800" spc="-1" strike="noStrike">
                <a:solidFill>
                  <a:srgbClr val="ffffcc"/>
                </a:solidFill>
                <a:latin typeface="Snap ITC"/>
              </a:rPr>
              <a:t>Getxo-Algorta-Vizcay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58881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916000" y="4005360"/>
            <a:ext cx="27136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800" spc="-1" strike="noStrike">
                <a:solidFill>
                  <a:srgbClr val="ffffcc"/>
                </a:solidFill>
                <a:latin typeface="Snap ITC"/>
              </a:rPr>
              <a:t>Getxo-Algorta-Vizcay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055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04120" y="620640"/>
            <a:ext cx="20034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800" spc="-1" strike="noStrike">
                <a:solidFill>
                  <a:srgbClr val="ffffcc"/>
                </a:solidFill>
                <a:latin typeface="Snap ITC"/>
              </a:rPr>
              <a:t>Bermeo-Vizcay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050920" y="6308640"/>
            <a:ext cx="22338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cc"/>
                </a:solidFill>
                <a:latin typeface="Snap ITC"/>
              </a:rPr>
              <a:t>San Sebastiá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79280" y="260280"/>
            <a:ext cx="23050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cc"/>
                </a:solidFill>
                <a:latin typeface="Snap ITC"/>
              </a:rPr>
              <a:t>San Sebastiá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6T07:48:58Z</dcterms:created>
  <dc:creator>José Manuel Gurucharri Goñi</dc:creator>
  <dc:description/>
  <dc:language>en-US</dc:language>
  <cp:lastModifiedBy>Angel</cp:lastModifiedBy>
  <dcterms:modified xsi:type="dcterms:W3CDTF">2009-01-25T15:36:37Z</dcterms:modified>
  <cp:revision>5</cp:revision>
  <dc:subject/>
  <dc:title>CUANDO EL CANTABRICO SE ENFADA</dc:title>
</cp:coreProperties>
</file>