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01%20Maitechu%20Mia%20-%20Mocedades%20y%20Placido%20Domingo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5B9-9326-4DA9-9BB0-D5F10ADC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093-DA03-45D2-8295-82BFAB7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596-93C4-48AC-B4AC-74C8FA52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432-D7E8-4751-8F8C-717322B9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224-7D94-44F8-8A3E-F5807C1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5B5-D026-4A08-A42B-12B33E6B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843-9F90-40FB-BA05-30736DA7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EE7-2FE3-4F83-A433-0AC775DC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2EC-1394-45CE-A579-7FDABDA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07B-ED9A-467A-8A16-419B922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DF1-0470-452E-9DD9-3915DA0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20B-102F-4B5E-91B0-89D0B57E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B5F4AA-13D6-4B32-86F1-9D0B756EB48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Maitechu%20Mia%20-%20Mocedades%20y%20Placido%20Domingo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989000"/>
            <a:ext cx="7704000" cy="18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Snap ITC"/>
              </a:rPr>
              <a:t>CANTÁBRICO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-1179360"/>
            <a:ext cx="50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nap ITC"/>
              </a:rPr>
              <a:t>TEMPORAL EN EL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5373720"/>
            <a:ext cx="1962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Snap ITC"/>
              </a:rPr>
              <a:t>NO CLIQUE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6165720"/>
            <a:ext cx="4019760" cy="552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Comic Sans MS"/>
              </a:rPr>
              <a:t>MÚSICA: Plácido DOMINGO &amp; Mocedade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336699"/>
                    </a:gs>
                  </a:gsLst>
                  <a:lin ang="5400000"/>
                </a:gradFill>
                <a:latin typeface="Comic Sans MS"/>
              </a:rPr>
              <a:t>Maitetxu mía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3366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6 0.14814 C -0.02343 0.17222 0.03421 0.19328 0.10695 0.19421 C 0.16459 0.19629 0.21181 0.18472 0.21285 0.17014 C 0.21285 0.15578 0.1665 0.14236 0.10799 0.14166 C 0.07848 0.14166 0.05209 0.14328 0.03334 0.14814 C 0.00591 0.15486 -0.01024 0.16551 -0.01024 0.17801 C -0.01024 0.18472 -0.00555 0.19143 0.00313 0.19722 C 0.02275 0.20972 0.06164 0.21828 0.10591 0.21921 C 0.15799 0.22129 0.20053 0.21064 0.20053 0.19814 C 0.20139 0.18472 0.15886 0.17314 0.10695 0.17129 C 0.08056 0.17129 0.05695 0.17314 0.03889 0.17708 C 0.01528 0.18379 0.00018 0.19421 0.00018 0.20486 C 0.00018 0.21064 0.00487 0.21643 0.01233 0.22222 C 0.03039 0.23264 0.06441 0.24143 0.10504 0.24213 C 0.15244 0.24328 0.19011 0.23379 0.19011 0.22222 C 0.19115 0.21064 0.15313 0.2 0.10591 0.19907 C 0.0823 0.19814 0.06059 0.2 0.04462 0.20393 C 0.02275 0.20972 0.01059 0.21828 0.01059 0.22893 C 0.01059 0.23379 0.01441 0.23935 0.02101 0.24421 C 0.03698 0.25393 0.06823 0.26157 0.10417 0.26226 C 0.14671 0.26226 0.18056 0.25463 0.18056 0.24421 C 0.18056 0.23379 0.14757 0.22407 0.10504 0.22314 C 0.08421 0.22314 0.06441 0.225 0.05035 0.22777 C 0.03039 0.23264 0.01893 0.24143 0.01823 0.25 C 0.01823 0.25463 0.02275 0.25949 0.02848 0.26342 C 0.04254 0.27314 0.07101 0.27963 0.10313 0.27963 C 0.14098 0.28078 0.17223 0.27407 0.17223 0.26435 C 0.17309 0.25463 0.14184 0.24629 0.10417 0.24514 C 0.08525 0.24514 0.06719 0.24629 0.05487 0.25 C 0.03698 0.25393 0.02674 0.26157 0.02674 0.26921 C 0.02674 0.27407 0.02952 0.27777 0.03507 0.28171 C 0.04827 0.29027 0.07292 0.29606 0.10209 0.29699 C 0.13716 0.29699 0.16459 0.2912 0.16459 0.28264 C 0.16546 0.27407 0.13803 0.2662 0.10313 0.26527 C 0.08612 0.26527 0.07101 0.2662 0.05973 0.26921 C 0.04358 0.27314 0.03421 0.27963 0.03421 0.28726 C 0.03421 0.2912 0.03698 0.29421 0.04184 0.29791 C 0.05313 0.30578 0.0757 0.31041 0.10209 0.31134 C 0.13334 0.31226 0.15799 0.30648 0.15799 0.29791 C 0.15799 0.2912 0.13438 0.28356 0.10313 0.28356 C 0.08716 0.28264 0.07292 0.28449 0.0625 0.28634 C 0.04827 0.29027 0.03976 0.29606 0.03976 0.30277 C 0.03976 0.30648 0.04254 0.30949 0.0474 0.31226 C 0.05782 0.31898 0.07848 0.32384 0.10139 0.32476 C 0.12952 0.32592 0.15244 0.32014 0.15244 0.31342 C 0.15244 0.30578 0.12952 0.29953 0.10209 0.29884 C 0.08907 0.29884 0.0757 0.29953 0.06615 0.30277 C 0.05313 0.30578 0.04549 0.31041 0.04549 0.31713 C 0.04549 0.32014 0.04827 0.32291 0.05209 0.32592 C 0.06164 0.33148 0.07952 0.33634 0.10139 0.33634 C 0.12587 0.33726 0.14671 0.3324 0.14671 0.32592 C 0.14671 0.32014 0.12674 0.31412 0.10139 0.31412 C 0.08994 0.31342 0.07778 0.31412 0.06928 0.3162 C 0.05782 0.32014 0.05122 0.32476 0.05122 0.32963 C 0.05122 0.3324 0.05313 0.33541 0.05695 0.33726 C 0.06546 0.34305 0.08143 0.34676 0.10139 0.34791 C 0.12396 0.34791 0.14184 0.34305 0.14184 0.33819 C 0.14184 0.3324 0.12396 0.32662 0.10139 0.32662 C 0.08994 0.32662 0.07952 0.32754 0.07292 0.32963 C 0.06164 0.33148 0.05591 0.33634 0.05591 0.3412 C 0.05591 0.34305 0.05782 0.34606 0.06059 0.34791 C 0.06823 0.3537 0.08334 0.35648 0.10035 0.35764 C 0.12119 0.35764 0.13716 0.3537 0.13716 0.34884 C 0.13716 0.34305 0.12119 0.33912 0.10139 0.33819 C 0.0908 0.33819 0.08143 0.33912 0.07483 0.3412 C 0.06546 0.34305 0.05973 0.34676 0.05973 0.35162 C 0.05973 0.3537 0.06164 0.35555 0.06441 0.35764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32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01336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237360"/>
            <a:ext cx="24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3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6021360"/>
            <a:ext cx="259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81720"/>
            <a:ext cx="259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189000"/>
            <a:ext cx="208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0"/>
            <a:ext cx="446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 -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43640" y="5013360"/>
            <a:ext cx="36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42920" y="5950080"/>
            <a:ext cx="24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7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68360" y="0"/>
            <a:ext cx="3240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385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0680" y="6381720"/>
            <a:ext cx="410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Buque Maro en Pasajes-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8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43640" y="4653000"/>
            <a:ext cx="36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371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, Sant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352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Isla de Mouro-San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2240" y="301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91280" y="549360"/>
            <a:ext cx="385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48360" y="115920"/>
            <a:ext cx="399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2136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51640" y="6510240"/>
            <a:ext cx="370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6000" y="333360"/>
            <a:ext cx="334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El Sar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92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tander-El Sar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9680" y="326088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87700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54000" y="4976640"/>
            <a:ext cx="97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zum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15920"/>
            <a:ext cx="26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nap ITC"/>
              </a:rPr>
              <a:t>Zumaya-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2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95008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0360" y="6510240"/>
            <a:ext cx="230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381720"/>
            <a:ext cx="23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ijón-Astu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5734080"/>
            <a:ext cx="225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Avilés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40" y="6465960"/>
            <a:ext cx="246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uarca-Astu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189000"/>
            <a:ext cx="180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6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85080" y="6093000"/>
            <a:ext cx="215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93080" y="6381720"/>
            <a:ext cx="2050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20000" y="6237360"/>
            <a:ext cx="203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77080" y="189000"/>
            <a:ext cx="210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6510240"/>
            <a:ext cx="493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6699ff"/>
                </a:solidFill>
                <a:latin typeface="Snap ITC"/>
              </a:rPr>
              <a:t>Zumaya - Guipúz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80000" y="6308640"/>
            <a:ext cx="210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6237360"/>
            <a:ext cx="158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La Cor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4520" y="6165720"/>
            <a:ext cx="518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76AD62-72E7-4797-A3FD-92BB53675C95}" type="datetime2">
              <a:rPr b="1" lang="es-UY" sz="2800" spc="-1" strike="noStrike">
                <a:solidFill>
                  <a:srgbClr val="ff0066"/>
                </a:solidFill>
                <a:latin typeface="Arial"/>
              </a:rPr>
              <a:t>miércoles, 29 de julio de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66560" y="6510240"/>
            <a:ext cx="271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etxo-Algorta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000" y="4005360"/>
            <a:ext cx="271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Getxo-Algorta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4120" y="620640"/>
            <a:ext cx="2003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Bermeo-Vizc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0920" y="6308640"/>
            <a:ext cx="223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60280"/>
            <a:ext cx="23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Snap ITC"/>
              </a:rPr>
              <a:t>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7:48:58Z</dcterms:created>
  <dc:creator>José Manuel Gurucharri Goñi</dc:creator>
  <dc:description/>
  <dc:language>en-US</dc:language>
  <cp:lastModifiedBy>Angel</cp:lastModifiedBy>
  <dcterms:modified xsi:type="dcterms:W3CDTF">2009-01-25T15:36:37Z</dcterms:modified>
  <cp:revision>5</cp:revision>
  <dc:subject/>
  <dc:title>CUANDO EL CANTABRICO SE ENFADA</dc:title>
</cp:coreProperties>
</file>