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755-3BDC-48DD-AA65-C6C72E41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C99-1279-4996-A2EB-549F7BBE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4CD-634F-4916-BB7D-7A7083E4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E90-BCB4-457C-A3A3-AB7BC66B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A46-353C-4D40-BC84-D968956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181-FAF7-4C86-8950-3BD923B0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535-9ABE-4BD5-A5C7-EDA8423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383-7F54-46F2-A748-0229DE7F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575-4C7C-4041-92DD-66E0588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87C-93D2-4957-BF94-2ED08DB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5A1-8C89-400A-B51F-A87727C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461-E64E-4D62-A370-7D86F19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D8D-A17F-48B9-A918-C4CB8C7252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pasado 7 de mayo de 2008, el fotógrafo y periodist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rvasio Sánch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ubió a recoger uno de tantos premios, el Ortega y Gasset que otorga el diari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l Paí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nte la asistencia de un concurrido público, entre ellos estaban también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icepresidenta del gobiern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el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esidente del Senad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arios ministro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speranza Aguirr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y el alcalde de Madrid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lberto Ruiz Gallardó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demás de todos los demá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edios de prens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todos los gobiernos españoles, desde el inicio de la transición, encabezados por los presidente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dolfo Suar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eopoldo Calvo Sotel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elipe Gonzál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José María Aznar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José Luis Rodríguez Zapater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permitieron y permiten las ventas de armas españolas a países con conflictos internos o guerras abiert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en la anterior legislatura se ha duplicado la venta de armas españolas al mismo tiempo que el presidente incidía en su mensaje contra la guerra y que hoy fabricamos cuatro tipos distintos de bombas de racimo cuyo comportamiento en el terreno es similar al de las minas antiperson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658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s verdad que me siento escandalizado </a:t>
            </a:r>
            <a:br>
              <a:rPr sz="3200"/>
            </a:b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cada vez que me topo con armas españolas </a:t>
            </a:r>
            <a:br>
              <a:rPr sz="3200"/>
            </a:b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n los olvidados campos de batalla del tercer mundo, y que me avergüenzo de mis representantes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ero como Martin Luther King, me quiero negar a creer que el banco de la justicia está en quiebra, y como él, yo también tengo un sueño: que, por fin, un presidente de un gobierno español tenga las agallas suficientes para poner fin al silencioso mercadeo de armas que convierte a nuestro país, nos guste o no, en un exportador de la muerte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uchas gra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3888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foto premiada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n su hij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li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idas minadas"/>
          <p:cNvPicPr/>
          <p:nvPr/>
        </p:nvPicPr>
        <p:blipFill>
          <a:blip r:embed="rId1"/>
          <a:stretch/>
        </p:blipFill>
        <p:spPr>
          <a:xfrm>
            <a:off x="414036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 otras fotos de Don Gervas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486864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brero 1997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 su hijo leonaldo,     con sus dos h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brero de 2002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rz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ofia_elface_fumo_febrero_1997"/>
          <p:cNvPicPr/>
          <p:nvPr/>
        </p:nvPicPr>
        <p:blipFill>
          <a:blip r:embed="rId1"/>
          <a:stretch/>
        </p:blipFill>
        <p:spPr>
          <a:xfrm>
            <a:off x="-468360" y="-243000"/>
            <a:ext cx="4089600" cy="511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ofia_elface_fumo_con_su_hijoleonaldo_febrero_de_2002_1"/>
          <p:cNvPicPr/>
          <p:nvPr/>
        </p:nvPicPr>
        <p:blipFill>
          <a:blip r:embed="rId2"/>
          <a:stretch/>
        </p:blipFill>
        <p:spPr>
          <a:xfrm>
            <a:off x="3035160" y="0"/>
            <a:ext cx="3063960" cy="458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ofia_con_sus_dos_hijos_marzo_2007_3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252720" y="5878080"/>
            <a:ext cx="94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dó ciega y manca el 21 de febrero de 2003 tras la explosión de una mina cuando volvía del coleg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ónica Paola Ojeda_1"/>
          <p:cNvPicPr/>
          <p:nvPr/>
        </p:nvPicPr>
        <p:blipFill>
          <a:blip r:embed="rId1"/>
          <a:stretch/>
        </p:blipFill>
        <p:spPr>
          <a:xfrm>
            <a:off x="792000" y="260280"/>
            <a:ext cx="738036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ónica Paola Ojeda_3"/>
          <p:cNvPicPr/>
          <p:nvPr/>
        </p:nvPicPr>
        <p:blipFill>
          <a:blip r:embed="rId1"/>
          <a:stretch/>
        </p:blipFill>
        <p:spPr>
          <a:xfrm>
            <a:off x="142920" y="366840"/>
            <a:ext cx="8893080" cy="6086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503280" y="699840"/>
            <a:ext cx="38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a actu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Mónica Paola Ojeda_2"/>
          <p:cNvPicPr/>
          <p:nvPr/>
        </p:nvPicPr>
        <p:blipFill>
          <a:blip r:embed="rId2"/>
          <a:stretch/>
        </p:blipFill>
        <p:spPr>
          <a:xfrm>
            <a:off x="900000" y="1989000"/>
            <a:ext cx="242280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356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una mina le amputó una pierna con sólo 14 años cuando volvía del cole en Camboya.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okheurm Man_1"/>
          <p:cNvPicPr/>
          <p:nvPr/>
        </p:nvPicPr>
        <p:blipFill>
          <a:blip r:embed="rId1"/>
          <a:stretch/>
        </p:blipFill>
        <p:spPr>
          <a:xfrm>
            <a:off x="3635280" y="0"/>
            <a:ext cx="451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es bien, parece ser que no debió ser del gusto de tan ilustre público el discurso 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rvasio Sánch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cuando éste subió a recoger el premio, condenando dicho discurso al ostracismo y olvido de toda la prensa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í que, como la gran mayoría de medios no han querido publicarlo, ofrezco este PowerPoint para que lo lean algunas personas más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lo leáis, entenderéis el porqué no han querido darl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4005360"/>
            <a:ext cx="521964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n su mujer Nin Lin y su h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tualmente trabaja en el Servicio Jesuita para los Refugiados y se encarga de documentar casos de nuevas víctimas de minas antiper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okheurm_man_con_su_padre_en_mayo_d_2007"/>
          <p:cNvPicPr/>
          <p:nvPr/>
        </p:nvPicPr>
        <p:blipFill>
          <a:blip r:embed="rId1"/>
          <a:stretch/>
        </p:blipFill>
        <p:spPr>
          <a:xfrm>
            <a:off x="5226120" y="620640"/>
            <a:ext cx="3917880" cy="587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okheurm Man_2"/>
          <p:cNvPicPr/>
          <p:nvPr/>
        </p:nvPicPr>
        <p:blipFill>
          <a:blip r:embed="rId2"/>
          <a:stretch/>
        </p:blipFill>
        <p:spPr>
          <a:xfrm>
            <a:off x="0" y="0"/>
            <a:ext cx="521964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42920" y="552564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, dos días después de la explosión, Marzo d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dis_smajic_dos_dias_despues_de_la_explosion_marzo_de_1996"/>
          <p:cNvPicPr/>
          <p:nvPr/>
        </p:nvPicPr>
        <p:blipFill>
          <a:blip r:embed="rId1"/>
          <a:stretch/>
        </p:blipFill>
        <p:spPr>
          <a:xfrm>
            <a:off x="611280" y="317520"/>
            <a:ext cx="784836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243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 la actualidad, con su no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dis_smajic"/>
          <p:cNvPicPr/>
          <p:nvPr/>
        </p:nvPicPr>
        <p:blipFill>
          <a:blip r:embed="rId1"/>
          <a:stretch/>
        </p:blipFill>
        <p:spPr>
          <a:xfrm>
            <a:off x="3984480" y="0"/>
            <a:ext cx="47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Y el fotógrafo y periodista que probablemente no volverá a ver premiado ningún trabajo suyo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Gervasio Sánchez"/>
          <p:cNvPicPr/>
          <p:nvPr/>
        </p:nvPicPr>
        <p:blipFill>
          <a:blip r:embed="rId1"/>
          <a:stretch/>
        </p:blipFill>
        <p:spPr>
          <a:xfrm>
            <a:off x="430992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142920" y="3929040"/>
            <a:ext cx="4211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te es un correo que por el bien de todos SÍ hay que reenvi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iscurso de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ervasio Sánch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658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imados miembros del jurado,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ñoras y señor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para mí un gran honor recibir el Premio “Ortega y Gasset” de Fotografía, convocado por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l Paí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diario donde publiqué mis fotos iniciáticas de América Latina en la década de los ochenta y mis mejores trabajos  realizados en diferentes conflictos del mundo durante la década de los noventa, muy especialmente las fotografías que tomé durante el cerco de Saraje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Quiero dar las gracias a los responsables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Heraldo de Aragó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del Magazine de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a Vanguardi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Cadena Ser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por respetar siempre mi trabajo como periodista y permitir que los protagonistas de mis historias, tantas veces seres humanos extraviados en los desaguaderos de la historia, tengan un espacio donde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lorar y grit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 quiero olvidar a las organizaciones humanitaria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Intermon Oxfam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anos Unida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édicos Sin Frontera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la compañí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DKV SEGURO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a mi editor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eopoldo Blum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por apoyarme sin fisuras en los últimos doce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y permitir que el proyect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“Vidas Minadas”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 que pertenece la fotografía premiada, ten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vida propia y un largo recorrido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urar dé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ñoras y señores, aunque sólo tengo un hijo natural, Diego Sánchez, puedo decir que com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artín Luther King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el gran soñador afroamericano asesinado hace 40 años, también tengo otros cuatro hijos víctimas de las minas antipersonas: la mozambiqueñ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a la que ustedes han conocido junto a su hij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i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en la imagen premiada, que concentra todo el dolor de las víctimas, pero también la belleza de la vida y, sobre todo, la incansable lucha por la supervivencia y la dignidad de las víctimas, el camboyano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el bosnio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la pequeña colombia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que se quedó ciega tras ser víctima de una explosión a los ocho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í, son mis cuatro hijos adoptivos a los que he visto al borde de la muerte, he visto llorar, gritar de dolor, crecer, enamorarse, tener hijos, llegar a la universidad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es aseguro que no hay nada más bello en el mundo que ver a una víctima de la guerra perseguir la felicidad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la guerra funde nuestras mentes y nos roba los sueños, como se dice en la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elícula “Cuentos de la luna pálida” de Kenji Mizoguc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las armas que circulan por los campos de batalla suelen fabricarse en países desarrollados como el nuestro, que fue un gran exportador de minas en el pasado y que hoy dedica muy poco esfuerzo a la ayuda a las víctimas de las minas y al des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1:20:09Z</dcterms:created>
  <dc:creator>Carmen</dc:creator>
  <dc:description/>
  <dc:language>en-US</dc:language>
  <cp:lastModifiedBy>Pepe</cp:lastModifiedBy>
  <dcterms:modified xsi:type="dcterms:W3CDTF">2009-01-10T20:38:25Z</dcterms:modified>
  <cp:revision>93</cp:revision>
  <dc:subject/>
  <dc:title>Diapositiva 1</dc:title>
</cp:coreProperties>
</file>