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C67-A37C-4DA4-AFFC-AD2989AC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080-DA85-4792-9C09-B21EC60E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908-58DB-42DE-8D74-EAA8AB94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600-2AEF-41C7-91CB-1548702B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641-2B19-4F57-8A77-A23C05D0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068-EE10-404C-8223-89A7045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ED4-0B42-46FC-BD4F-2B6274FC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E51-678C-4791-A836-4D5AD826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88E-E38E-405B-9F8B-C422066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959-75BA-4528-AC80-5F1D031E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BD0-A915-41BD-A943-C975E59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ECC-9019-468A-AC2D-A65D4B9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CE9-75F9-43AF-9218-750C76FDA2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56908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pasado 7 de mayo de 2008, el fotógrafo y periodist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ervasio Sánch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ubió a recoger uno de tantos premios, el Ortega y Gasset que otorga el diario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l Paí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nte la asistencia de un concurrido público, entre ellos estaban también l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vicepresidenta del gobiern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el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esidente del Senad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varios ministro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speranza Aguirre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y el alcalde de Madrid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lberto Ruiz Gallardó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demás de todos los demá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edios de prens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todos los gobiernos españoles, desde el inicio de la transición, encabezados por los presidente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dolfo Suar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Leopoldo Calvo Sotel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Felipe Gonzál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José María Aznar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José Luis Rodríguez Zapater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permitieron y permiten las ventas de armas españolas a países con conflictos internos o guerras abierta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en la anterior legislatura se ha duplicado la venta de armas españolas al mismo tiempo que el presidente incidía en su mensaje contra la guerra y que hoy fabricamos cuatro tipos distintos de bombas de racimo cuyo comportamiento en el terreno es similar al de las minas antiperson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658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s verdad que me siento escandalizado </a:t>
            </a:r>
            <a:br>
              <a:rPr sz="3200"/>
            </a:b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cada vez que me topo con armas españolas </a:t>
            </a:r>
            <a:br>
              <a:rPr sz="3200"/>
            </a:b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n los olvidados campos de batalla del tercer mundo, y que me avergüenzo de mis representantes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ero como Martin Luther King, me quiero negar a creer que el banco de la justicia está en quiebra, y como él, yo también tengo un sueño: que, por fin, un presidente de un gobierno español tenga las agallas suficientes para poner fin al silencioso mercadeo de armas que convierte a nuestro país, nos guste o no, en un exportador de la muerte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uchas gra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3888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a foto premiada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Sofia Elface Fum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n su hij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Ali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idas minadas"/>
          <p:cNvPicPr/>
          <p:nvPr/>
        </p:nvPicPr>
        <p:blipFill>
          <a:blip r:embed="rId1"/>
          <a:stretch/>
        </p:blipFill>
        <p:spPr>
          <a:xfrm>
            <a:off x="414036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 otras fotos de Don Gervas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486864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Sofia Elface F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ebrero 1997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 su hijo leonaldo,     con sus dos h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ebrero de 2002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rz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ofia_elface_fumo_febrero_1997"/>
          <p:cNvPicPr/>
          <p:nvPr/>
        </p:nvPicPr>
        <p:blipFill>
          <a:blip r:embed="rId1"/>
          <a:stretch/>
        </p:blipFill>
        <p:spPr>
          <a:xfrm>
            <a:off x="-468360" y="-243000"/>
            <a:ext cx="4089600" cy="511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sofia_elface_fumo_con_su_hijoleonaldo_febrero_de_2002_1"/>
          <p:cNvPicPr/>
          <p:nvPr/>
        </p:nvPicPr>
        <p:blipFill>
          <a:blip r:embed="rId2"/>
          <a:stretch/>
        </p:blipFill>
        <p:spPr>
          <a:xfrm>
            <a:off x="3035160" y="0"/>
            <a:ext cx="3063960" cy="458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sofia_con_sus_dos_hijos_marzo_2007_3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252720" y="5878080"/>
            <a:ext cx="946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Mónica Paola Ojeda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dó ciega y manca el 21 de febrero de 2003 tras la explosión de una mina cuando volvía del coleg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ónica Paola Ojeda_1"/>
          <p:cNvPicPr/>
          <p:nvPr/>
        </p:nvPicPr>
        <p:blipFill>
          <a:blip r:embed="rId1"/>
          <a:stretch/>
        </p:blipFill>
        <p:spPr>
          <a:xfrm>
            <a:off x="792000" y="260280"/>
            <a:ext cx="738036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ónica Paola Ojeda_3"/>
          <p:cNvPicPr/>
          <p:nvPr/>
        </p:nvPicPr>
        <p:blipFill>
          <a:blip r:embed="rId1"/>
          <a:stretch/>
        </p:blipFill>
        <p:spPr>
          <a:xfrm>
            <a:off x="142920" y="366840"/>
            <a:ext cx="8893080" cy="6086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503280" y="699840"/>
            <a:ext cx="38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Mónica Paola Ojeda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la actu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Mónica Paola Ojeda_2"/>
          <p:cNvPicPr/>
          <p:nvPr/>
        </p:nvPicPr>
        <p:blipFill>
          <a:blip r:embed="rId2"/>
          <a:stretch/>
        </p:blipFill>
        <p:spPr>
          <a:xfrm>
            <a:off x="900000" y="1989000"/>
            <a:ext cx="242280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356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Sokheurm Ma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una mina le amputó una pierna con sólo 14 años cuando volvía del cole en Camboya.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okheurm Man_1"/>
          <p:cNvPicPr/>
          <p:nvPr/>
        </p:nvPicPr>
        <p:blipFill>
          <a:blip r:embed="rId1"/>
          <a:stretch/>
        </p:blipFill>
        <p:spPr>
          <a:xfrm>
            <a:off x="3635280" y="0"/>
            <a:ext cx="451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es bien, parece ser que no debió ser del gusto de tan ilustre público el discurso de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ervasio Sánchez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cuando éste subió a recoger el premio, condenando dicho discurso al ostracismo y olvido de toda la prensa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í que, como la gran mayoría de medios no han querido publicarlo, ofrezco este PowerPoint para que lo lean algunas personas más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ando lo leáis, entenderéis el porqué no han querido darl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4005360"/>
            <a:ext cx="521964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Sokheurm Ma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n su mujer Nin Lin y su h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ctualmente trabaja en el Servicio Jesuita para los Refugiados y se encarga de documentar casos de nuevas víctimas de minas antipers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okheurm_man_con_su_padre_en_mayo_d_2007"/>
          <p:cNvPicPr/>
          <p:nvPr/>
        </p:nvPicPr>
        <p:blipFill>
          <a:blip r:embed="rId1"/>
          <a:stretch/>
        </p:blipFill>
        <p:spPr>
          <a:xfrm>
            <a:off x="5226120" y="620640"/>
            <a:ext cx="3917880" cy="587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Sokheurm Man_2"/>
          <p:cNvPicPr/>
          <p:nvPr/>
        </p:nvPicPr>
        <p:blipFill>
          <a:blip r:embed="rId2"/>
          <a:stretch/>
        </p:blipFill>
        <p:spPr>
          <a:xfrm>
            <a:off x="0" y="0"/>
            <a:ext cx="521964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42920" y="552564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"/>
              </a:rPr>
              <a:t>Adis Smajic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, dos días después de la explosión, Marzo de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dis_smajic_dos_dias_despues_de_la_explosion_marzo_de_1996"/>
          <p:cNvPicPr/>
          <p:nvPr/>
        </p:nvPicPr>
        <p:blipFill>
          <a:blip r:embed="rId1"/>
          <a:stretch/>
        </p:blipFill>
        <p:spPr>
          <a:xfrm>
            <a:off x="611280" y="317520"/>
            <a:ext cx="784836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2436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0000"/>
                </a:solidFill>
                <a:latin typeface="Arial"/>
              </a:rPr>
              <a:t>Adis Smajic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 la actualidad, con su no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dis_smajic"/>
          <p:cNvPicPr/>
          <p:nvPr/>
        </p:nvPicPr>
        <p:blipFill>
          <a:blip r:embed="rId1"/>
          <a:stretch/>
        </p:blipFill>
        <p:spPr>
          <a:xfrm>
            <a:off x="3984480" y="0"/>
            <a:ext cx="47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Y el fotógrafo y periodista que probablemente no volverá a ver premiado ningún trabajo suyo en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Gervasio Sánchez"/>
          <p:cNvPicPr/>
          <p:nvPr/>
        </p:nvPicPr>
        <p:blipFill>
          <a:blip r:embed="rId1"/>
          <a:stretch/>
        </p:blipFill>
        <p:spPr>
          <a:xfrm>
            <a:off x="430992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142920" y="3929040"/>
            <a:ext cx="4211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te es un correo que por el bien de todos SÍ hay que reenvi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iscurso de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Gervasio Sánch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658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imados miembros del jurado,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ñoras y señor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para mí un gran honor recibir el Premio “Ortega y Gasset” de Fotografía, convocado por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El Paí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diario donde publiqué mis fotos iniciáticas de América Latina en la década de los ochenta y mis mejores trabajos  realizados en diferentes conflictos del mundo durante la década de los noventa, muy especialmente las fotografías que tomé durante el cerco de Saraje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Quiero dar las gracias a los responsables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Heraldo de Aragó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del Magazine de </a:t>
            </a:r>
            <a:br>
              <a:rPr sz="2800"/>
            </a:b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La Vanguardi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Cadena Ser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por respetar siempre mi trabajo como periodista y permitir que los protagonistas de mis historias, tantas veces seres humanos extraviados en los desaguaderos de la historia, tengan un espacio donde </a:t>
            </a: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llorar y grit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 quiero olvidar a las organizaciones humanitarias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Intermon Oxfam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Manos Unida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Médicos Sin Frontera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la compañía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DKV SEGURO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a mi editor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Leopoldo Blume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por apoyarme sin fisuras en los últimos doce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y permitir que el proyecto </a:t>
            </a:r>
            <a:r>
              <a:rPr b="1" i="1" lang="es-ES" sz="2800" spc="-1" strike="noStrike">
                <a:solidFill>
                  <a:srgbClr val="ff0000"/>
                </a:solidFill>
                <a:latin typeface="Arial"/>
              </a:rPr>
              <a:t>“Vidas Minadas”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 que pertenece la fotografía premiada, ten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vida propia y un largo recorrido que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durar dé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ñoras y señores, aunque sólo tengo un hijo natural, Diego Sánchez, puedo decir que com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artín Luther King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el gran soñador afroamericano asesinado hace 40 años, también tengo otros cuatro hijos víctimas de las minas antipersonas: la mozambiqueñ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Sofia Elface Fumo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a la que ustedes han conocido junto a su hij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li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en la imagen premiada, que concentra todo el dolor de las víctimas, pero también la belleza de la vida y, sobre todo, la incansable lucha por la supervivencia y la dignidad de las víctimas, el camboyano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Sokheurm Man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el bosnio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dis Smajic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y la pequeña colombian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Mónica Paola Ojeda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 que se quedó ciega tras ser víctima de una explosión a los ocho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í, son mis cuatro hijos adoptivos a los que he visto al borde de la muerte, he visto llorar, gritar de dolor, crecer, enamorarse, tener hijos, llegar a la universidad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Les aseguro que no hay nada más bello en el mundo que ver a una víctima de la guerra perseguir la felicidad.</a:t>
            </a:r>
            <a:br>
              <a:rPr sz="2800"/>
            </a:br>
            <a:br>
              <a:rPr sz="28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la guerra funde nuestras mentes y nos roba los sueños, como se dice en la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película “Cuentos de la luna pálida” de Kenji Mizoguc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verdad que las armas que circulan por los campos de batalla suelen fabricarse en países desarrollados como el nuestro, que fue un gran exportador de minas en el pasado y que hoy dedica muy poco esfuerzo a la ayuda a las víctimas de las minas y al desmi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1:20:09Z</dcterms:created>
  <dc:creator>Carmen</dc:creator>
  <dc:description/>
  <dc:language>en-US</dc:language>
  <cp:lastModifiedBy>Pepe</cp:lastModifiedBy>
  <dcterms:modified xsi:type="dcterms:W3CDTF">2009-01-10T20:38:25Z</dcterms:modified>
  <cp:revision>93</cp:revision>
  <dc:subject/>
  <dc:title>Diapositiva 1</dc:title>
</cp:coreProperties>
</file>