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ndian_summer%20M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5A8-B49D-4E0A-94D2-D34C4DB0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56E-208C-49F2-AAD6-E46B84E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7CD-39DD-4486-9CBF-2524F5C1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FA0-EDCB-4CC2-9370-C1D4076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2A9-8F89-4A8B-8C9F-DB10FD9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859-3630-40AD-99E8-A6AB76D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D75-1990-49CB-B068-0DDEF707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044-627C-4445-BAC0-8D5C6257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839-8C9B-4BDE-9EDB-21F0C48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965-7D91-46A3-A0D6-9CACC4EF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EA3-7775-4CC1-9C3C-21069CE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756-AB60-42E7-A664-359B962B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564-517C-4F88-821B-780AE9EBE7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ian_summer%20M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2276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07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quí están algunos consejos que </a:t>
            </a:r>
            <a:r>
              <a:rPr b="1" lang="pt-BR" sz="3600" spc="-1" strike="noStrike" u="sng">
                <a:solidFill>
                  <a:srgbClr val="ffffff"/>
                </a:solidFill>
                <a:uFillTx/>
                <a:latin typeface="Comic Sans MS"/>
              </a:rPr>
              <a:t>Bill Gates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recientemente dictó en una conferencia en una escuela secundaria sobre 11 cosas que los estudiantes 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aprenden en la escue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2" name="indian_summer%20M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125360"/>
            <a:ext cx="86421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ntes de  nacer tú, tus padres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ran tan críticos como ahora.</a:t>
            </a:r>
            <a:br>
              <a:rPr sz="2800"/>
            </a:b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los se volvieron así por pagar tus cuentas, lavar tus ropas y oírte decir que son “ridícul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tanto, antes de salvar el planeta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próxima generación, quer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mediar los errores de la 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tus padres, comienza limpiando las cosas de tu propia vida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mpezando por tu habitación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268280"/>
            <a:ext cx="864216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escuela puede haber eliminado la distinción entre excelentes, buenos y regulares, per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la vida no es así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 En muchas escuelas hoy no repites el curso, hacen que tus tareas sean cada vez más fáciles y tienes las oportunidades que necesites hasta apro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to no se parece en nada a la vida real. Si falla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stás despedid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sí que acierta a la prim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341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tá dividida en bim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ú no tendrás largas vacaciones de veran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encontrarás quien te ayude a cumplir con tus tareas, ni jefes que se interesen en ayudarte para que te encuentres a ti mismo. Todo esto y mucho más,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tendrás que hacerlo en tu tiempo libre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televisión NO es la vida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n la vida real, las personas tienen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jar los juegos, el bar, los bailes o lo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para irse a trabajar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76480" y="409680"/>
            <a:ext cx="154332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9700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Sé amable con los estudios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(aquellos estudi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que tú y muchos otros juzgan que son  sons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Existen muchas probabilidad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que termines trabajando PARA uno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2920" y="692280"/>
            <a:ext cx="889308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ueño de la mayor fortuna personal del mundo, y de Microsoft, la única empresa que se enfrentó y venció a IBM desde su fundación a mediados del siglo XX, la empresa que construyó el primer Cerebro Eletrónico (computador) del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4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99"/>
                </a:solidFill>
                <a:latin typeface="Times New Roman"/>
              </a:rPr>
              <a:t>Bill G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5040" y="3787920"/>
            <a:ext cx="8695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Imprime, relee, repasa y muéstraselo a todos los q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nceramente creas que puedan ser tus amig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o que merezcan una clase, muy particul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ada por quien entiende del asunt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70800" y="625320"/>
            <a:ext cx="661032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si tienes la suerte de tenerlos ce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y el coraje para hace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ff"/>
                </a:solidFill>
                <a:latin typeface="Comic Sans MS"/>
              </a:rPr>
              <a:t>enséñaselo a tus padres y a tus hijos. </a:t>
            </a:r>
            <a:r>
              <a:rPr b="0" lang="pt-BR" sz="28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cc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1280" y="4428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abla de cómo la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"política educativa de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Comic Sans MS"/>
              </a:rPr>
              <a:t>vida fácil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para los niños"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a originado una generación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sin concepto de la realidad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y cómo esta política ha llevado a las personas a fallar en sus vidas después de la escu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680" y="4370400"/>
            <a:ext cx="82854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Muy conciso, todos esperaban que fuera a ha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un discurso de una hora o más, habl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menos de 5 minutos, le aplaudieron má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10 minutos sin parar, dio las gracias y se f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enseguida en su helicóp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773360"/>
            <a:ext cx="864216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a vida no es fácil, acostúmbrate a ello</a:t>
            </a:r>
            <a:r>
              <a:rPr b="1" i="1" lang="pt-BR" sz="2800" spc="-1" strike="noStrike">
                <a:solidFill>
                  <a:srgbClr val="ffcc99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5360"/>
            <a:ext cx="86421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no está preocup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 tu autoest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l mundo espera que  hagas al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útil por él 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de sentirte bien con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628640"/>
            <a:ext cx="705816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ganarás 20.000 </a:t>
            </a:r>
            <a:r>
              <a:rPr b="0" i="1" lang="pt-BR" sz="2400" spc="-1" strike="noStrike">
                <a:solidFill>
                  <a:srgbClr val="ffcc99"/>
                </a:solidFill>
                <a:latin typeface="Times New Roman"/>
              </a:rPr>
              <a:t>$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al 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ada más por salir de la escuela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No serás vicepresidente de una empresa con coche y teléfono a tu disposición,</a:t>
            </a:r>
            <a:br>
              <a:rPr sz="2800"/>
            </a:b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hasta que con tu esfuerzo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 hayas conseguido comprar tu pro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coche y teléf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crees que tu profesor es du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pera a tener un Jef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Ese sí que no tendrá vocación de enseñanza ni la paciencia requer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341360"/>
            <a:ext cx="8642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Vender papel usado o trabajar los  días festivos no es ser lo último en la escala social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Tus abuelos tenían una palabra diferente para 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lo llamaban 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oportunidad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1082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73320" y="409680"/>
            <a:ext cx="13482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Regl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422100"/>
          </a:solidFill>
          <a:ln w="63360">
            <a:solidFill>
              <a:srgbClr val="4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77770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Si te equivocas, no le eches la culpa a tus padres o a la mala s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Por lo tanto </a:t>
            </a:r>
            <a:r>
              <a:rPr b="0" i="1" lang="pt-BR" sz="2800" spc="-1" strike="noStrike" u="sng">
                <a:solidFill>
                  <a:srgbClr val="ffcc99"/>
                </a:solidFill>
                <a:uFillTx/>
                <a:latin typeface="Comic Sans MS"/>
              </a:rPr>
              <a:t>no llorisquees por tus errores, aprende de ellos</a:t>
            </a:r>
            <a:r>
              <a:rPr b="0" i="1" lang="pt-BR" sz="28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2:29:12Z</dcterms:created>
  <dc:creator/>
  <dc:description/>
  <dc:language>en-US</dc:language>
  <cp:lastModifiedBy/>
  <dcterms:modified xsi:type="dcterms:W3CDTF">2007-12-14T20:00:23Z</dcterms:modified>
  <cp:revision>8</cp:revision>
  <dc:subject/>
  <dc:title>Diapositiva 1</dc:title>
</cp:coreProperties>
</file>