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ndian_summer%20M1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C1DA-8C6E-499F-98A2-FDB12E46E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49A2-EFEC-4B15-AD8C-3BF9059A1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A1CB-6D0F-4072-9C74-A0B1E1201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5D32-E6E2-4349-AA3D-2E2B505CF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8738-8CEB-47DC-B5F8-AFF761FC0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0451-6024-44F6-872F-573249E47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47CF-3259-43E7-B96A-90093D279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EDB4-B89A-4878-B31A-5E30860AA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D98A-CF11-4FCA-9468-C692529EF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04D3-2835-4806-9D83-E04E285F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A7EA-46C6-485A-ABD4-BD6656D5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3E38-6237-4B43-8615-43745219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26CEB-6184-4A8F-AE90-D56429524EF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indian_summer%20M1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63360"/>
            <a:ext cx="9144000" cy="6921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763640" y="2276640"/>
            <a:ext cx="698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83076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omic Sans MS"/>
              </a:rPr>
              <a:t>Aquí están algunos consejos que </a:t>
            </a:r>
            <a:r>
              <a:rPr b="1" lang="pt-BR" sz="3600" spc="-1" strike="noStrike" u="sng">
                <a:solidFill>
                  <a:srgbClr val="ffffff"/>
                </a:solidFill>
                <a:uFillTx/>
                <a:latin typeface="Comic Sans MS"/>
              </a:rPr>
              <a:t>Bill Gates</a:t>
            </a:r>
            <a:r>
              <a:rPr b="0" lang="pt-BR" sz="3600" spc="-1" strike="noStrike">
                <a:solidFill>
                  <a:srgbClr val="ffffff"/>
                </a:solidFill>
                <a:latin typeface="Comic Sans MS"/>
              </a:rPr>
              <a:t> recientemente dictó en una conferencia en una escuela secundaria sobre 11 cosas que los estudiantes 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omic Sans MS"/>
              </a:rPr>
              <a:t>aprenden en la escuel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  <p:sndAc>
      <p:stSnd>
        <p:snd r:embed="rId2" name="indian_summer%20M1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rcRect l="0" t="0" r="0" b="9053"/>
          <a:stretch/>
        </p:blipFill>
        <p:spPr>
          <a:xfrm>
            <a:off x="1332000" y="0"/>
            <a:ext cx="6480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108240" y="2022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973320" y="409680"/>
            <a:ext cx="1348200" cy="45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Regla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422100"/>
          </a:solidFill>
          <a:ln w="63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812000" y="0"/>
            <a:ext cx="1332000" cy="6858000"/>
          </a:xfrm>
          <a:prstGeom prst="rect">
            <a:avLst/>
          </a:prstGeom>
          <a:solidFill>
            <a:srgbClr val="422100"/>
          </a:solidFill>
          <a:ln w="63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0920" y="1125360"/>
            <a:ext cx="8642160" cy="3933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Antes de  nacer tú, tus padres n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eran tan críticos como ahora.</a:t>
            </a:r>
            <a:br>
              <a:rPr sz="2800"/>
            </a:b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Ellos se volvieron así por pagar tus cuentas, lavar tus ropas y oírte decir que son “ridículos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Por tanto, antes de salvar el planeta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la próxima generación, querie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remediar los errores de la gen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de tus padres, comienza limpiando las cosas de tu propia vida, </a:t>
            </a:r>
            <a:r>
              <a:rPr b="0" i="1" lang="pt-BR" sz="2800" spc="-1" strike="noStrike" u="sng">
                <a:solidFill>
                  <a:srgbClr val="ffcc99"/>
                </a:solidFill>
                <a:uFillTx/>
                <a:latin typeface="Comic Sans MS"/>
              </a:rPr>
              <a:t>empezando por tu habitación</a:t>
            </a: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rcRect l="0" t="0" r="0" b="9053"/>
          <a:stretch/>
        </p:blipFill>
        <p:spPr>
          <a:xfrm>
            <a:off x="1332000" y="0"/>
            <a:ext cx="6480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108240" y="2022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73320" y="409680"/>
            <a:ext cx="1348200" cy="45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Regla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422100"/>
          </a:solidFill>
          <a:ln w="63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812000" y="0"/>
            <a:ext cx="1332000" cy="6858000"/>
          </a:xfrm>
          <a:prstGeom prst="rect">
            <a:avLst/>
          </a:prstGeom>
          <a:solidFill>
            <a:srgbClr val="422100"/>
          </a:solidFill>
          <a:ln w="63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1268280"/>
            <a:ext cx="8642160" cy="3933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La escuela puede haber eliminado la distinción entre excelentes, buenos y regulares, pero </a:t>
            </a:r>
            <a:r>
              <a:rPr b="0" i="1" lang="pt-BR" sz="2800" spc="-1" strike="noStrike" u="sng">
                <a:solidFill>
                  <a:srgbClr val="ffcc99"/>
                </a:solidFill>
                <a:uFillTx/>
                <a:latin typeface="Comic Sans MS"/>
              </a:rPr>
              <a:t>la vida no es así</a:t>
            </a: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. En muchas escuelas hoy no repites el curso, hacen que tus tareas sean cada vez más fáciles y tienes las oportunidades que necesites hasta aprob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Esto no se parece en nada a la vida real. Si fallas, </a:t>
            </a:r>
            <a:r>
              <a:rPr b="0" i="1" lang="pt-BR" sz="2800" spc="-1" strike="noStrike" u="sng">
                <a:solidFill>
                  <a:srgbClr val="ffcc99"/>
                </a:solidFill>
                <a:uFillTx/>
                <a:latin typeface="Comic Sans MS"/>
              </a:rPr>
              <a:t>estás despedido</a:t>
            </a: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Así que acierta a la prime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rcRect l="0" t="0" r="0" b="9053"/>
          <a:stretch/>
        </p:blipFill>
        <p:spPr>
          <a:xfrm>
            <a:off x="1332000" y="0"/>
            <a:ext cx="6480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108240" y="2022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73320" y="409680"/>
            <a:ext cx="1348200" cy="45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Regla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422100"/>
          </a:solidFill>
          <a:ln w="63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812000" y="0"/>
            <a:ext cx="1332000" cy="6858000"/>
          </a:xfrm>
          <a:prstGeom prst="rect">
            <a:avLst/>
          </a:prstGeom>
          <a:solidFill>
            <a:srgbClr val="422100"/>
          </a:solidFill>
          <a:ln w="63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1341360"/>
            <a:ext cx="8642160" cy="265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La vida no está dividida en bimest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Tú no tendrás largas vacaciones de verano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no encontrarás quien te ayude a cumplir con tus tareas, ni jefes que se interesen en ayudarte para que te encuentres a ti mismo. Todo esto y mucho más, </a:t>
            </a:r>
            <a:r>
              <a:rPr b="0" i="1" lang="pt-BR" sz="2800" spc="-1" strike="noStrike" u="sng">
                <a:solidFill>
                  <a:srgbClr val="ffcc99"/>
                </a:solidFill>
                <a:uFillTx/>
                <a:latin typeface="Comic Sans MS"/>
              </a:rPr>
              <a:t>tendrás que hacerlo en tu tiempo libre</a:t>
            </a: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rcRect l="0" t="0" r="0" b="9053"/>
          <a:stretch/>
        </p:blipFill>
        <p:spPr>
          <a:xfrm>
            <a:off x="1332000" y="0"/>
            <a:ext cx="6480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108240" y="2022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76480" y="409680"/>
            <a:ext cx="1543320" cy="45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Regla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422100"/>
          </a:solidFill>
          <a:ln w="63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812000" y="0"/>
            <a:ext cx="1332000" cy="6858000"/>
          </a:xfrm>
          <a:prstGeom prst="rect">
            <a:avLst/>
          </a:prstGeom>
          <a:solidFill>
            <a:srgbClr val="422100"/>
          </a:solidFill>
          <a:ln w="63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1341360"/>
            <a:ext cx="864216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La televisión NO es la vida re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En la vida real, las personas tienen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dejar los juegos, el bar, los bailes o los amig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 u="sng">
                <a:solidFill>
                  <a:srgbClr val="ffcc99"/>
                </a:solidFill>
                <a:uFillTx/>
                <a:latin typeface="Comic Sans MS"/>
              </a:rPr>
              <a:t>para irse a trabajar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rcRect l="0" t="0" r="0" b="9053"/>
          <a:stretch/>
        </p:blipFill>
        <p:spPr>
          <a:xfrm>
            <a:off x="1332000" y="0"/>
            <a:ext cx="6480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108240" y="2022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76480" y="409680"/>
            <a:ext cx="1543320" cy="45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Regla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422100"/>
          </a:solidFill>
          <a:ln w="63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812000" y="0"/>
            <a:ext cx="1332000" cy="6858000"/>
          </a:xfrm>
          <a:prstGeom prst="rect">
            <a:avLst/>
          </a:prstGeom>
          <a:solidFill>
            <a:srgbClr val="422100"/>
          </a:solidFill>
          <a:ln w="63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1197000"/>
            <a:ext cx="864216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 u="sng">
                <a:solidFill>
                  <a:srgbClr val="ffcc99"/>
                </a:solidFill>
                <a:uFillTx/>
                <a:latin typeface="Comic Sans MS"/>
              </a:rPr>
              <a:t>Sé amable con los estudiosos</a:t>
            </a: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 (aquellos estudian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que tú y muchos otros juzgan que son  sonso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 u="sng">
                <a:solidFill>
                  <a:srgbClr val="ffcc99"/>
                </a:solidFill>
                <a:uFillTx/>
                <a:latin typeface="Comic Sans MS"/>
              </a:rPr>
              <a:t>Existen muchas probabilidades 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 u="sng">
                <a:solidFill>
                  <a:srgbClr val="ffcc99"/>
                </a:solidFill>
                <a:uFillTx/>
                <a:latin typeface="Comic Sans MS"/>
              </a:rPr>
              <a:t>que termines trabajando PARA uno de ellos</a:t>
            </a: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42920" y="692280"/>
            <a:ext cx="8893080" cy="222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Dueño de la mayor fortuna personal del mundo, y de Microsoft, la única empresa que se enfrentó y venció a IBM desde su fundación a mediados del siglo XX, la empresa que construyó el primer Cerebro Eletrónico (computador) del mun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63640" y="44280"/>
            <a:ext cx="54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99"/>
                </a:solidFill>
                <a:latin typeface="Times New Roman"/>
              </a:rPr>
              <a:t>Bill Gat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75040" y="3787920"/>
            <a:ext cx="869544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Imprime, relee, repasa y muéstraselo a todos los qu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sinceramente creas que puedan ser tus amig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o que merezcan una clase, muy particular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dada por quien entiende del asunto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70800" y="625320"/>
            <a:ext cx="6610320" cy="11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99ff"/>
                </a:solidFill>
                <a:latin typeface="Comic Sans MS"/>
              </a:rPr>
              <a:t>Y si tienes la suerte de tenerlos cerc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99ff"/>
                </a:solidFill>
                <a:latin typeface="Comic Sans MS"/>
              </a:rPr>
              <a:t>y el coraje para hacerlo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99ff"/>
                </a:solidFill>
                <a:latin typeface="Comic Sans MS"/>
              </a:rPr>
              <a:t>enséñaselo a tus padres y a tus hijos. </a:t>
            </a:r>
            <a:r>
              <a:rPr b="0" lang="pt-BR" sz="2800" spc="-1" strike="noStrike">
                <a:solidFill>
                  <a:srgbClr val="0099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ccff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1280" y="44280"/>
            <a:ext cx="8964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Habla de cómo la </a:t>
            </a:r>
            <a:r>
              <a:rPr b="1" lang="pt-BR" sz="3200" spc="-1" strike="noStrike">
                <a:solidFill>
                  <a:srgbClr val="000000"/>
                </a:solidFill>
                <a:latin typeface="Comic Sans MS"/>
              </a:rPr>
              <a:t>"política educativa de </a:t>
            </a:r>
            <a:r>
              <a:rPr b="1" lang="pt-BR" sz="3200" spc="-1" strike="noStrike" u="sng">
                <a:solidFill>
                  <a:srgbClr val="000000"/>
                </a:solidFill>
                <a:uFillTx/>
                <a:latin typeface="Comic Sans MS"/>
              </a:rPr>
              <a:t>vida fácil</a:t>
            </a:r>
            <a:r>
              <a:rPr b="1" lang="pt-BR" sz="3200" spc="-1" strike="noStrike">
                <a:solidFill>
                  <a:srgbClr val="000000"/>
                </a:solidFill>
                <a:latin typeface="Comic Sans MS"/>
              </a:rPr>
              <a:t> para los niños" </a:t>
            </a: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ha originado una generación </a:t>
            </a:r>
            <a:r>
              <a:rPr b="1" lang="pt-BR" sz="3200" spc="-1" strike="noStrike">
                <a:solidFill>
                  <a:srgbClr val="000000"/>
                </a:solidFill>
                <a:latin typeface="Comic Sans MS"/>
              </a:rPr>
              <a:t>sin concepto de la realidad</a:t>
            </a: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y cómo esta política ha llevado a las personas a fallar en sus vidas después de la escuel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73680" y="4370400"/>
            <a:ext cx="8285400" cy="222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Comic Sans MS"/>
              </a:rPr>
              <a:t>Muy conciso, todos esperaban que fuera a hac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Comic Sans MS"/>
              </a:rPr>
              <a:t>un discurso de una hora o más, habló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Comic Sans MS"/>
              </a:rPr>
              <a:t>menos de 5 minutos, le aplaudieron má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Comic Sans MS"/>
              </a:rPr>
              <a:t>10 minutos sin parar, dio las gracias y se f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Comic Sans MS"/>
              </a:rPr>
              <a:t>enseguida en su helicópte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9053"/>
          <a:stretch/>
        </p:blipFill>
        <p:spPr>
          <a:xfrm>
            <a:off x="1332000" y="0"/>
            <a:ext cx="6480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108240" y="2022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73320" y="409680"/>
            <a:ext cx="1348200" cy="45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Regla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422100"/>
          </a:solidFill>
          <a:ln w="63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812000" y="0"/>
            <a:ext cx="1332000" cy="6858000"/>
          </a:xfrm>
          <a:prstGeom prst="rect">
            <a:avLst/>
          </a:prstGeom>
          <a:solidFill>
            <a:srgbClr val="422100"/>
          </a:solidFill>
          <a:ln w="63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1773360"/>
            <a:ext cx="8642160" cy="45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La vida no es fácil, acostúmbrate a ello</a:t>
            </a:r>
            <a:r>
              <a:rPr b="1" i="1" lang="pt-BR" sz="2800" spc="-1" strike="noStrike">
                <a:solidFill>
                  <a:srgbClr val="ffcc99"/>
                </a:solidFill>
                <a:latin typeface="Times New Roman"/>
              </a:rPr>
              <a:t>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0" r="0" b="9053"/>
          <a:stretch/>
        </p:blipFill>
        <p:spPr>
          <a:xfrm>
            <a:off x="1332000" y="0"/>
            <a:ext cx="6480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108240" y="2022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73320" y="409680"/>
            <a:ext cx="1348200" cy="45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Regla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422100"/>
          </a:solidFill>
          <a:ln w="63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812000" y="0"/>
            <a:ext cx="1332000" cy="6858000"/>
          </a:xfrm>
          <a:prstGeom prst="rect">
            <a:avLst/>
          </a:prstGeom>
          <a:solidFill>
            <a:srgbClr val="422100"/>
          </a:solidFill>
          <a:ln w="63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1125360"/>
            <a:ext cx="8642160" cy="265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El mundo no está preocupad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por  tu autoesti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El mundo espera que  hagas alg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útil por él 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de sentirte bien contig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mism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0" r="0" b="9053"/>
          <a:stretch/>
        </p:blipFill>
        <p:spPr>
          <a:xfrm>
            <a:off x="1332000" y="0"/>
            <a:ext cx="6480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108240" y="2022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73320" y="409680"/>
            <a:ext cx="1348200" cy="45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Regla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422100"/>
          </a:solidFill>
          <a:ln w="63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812000" y="0"/>
            <a:ext cx="1332000" cy="6858000"/>
          </a:xfrm>
          <a:prstGeom prst="rect">
            <a:avLst/>
          </a:prstGeom>
          <a:solidFill>
            <a:srgbClr val="422100"/>
          </a:solidFill>
          <a:ln w="63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16000" y="1628640"/>
            <a:ext cx="7058160" cy="3080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No ganarás 20.000 </a:t>
            </a:r>
            <a:r>
              <a:rPr b="0" i="1" lang="pt-BR" sz="2400" spc="-1" strike="noStrike">
                <a:solidFill>
                  <a:srgbClr val="ffcc99"/>
                </a:solidFill>
                <a:latin typeface="Times New Roman"/>
              </a:rPr>
              <a:t>$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al m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nada más por salir de la escuela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No serás vicepresidente de una empresa con coche y teléfono a tu disposición,</a:t>
            </a:r>
            <a:br>
              <a:rPr sz="2800"/>
            </a:br>
            <a:r>
              <a:rPr b="0" i="1" lang="pt-BR" sz="2800" spc="-1" strike="noStrike" u="sng">
                <a:solidFill>
                  <a:srgbClr val="ffcc99"/>
                </a:solidFill>
                <a:uFillTx/>
                <a:latin typeface="Comic Sans MS"/>
              </a:rPr>
              <a:t>hasta que con tu esfuerzo</a:t>
            </a: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 hayas conseguido comprar tu propi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coche y teléfo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0" t="0" r="0" b="9053"/>
          <a:stretch/>
        </p:blipFill>
        <p:spPr>
          <a:xfrm>
            <a:off x="1332000" y="0"/>
            <a:ext cx="6480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108240" y="2022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73320" y="409680"/>
            <a:ext cx="1348200" cy="45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Regla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422100"/>
          </a:solidFill>
          <a:ln w="63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812000" y="0"/>
            <a:ext cx="1332000" cy="6858000"/>
          </a:xfrm>
          <a:prstGeom prst="rect">
            <a:avLst/>
          </a:prstGeom>
          <a:solidFill>
            <a:srgbClr val="422100"/>
          </a:solidFill>
          <a:ln w="63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1341360"/>
            <a:ext cx="864216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Si crees que tu profesor es duro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espera a tener un Jefe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Ese sí que no tendrá vocación de enseñanza ni la paciencia requeri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0" t="0" r="0" b="9053"/>
          <a:stretch/>
        </p:blipFill>
        <p:spPr>
          <a:xfrm>
            <a:off x="1332000" y="0"/>
            <a:ext cx="6480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08240" y="2022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73320" y="409680"/>
            <a:ext cx="1348200" cy="45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Regla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422100"/>
          </a:solidFill>
          <a:ln w="63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812000" y="0"/>
            <a:ext cx="1332000" cy="6858000"/>
          </a:xfrm>
          <a:prstGeom prst="rect">
            <a:avLst/>
          </a:prstGeom>
          <a:solidFill>
            <a:srgbClr val="422100"/>
          </a:solidFill>
          <a:ln w="63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1341360"/>
            <a:ext cx="864216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Vender papel usado o trabajar los  días festivos no es ser lo último en la escala social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Tus abuelos tenían una palabra diferente para e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lo llamaban  </a:t>
            </a:r>
            <a:r>
              <a:rPr b="0" i="1" lang="pt-BR" sz="2800" spc="-1" strike="noStrike" u="sng">
                <a:solidFill>
                  <a:srgbClr val="ffcc99"/>
                </a:solidFill>
                <a:uFillTx/>
                <a:latin typeface="Comic Sans MS"/>
              </a:rPr>
              <a:t>oportunidad</a:t>
            </a: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rcRect l="0" t="0" r="0" b="9053"/>
          <a:stretch/>
        </p:blipFill>
        <p:spPr>
          <a:xfrm>
            <a:off x="1332000" y="0"/>
            <a:ext cx="6480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108240" y="2022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73320" y="409680"/>
            <a:ext cx="1348200" cy="45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Regla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422100"/>
          </a:solidFill>
          <a:ln w="63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12000" y="0"/>
            <a:ext cx="1332000" cy="6858000"/>
          </a:xfrm>
          <a:prstGeom prst="rect">
            <a:avLst/>
          </a:prstGeom>
          <a:solidFill>
            <a:srgbClr val="422100"/>
          </a:solidFill>
          <a:ln w="63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5640" y="1700280"/>
            <a:ext cx="777708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Si te equivocas, no le eches la culpa a tus padres o a la mala suer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Por lo tanto </a:t>
            </a:r>
            <a:r>
              <a:rPr b="0" i="1" lang="pt-BR" sz="2800" spc="-1" strike="noStrike" u="sng">
                <a:solidFill>
                  <a:srgbClr val="ffcc99"/>
                </a:solidFill>
                <a:uFillTx/>
                <a:latin typeface="Comic Sans MS"/>
              </a:rPr>
              <a:t>no llorisquees por tus errores, aprende de ellos</a:t>
            </a: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7T22:29:12Z</dcterms:created>
  <dc:creator/>
  <dc:description/>
  <dc:language>en-US</dc:language>
  <cp:lastModifiedBy/>
  <dcterms:modified xsi:type="dcterms:W3CDTF">2007-12-14T20:00:23Z</dcterms:modified>
  <cp:revision>8</cp:revision>
  <dc:subject/>
  <dc:title>Diapositiva 1</dc:title>
</cp:coreProperties>
</file>