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509-6A36-4CC8-A7EE-72E78ACC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EDB-255B-4DB3-BB63-7683966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B18-87AA-4A76-B059-0C4BE26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FB5-8003-4661-936A-1DFCC555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AFF-381D-43B6-997B-10ECCF8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120-7D07-4887-AA5B-4A859A84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3A4-8377-4836-9722-6A125417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AA4-F722-46A6-9431-F96B50E3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7D1-AE0C-4BA4-A205-FA4BD26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15A-1299-4988-8AD2-11A3F36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678-778D-4B56-9C91-F72613F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A85-D463-45BA-9D0A-3A2A056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932D-A03A-4FC6-8D45-80019FE7CF5C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ana%20Mouskouri%20-%20Concierto%20En%20Aranjuez%20-%2011%20-%20Una%20Furtiva%20Lagrima.wav" TargetMode="External"/><Relationship Id="rId2" Type="http://schemas.microsoft.com/office/2007/relationships/media" Target="file:///tmp/home/.config/libreoffice/4/user/gallery/Nana%20Mouskouri%20-%20Concierto%20En%20Aranjuez%20-%2011%20-%20Una%20Furtiva%20Lagrim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421000"/>
            <a:ext cx="822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 Palácio de Beylerbeyi, em Istambul, na Turquia, foi projectado no estilo barroco do último período Otomano e construído entre 1861 e 1865 por membros da família Balyan sob as ordens do sultão Abdül Aziz. Existira neste local um anterior palácio e os jardins já tinham sido projectados por Murat IV em 1639. À medida que o Império Otomano crescia os palácios proliferavam em grandiosidade e orgulho. Abdül Aziz construiu este palácio como um local de lazer para entreter dignitários e realez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 imperatriz Eugénia de França (mulher de Napoleão III) foi hóspede do palácio em 1869, quando esteve aí para inaugurar o Canal do Sue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 sala mais atractiva é o salão de recepção, com fonte e piscina, hoje sem água. A água corrente era muito popular nas casas otomanas devido ao som agradável que produzia e pelo efeito refresca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s candelabros de cristal são quase todos da Boém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Os jardins, dos quais se tem uma vista espectacular sobre o Estreito do Bósforo, são magníf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260280"/>
            <a:ext cx="748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LÁC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YBERLEY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tambul-Turqu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54144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496600">
            <a:off x="299520" y="479520"/>
            <a:ext cx="216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gressão automática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5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789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-1440"/>
            <a:ext cx="4788000" cy="685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500364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84360" y="907920"/>
            <a:ext cx="755964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Música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Nana Mouskou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(una furtiva lágrima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Fotos e Formataçã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jmpedrosam@gmail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p:transition spd="slow" advTm="24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6:07:28Z</dcterms:created>
  <dc:creator>CLIENTE</dc:creator>
  <dc:description/>
  <dc:language>en-US</dc:language>
  <cp:lastModifiedBy>Jose Luis</cp:lastModifiedBy>
  <dcterms:modified xsi:type="dcterms:W3CDTF">2008-03-09T20:46:36Z</dcterms:modified>
  <cp:revision>6</cp:revision>
  <dc:subject/>
  <dc:title>Diapositivo 1</dc:title>
</cp:coreProperties>
</file>