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230-0D77-4AAE-BCEE-4A6BDB2D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40E-54D5-4796-B4A3-76119F04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AA0-3668-4D02-BC29-3F39D217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171-1F99-47DF-AC9D-666D391F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A08-DFA4-4B7A-B2A3-E4315E15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65C-F61A-48F6-8991-DF3B7186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101-5E20-4521-9BB7-402F9A13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9EC-3E0F-4157-8AE7-AD7B86B4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8BC-7EB0-4808-8907-72394096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084-B83F-4D17-99D8-DDA1A2A2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73E-BF39-4FA3-9E9C-3A9C6B09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A13-7431-424A-ACB0-389E94F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8E82-ABDD-491C-98D7-A2B032CCD5EE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ana%20Mouskouri%20-%20Concierto%20En%20Aranjuez%20-%2011%20-%20Una%20Furtiva%20Lagrima.wav" TargetMode="External"/><Relationship Id="rId2" Type="http://schemas.microsoft.com/office/2007/relationships/media" Target="file:///tmp/home/.config/libreoffice/4/user/gallery/Nana%20Mouskouri%20-%20Concierto%20En%20Aranjuez%20-%2011%20-%20Una%20Furtiva%20Lagrim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421000"/>
            <a:ext cx="822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O Palácio de Beylerbeyi, em Istambul, na Turquia, foi projectado no estilo barroco do último período Otomano e construído entre 1861 e 1865 por membros da família Balyan sob as ordens do sultão Abdül Aziz. Existira neste local um anterior palácio e os jardins já tinham sido projectados por Murat IV em 1639. À medida que o Império Otomano crescia os palácios proliferavam em grandiosidade e orgulho. Abdül Aziz construiu este palácio como um local de lazer para entreter dignitários e realez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 imperatriz Eugénia de França (mulher de Napoleão III) foi hóspede do palácio em 1869, quando esteve aí para inaugurar o Canal do Sue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 sala mais atractiva é o salão de recepção, com fonte e piscina, hoje sem água. A água corrente era muito popular nas casas otomanas devido ao som agradável que produzia e pelo efeito refrescan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Os candelabros de cristal são quase todos da Boém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Os jardins, dos quais se tem uma vista espectacular sobre o Estreito do Bósforo, são magníf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260280"/>
            <a:ext cx="748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LÁC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YBERLEY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tambul-Turqu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54144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496600">
            <a:off x="299520" y="479520"/>
            <a:ext cx="216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gressão automática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5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789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56000" y="-1440"/>
            <a:ext cx="4788000" cy="685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500364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84360" y="907920"/>
            <a:ext cx="755964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Música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Nana Mouskou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(una furtiva lágrima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Fotos e Formataçã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jmpedrosam@gmail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ransition spd="slow" advTm="24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6:07:28Z</dcterms:created>
  <dc:creator>CLIENTE</dc:creator>
  <dc:description/>
  <dc:language>en-US</dc:language>
  <cp:lastModifiedBy>Jose Luis</cp:lastModifiedBy>
  <dcterms:modified xsi:type="dcterms:W3CDTF">2008-03-09T20:46:36Z</dcterms:modified>
  <cp:revision>6</cp:revision>
  <dc:subject/>
  <dc:title>Diapositivo 1</dc:title>
</cp:coreProperties>
</file>