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lasicaBeethovenSonataClarodeLuna.wav" ContentType="audio/x-wav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2A3-A43F-4BA1-A42C-96D7FA99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888-253C-4083-9711-5D13FC9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9DF-3DF1-4CED-8933-5B15383B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C59-A78D-4902-B6EB-BAD893E7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C2B-CCA0-4B6C-A510-5EECFF40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1FE-5C01-4E62-A59D-FE070338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E92-1C10-4E60-ABAD-2342330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4E7-0E52-4A6A-B9CD-EDE41C30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233-4732-42F8-948E-B833045E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ADE-8160-4E13-8F75-275D8072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3D2-1323-487A-B7AC-E636D673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DC1-C36B-4052-B22B-5784C73D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77F7-F42B-4E70-A79C-238AC4C16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sicaBeethovenSonataClarodeLun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34136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  <a:ea typeface="Arial"/>
              </a:rPr>
              <a:t>MAMÁ NO TIENE NOV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lasica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333360"/>
            <a:ext cx="5832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os novios se dicen cosas románticas como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"¡Cuánto te amo!", en vez de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"¿fuiste al banco?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Mi prima y su novio no pueden dejar de mirarse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Cuando mamá pasa delante de papá, él inclina la cabeza para no perder detalle d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o que hay en la te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0280"/>
            <a:ext cx="63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 veces, papá le da un abrazo sorpresa a mamá, pero ella tiene que zafar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 porque siempre está                                          a las carreras.   Además,                     mis papás sólo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se dan la mano cuando en  Misa el padre d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000" y="4365720"/>
            <a:ext cx="68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ense fraternalmente la paz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7440" y="549360"/>
            <a:ext cx="586728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 creo que ella me dice que son novios para que no me entere de que “cortaron” cuando se casar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 verdad es que mi mamá no tiene novio y mi papá no tiene no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¡Qué aburrido! 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¡SÓLO SON ESPOS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92280"/>
            <a:ext cx="525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  <a:ea typeface="Arial"/>
              </a:rPr>
              <a:t>Te invito a que vuelvas a esos detalles que cuando novios tanto disfrutabas y verás los cambios que se  reflejarán en toda la familia y en ti mismo. Recuerda que la flor del amor necesita cuidados, atención, comprensión, pero sobre todo, necesita de tu amor incondicional y to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342900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Palatino Linotype"/>
              </a:rPr>
              <a:t>¡QUE DIOS TE BENDIGA!</a:t>
            </a:r>
            <a:endParaRPr b="1" i="1" lang="en-US" sz="18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Palatino Linotype"/>
              <a:ea typeface="Palatino Linotyp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00360" y="1125360"/>
            <a:ext cx="345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ffff"/>
                  </a:solidFill>
                  <a:prstDash val="sysDot"/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¡FELIZ DIA!</a:t>
            </a:r>
            <a:endParaRPr b="1" i="1" lang="en-US" sz="1800" spc="1" strike="noStrike">
              <a:ln w="12600">
                <a:solidFill>
                  <a:srgbClr val="ffffff"/>
                </a:solidFill>
                <a:prstDash val="sysDot"/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549360"/>
            <a:ext cx="5029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e visita en casa de mi tío, me divierte ver a mi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prima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grande prepararse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uando espera a su novio; toda contenta se peina, perfuma y pinta l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bios, se viste muy guapa y corre de un lado a otro de la casa, arreglando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todo con detalle para que su "mi amor" no encuentre defecto alguno en el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549360"/>
            <a:ext cx="54003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ntonces llega el novio oliendo a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ucha loción y cuando se miran ... ¡Uff!, parece que flotan en el aire,  se abrazan con ternura y     ella le ofrece algo de tomar junto con las galletas que le preparó durante la tard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demás, él celebra todo lo que ella con esmero, le prepara para ce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76280"/>
            <a:ext cx="532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uego se sientan a platicar tonter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 y media por horas, después de lograr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que los niños desaparezcamos de la sala. Se escuchan el uno al otro sin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der detalle ni soltarse sus manos, hasta que al susodicho no le queda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ás remedio que despedirse cuando mi tío empieza a rondar con la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lmohada bajo el br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765000"/>
            <a:ext cx="50292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 día siguiente le pregunto a mi mamá ¿quien es tu novio?, y me dice muy sonriente que su novio es mi papá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mami, en serio ..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o ella insis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49360"/>
            <a:ext cx="575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Cómo va a ser mi papá su novio?, en primera,  él nunca llega con un ramo de flores, ni chocolates; si le da un  regalo a mamá es en su cumpleaños y en Navidad, pero nunca he visto que el novio de mi prima se presente con una licuadora o dinero para que se compre al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125360"/>
            <a:ext cx="51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demás mamá no pone cara de Blanca Nieves cuando papá llega del trabajo, ni él sonríe como Príncipe Azul cuando la mi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620640"/>
            <a:ext cx="55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má no corre a arreglarse el peinado, ni a pintarse los labios cuando suena el timbre de la puerta y apenas voltea a verlo para decir "hola“ porque está revisando las t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437000"/>
            <a:ext cx="87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 saludo de mi papá en vez de "hola mi vida" es : "Hola ¡que día!" y de inmediato  se pone en las peores fachas para ‘estar cómod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65000"/>
            <a:ext cx="568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 lugar de:                        "¿qué se te antoja cenar?", mi mamá le pregunta temerosa "Qué?, ¿quieres cenar?" y cuando creo que papá le va a decir "que bonita te ves hoy",                      le pregunta "¿no viste donde quedó el control de la televisión?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5:29:41Z</dcterms:created>
  <dc:creator>JUAN CARLOS LOPEZ</dc:creator>
  <dc:description/>
  <dc:language>en-US</dc:language>
  <cp:lastModifiedBy>izambrano</cp:lastModifiedBy>
  <dcterms:modified xsi:type="dcterms:W3CDTF">2007-02-16T14:31:42Z</dcterms:modified>
  <cp:revision>12</cp:revision>
  <dc:subject>REFLEXION</dc:subject>
  <dc:title>MAMA NO TIENE NOVIO</dc:title>
</cp:coreProperties>
</file>