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lasicaBeethovenSonataClarodeLuna.wav" ContentType="audio/x-wav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FA4-229F-41BD-B5E2-8BCF3082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6A2-29FC-4BFE-9593-9A059962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BF8-A4E3-4459-ACFF-CEA8F26F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914-B911-4ED2-A61A-BD80BA00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855-3B00-452B-9675-2555CF1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7F1-ED80-4889-B587-6097D22C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7E6-23EF-4F74-9E5C-23F9400D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C10-0ECB-4CE5-AE8B-4B842B2E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80F-5F93-4AE6-BD09-D5204498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502-2567-4DD3-BE16-96C92F77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7E9-F07B-4B56-B52F-84DB1DBC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5AB-EE9C-41E3-AFD6-1C28F15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B83C-3508-4731-9AA0-B3A7715A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sicaBeethovenSonataClarodeLun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34136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  <a:ea typeface="Arial"/>
              </a:rPr>
              <a:t>MAMÁ NO TIENE NOV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lasica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333360"/>
            <a:ext cx="5832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os novios se dicen cosas románticas como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"¡Cuánto te amo!", en vez de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"¿fuiste al banco?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Mi prima y su novio no pueden dejar de mirarse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Cuando mamá pasa delante de papá, él inclina la cabeza para no perder detalle d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o que hay en la te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0280"/>
            <a:ext cx="63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 veces, papá le da un abrazo sorpresa a mamá, pero ella tiene que zafar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 porque siempre está                                          a las carreras.   Además,                     mis papás sólo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se dan la mano cuando en  Misa el padre d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000" y="4365720"/>
            <a:ext cx="68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Dense fraternalmente la paz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7440" y="549360"/>
            <a:ext cx="586728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 creo que ella me dice que son novios para que no me entere de que “cortaron” cuando se casar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 verdad es que mi mamá no tiene novio y mi papá no tiene no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¡Qué aburrido! 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¡SÓLO SON ESPOS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92280"/>
            <a:ext cx="525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  <a:ea typeface="Arial"/>
              </a:rPr>
              <a:t>Te invito a que vuelvas a esos detalles que cuando novios tanto disfrutabas y verás los cambios que se  reflejarán en toda la familia y en ti mismo. Recuerda que la flor del amor necesita cuidados, atención, comprensión, pero sobre todo, necesita de tu amor incondicional y to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342900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Palatino Linotype"/>
              </a:rPr>
              <a:t>¡QUE DIOS TE BENDIGA!</a:t>
            </a:r>
            <a:endParaRPr b="1" i="1" lang="en-US" sz="18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Palatino Linotype"/>
              <a:ea typeface="Palatino Linotyp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00360" y="1125360"/>
            <a:ext cx="345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ffff"/>
                  </a:solidFill>
                  <a:prstDash val="sysDot"/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latino Linotype"/>
              </a:rPr>
              <a:t>¡FELIZ DIA!</a:t>
            </a:r>
            <a:endParaRPr b="1" i="1" lang="en-US" sz="1800" spc="1" strike="noStrike">
              <a:ln w="12600">
                <a:solidFill>
                  <a:srgbClr val="ffffff"/>
                </a:solidFill>
                <a:prstDash val="sysDot"/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549360"/>
            <a:ext cx="5029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e visita en casa de mi tío, me divierte ver a mi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prima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grande prepararse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uando espera a su novio; toda contenta se peina, perfuma y pinta l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bios, se viste muy guapa y corre de un lado a otro de la casa, arregland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todo con detalle para que su "mi amor" no encuentre defecto alguno en el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549360"/>
            <a:ext cx="54003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ntonces llega el novio oliendo a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ucha loción y cuando se miran ... ¡Uff!, parece que flotan en el aire,  se abrazan con ternura y     ella le ofrece algo de tomar junto con las galletas que le preparó durante la tard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demás, él celebra todo lo que ella con esmero, le prepara para ce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76280"/>
            <a:ext cx="532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uego se sientan a platicar tonter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 y media por horas, después de lograr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que los niños desaparezcamos de la sala. Se escuchan el uno al otro sin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der detalle ni soltarse sus manos, hasta que al susodicho no le queda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ás remedio que despedirse cuando mi tío empieza a rondar con la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lmohada bajo el br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765000"/>
            <a:ext cx="50292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 día siguiente le pregunto a mi mamá ¿quien es tu novio?, y me dice muy sonriente que su novio es mi papá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mami, en serio ..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o ella insis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49360"/>
            <a:ext cx="575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Cómo va a ser mi papá su novio?, en primera,  él nunca llega con un ramo de flores, ni chocolates; si le da un  regalo a mamá es en su cumpleaños y en Navidad, pero nunca he visto que el novio de mi prima se presente con una licuadora o dinero para que se compre al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125360"/>
            <a:ext cx="51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demás mamá no pone cara de Blanca Nieves cuando papá llega del trabajo, ni él sonríe como Príncipe Azul cuando la mi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620640"/>
            <a:ext cx="55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má no corre a arreglarse el peinado, ni a pintarse los labios cuando suena el timbre de la puerta y apenas voltea a verlo para decir "hola“ porque está revisando las t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437000"/>
            <a:ext cx="87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 saludo de mi papá en vez de "hola mi vida" es : "Hola ¡que día!" y de inmediato  se pone en las peores fachas para ‘estar cómod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65000"/>
            <a:ext cx="568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 lugar de:                        "¿qué se te antoja cenar?", mi mamá le pregunta temerosa "Qué?, ¿quieres cenar?" y cuando creo que papá le va a decir "que bonita te ves hoy",                      le pregunta "¿no viste donde quedó el control de la televisión?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5:29:41Z</dcterms:created>
  <dc:creator>JUAN CARLOS LOPEZ</dc:creator>
  <dc:description/>
  <dc:language>en-US</dc:language>
  <cp:lastModifiedBy>izambrano</cp:lastModifiedBy>
  <dcterms:modified xsi:type="dcterms:W3CDTF">2007-02-16T14:31:42Z</dcterms:modified>
  <cp:revision>12</cp:revision>
  <dc:subject>REFLEXION</dc:subject>
  <dc:title>MAMA NO TIENE NOVIO</dc:title>
</cp:coreProperties>
</file>