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5.gif" ContentType="image/gif"/>
  <Override PartName="/ppt/media/image1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media/Christmas-CelineDion%5B1%5D.wav" ContentType="audio/x-wav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3.jpeg" ContentType="image/jpe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730-4AC8-4F41-B7D9-BF867245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2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BFB-4E34-4AF0-B932-9EA9CBC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0E0-5496-42A1-9234-5FD8C473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2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2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2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F19-F30D-4797-940E-02A43F38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26C-5DA2-4798-945E-DDB65E0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C49-4E71-430F-BA92-ED40F92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F12-FDDD-4F2D-847F-1C322BE6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8EB-9A3E-440D-AC12-BD4623C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AFE-C6AD-498A-8FFC-C8C6DF4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F7E-F0E2-4381-B17C-537C38A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2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D10-C1F8-49D9-9A49-A6A7E7B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2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AC4-B415-4F1E-8048-E8145CB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7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D7EE-0971-476C-9127-42646C84E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2.gif"/><Relationship Id="rId19" Type="http://schemas.openxmlformats.org/officeDocument/2006/relationships/hyperlink" Target="http://www.navidaddedeseos.com/" TargetMode="External"/><Relationship Id="rId20" Type="http://schemas.openxmlformats.org/officeDocument/2006/relationships/image" Target="../media/image7.png"/><Relationship Id="rId21" Type="http://schemas.openxmlformats.org/officeDocument/2006/relationships/audio" Target="../media/Christmas-CelineDion%5B1%5D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vidaddedeseo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446840" y="1916280"/>
            <a:ext cx="625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6000" spc="-1" strike="noStrike">
                <a:solidFill>
                  <a:srgbClr val="ffffff"/>
                </a:solidFill>
                <a:latin typeface="Tahoma"/>
              </a:rPr>
              <a:t>UN AÑO NUEVO</a:t>
            </a:r>
            <a:endParaRPr b="0" lang="en-US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592000" y="573408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Audio: </a:t>
            </a:r>
            <a:r>
              <a:rPr b="1" i="1" lang="pt-PT" sz="2000" spc="-1" strike="noStrike">
                <a:solidFill>
                  <a:srgbClr val="ffffff"/>
                </a:solidFill>
                <a:latin typeface="Tahoma"/>
              </a:rPr>
              <a:t>Christmas </a:t>
            </a:r>
            <a:r>
              <a:rPr b="1" lang="pt-PT" sz="2000" spc="-1" strike="noStrike">
                <a:solidFill>
                  <a:srgbClr val="ffffff"/>
                </a:solidFill>
                <a:latin typeface="Tahoma"/>
              </a:rPr>
              <a:t>(Celine Dio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3" name="Picture 10" descr="firewk-red1"/>
          <p:cNvPicPr/>
          <p:nvPr/>
        </p:nvPicPr>
        <p:blipFill>
          <a:blip r:embed="rId2"/>
          <a:stretch/>
        </p:blipFill>
        <p:spPr>
          <a:xfrm>
            <a:off x="7524720" y="333360"/>
            <a:ext cx="11430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firewk-red1"/>
          <p:cNvPicPr/>
          <p:nvPr/>
        </p:nvPicPr>
        <p:blipFill>
          <a:blip r:embed="rId3"/>
          <a:stretch/>
        </p:blipFill>
        <p:spPr>
          <a:xfrm>
            <a:off x="2411280" y="422100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3888000" y="652140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Tahoma"/>
              </a:rPr>
              <a:t>Automátic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6" name="Picture 22" descr="explo"/>
          <p:cNvPicPr/>
          <p:nvPr/>
        </p:nvPicPr>
        <p:blipFill>
          <a:blip r:embed="rId4"/>
          <a:stretch/>
        </p:blipFill>
        <p:spPr>
          <a:xfrm>
            <a:off x="4140360" y="549360"/>
            <a:ext cx="144360" cy="107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ChampGold"/>
          <p:cNvPicPr/>
          <p:nvPr/>
        </p:nvPicPr>
        <p:blipFill>
          <a:blip r:embed="rId5"/>
          <a:stretch/>
        </p:blipFill>
        <p:spPr>
          <a:xfrm>
            <a:off x="3274920" y="4762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estre-12"/>
          <p:cNvPicPr/>
          <p:nvPr/>
        </p:nvPicPr>
        <p:blipFill>
          <a:blip r:embed="rId6"/>
          <a:stretch/>
        </p:blipFill>
        <p:spPr>
          <a:xfrm>
            <a:off x="8943840" y="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estre-18"/>
          <p:cNvPicPr/>
          <p:nvPr/>
        </p:nvPicPr>
        <p:blipFill>
          <a:blip r:embed="rId7"/>
          <a:stretch/>
        </p:blipFill>
        <p:spPr>
          <a:xfrm>
            <a:off x="4427640" y="549360"/>
            <a:ext cx="333360" cy="34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estre-12"/>
          <p:cNvPicPr/>
          <p:nvPr/>
        </p:nvPicPr>
        <p:blipFill>
          <a:blip r:embed="rId8"/>
          <a:stretch/>
        </p:blipFill>
        <p:spPr>
          <a:xfrm>
            <a:off x="496800" y="39481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estre-12"/>
          <p:cNvPicPr/>
          <p:nvPr/>
        </p:nvPicPr>
        <p:blipFill>
          <a:blip r:embed="rId9"/>
          <a:stretch/>
        </p:blipFill>
        <p:spPr>
          <a:xfrm>
            <a:off x="8859960" y="5373720"/>
            <a:ext cx="568080" cy="568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7" descr="estre-12"/>
          <p:cNvPicPr/>
          <p:nvPr/>
        </p:nvPicPr>
        <p:blipFill>
          <a:blip r:embed="rId10"/>
          <a:stretch/>
        </p:blipFill>
        <p:spPr>
          <a:xfrm>
            <a:off x="1023840" y="25718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8" descr="estre-12"/>
          <p:cNvPicPr/>
          <p:nvPr/>
        </p:nvPicPr>
        <p:blipFill>
          <a:blip r:embed="rId11"/>
          <a:stretch/>
        </p:blipFill>
        <p:spPr>
          <a:xfrm>
            <a:off x="2136600" y="1719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estre-12"/>
          <p:cNvPicPr/>
          <p:nvPr/>
        </p:nvPicPr>
        <p:blipFill>
          <a:blip r:embed="rId12"/>
          <a:stretch/>
        </p:blipFill>
        <p:spPr>
          <a:xfrm>
            <a:off x="5551560" y="1628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estre-12"/>
          <p:cNvPicPr/>
          <p:nvPr/>
        </p:nvPicPr>
        <p:blipFill>
          <a:blip r:embed="rId13"/>
          <a:stretch/>
        </p:blipFill>
        <p:spPr>
          <a:xfrm>
            <a:off x="8051760" y="1781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estre-12"/>
          <p:cNvPicPr/>
          <p:nvPr/>
        </p:nvPicPr>
        <p:blipFill>
          <a:blip r:embed="rId14"/>
          <a:stretch/>
        </p:blipFill>
        <p:spPr>
          <a:xfrm>
            <a:off x="1979640" y="5877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estre-12"/>
          <p:cNvPicPr/>
          <p:nvPr/>
        </p:nvPicPr>
        <p:blipFill>
          <a:blip r:embed="rId15"/>
          <a:stretch/>
        </p:blipFill>
        <p:spPr>
          <a:xfrm>
            <a:off x="8539200" y="32083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3" descr="estre-12"/>
          <p:cNvPicPr/>
          <p:nvPr/>
        </p:nvPicPr>
        <p:blipFill>
          <a:blip r:embed="rId16"/>
          <a:stretch/>
        </p:blipFill>
        <p:spPr>
          <a:xfrm>
            <a:off x="5668920" y="5843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4" descr="estre-12"/>
          <p:cNvPicPr/>
          <p:nvPr/>
        </p:nvPicPr>
        <p:blipFill>
          <a:blip r:embed="rId17"/>
          <a:stretch/>
        </p:blipFill>
        <p:spPr>
          <a:xfrm>
            <a:off x="7164360" y="220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5" descr="firewk-red1"/>
          <p:cNvPicPr/>
          <p:nvPr/>
        </p:nvPicPr>
        <p:blipFill>
          <a:blip r:embed="rId18"/>
          <a:stretch/>
        </p:blipFill>
        <p:spPr>
          <a:xfrm>
            <a:off x="324000" y="457200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6"/>
          <p:cNvSpPr/>
          <p:nvPr/>
        </p:nvSpPr>
        <p:spPr>
          <a:xfrm>
            <a:off x="639360" y="3860640"/>
            <a:ext cx="7895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11700" spc="-1" strike="noStrike">
                <a:solidFill>
                  <a:srgbClr val="ffffff"/>
                </a:solidFill>
                <a:latin typeface="Tahoma"/>
              </a:rPr>
              <a:t>FELIZ 2010</a:t>
            </a:r>
            <a:endParaRPr b="0" lang="en-US" sz="117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2" name="Picture 47" descr="base pp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Figur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5280" y="6021360"/>
            <a:ext cx="835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Y ATENCIÓ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9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Figur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58920" y="549360"/>
            <a:ext cx="84247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¡NO PIERDAS MÁS TIEMPO!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¡CORRE DETRÁS DE TUS SUEÑOS!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2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Figura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95280" y="620640"/>
            <a:ext cx="8353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ENFRENTA TODOS LOS DESAFÍ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5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Figur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87280" y="40464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AS, ¡ACUÉRDATE DE SONREÍR POR EL CAMINO!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98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Figur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87280" y="40464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YUDA A QUIEN PRECISA DE TÍ ...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1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igur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87280" y="5877000"/>
            <a:ext cx="8567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ESCUBRE 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4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igur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31640" y="692280"/>
            <a:ext cx="828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HAZ NUEVAS AMISTADE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7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igur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87280" y="33336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VENTÚRA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0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Figura2222222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58920" y="62064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INTENTA (es importante) NO ESTAR SOL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3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igur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466560" y="5950080"/>
            <a:ext cx="8209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Y SERÁS CAPAZ DE IR LEJ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6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431640" y="333360"/>
            <a:ext cx="828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2009 ESTÁ LLEGANDO A SU FIN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5" name="Picture 2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Figur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2914560" y="404640"/>
            <a:ext cx="331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Arial"/>
              </a:rPr>
              <a:t>MUY LEJ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9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igura18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04920" y="476280"/>
            <a:ext cx="853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ERO NO DEMASIADO LEJ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2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Figura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88920" y="404640"/>
            <a:ext cx="896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ÓMATE UN TIEMPO PARA SENTIR, CUIDAR Y APRECIAR LA NATURALEZ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5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Figura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0" y="40464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NO DEJES DE BRONCEARTE AL SOL Y DESPUÉS RELAJARTE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8" name="Picture 6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Ga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00080" y="434880"/>
            <a:ext cx="8943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Y NUNCA TE OLVIDES DE DEMOSTRAR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CARIÑO A AQUELLOS QUE SON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IMPORTANTES PARA TÍ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8920" y="321300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Arial"/>
              </a:rPr>
              <a:t>Deseo a tí y a toda tu famili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Arial"/>
              </a:rPr>
              <a:t>¡UN AÑO NUEVO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Arial"/>
              </a:rPr>
              <a:t>MARAVILLOSO!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890800" y="6381720"/>
            <a:ext cx="3362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Picture 8" descr="base pps"/>
          <p:cNvPicPr/>
          <p:nvPr/>
        </p:nvPicPr>
        <p:blipFill>
          <a:blip r:embed="rId2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igur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880920" y="476280"/>
            <a:ext cx="738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VAMOS A ENCARAR TODO DE FREN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8" name="Picture 7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igur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24000" y="531720"/>
            <a:ext cx="849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NEMOS QUE CORRER RIESG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1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Figur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87280" y="54936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NEMOS QUE ENFRENTAR OBSTÁCUL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4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igur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30200" y="620640"/>
            <a:ext cx="828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OR LO TANTO, ¡ESTÁ ATENTO!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7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igur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87280" y="47628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MPARTE TU TIEMPO CON AMIG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0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Figur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58920" y="620640"/>
            <a:ext cx="842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ALTA TODOS LOS OBSTÁCULOS...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3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Figura2222222222222222222222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87280" y="5805360"/>
            <a:ext cx="856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N CUIDAD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6" name="Picture 6" descr="base pp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6597720"/>
            <a:ext cx="1962000" cy="25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0:39:18Z</dcterms:created>
  <dc:creator>PERSONAL</dc:creator>
  <dc:description>http://www.navidaddedeseos.com/</dc:description>
  <dc:language>en-US</dc:language>
  <cp:lastModifiedBy>PERSONAL</cp:lastModifiedBy>
  <dcterms:modified xsi:type="dcterms:W3CDTF">2009-11-13T20:40:19Z</dcterms:modified>
  <cp:revision>1</cp:revision>
  <dc:subject>Prosa</dc:subject>
  <dc:title>Diapositiva 1</dc:title>
</cp:coreProperties>
</file>