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3.gif" ContentType="image/gif"/>
  <Override PartName="/ppt/media/image5.gif" ContentType="image/gif"/>
  <Override PartName="/ppt/media/image1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media/Christmas-CelineDion%5B1%5D.wav" ContentType="audio/x-wav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3.jpeg" ContentType="image/jpeg"/>
  <Override PartName="/ppt/media/image2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E55-0593-4A07-81E9-0830A9F1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2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44B-5800-4043-B70D-74DCB5CE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2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2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2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ECF-E791-4D3F-B23D-E0B2322B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2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2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2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2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2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5CA-25D2-42D0-BF17-1C66E493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839-AB3C-4375-86A3-C06AED87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AF9-2EE2-4FA7-AF81-A49878CA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2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078-6D88-42FA-B2CE-124C9892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F27-B5DF-49F5-8799-536F1006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10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E79-9747-4AB4-B689-16424CF3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2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2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701-DBD0-44AB-9929-74D86304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2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2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D1B-F690-4E2B-934F-7B1A28A6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2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2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649-9A79-4261-A4BB-97783E26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5440" indent="-227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746C-26AC-42D0-9A00-3D34FD72B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2.gif"/><Relationship Id="rId19" Type="http://schemas.openxmlformats.org/officeDocument/2006/relationships/hyperlink" Target="http://www.navidaddedeseos.com/" TargetMode="External"/><Relationship Id="rId20" Type="http://schemas.openxmlformats.org/officeDocument/2006/relationships/image" Target="../media/image7.png"/><Relationship Id="rId21" Type="http://schemas.openxmlformats.org/officeDocument/2006/relationships/audio" Target="../media/Christmas-CelineDion%5B1%5D.wav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1446840" y="1916280"/>
            <a:ext cx="625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pt-PT" sz="6000" spc="-1" strike="noStrike">
                <a:solidFill>
                  <a:srgbClr val="ffffff"/>
                </a:solidFill>
                <a:latin typeface="Tahoma"/>
              </a:rPr>
              <a:t>UN AÑO NUEVO</a:t>
            </a:r>
            <a:endParaRPr b="0" lang="en-US" sz="6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2592000" y="5734080"/>
            <a:ext cx="395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Tahoma"/>
              </a:rPr>
              <a:t>Audio: </a:t>
            </a:r>
            <a:r>
              <a:rPr b="1" i="1" lang="pt-PT" sz="2000" spc="-1" strike="noStrike">
                <a:solidFill>
                  <a:srgbClr val="ffffff"/>
                </a:solidFill>
                <a:latin typeface="Tahoma"/>
              </a:rPr>
              <a:t>Christmas </a:t>
            </a:r>
            <a:r>
              <a:rPr b="1" lang="pt-PT" sz="2000" spc="-1" strike="noStrike">
                <a:solidFill>
                  <a:srgbClr val="ffffff"/>
                </a:solidFill>
                <a:latin typeface="Tahoma"/>
              </a:rPr>
              <a:t>(Celine Dion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3" name="Picture 10" descr="firewk-red1"/>
          <p:cNvPicPr/>
          <p:nvPr/>
        </p:nvPicPr>
        <p:blipFill>
          <a:blip r:embed="rId2"/>
          <a:stretch/>
        </p:blipFill>
        <p:spPr>
          <a:xfrm>
            <a:off x="7524720" y="333360"/>
            <a:ext cx="114300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firewk-red1"/>
          <p:cNvPicPr/>
          <p:nvPr/>
        </p:nvPicPr>
        <p:blipFill>
          <a:blip r:embed="rId3"/>
          <a:stretch/>
        </p:blipFill>
        <p:spPr>
          <a:xfrm>
            <a:off x="2411280" y="4221000"/>
            <a:ext cx="114300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2"/>
          <p:cNvSpPr/>
          <p:nvPr/>
        </p:nvSpPr>
        <p:spPr>
          <a:xfrm>
            <a:off x="3888000" y="652140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Tahoma"/>
              </a:rPr>
              <a:t>Automático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6" name="Picture 22" descr="explo"/>
          <p:cNvPicPr/>
          <p:nvPr/>
        </p:nvPicPr>
        <p:blipFill>
          <a:blip r:embed="rId4"/>
          <a:stretch/>
        </p:blipFill>
        <p:spPr>
          <a:xfrm>
            <a:off x="4140360" y="549360"/>
            <a:ext cx="144360" cy="1079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" descr="ChampGold"/>
          <p:cNvPicPr/>
          <p:nvPr/>
        </p:nvPicPr>
        <p:blipFill>
          <a:blip r:embed="rId5"/>
          <a:stretch/>
        </p:blipFill>
        <p:spPr>
          <a:xfrm>
            <a:off x="3274920" y="47628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estre-12"/>
          <p:cNvPicPr/>
          <p:nvPr/>
        </p:nvPicPr>
        <p:blipFill>
          <a:blip r:embed="rId6"/>
          <a:stretch/>
        </p:blipFill>
        <p:spPr>
          <a:xfrm>
            <a:off x="8943840" y="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estre-18"/>
          <p:cNvPicPr/>
          <p:nvPr/>
        </p:nvPicPr>
        <p:blipFill>
          <a:blip r:embed="rId7"/>
          <a:stretch/>
        </p:blipFill>
        <p:spPr>
          <a:xfrm>
            <a:off x="4427640" y="549360"/>
            <a:ext cx="333360" cy="34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1" descr="estre-12"/>
          <p:cNvPicPr/>
          <p:nvPr/>
        </p:nvPicPr>
        <p:blipFill>
          <a:blip r:embed="rId8"/>
          <a:stretch/>
        </p:blipFill>
        <p:spPr>
          <a:xfrm>
            <a:off x="496800" y="39481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6" descr="estre-12"/>
          <p:cNvPicPr/>
          <p:nvPr/>
        </p:nvPicPr>
        <p:blipFill>
          <a:blip r:embed="rId9"/>
          <a:stretch/>
        </p:blipFill>
        <p:spPr>
          <a:xfrm>
            <a:off x="8859960" y="5373720"/>
            <a:ext cx="568080" cy="568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7" descr="estre-12"/>
          <p:cNvPicPr/>
          <p:nvPr/>
        </p:nvPicPr>
        <p:blipFill>
          <a:blip r:embed="rId10"/>
          <a:stretch/>
        </p:blipFill>
        <p:spPr>
          <a:xfrm>
            <a:off x="1023840" y="25718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8" descr="estre-12"/>
          <p:cNvPicPr/>
          <p:nvPr/>
        </p:nvPicPr>
        <p:blipFill>
          <a:blip r:embed="rId11"/>
          <a:stretch/>
        </p:blipFill>
        <p:spPr>
          <a:xfrm>
            <a:off x="2136600" y="1719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9" descr="estre-12"/>
          <p:cNvPicPr/>
          <p:nvPr/>
        </p:nvPicPr>
        <p:blipFill>
          <a:blip r:embed="rId12"/>
          <a:stretch/>
        </p:blipFill>
        <p:spPr>
          <a:xfrm>
            <a:off x="5551560" y="1628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0" descr="estre-12"/>
          <p:cNvPicPr/>
          <p:nvPr/>
        </p:nvPicPr>
        <p:blipFill>
          <a:blip r:embed="rId13"/>
          <a:stretch/>
        </p:blipFill>
        <p:spPr>
          <a:xfrm>
            <a:off x="8051760" y="17812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1" descr="estre-12"/>
          <p:cNvPicPr/>
          <p:nvPr/>
        </p:nvPicPr>
        <p:blipFill>
          <a:blip r:embed="rId14"/>
          <a:stretch/>
        </p:blipFill>
        <p:spPr>
          <a:xfrm>
            <a:off x="1979640" y="5877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2" descr="estre-12"/>
          <p:cNvPicPr/>
          <p:nvPr/>
        </p:nvPicPr>
        <p:blipFill>
          <a:blip r:embed="rId15"/>
          <a:stretch/>
        </p:blipFill>
        <p:spPr>
          <a:xfrm>
            <a:off x="8539200" y="32083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3" descr="estre-12"/>
          <p:cNvPicPr/>
          <p:nvPr/>
        </p:nvPicPr>
        <p:blipFill>
          <a:blip r:embed="rId16"/>
          <a:stretch/>
        </p:blipFill>
        <p:spPr>
          <a:xfrm>
            <a:off x="5668920" y="58435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4" descr="estre-12"/>
          <p:cNvPicPr/>
          <p:nvPr/>
        </p:nvPicPr>
        <p:blipFill>
          <a:blip r:embed="rId17"/>
          <a:stretch/>
        </p:blipFill>
        <p:spPr>
          <a:xfrm>
            <a:off x="7164360" y="2205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5" descr="firewk-red1"/>
          <p:cNvPicPr/>
          <p:nvPr/>
        </p:nvPicPr>
        <p:blipFill>
          <a:blip r:embed="rId18"/>
          <a:stretch/>
        </p:blipFill>
        <p:spPr>
          <a:xfrm>
            <a:off x="324000" y="4572000"/>
            <a:ext cx="1143000" cy="2286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6"/>
          <p:cNvSpPr/>
          <p:nvPr/>
        </p:nvSpPr>
        <p:spPr>
          <a:xfrm>
            <a:off x="639360" y="3860640"/>
            <a:ext cx="7895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pt-PT" sz="11700" spc="-1" strike="noStrike">
                <a:solidFill>
                  <a:srgbClr val="ffffff"/>
                </a:solidFill>
                <a:latin typeface="Tahoma"/>
              </a:rPr>
              <a:t>FELIZ 2010</a:t>
            </a:r>
            <a:endParaRPr b="0" lang="en-US" sz="117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2" name="Picture 47" descr="base pp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Figur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95280" y="6021360"/>
            <a:ext cx="835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Y ATENCIÓ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89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Figura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58920" y="549360"/>
            <a:ext cx="842472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¡NO PIERDAS MÁS TIEMPO!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¡CORRE DETRÁS DE TUS SUEÑOS!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92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Figura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95280" y="620640"/>
            <a:ext cx="8353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ENFRENTA TODOS LOS DESAFÍOS...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95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Figura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287280" y="404640"/>
            <a:ext cx="856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MAS, ¡ACUÉRDATE DE SONREÍR POR EL CAMINO!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98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Figur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87280" y="404640"/>
            <a:ext cx="8569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AYUDA A QUIEN PRECISA DE TÍ ... 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1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Figura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287280" y="5877000"/>
            <a:ext cx="8567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DESCUBRE 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4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Figura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431640" y="692280"/>
            <a:ext cx="828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HAZ NUEVAS AMISTAD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7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Figura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87280" y="333360"/>
            <a:ext cx="8569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AVENTÚRAT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0" name="Picture 6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Figura222222222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58920" y="620640"/>
            <a:ext cx="842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INTENTA (es importante) NO ESTAR SOLO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3" name="Picture 6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Figura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466560" y="5950080"/>
            <a:ext cx="8209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Y SERÁS CAPAZ DE IR LEJ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6" name="Picture 6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slid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431640" y="333360"/>
            <a:ext cx="828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2009 ESTÁ LLEGANDO A SU FIN...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5" name="Picture 2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Figur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2914560" y="404640"/>
            <a:ext cx="3313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MUY LEJOS...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9" name="Picture 6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Figura18"/>
          <p:cNvPicPr/>
          <p:nvPr/>
        </p:nvPicPr>
        <p:blipFill>
          <a:blip r:embed="rId1"/>
          <a:stretch/>
        </p:blipFill>
        <p:spPr>
          <a:xfrm>
            <a:off x="0" y="-122400"/>
            <a:ext cx="9144000" cy="6980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04920" y="476280"/>
            <a:ext cx="8532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PERO NO DEMASIADO LEJOS...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22" name="Picture 6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Figura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88920" y="404640"/>
            <a:ext cx="896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TÓMATE UN TIEMPO PARA SENTIR, CUIDAR Y APRECIAR LA NATURALEZA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25" name="Picture 6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Figura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0" y="404640"/>
            <a:ext cx="914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NO DEJES DE BRONCEARTE AL SOL Y DESPUÉS RELAJARTE...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28" name="Picture 6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Gat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100080" y="434880"/>
            <a:ext cx="89438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3300"/>
                </a:solidFill>
                <a:latin typeface="Arial"/>
              </a:rPr>
              <a:t>Y NUNCA TE OLVIDES DE DEMOSTRAR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3300"/>
                </a:solidFill>
                <a:latin typeface="Arial"/>
              </a:rPr>
              <a:t>CARIÑO A AQUELLOS QUE SON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3300"/>
                </a:solidFill>
                <a:latin typeface="Arial"/>
              </a:rPr>
              <a:t>IMPORTANTES PARA TÍ.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58920" y="321300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pt-PT" sz="4400" spc="-1" strike="noStrike">
                <a:solidFill>
                  <a:srgbClr val="ff3300"/>
                </a:solidFill>
                <a:latin typeface="Arial"/>
              </a:rPr>
              <a:t>Deseo a tí y a toda tu famili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pt-PT" sz="4400" spc="-1" strike="noStrike">
                <a:solidFill>
                  <a:srgbClr val="ff3300"/>
                </a:solidFill>
                <a:latin typeface="Arial"/>
              </a:rPr>
              <a:t>¡UN AÑO NUEVO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pt-PT" sz="4400" spc="-1" strike="noStrike">
                <a:solidFill>
                  <a:srgbClr val="ff3300"/>
                </a:solidFill>
                <a:latin typeface="Arial"/>
              </a:rPr>
              <a:t>MARAVILLOSO!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890800" y="6381720"/>
            <a:ext cx="33624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Picture 8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Figur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880920" y="476280"/>
            <a:ext cx="7380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VAMOS A ENCARAR TODO DE FRENT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8" name="Picture 7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Figur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24000" y="531720"/>
            <a:ext cx="849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TENEMOS QUE CORRER RIESG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1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Figur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87280" y="549360"/>
            <a:ext cx="856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TENEMOS QUE ENFRENTAR OBSTÁCUL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4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Figur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430200" y="620640"/>
            <a:ext cx="828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POR LO TANTO, ¡ESTÁ ATENTO!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7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Figura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87280" y="476280"/>
            <a:ext cx="8569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MPARTE TU TIEMPO CON AMIG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80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Figur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58920" y="620640"/>
            <a:ext cx="842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SALTA TODOS LOS OBSTÁCULOS...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83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Figura2222222222222222222222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287280" y="5805360"/>
            <a:ext cx="8569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N CUIDADO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86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20:39:18Z</dcterms:created>
  <dc:creator>PERSONAL</dc:creator>
  <dc:description>http://www.navidaddedeseos.com/</dc:description>
  <dc:language>en-US</dc:language>
  <cp:lastModifiedBy>PERSONAL</cp:lastModifiedBy>
  <dcterms:modified xsi:type="dcterms:W3CDTF">2009-11-13T20:40:19Z</dcterms:modified>
  <cp:revision>1</cp:revision>
  <dc:subject>Prosa</dc:subject>
  <dc:title>Diapositiva 1</dc:title>
</cp:coreProperties>
</file>