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Jose%20Carreras,%20Placido%20Domingo%20&amp;%20Luciano%20Pavarotti%20-%20Nessun%20Dorma%20(From%20Puccini'S%20Turandot)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937-0237-4E13-97EF-79D13BFB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019-6197-4CE5-AD42-78BFA348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937-0DDC-453C-8E0B-96114094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FA9-F721-4A00-9365-DCB7FD1B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9E4-2BC0-4991-860D-BB3B509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D8E-ACD5-45E5-AE21-EDC9AB18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4BE-1307-4DF6-ADD5-791A3EE6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085-51CC-4F1C-8DFD-C3071723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4E2-719D-4AF9-865A-40257FFF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A8A-DBDE-48D6-95FB-6A7429D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BAA-CC58-483F-AB07-ECE8748A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6A7-336F-484D-B041-AD5F0328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E369C-FE46-4C03-A412-9FE275AB6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ose%20Carreras,%20Placido%20Domingo%20&amp;%20Luciano%20Pavarotti%20-%20Nessun%20Dorma%20(From%20Puccini&apos;S%20Turandot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73480" y="29098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60720" y="2340000"/>
            <a:ext cx="7380000" cy="342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996633"/>
                    </a:gs>
                  </a:gsLst>
                  <a:lin ang="2700000"/>
                </a:gradFill>
                <a:latin typeface="Arial Black"/>
              </a:rPr>
              <a:t>Los Mejore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996633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996633"/>
                    </a:gs>
                  </a:gsLst>
                  <a:lin ang="2700000"/>
                </a:gradFill>
                <a:latin typeface="Arial Black"/>
              </a:rPr>
              <a:t>Trasero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996633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996633"/>
                    </a:gs>
                  </a:gsLst>
                  <a:lin ang="2700000"/>
                </a:gradFill>
                <a:latin typeface="Arial Black"/>
              </a:rPr>
              <a:t>Italianos....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996633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p:transition spd="med">
    <p:push dir="d"/>
    <p:sndAc>
      <p:stSnd>
        <p:snd r:embed="rId2" name="Jose%20Carreras,%20Placido%20Domingo%20&amp;%20Luciano%20Pavarotti%20-%20Nessun%20Dorma%20(From%20Puccini'S%20Turandot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800360" y="0"/>
            <a:ext cx="12420720" cy="774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079640" y="0"/>
            <a:ext cx="1223964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00" y="0"/>
            <a:ext cx="12960360" cy="75945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3024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7020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260360" y="720720"/>
            <a:ext cx="1242036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79280" y="-360360"/>
            <a:ext cx="10620360" cy="828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39640" y="22320"/>
            <a:ext cx="10980720" cy="753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10080720" cy="540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20720" y="0"/>
            <a:ext cx="1152036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10080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" y="-179280"/>
            <a:ext cx="10075680" cy="774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619280" y="-1260360"/>
            <a:ext cx="13139640" cy="93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720720" y="-1440"/>
            <a:ext cx="11700000" cy="684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979640" y="-1979640"/>
            <a:ext cx="14400360" cy="1079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39640" y="-318960"/>
            <a:ext cx="10799640" cy="82389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760" y="592200"/>
            <a:ext cx="10080720" cy="63007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079640" y="-179280"/>
            <a:ext cx="12239640" cy="84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539640" y="0"/>
            <a:ext cx="1116000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079640" y="23760"/>
            <a:ext cx="12060360" cy="78962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0360" y="0"/>
            <a:ext cx="1116000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1043928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260360" y="900000"/>
            <a:ext cx="1242036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0360" y="0"/>
            <a:ext cx="1098072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10799640" cy="64576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60360" y="22320"/>
            <a:ext cx="10799640" cy="753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rdi Valero i Ros</dc:creator>
  <dc:description/>
  <dc:language>en-US</dc:language>
  <cp:lastModifiedBy>Jose Ma. Ramirez</cp:lastModifiedBy>
  <dcterms:modified xsi:type="dcterms:W3CDTF">2010-02-09T18:54:34Z</dcterms:modified>
  <cp:revision>3</cp:revision>
  <dc:subject/>
  <dc:title>Diapositiva 1</dc:title>
</cp:coreProperties>
</file>