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Jose%20Carreras,%20Placido%20Domingo%20&amp;%20Luciano%20Pavarotti%20-%20Nessun%20Dorma%20(From%20Puccini'S%20Turandot)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F1F-0591-49DC-9E91-43BDD930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B29E-65B0-4188-863F-06282DCC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CA13-982A-4841-A94D-264F53ED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B7D4-0AF5-4A51-BC32-CBC6860D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2FD9-4A2D-4197-A4CB-95388F18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B0A5-07E0-48FA-8F80-9FECF406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16F7-C2B9-4731-AFFB-AFAA7CBD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E15-93CB-4260-856E-515590CB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3FB2-A1CC-40ED-A610-4C04177B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54DD-38CA-4B29-A4F5-70687077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030F-6C97-4940-BAAA-CB42E245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3E9E-D9AF-472F-BED0-952D2D23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EA94F-E9B6-4E75-A80E-88D9AD80B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Jose%20Carreras,%20Placido%20Domingo%20&amp;%20Luciano%20Pavarotti%20-%20Nessun%20Dorma%20(From%20Puccini&apos;S%20Turandot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73480" y="290988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60720" y="2340000"/>
            <a:ext cx="7380000" cy="342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996633"/>
                    </a:gs>
                  </a:gsLst>
                  <a:lin ang="2700000"/>
                </a:gradFill>
                <a:latin typeface="Arial Black"/>
              </a:rPr>
              <a:t>Los Mejore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996633"/>
                  </a:gs>
                </a:gsLst>
                <a:lin ang="2700000"/>
              </a:gradFill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996633"/>
                    </a:gs>
                  </a:gsLst>
                  <a:lin ang="2700000"/>
                </a:gradFill>
                <a:latin typeface="Arial Black"/>
              </a:rPr>
              <a:t>Trasero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996633"/>
                  </a:gs>
                </a:gsLst>
                <a:lin ang="2700000"/>
              </a:gradFill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996633"/>
                    </a:gs>
                  </a:gsLst>
                  <a:lin ang="2700000"/>
                </a:gradFill>
                <a:latin typeface="Arial Black"/>
              </a:rPr>
              <a:t>Italianos....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996633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</p:spTree>
  </p:cSld>
  <p:transition spd="med">
    <p:push dir="d"/>
    <p:sndAc>
      <p:stSnd>
        <p:snd r:embed="rId2" name="Jose%20Carreras,%20Placido%20Domingo%20&amp;%20Luciano%20Pavarotti%20-%20Nessun%20Dorma%20(From%20Puccini'S%20Turandot)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800360" y="0"/>
            <a:ext cx="12420720" cy="77407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079640" y="0"/>
            <a:ext cx="12239640" cy="71992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440000" y="0"/>
            <a:ext cx="12960360" cy="759456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3024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70200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260360" y="720720"/>
            <a:ext cx="12420360" cy="59389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79280" y="-360360"/>
            <a:ext cx="10620360" cy="828036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539640" y="22320"/>
            <a:ext cx="10980720" cy="75373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079640"/>
            <a:ext cx="10080720" cy="540036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20720" y="0"/>
            <a:ext cx="1152036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917640"/>
            <a:ext cx="10080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" y="-179280"/>
            <a:ext cx="10075680" cy="77407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1619280" y="-1260360"/>
            <a:ext cx="13139640" cy="9359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720720" y="-1440"/>
            <a:ext cx="11700000" cy="684036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1979640" y="-1979640"/>
            <a:ext cx="14400360" cy="10799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539640" y="-318960"/>
            <a:ext cx="10799640" cy="823896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760" y="592200"/>
            <a:ext cx="10080720" cy="63007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1079640" y="-179280"/>
            <a:ext cx="12239640" cy="8459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539640" y="0"/>
            <a:ext cx="1116000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079640" y="23760"/>
            <a:ext cx="12060360" cy="78962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60360" y="0"/>
            <a:ext cx="1116000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79280" y="0"/>
            <a:ext cx="1043928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260360" y="900000"/>
            <a:ext cx="12420360" cy="5759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60360" y="0"/>
            <a:ext cx="109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2320"/>
            <a:ext cx="10799640" cy="64576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60360" y="22320"/>
            <a:ext cx="10799640" cy="75373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rdi Valero i Ros</dc:creator>
  <dc:description/>
  <dc:language>en-US</dc:language>
  <cp:lastModifiedBy>Jose Ma. Ramirez</cp:lastModifiedBy>
  <dcterms:modified xsi:type="dcterms:W3CDTF">2010-02-09T18:54:34Z</dcterms:modified>
  <cp:revision>3</cp:revision>
  <dc:subject/>
  <dc:title>Diapositiva 1</dc:title>
</cp:coreProperties>
</file>