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sa%20%20%20(MMB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53F-6916-4D99-BFF3-B87FDF0D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B9B-1BDE-4E3F-875B-0EA080C5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C45-9DB2-406F-A1EB-F482B703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79C-FD35-4CB7-8958-75B2C962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5A0-5D94-40AF-8EB6-79965B4A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BB2-BF31-4583-8BC2-6960C9F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D4A-6478-4AE8-A57E-6482C2CD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669-92EB-4F78-9E69-CD046FC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D20-0377-4632-90A3-155ADFD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A49-6CC6-4803-AA23-7FD4C760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D1F-A236-4D9C-AAB5-60FC4CD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E01-29F1-4874-99BA-DB977911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721C-5A19-4046-8EDA-5F4B24166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sa%20%20%20(MMB)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519280"/>
            <a:ext cx="66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0"/>
                </a:solidFill>
                <a:latin typeface="Comic Sans MS"/>
              </a:rPr>
              <a:t>Desesperado, el jefe mira su reloj y no cree que su empleado llegará a tiempo. Debe terminar una información importantísima para una reunión que ya empezaba. Entonces llama a su cas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69228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Aló!" - atiende una voz de niño, casi susurran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9680" y="1036800"/>
            <a:ext cx="23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Aló. Tu papá está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0600" y="1341360"/>
            <a:ext cx="29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á..." - responde susurrand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684440"/>
            <a:ext cx="27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Puedo hablar con él?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2060640"/>
            <a:ext cx="29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No." - dice el niño bien bajito.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8920" y="2421000"/>
            <a:ext cx="520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Medio molesto, el jefe intenta hablar con algún otro adulto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852640"/>
            <a:ext cx="28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Y tu mamá? Está ahí?"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213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á."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57336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Ella puede hablar conmigo?"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933720"/>
            <a:ext cx="34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No. Ma ta ocupada."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9480" y="1052640"/>
            <a:ext cx="36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Hay alguien más ahí?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4800" y="1351080"/>
            <a:ext cx="22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i..." - susur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12840" y="17114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Quién?"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73080" y="201600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Un pulitía."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95480" y="2359080"/>
            <a:ext cx="37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Un poco sorprendido, el jefe continú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2400" y="2719440"/>
            <a:ext cx="38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Un policía?! Y qué está haciendo él ahí?!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</a:rPr>
              <a:t>"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920" y="3075120"/>
            <a:ext cx="54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Ta convetando con papá, con mamá y con un bombedo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44160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Oyendo un gran barullo del otro lado de la línea, el jefe pregunta asustado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03280" y="1341360"/>
            <a:ext cx="34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ff6600"/>
                </a:solidFill>
                <a:latin typeface="Comic Sans MS"/>
                <a:ea typeface="Arial"/>
              </a:rPr>
              <a:t>"- Qué ruido es ese?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7600" y="170352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"- Elicópito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3213000"/>
            <a:ext cx="31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Y la voz susurra entre risitas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2060640"/>
            <a:ext cx="24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</a:rPr>
              <a:t>"- ¿Un helicóptero!?!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2421000"/>
            <a:ext cx="33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Comic Sans MS"/>
              </a:rPr>
              <a:t>"- Ti. Y con muto teñore pulitía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07080" y="283680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6600"/>
                </a:solidFill>
                <a:latin typeface="Comic Sans MS"/>
              </a:rPr>
              <a:t>"- Qué está pasando ahí?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e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39080" y="2440080"/>
            <a:ext cx="487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ff"/>
                </a:solidFill>
                <a:latin typeface="Comic Sans MS"/>
                <a:ea typeface="Arial"/>
              </a:rPr>
              <a:t>"- Me tan bucano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4:51:03Z</dcterms:created>
  <dc:creator/>
  <dc:description/>
  <dc:language>en-US</dc:language>
  <cp:lastModifiedBy>Dina</cp:lastModifiedBy>
  <dcterms:modified xsi:type="dcterms:W3CDTF">2008-04-21T19:37:48Z</dcterms:modified>
  <cp:revision>20</cp:revision>
  <dc:subject/>
  <dc:title>Presentación de PowerPoint</dc:title>
</cp:coreProperties>
</file>