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musique%20Bilitis_004.wav" ContentType="audio/x-wav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530-DCB0-4067-9EB1-20B5AA12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F8D-C472-4C9D-8DDA-4A5F02C3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420-3CD8-452C-BC4D-B495FF4C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C06-41F6-4CC7-B30D-22BE047C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AF5-ECE1-4FB0-8A43-3D22410B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D09-78DD-40BB-9AA4-2C3A017D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DE9-685F-4E20-AD7E-0B9C8E86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A68-1784-4B53-9DCD-F2F40842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AB3-5941-4BFD-BB44-B40B48D4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5AC-E02C-4DBE-B64C-12E2BFD2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90E-288D-4E03-BF45-CC7CD0A8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F85-82F6-4D86-A1C7-72D577C0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6AB2-0847-4FD1-A855-ECF73C4B2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usique%20Bilitis_004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sdfq"/>
          <p:cNvPicPr/>
          <p:nvPr/>
        </p:nvPicPr>
        <p:blipFill>
          <a:blip r:embed="rId1"/>
          <a:stretch/>
        </p:blipFill>
        <p:spPr>
          <a:xfrm>
            <a:off x="-533520" y="0"/>
            <a:ext cx="102110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ZoneTexte 3"/>
          <p:cNvSpPr/>
          <p:nvPr/>
        </p:nvSpPr>
        <p:spPr>
          <a:xfrm>
            <a:off x="4357800" y="357120"/>
            <a:ext cx="478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Sneakerhead BTN Shadow"/>
              </a:rPr>
              <a:t>Traser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Sneakerhead BTN Shadow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Sneakerhead BTN Shadow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Sneakerhead BTN Shadow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Sneakerhead BTN Shadow"/>
              </a:rPr>
              <a:t>se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000760" y="6143760"/>
            <a:ext cx="33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ar a volun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4357800" y="3714840"/>
            <a:ext cx="47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Sneakerhead BTN Shadow"/>
              </a:rPr>
              <a:t>Algunas bonitas citas sobre no menos bonitas imágen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musique%20Bilitis_00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6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6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zrer"/>
          <p:cNvPicPr/>
          <p:nvPr/>
        </p:nvPicPr>
        <p:blipFill>
          <a:blip r:embed="rId1"/>
          <a:stretch/>
        </p:blipFill>
        <p:spPr>
          <a:xfrm>
            <a:off x="-1197000" y="0"/>
            <a:ext cx="10860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2"/>
          <p:cNvSpPr/>
          <p:nvPr/>
        </p:nvSpPr>
        <p:spPr>
          <a:xfrm>
            <a:off x="0" y="1000080"/>
            <a:ext cx="87152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e46c0a"/>
                </a:solidFill>
                <a:latin typeface="Calibri"/>
              </a:rPr>
              <a:t>Una chica que tiene 95 de pecho y 32 de contorno de cabeza no puede ser realmente mala. Sólo puede ser ligeramente boba.</a:t>
            </a:r>
            <a:r>
              <a:rPr b="0" i="1" lang="fr-FR" sz="3600" spc="-1" strike="noStrike">
                <a:solidFill>
                  <a:srgbClr val="e46c0a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Michel Audi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GVLkYcquQmp0wjt1PvkFGqzro1_500"/>
          <p:cNvPicPr/>
          <p:nvPr/>
        </p:nvPicPr>
        <p:blipFill>
          <a:blip r:embed="rId1"/>
          <a:stretch/>
        </p:blipFill>
        <p:spPr>
          <a:xfrm>
            <a:off x="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2"/>
          <p:cNvSpPr/>
          <p:nvPr/>
        </p:nvSpPr>
        <p:spPr>
          <a:xfrm>
            <a:off x="4714920" y="785880"/>
            <a:ext cx="39290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Calibri"/>
              </a:rPr>
              <a:t>El progreso social empieza siempre por la independencia de los traser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Albert Coss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dgdd"/>
          <p:cNvPicPr/>
          <p:nvPr/>
        </p:nvPicPr>
        <p:blipFill>
          <a:blip r:embed="rId1"/>
          <a:stretch/>
        </p:blipFill>
        <p:spPr>
          <a:xfrm>
            <a:off x="0" y="-192240"/>
            <a:ext cx="9144000" cy="724248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2"/>
          <p:cNvSpPr/>
          <p:nvPr/>
        </p:nvSpPr>
        <p:spPr>
          <a:xfrm>
            <a:off x="1285920" y="4357800"/>
            <a:ext cx="71438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00"/>
                </a:solidFill>
                <a:latin typeface="Calibri"/>
              </a:rPr>
              <a:t>El vino de aperitivo es como los senos: Uno es poco y trés demasi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Fernan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tumblr_kyjqzuU3dt1qaw1mbo1_500"/>
          <p:cNvPicPr/>
          <p:nvPr/>
        </p:nvPicPr>
        <p:blipFill>
          <a:blip r:embed="rId1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5500800" y="4572000"/>
            <a:ext cx="28548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3"/>
          <p:cNvSpPr/>
          <p:nvPr/>
        </p:nvSpPr>
        <p:spPr>
          <a:xfrm>
            <a:off x="357120" y="571680"/>
            <a:ext cx="364356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ac090"/>
                </a:solidFill>
                <a:latin typeface="Calibri"/>
              </a:rPr>
              <a:t>Algunas imprudentes, incluso han enviado su sostén a paseo, olvidando que los senos también obedecen a la graved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Paul Guth)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GVLkYcquQkr2c2a0yjsZGikOo1_500"/>
          <p:cNvPicPr/>
          <p:nvPr/>
        </p:nvPicPr>
        <p:blipFill>
          <a:blip r:embed="rId1"/>
          <a:stretch/>
        </p:blipFill>
        <p:spPr>
          <a:xfrm>
            <a:off x="0" y="0"/>
            <a:ext cx="4721400" cy="7072200"/>
          </a:xfrm>
          <a:prstGeom prst="rect">
            <a:avLst/>
          </a:prstGeom>
          <a:ln w="0">
            <a:noFill/>
          </a:ln>
        </p:spPr>
      </p:pic>
      <p:sp>
        <p:nvSpPr>
          <p:cNvPr id="71" name="ZoneTexte 2"/>
          <p:cNvSpPr/>
          <p:nvPr/>
        </p:nvSpPr>
        <p:spPr>
          <a:xfrm>
            <a:off x="4000680" y="857160"/>
            <a:ext cx="485748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984807"/>
                </a:solidFill>
                <a:latin typeface="Calibri"/>
              </a:rPr>
              <a:t>" ¡Hubiera debido ser cirujano esteticista! ¡500.000 dólares al año por ocuparme de pechos y nalgas! 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Robert Zemeck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3"/>
          <p:cNvSpPr/>
          <p:nvPr/>
        </p:nvSpPr>
        <p:spPr>
          <a:xfrm>
            <a:off x="4786200" y="585792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iálogo de la película  « A la conquista del corazón de piedra verd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jrfujj"/>
          <p:cNvPicPr/>
          <p:nvPr/>
        </p:nvPicPr>
        <p:blipFill>
          <a:blip r:embed="rId1"/>
          <a:stretch/>
        </p:blipFill>
        <p:spPr>
          <a:xfrm>
            <a:off x="-574560" y="0"/>
            <a:ext cx="102931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2"/>
          <p:cNvSpPr/>
          <p:nvPr/>
        </p:nvSpPr>
        <p:spPr>
          <a:xfrm>
            <a:off x="4429080" y="357120"/>
            <a:ext cx="4714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Calibri"/>
              </a:rPr>
              <a:t>El seno es una manzana en una pera en la cual apunta una uva. El seno es lo máximo de la refundición: todas las frutas en una.</a:t>
            </a:r>
            <a:r>
              <a:rPr b="0" i="1" lang="fr-FR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Malcolm de Chazal)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jhk"/>
          <p:cNvPicPr/>
          <p:nvPr/>
        </p:nvPicPr>
        <p:blipFill>
          <a:blip r:embed="rId1"/>
          <a:stretch/>
        </p:blipFill>
        <p:spPr>
          <a:xfrm>
            <a:off x="-44280" y="0"/>
            <a:ext cx="92325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1000080" y="4272120"/>
            <a:ext cx="785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l n'y a qu'une antistrophe entre femme folle à la messe et femme molle à la fesse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François Rabelais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3290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ZoneTexte 2"/>
          <p:cNvSpPr/>
          <p:nvPr/>
        </p:nvSpPr>
        <p:spPr>
          <a:xfrm>
            <a:off x="5643720" y="785880"/>
            <a:ext cx="30002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Calibri"/>
              </a:rPr>
              <a:t>Los senos y los trenecitos eléctricos están hechos para los niños pero son los hombres los que juegan con ell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Jean Cazalet)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tumblr_l1jxscQztC1qz98q4o1_500"/>
          <p:cNvPicPr/>
          <p:nvPr/>
        </p:nvPicPr>
        <p:blipFill>
          <a:blip r:embed="rId1"/>
          <a:stretch/>
        </p:blipFill>
        <p:spPr>
          <a:xfrm>
            <a:off x="0" y="-758880"/>
            <a:ext cx="9144000" cy="837576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2"/>
          <p:cNvSpPr/>
          <p:nvPr/>
        </p:nvSpPr>
        <p:spPr>
          <a:xfrm>
            <a:off x="3071880" y="1000080"/>
            <a:ext cx="55008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alibri"/>
              </a:rPr>
              <a:t>Se está más cerca del corazón cuando el pecho es plano.</a:t>
            </a: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Louis Bouilhet)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tumblr_l2otua6ib91qz98q4o1_500"/>
          <p:cNvPicPr/>
          <p:nvPr/>
        </p:nvPicPr>
        <p:blipFill>
          <a:blip r:embed="rId1"/>
          <a:stretch/>
        </p:blipFill>
        <p:spPr>
          <a:xfrm>
            <a:off x="4357800" y="0"/>
            <a:ext cx="5072040" cy="7624800"/>
          </a:xfrm>
          <a:prstGeom prst="rect">
            <a:avLst/>
          </a:prstGeom>
          <a:ln w="0">
            <a:noFill/>
          </a:ln>
        </p:spPr>
      </p:pic>
      <p:sp>
        <p:nvSpPr>
          <p:cNvPr id="82" name="ZoneTexte 2"/>
          <p:cNvSpPr/>
          <p:nvPr/>
        </p:nvSpPr>
        <p:spPr>
          <a:xfrm>
            <a:off x="357120" y="1000080"/>
            <a:ext cx="3929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77933c"/>
                </a:solidFill>
                <a:latin typeface="Calibri"/>
              </a:rPr>
              <a:t>La belleza alcanzada por los senos de la mujer ¿no era la gloria más resplandeciente de la evolución de la Humanidad?</a:t>
            </a:r>
            <a:r>
              <a:rPr b="0" i="1" lang="fr-FR" sz="3200" spc="-1" strike="noStrike">
                <a:solidFill>
                  <a:srgbClr val="77933c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Yasunari Kawabata)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9" descr="tumblr_kzelrvvDUn1qz8hqmo1_500"/>
          <p:cNvPicPr/>
          <p:nvPr/>
        </p:nvPicPr>
        <p:blipFill>
          <a:blip r:embed="rId1"/>
          <a:stretch/>
        </p:blipFill>
        <p:spPr>
          <a:xfrm>
            <a:off x="0" y="-287280"/>
            <a:ext cx="9144000" cy="7135920"/>
          </a:xfrm>
          <a:prstGeom prst="rect">
            <a:avLst/>
          </a:prstGeom>
          <a:ln w="0">
            <a:noFill/>
          </a:ln>
        </p:spPr>
      </p:pic>
      <p:sp>
        <p:nvSpPr>
          <p:cNvPr id="46" name="ZoneTexte 2"/>
          <p:cNvSpPr/>
          <p:nvPr/>
        </p:nvSpPr>
        <p:spPr>
          <a:xfrm>
            <a:off x="4143240" y="2643120"/>
            <a:ext cx="50007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d99694"/>
                </a:solidFill>
                <a:latin typeface="Calibri"/>
              </a:rPr>
              <a:t>Nada llena mejor una mano que un se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Jean Baudrillard)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Tm7Z6K1GYdek8bbhB1VG4SY1_500"/>
          <p:cNvPicPr/>
          <p:nvPr/>
        </p:nvPicPr>
        <p:blipFill>
          <a:blip r:embed="rId1"/>
          <a:stretch/>
        </p:blipFill>
        <p:spPr>
          <a:xfrm>
            <a:off x="-149400" y="0"/>
            <a:ext cx="94428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ZoneTexte 2"/>
          <p:cNvSpPr/>
          <p:nvPr/>
        </p:nvSpPr>
        <p:spPr>
          <a:xfrm>
            <a:off x="1857240" y="3995640"/>
            <a:ext cx="63579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b7dee8"/>
                </a:solidFill>
                <a:latin typeface="Calibri"/>
              </a:rPr>
              <a:t>Un hombre voluble es el que no sabe a qué seno dedicar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Claude Robe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3"/>
          <p:cNvSpPr/>
          <p:nvPr/>
        </p:nvSpPr>
        <p:spPr>
          <a:xfrm>
            <a:off x="2786040" y="6215040"/>
            <a:ext cx="63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peut-être à l'origine des </a:t>
            </a:r>
            <a:r>
              <a:rPr b="0" i="1" lang="en-US" sz="1200" spc="-1" strike="noStrike">
                <a:solidFill>
                  <a:srgbClr val="ffff00"/>
                </a:solidFill>
                <a:latin typeface="Calibri"/>
              </a:rPr>
              <a:t>"p'tits roberts"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3" descr="tf"/>
          <p:cNvPicPr/>
          <p:nvPr/>
        </p:nvPicPr>
        <p:blipFill>
          <a:blip r:embed="rId1"/>
          <a:stretch/>
        </p:blipFill>
        <p:spPr>
          <a:xfrm>
            <a:off x="-1628640" y="0"/>
            <a:ext cx="113061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1357200" y="5565600"/>
            <a:ext cx="478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neakerhead BTN Shadow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3"/>
          <p:cNvSpPr/>
          <p:nvPr/>
        </p:nvSpPr>
        <p:spPr>
          <a:xfrm>
            <a:off x="5214960" y="492912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lustración musical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enérica de la película Biliti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música de Francis La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4"/>
          <p:cNvSpPr/>
          <p:nvPr/>
        </p:nvSpPr>
        <p:spPr>
          <a:xfrm>
            <a:off x="857160" y="621504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n-Cla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5"/>
          <p:cNvSpPr/>
          <p:nvPr/>
        </p:nvSpPr>
        <p:spPr>
          <a:xfrm>
            <a:off x="571680" y="2357280"/>
            <a:ext cx="407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¡No, No, no son las fotos de mis amig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(ellas no me han dado permiso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Así que he escogido unas anónimas de la web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vQcS6Ks7Sbjkq1dcUb9QztqF_500"/>
          <p:cNvPicPr/>
          <p:nvPr/>
        </p:nvPicPr>
        <p:blipFill>
          <a:blip r:embed="rId1"/>
          <a:stretch/>
        </p:blipFill>
        <p:spPr>
          <a:xfrm>
            <a:off x="0" y="0"/>
            <a:ext cx="5143680" cy="6996240"/>
          </a:xfrm>
          <a:prstGeom prst="rect">
            <a:avLst/>
          </a:prstGeom>
          <a:ln w="0">
            <a:noFill/>
          </a:ln>
        </p:spPr>
      </p:pic>
      <p:sp>
        <p:nvSpPr>
          <p:cNvPr id="48" name="ZoneTexte 2"/>
          <p:cNvSpPr/>
          <p:nvPr/>
        </p:nvSpPr>
        <p:spPr>
          <a:xfrm>
            <a:off x="4714920" y="1714680"/>
            <a:ext cx="40719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Calibri"/>
              </a:rPr>
              <a:t>En una mujer, a menudo es el escote lo que mejor la viste.</a:t>
            </a:r>
            <a:r>
              <a:rPr b="0" i="1" lang="fr-FR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Jean Delacour)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GVLkYcquQf5e5a2uTBseehPeo1_500"/>
          <p:cNvPicPr/>
          <p:nvPr/>
        </p:nvPicPr>
        <p:blipFill>
          <a:blip r:embed="rId1"/>
          <a:stretch/>
        </p:blipFill>
        <p:spPr>
          <a:xfrm>
            <a:off x="-61920" y="0"/>
            <a:ext cx="92678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ZoneTexte 2"/>
          <p:cNvSpPr/>
          <p:nvPr/>
        </p:nvSpPr>
        <p:spPr>
          <a:xfrm>
            <a:off x="500040" y="2857680"/>
            <a:ext cx="77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ffff"/>
                </a:solidFill>
                <a:latin typeface="Calibri"/>
              </a:rPr>
              <a:t>La patria, el honor, la libertad, …¡de éso nada!: El Universo gira alrededor de un par de nalgas, éso es todo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Jean-Paul Sartre)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hf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2"/>
          <p:cNvSpPr/>
          <p:nvPr/>
        </p:nvSpPr>
        <p:spPr>
          <a:xfrm>
            <a:off x="857160" y="28584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d99694"/>
                </a:solidFill>
                <a:latin typeface="Calibri"/>
              </a:rPr>
              <a:t>Dios dió a la mujer dos senos porque dió al hombre dos manos.</a:t>
            </a:r>
            <a:r>
              <a:rPr b="0" i="1" lang="fr-FR" sz="40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0" lang="fr-FR" sz="4000" spc="-1" strike="noStrike">
                <a:solidFill>
                  <a:srgbClr val="d99694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0" lang="fr-FR" sz="40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0" lang="fr-FR" sz="40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0" lang="fr-FR" sz="40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0" lang="fr-FR" sz="4000" spc="-1" strike="noStrike">
                <a:solidFill>
                  <a:srgbClr val="d99694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d99694"/>
                </a:solidFill>
                <a:latin typeface="Calibri"/>
              </a:rPr>
              <a:t>(Léo Campion)</a:t>
            </a:r>
            <a:r>
              <a:rPr b="0" lang="fr-FR" sz="4000" spc="-1" strike="noStrike">
                <a:solidFill>
                  <a:srgbClr val="d99694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sfs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2"/>
          <p:cNvSpPr/>
          <p:nvPr/>
        </p:nvSpPr>
        <p:spPr>
          <a:xfrm>
            <a:off x="1071720" y="285840"/>
            <a:ext cx="7143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ffff"/>
                </a:solidFill>
                <a:latin typeface="Calibri"/>
              </a:rPr>
              <a:t>¡Qué curioso! Reconstruirse los senos cuesta la piel de las nalgas.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Vincent Roca)</a:t>
            </a: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gr"/>
          <p:cNvPicPr/>
          <p:nvPr/>
        </p:nvPicPr>
        <p:blipFill>
          <a:blip r:embed="rId1"/>
          <a:stretch/>
        </p:blipFill>
        <p:spPr>
          <a:xfrm>
            <a:off x="-878040" y="-214200"/>
            <a:ext cx="11007720" cy="7358040"/>
          </a:xfrm>
          <a:prstGeom prst="rect">
            <a:avLst/>
          </a:prstGeom>
          <a:ln w="0">
            <a:noFill/>
          </a:ln>
        </p:spPr>
      </p:pic>
      <p:sp>
        <p:nvSpPr>
          <p:cNvPr id="56" name="ZoneTexte 2"/>
          <p:cNvSpPr/>
          <p:nvPr/>
        </p:nvSpPr>
        <p:spPr>
          <a:xfrm>
            <a:off x="785880" y="714240"/>
            <a:ext cx="86439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Calibri"/>
              </a:rPr>
              <a:t>Cuando miro el pecho de una mujer, veo doble.</a:t>
            </a:r>
            <a:r>
              <a:rPr b="0" i="1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Jules Renard)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E153HWJvwci78n6gugCd1JQT_500"/>
          <p:cNvPicPr/>
          <p:nvPr/>
        </p:nvPicPr>
        <p:blipFill>
          <a:blip r:embed="rId1"/>
          <a:stretch/>
        </p:blipFill>
        <p:spPr>
          <a:xfrm>
            <a:off x="4143240" y="-428760"/>
            <a:ext cx="5000760" cy="7491600"/>
          </a:xfrm>
          <a:prstGeom prst="rect">
            <a:avLst/>
          </a:prstGeom>
          <a:ln w="0">
            <a:noFill/>
          </a:ln>
        </p:spPr>
      </p:pic>
      <p:sp>
        <p:nvSpPr>
          <p:cNvPr id="58" name="ZoneTexte 3"/>
          <p:cNvSpPr/>
          <p:nvPr/>
        </p:nvSpPr>
        <p:spPr>
          <a:xfrm>
            <a:off x="428760" y="428760"/>
            <a:ext cx="48574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95b3d7"/>
                </a:solidFill>
                <a:latin typeface="Calibri"/>
              </a:rPr>
              <a:t>Es por los vestidos escotados por donde se evapora, poco a poco, el pudor de las muje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(Alexandre Dum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1" descr="tumblr_l35nm6LNWr1qz98q4o1_500"/>
          <p:cNvPicPr/>
          <p:nvPr/>
        </p:nvPicPr>
        <p:blipFill>
          <a:blip r:embed="rId1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2"/>
          <p:cNvSpPr/>
          <p:nvPr/>
        </p:nvSpPr>
        <p:spPr>
          <a:xfrm>
            <a:off x="4929120" y="785880"/>
            <a:ext cx="42148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Calibri"/>
              </a:rPr>
              <a:t>Todos los senos son joy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Calibri"/>
              </a:rPr>
              <a:t>Cuando son jóvenes son como cabujones y después como colgan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Sacha Gui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5:46:44Z</dcterms:created>
  <dc:creator/>
  <dc:description/>
  <dc:language>en-US</dc:language>
  <cp:lastModifiedBy>PC</cp:lastModifiedBy>
  <dcterms:modified xsi:type="dcterms:W3CDTF">2010-12-02T23:52:51Z</dcterms:modified>
  <cp:revision>6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