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500-30FF-49F1-A56A-68C1A3DD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A6C-139B-4739-83B6-DCC5FD1B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8CB-3E8B-41CB-87A4-1A5B65B1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7C1-AD64-41DC-94E4-AC214715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F34-6ADE-4837-BC72-DBC07EC2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00D-7C6A-42F2-A12F-B96F6235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422-B66E-4392-9E01-9AF7DA6B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DD9-3484-4E87-A18A-CDABBB4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3FD-1E20-4146-923A-596B4CF7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BDF-95DE-4284-9ABA-8790C3B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C78-F415-4787-AA40-879CEFD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1ED-DD41-4DBB-B5B0-37EA4187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A8FF-FC74-4268-9D88-60304A1D330C}" type="slidenum">
              <a:rPr b="0" lang="es-C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14200" y="2153520"/>
            <a:ext cx="8715600" cy="22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 Black"/>
                <a:ea typeface="Arial"/>
              </a:rPr>
              <a:t>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ES INCREIBLE  ......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PERO LO MEJOR ES L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CONCLUSION…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Rectángulo"/>
          <p:cNvSpPr/>
          <p:nvPr/>
        </p:nvSpPr>
        <p:spPr>
          <a:xfrm>
            <a:off x="214200" y="357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 Black"/>
              </a:rPr>
              <a:t>La foto que van a ver muestra 9 participantes de un concurso de belleza para un programa en Estados Unidos que se llama 'The Swan', y lo que hacen es operar a las concursantes y bajarles de peso. Les operan tooooooooodo: Senos, liposucción, las bajan de peso, les operan la nariz, los dientes, etc, etc, etc..</a:t>
            </a:r>
            <a:br>
              <a:rPr sz="36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Rectángulo"/>
          <p:cNvSpPr/>
          <p:nvPr/>
        </p:nvSpPr>
        <p:spPr>
          <a:xfrm>
            <a:off x="0" y="500040"/>
            <a:ext cx="9144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El proceso dura tres meses y en esos tres meses no pueden ver a su familia ni se pueden ver al espejo (si no, son descalificadas). Son entrenadas por expertos en gimnasios y por cada temporada del programa participan dos chavas que las escogen porque están acomplejadas por su aspecto, y les realizan operaciones. Al final de cada programa escogen una ganadora que es la que participa en un concurso de belleza.</a:t>
            </a:r>
            <a:br>
              <a:rPr sz="3200"/>
            </a:br>
            <a:r>
              <a:rPr b="1" lang="es-ES_tradnl" sz="1800" spc="-1" strike="noStrike">
                <a:solidFill>
                  <a:srgbClr val="0000ff"/>
                </a:solidFill>
                <a:latin typeface="Arial Black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785880" y="1285920"/>
            <a:ext cx="8358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Después del extreme makeover, las 9 ganadoras de los programas quedaron como se ve la foto... (La que ganó es la primera de izquierda a derecha)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Rectángulo"/>
          <p:cNvSpPr/>
          <p:nvPr/>
        </p:nvSpPr>
        <p:spPr>
          <a:xfrm>
            <a:off x="1857240" y="785880"/>
            <a:ext cx="671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¡¡¡ SEÑORES... 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A  INVERTIR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A SU MUJER!</a:t>
            </a:r>
            <a:br>
              <a:rPr sz="5400"/>
            </a:b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5400"/>
            </a:b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Documents and Settings\Administrador\Escritorio\image0011.jpg"/>
          <p:cNvPicPr/>
          <p:nvPr/>
        </p:nvPicPr>
        <p:blipFill>
          <a:blip r:embed="rId1"/>
          <a:stretch/>
        </p:blipFill>
        <p:spPr>
          <a:xfrm>
            <a:off x="546120" y="-19080"/>
            <a:ext cx="80517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035080" y="2924640"/>
            <a:ext cx="5073840" cy="1008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 u="sng">
                <a:solidFill>
                  <a:srgbClr val="1f497d"/>
                </a:solidFill>
                <a:uFillTx/>
                <a:latin typeface="Arial Black"/>
                <a:ea typeface="Arial"/>
              </a:rPr>
              <a:t>Conclusión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481640" y="-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1022040" y="2071800"/>
            <a:ext cx="7020360" cy="2287440"/>
          </a:xfrm>
          <a:prstGeom prst="rect">
            <a:avLst/>
          </a:prstGeom>
          <a:solidFill>
            <a:srgbClr val="ffff00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80"/>
                </a:solidFill>
                <a:latin typeface="Arial Black"/>
              </a:rPr>
              <a:t>"No hay mujeres fea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80"/>
                </a:solidFill>
                <a:latin typeface="Arial Black"/>
              </a:rPr>
              <a:t>solo maridos pobres"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41:19Z</dcterms:created>
  <dc:creator>WinuE</dc:creator>
  <dc:description/>
  <dc:language>en-US</dc:language>
  <cp:lastModifiedBy>WinuE</cp:lastModifiedBy>
  <dcterms:modified xsi:type="dcterms:W3CDTF">2009-05-13T02:46:49Z</dcterms:modified>
  <cp:revision>3</cp:revision>
  <dc:subject/>
  <dc:title>Diapositiva 1</dc:title>
</cp:coreProperties>
</file>