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BDB2-3BEB-4B43-B330-7E20403D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B1CE-D2DF-4D8E-A727-1C62C1BA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FACA-0F95-4834-A6D5-FD3A432F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8AB6-2BD1-4DD2-9CB3-4A2E50D2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2CD1-1351-4E55-A54C-2D338A8E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FECB-493A-4290-9C21-BDFF8B02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75E1-6278-4BD6-A1FA-2DCC7237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E0D-7CF2-4257-ABD2-3440CEB5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D138-E245-4E54-B35E-2CB34B64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E750-8B91-4B11-BAEB-6A71EF96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0B71-B7E8-4772-9165-6355FA7D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02F6-7A77-4CE9-84D9-791F5C5E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B023-869E-4569-AC45-54B8F45D95D0}" type="slidenum">
              <a:rPr b="0" lang="es-CO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214200" y="2153520"/>
            <a:ext cx="8715600" cy="2287440"/>
          </a:xfrm>
          <a:prstGeom prst="rect">
            <a:avLst/>
          </a:prstGeom>
          <a:solidFill>
            <a:srgbClr val="ffffff"/>
          </a:solidFill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Arial Black"/>
                <a:ea typeface="Arial"/>
              </a:rPr>
              <a:t>       </a:t>
            </a:r>
            <a:r>
              <a:rPr b="1" lang="es-ES_tradnl" sz="4800" spc="-1" strike="noStrike">
                <a:solidFill>
                  <a:srgbClr val="000000"/>
                </a:solidFill>
                <a:latin typeface="Arial Black"/>
                <a:ea typeface="Arial"/>
              </a:rPr>
              <a:t>ES INCREIBLE  ......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 Black"/>
                <a:ea typeface="Arial"/>
              </a:rPr>
              <a:t>PERO LO MEJOR ES LA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 Black"/>
                <a:ea typeface="Arial"/>
              </a:rPr>
              <a:t>CONCLUSION……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1 Rectángulo"/>
          <p:cNvSpPr/>
          <p:nvPr/>
        </p:nvSpPr>
        <p:spPr>
          <a:xfrm>
            <a:off x="214200" y="3571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 Black"/>
              </a:rPr>
              <a:t>La foto que van a ver muestra 9 participantes de un concurso de belleza para un programa en Estados Unidos que se llama 'The Swan', y lo que hacen es operar a las concursantes y bajarles de peso. Les operan tooooooooodo: Senos, liposucción, las bajan de peso, les operan la nariz, los dientes, etc, etc, etc..</a:t>
            </a:r>
            <a:br>
              <a:rPr sz="3600"/>
            </a:b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1 Rectángulo"/>
          <p:cNvSpPr/>
          <p:nvPr/>
        </p:nvSpPr>
        <p:spPr>
          <a:xfrm>
            <a:off x="0" y="500040"/>
            <a:ext cx="914400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El proceso dura tres meses y en esos tres meses no pueden ver a su familia ni se pueden ver al espejo (si no, son descalificadas). Son entrenadas por expertos en gimnasios y por cada temporada del programa participan dos chavas que las escogen porque están acomplejadas por su aspecto, y les realizan operaciones. Al final de cada programa escogen una ganadora que es la que participa en un concurso de belleza.</a:t>
            </a:r>
            <a:br>
              <a:rPr sz="3200"/>
            </a:br>
            <a:r>
              <a:rPr b="1" lang="es-ES_tradnl" sz="1800" spc="-1" strike="noStrike">
                <a:solidFill>
                  <a:srgbClr val="0000ff"/>
                </a:solidFill>
                <a:latin typeface="Arial Black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Rectángulo"/>
          <p:cNvSpPr/>
          <p:nvPr/>
        </p:nvSpPr>
        <p:spPr>
          <a:xfrm>
            <a:off x="785880" y="1285920"/>
            <a:ext cx="8358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 Black"/>
              </a:rPr>
              <a:t>Después del extreme makeover, las 9 ganadoras de los programas quedaron como se ve la foto... (La que ganó es la primera de izquierda a derecha)</a:t>
            </a:r>
            <a:br>
              <a:rPr sz="4000"/>
            </a:br>
            <a:r>
              <a:rPr b="1" lang="es-ES_tradnl" sz="4000" spc="-1" strike="noStrike">
                <a:solidFill>
                  <a:srgbClr val="ffffff"/>
                </a:solidFill>
                <a:latin typeface="Arial Black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Rectángulo"/>
          <p:cNvSpPr/>
          <p:nvPr/>
        </p:nvSpPr>
        <p:spPr>
          <a:xfrm>
            <a:off x="1857240" y="785880"/>
            <a:ext cx="6715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ff"/>
                </a:solidFill>
                <a:latin typeface="Arial Black"/>
              </a:rPr>
              <a:t>¡¡¡ SEÑORES... 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ff"/>
                </a:solidFill>
                <a:latin typeface="Arial Black"/>
              </a:rPr>
              <a:t>A  INVERTIRLE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ff"/>
                </a:solidFill>
                <a:latin typeface="Arial Black"/>
              </a:rPr>
              <a:t>A SU MUJER!</a:t>
            </a:r>
            <a:br>
              <a:rPr sz="5400"/>
            </a:br>
            <a:r>
              <a:rPr b="1" lang="es-ES_tradnl" sz="5400" spc="-1" strike="noStrike">
                <a:solidFill>
                  <a:srgbClr val="ffffff"/>
                </a:solidFill>
                <a:latin typeface="Arial Black"/>
              </a:rPr>
              <a:t> </a:t>
            </a:r>
            <a:br>
              <a:rPr sz="5400"/>
            </a:br>
            <a:r>
              <a:rPr b="1" lang="es-ES_tradnl" sz="5400" spc="-1" strike="noStrike">
                <a:solidFill>
                  <a:srgbClr val="ffffff"/>
                </a:solidFill>
                <a:latin typeface="Arial Black"/>
              </a:rPr>
              <a:t> 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:\Documents and Settings\Administrador\Escritorio\image0011.jpg"/>
          <p:cNvPicPr/>
          <p:nvPr/>
        </p:nvPicPr>
        <p:blipFill>
          <a:blip r:embed="rId1"/>
          <a:stretch/>
        </p:blipFill>
        <p:spPr>
          <a:xfrm>
            <a:off x="546120" y="-19080"/>
            <a:ext cx="805176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2035080" y="2924640"/>
            <a:ext cx="5073840" cy="10083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 u="sng">
                <a:solidFill>
                  <a:srgbClr val="1f497d"/>
                </a:solidFill>
                <a:uFillTx/>
                <a:latin typeface="Arial Black"/>
                <a:ea typeface="Arial"/>
              </a:rPr>
              <a:t>Conclusión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4481640" y="-7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3 Rectángulo"/>
          <p:cNvSpPr/>
          <p:nvPr/>
        </p:nvSpPr>
        <p:spPr>
          <a:xfrm>
            <a:off x="1022040" y="2071800"/>
            <a:ext cx="7020360" cy="2287440"/>
          </a:xfrm>
          <a:prstGeom prst="rect">
            <a:avLst/>
          </a:prstGeom>
          <a:solidFill>
            <a:srgbClr val="ffff00"/>
          </a:solidFill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80"/>
                </a:solidFill>
                <a:latin typeface="Arial Black"/>
              </a:rPr>
              <a:t>"No hay mujeres feas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80"/>
                </a:solidFill>
                <a:latin typeface="Arial Black"/>
              </a:rPr>
              <a:t>solo maridos pobres"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9:41:19Z</dcterms:created>
  <dc:creator>WinuE</dc:creator>
  <dc:description/>
  <dc:language>en-US</dc:language>
  <cp:lastModifiedBy>WinuE</cp:lastModifiedBy>
  <dcterms:modified xsi:type="dcterms:W3CDTF">2009-05-13T02:46:49Z</dcterms:modified>
  <cp:revision>3</cp:revision>
  <dc:subject/>
  <dc:title>Diapositiva 1</dc:title>
</cp:coreProperties>
</file>